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65E8-3513-4836-A961-87CE5FDBC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1131-2134-4019-9EAF-06E1CED7B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0814-8304-4148-8DFB-10B06647D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89CC-3EBE-467C-BFAB-9A8C7AEE3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69D9-9EE7-481C-ABE5-4D75E8217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37FA-C613-4A1B-83C8-B84A10AD7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CAC8-4A4E-4AFC-9B1D-C507D3825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8B06-49AC-4250-89E6-5A7073C9A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66720" y="309240"/>
            <a:ext cx="6096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FCBC-7C1B-48DC-822A-257728738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257F-6EE2-4D68-BC59-483F42312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77B7-691E-49D2-AE1D-2266458CB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D551-EA82-4652-8919-A6476D76D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d9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84e88"/>
                </a:solidFill>
                <a:latin typeface="Arial Rounded MT Bold"/>
              </a:rPr>
              <a:t>Click to edit the outline text format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64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84e88"/>
                </a:solidFill>
                <a:latin typeface="Arial Rounded MT Bold"/>
              </a:rPr>
              <a:t>Second Outline Leve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2" marL="1257480" indent="-343080">
              <a:spcBef>
                <a:spcPts val="64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84e88"/>
                </a:solidFill>
                <a:latin typeface="Arial Rounded MT Bold"/>
              </a:rPr>
              <a:t>Third Outline Leve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3" marL="1752480" indent="-380880">
              <a:spcBef>
                <a:spcPts val="649"/>
              </a:spcBef>
              <a:buClr>
                <a:srgbClr val="684e88"/>
              </a:buClr>
              <a:buSzPct val="50000"/>
              <a:buFont typeface="Arial Rounded MT Bol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84e88"/>
                </a:solidFill>
                <a:latin typeface="Arial Rounded MT Bold"/>
              </a:rPr>
              <a:t>Fourth Outline Leve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4" marL="2209680" indent="-380880">
              <a:spcBef>
                <a:spcPts val="649"/>
              </a:spcBef>
              <a:buClr>
                <a:srgbClr val="84a0f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84e88"/>
                </a:solidFill>
                <a:latin typeface="Arial Rounded MT Bold"/>
              </a:rPr>
              <a:t>Fifth Outline Leve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5" marL="2209680" indent="-380880">
              <a:spcBef>
                <a:spcPts val="64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84e88"/>
                </a:solidFill>
                <a:latin typeface="Arial Rounded MT Bold"/>
              </a:rPr>
              <a:t>Sixth Outline Leve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6" marL="2209680" indent="-380880">
              <a:spcBef>
                <a:spcPts val="64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84e88"/>
                </a:solidFill>
                <a:latin typeface="Arial Rounded MT Bold"/>
              </a:rPr>
              <a:t>Seventh Outline Leve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400960" y="6248520"/>
            <a:ext cx="457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77AA-0DBB-44E7-A3F1-C8DB738C2118}" type="slidenum">
              <a:rPr b="0" lang="en-GB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601360" y="6324480"/>
            <a:ext cx="441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 Rounded MT Bold"/>
              </a:rPr>
              <a:t>ADCN</a:t>
            </a:r>
            <a:r>
              <a:rPr b="0" lang="fr-FR" sz="900" spc="-1" strike="noStrike">
                <a:solidFill>
                  <a:srgbClr val="684e88"/>
                </a:solidFill>
                <a:latin typeface="Arial Rounded MT Bold"/>
              </a:rPr>
              <a:t> </a:t>
            </a:r>
            <a:r>
              <a:rPr b="0" lang="fr-FR" sz="900" spc="-1" strike="noStrike">
                <a:solidFill>
                  <a:srgbClr val="bb307f"/>
                </a:solidFill>
                <a:latin typeface="Arial Rounded MT Bold"/>
              </a:rPr>
              <a:t>Association pour le Dépistage des Cancers dans le département du No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3896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307f"/>
                </a:solidFill>
                <a:latin typeface="Arial Rounded MT Bold"/>
              </a:rPr>
              <a:t>Click to edit the title text format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680" y="6122880"/>
            <a:ext cx="762120" cy="533520"/>
          </a:xfrm>
          <a:prstGeom prst="rect">
            <a:avLst/>
          </a:prstGeom>
          <a:ln w="9360">
            <a:solidFill>
              <a:srgbClr val="bb307f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53280" y="304920"/>
            <a:ext cx="990720" cy="734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833680" y="35712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84e88"/>
                </a:solidFill>
                <a:latin typeface="Arial Rounded MT Bold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Le Cancer  Colo-rectal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M. VANCO, gastro-entérologue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CD37-89BD-45B5-AB24-96FDB3A65E99}" type="slidenum">
              <a:t>1</a:t>
            </a:fld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36 000 nouveaux cas par an et 16 000 décès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1</a:t>
            </a:r>
            <a:r>
              <a:rPr b="0" lang="fr-FR" sz="2600" spc="-1" strike="noStrike" baseline="30000">
                <a:solidFill>
                  <a:srgbClr val="684e88"/>
                </a:solidFill>
                <a:latin typeface="Arial Rounded MT Bold"/>
              </a:rPr>
              <a:t>er </a:t>
            </a: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cancer incident et 2</a:t>
            </a:r>
            <a:r>
              <a:rPr b="0" lang="fr-FR" sz="2600" spc="-1" strike="noStrike" baseline="30000">
                <a:solidFill>
                  <a:srgbClr val="684e88"/>
                </a:solidFill>
                <a:latin typeface="Arial Rounded MT Bold"/>
              </a:rPr>
              <a:t>ème</a:t>
            </a: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 cause de décès par K tous sexes confondus en France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Filiation polype-cancer : « la chasse aux polypes »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Diagnostic et traitement du polype par le même examen = colonoscopie.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64" name=""/>
          <p:cNvSpPr/>
          <p:nvPr/>
        </p:nvSpPr>
        <p:spPr>
          <a:xfrm>
            <a:off x="-152280" y="26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b307f"/>
                </a:solidFill>
                <a:latin typeface="Arial Rounded MT Bold"/>
              </a:rPr>
              <a:t>Particularités et spécificités du dépistage du cancer colo-rec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6BA6-BC4A-4755-BDC1-45489752E1EE}" type="slidenum">
              <a:t>10</a:t>
            </a:fld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Epidémiologi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219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84e88"/>
                </a:solidFill>
                <a:latin typeface="Arial Rounded MT Bold"/>
              </a:rPr>
              <a:t>Incidence estimée par Cancer en France e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844640"/>
            <a:ext cx="3678120" cy="43488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370240"/>
            <a:ext cx="2958840" cy="365112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370240"/>
            <a:ext cx="706320" cy="365112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9130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b307f"/>
                </a:solidFill>
                <a:latin typeface="Arial Rounded MT Bold"/>
              </a:rPr>
              <a:t>HOMMES (POUR 100 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19130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b307f"/>
                </a:solidFill>
                <a:latin typeface="Arial Rounded MT Bold"/>
              </a:rPr>
              <a:t>FEMMES (POUR 100 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365200"/>
            <a:ext cx="288144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Pro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Pou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Côlon / rec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Pharynx-Lèvres-Cav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Buc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Vess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Esto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Œsoph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Lar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R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Leucé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365200"/>
            <a:ext cx="297180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S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Côlon / rec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Corps uté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Col uté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Ov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Pou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Esto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Mélan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Vess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Leucé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R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2355840"/>
            <a:ext cx="121932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93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6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64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38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27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4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4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1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7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6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2370240"/>
            <a:ext cx="121896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13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5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9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8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7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5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5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82800" y="6548400"/>
            <a:ext cx="80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Le cancer en France : incidence et mortalit</a:t>
            </a:r>
            <a:r>
              <a:rPr b="0" i="1" lang="fr-FR" sz="1200" spc="-1" strike="noStrike">
                <a:solidFill>
                  <a:srgbClr val="684e88"/>
                </a:solidFill>
                <a:latin typeface="Arial"/>
              </a:rPr>
              <a:t>é</a:t>
            </a: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. Rapport de la Direction G</a:t>
            </a:r>
            <a:r>
              <a:rPr b="0" i="1" lang="fr-FR" sz="1200" spc="-1" strike="noStrike">
                <a:solidFill>
                  <a:srgbClr val="684e88"/>
                </a:solidFill>
                <a:latin typeface="Arial"/>
              </a:rPr>
              <a:t>é</a:t>
            </a: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n</a:t>
            </a:r>
            <a:r>
              <a:rPr b="0" i="1" lang="fr-FR" sz="1200" spc="-1" strike="noStrike">
                <a:solidFill>
                  <a:srgbClr val="684e88"/>
                </a:solidFill>
                <a:latin typeface="Arial"/>
              </a:rPr>
              <a:t>é</a:t>
            </a: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rale de la Sant</a:t>
            </a:r>
            <a:r>
              <a:rPr b="0" i="1" lang="fr-FR" sz="1200" spc="-1" strike="noStrike">
                <a:solidFill>
                  <a:srgbClr val="684e88"/>
                </a:solidFill>
                <a:latin typeface="Arial"/>
              </a:rPr>
              <a:t>é</a:t>
            </a: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, 19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1844640"/>
            <a:ext cx="3678120" cy="43488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68800" y="2370240"/>
            <a:ext cx="2959200" cy="365112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13680" y="2347920"/>
            <a:ext cx="706320" cy="365112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09C9-33A7-4AE5-ADAC-097987F85851}" type="slidenum">
              <a:t>11</a:t>
            </a:fld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076720" y="2768760"/>
            <a:ext cx="374328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068640"/>
            <a:ext cx="367812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Epidémiologi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219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84e88"/>
                </a:solidFill>
                <a:latin typeface="Arial Rounded MT Bold"/>
              </a:rPr>
              <a:t>Incidence estimée par Cancer en France e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844640"/>
            <a:ext cx="3678120" cy="43488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370240"/>
            <a:ext cx="2958840" cy="365112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2370240"/>
            <a:ext cx="706320" cy="365112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9130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b307f"/>
                </a:solidFill>
                <a:latin typeface="Arial Rounded MT Bold"/>
              </a:rPr>
              <a:t>HOMMES (POUR 100 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130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b307f"/>
                </a:solidFill>
                <a:latin typeface="Arial Rounded MT Bold"/>
              </a:rPr>
              <a:t>FEMMES (POUR 100 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365200"/>
            <a:ext cx="288144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Pro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Pou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 Rounded MT Bold"/>
              </a:rPr>
              <a:t>Côlon / rec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Pharynx-Lèvres-Cav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Buc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Vess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Esto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Œsoph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Lar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R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Leucé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365200"/>
            <a:ext cx="297180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S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 Rounded MT Bold"/>
              </a:rPr>
              <a:t>Côlon / rec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Corps uté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Col uté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Ov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Pou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Esto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Mélan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Vess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Leucé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R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2355840"/>
            <a:ext cx="121932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93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6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 Rounded MT Bold"/>
              </a:rPr>
              <a:t>64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38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27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4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4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1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7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6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2370240"/>
            <a:ext cx="121896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13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 Rounded MT Bold"/>
              </a:rPr>
              <a:t>5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1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9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8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7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5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e73af"/>
                </a:solidFill>
                <a:latin typeface="Arial Rounded MT Bold"/>
              </a:rPr>
              <a:t>5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82800" y="6548400"/>
            <a:ext cx="80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Le cancer en France : incidence et mortalit</a:t>
            </a:r>
            <a:r>
              <a:rPr b="0" i="1" lang="fr-FR" sz="1200" spc="-1" strike="noStrike">
                <a:solidFill>
                  <a:srgbClr val="684e88"/>
                </a:solidFill>
                <a:latin typeface="Arial"/>
              </a:rPr>
              <a:t>é</a:t>
            </a: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. Rapport de la Direction G</a:t>
            </a:r>
            <a:r>
              <a:rPr b="0" i="1" lang="fr-FR" sz="1200" spc="-1" strike="noStrike">
                <a:solidFill>
                  <a:srgbClr val="684e88"/>
                </a:solidFill>
                <a:latin typeface="Arial"/>
              </a:rPr>
              <a:t>é</a:t>
            </a: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n</a:t>
            </a:r>
            <a:r>
              <a:rPr b="0" i="1" lang="fr-FR" sz="1200" spc="-1" strike="noStrike">
                <a:solidFill>
                  <a:srgbClr val="684e88"/>
                </a:solidFill>
                <a:latin typeface="Arial"/>
              </a:rPr>
              <a:t>é</a:t>
            </a: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rale de la Sant</a:t>
            </a:r>
            <a:r>
              <a:rPr b="0" i="1" lang="fr-FR" sz="1200" spc="-1" strike="noStrike">
                <a:solidFill>
                  <a:srgbClr val="684e88"/>
                </a:solidFill>
                <a:latin typeface="Arial"/>
              </a:rPr>
              <a:t>é</a:t>
            </a:r>
            <a:r>
              <a:rPr b="0" i="1" lang="fr-FR" sz="1200" spc="-1" strike="noStrike">
                <a:solidFill>
                  <a:srgbClr val="684e88"/>
                </a:solidFill>
                <a:latin typeface="Arial Narrow"/>
              </a:rPr>
              <a:t>, 19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70600" y="1844640"/>
            <a:ext cx="3678120" cy="43488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68800" y="2370240"/>
            <a:ext cx="2959200" cy="365112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13680" y="2347920"/>
            <a:ext cx="706320" cy="365112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1FAC-84FE-4814-92C1-16FE050F576C}" type="slidenum">
              <a:t>12</a:t>
            </a:fld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Epidémiologi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219320"/>
            <a:ext cx="7848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84e88"/>
                </a:solidFill>
                <a:latin typeface="Arial Rounded MT Bold"/>
              </a:rPr>
              <a:t>Mortalité par cancer en France en 11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684e88"/>
                </a:solidFill>
                <a:latin typeface="Arial Rounded MT Bold"/>
              </a:rPr>
              <a:t>Populations tous Ages et par S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02136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84e88"/>
                </a:solidFill>
                <a:latin typeface="Arial Rounded MT Bold"/>
              </a:rPr>
              <a:t>Taux bruts de mortalité observés</a:t>
            </a:r>
            <a:br>
              <a:rPr sz="1000"/>
            </a:br>
            <a:r>
              <a:rPr b="0" lang="fr-FR" sz="1000" spc="-1" strike="noStrike">
                <a:solidFill>
                  <a:srgbClr val="684e88"/>
                </a:solidFill>
                <a:latin typeface="Arial Rounded MT Bold"/>
              </a:rPr>
              <a:t>pour 100 000 ho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7440" y="2125800"/>
            <a:ext cx="230184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7440" y="2465280"/>
            <a:ext cx="105084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7440" y="2805120"/>
            <a:ext cx="947520" cy="181080"/>
          </a:xfrm>
          <a:prstGeom prst="rect">
            <a:avLst/>
          </a:prstGeom>
          <a:gradFill rotWithShape="0">
            <a:gsLst>
              <a:gs pos="0">
                <a:srgbClr val="edb9d7"/>
              </a:gs>
              <a:gs pos="100000">
                <a:srgbClr val="bb30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7440" y="3143160"/>
            <a:ext cx="50616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57440" y="3483000"/>
            <a:ext cx="44748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57440" y="3824280"/>
            <a:ext cx="39996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57440" y="4164120"/>
            <a:ext cx="37944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57440" y="4503600"/>
            <a:ext cx="368280" cy="18288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57440" y="4843440"/>
            <a:ext cx="29052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57440" y="5183280"/>
            <a:ext cx="250560" cy="1807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7440" y="5522760"/>
            <a:ext cx="234720" cy="18288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080" y="27255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"/>
              </a:rPr>
              <a:t>Côlon,rec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8880" y="23922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Pro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7560" y="376560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Esto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4720" y="34178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Oesoph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7760" y="511956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Lar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6480" y="44276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Vess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9320" y="410040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Pancré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0880" y="4784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Leucé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5400" y="545796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R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46680" y="20574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71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84520" y="23972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32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38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"/>
              </a:rPr>
              <a:t>29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41640" y="3079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15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88720" y="3421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4560" y="37623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1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98720" y="4103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1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1680" y="4444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1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35000" y="4786200"/>
            <a:ext cx="40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9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97560" y="51274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72000" y="5468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7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77880" y="5811840"/>
            <a:ext cx="2237040" cy="0"/>
          </a:xfrm>
          <a:prstGeom prst="line">
            <a:avLst/>
          </a:prstGeom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82720" y="5811840"/>
            <a:ext cx="3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87640" y="5811840"/>
            <a:ext cx="3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5805360"/>
            <a:ext cx="3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30600" y="5811840"/>
            <a:ext cx="3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5805360"/>
            <a:ext cx="3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3480" y="5811840"/>
            <a:ext cx="4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5120" y="3006720"/>
            <a:ext cx="15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Pharynx, lèvres,</a:t>
            </a:r>
            <a:br>
              <a:rPr sz="1400"/>
            </a:b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cavité buc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1320" y="20620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Poum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60480" y="6021360"/>
            <a:ext cx="217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4e88"/>
                </a:solidFill>
                <a:latin typeface="Arial"/>
              </a:rPr>
              <a:t>Taux bruts de mortalité observés</a:t>
            </a:r>
            <a:br>
              <a:rPr sz="1000"/>
            </a:br>
            <a:r>
              <a:rPr b="1" lang="fr-FR" sz="1000" spc="-1" strike="noStrike">
                <a:solidFill>
                  <a:srgbClr val="684e88"/>
                </a:solidFill>
                <a:latin typeface="Arial"/>
              </a:rPr>
              <a:t>pour 100 000 fe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94320" y="2135160"/>
            <a:ext cx="116064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4320" y="2476440"/>
            <a:ext cx="839880" cy="182520"/>
          </a:xfrm>
          <a:prstGeom prst="rect">
            <a:avLst/>
          </a:prstGeom>
          <a:gradFill rotWithShape="0">
            <a:gsLst>
              <a:gs pos="0">
                <a:srgbClr val="e0a3c6"/>
              </a:gs>
              <a:gs pos="100000">
                <a:srgbClr val="bb30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94320" y="2817720"/>
            <a:ext cx="38736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94320" y="3159000"/>
            <a:ext cx="34956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94320" y="3502080"/>
            <a:ext cx="32544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94320" y="3843360"/>
            <a:ext cx="252720" cy="18108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4320" y="4183200"/>
            <a:ext cx="23976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4320" y="4525920"/>
            <a:ext cx="131760" cy="18108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94320" y="4865760"/>
            <a:ext cx="11916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94320" y="5207040"/>
            <a:ext cx="82800" cy="18252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5600" y="2081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3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2760" y="242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"/>
              </a:rPr>
              <a:t>2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765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1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1280" y="3106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1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02480" y="3449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10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47400" y="37908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7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1840" y="41338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7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94760" y="4475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4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82160" y="48182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3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56600" y="5159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6360" y="243684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307f"/>
                </a:solidFill>
                <a:latin typeface="Arial"/>
              </a:rPr>
              <a:t>Côlon,rec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6040" y="20970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S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2080" y="51544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Col uté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0280" y="37958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Esto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8480" y="31161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Ov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36680" y="447516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R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2160" y="4135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Leucé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2960" y="27766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Poum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30960" y="345600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Pancré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7760" y="48150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Vess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805360"/>
            <a:ext cx="2236680" cy="0"/>
          </a:xfrm>
          <a:prstGeom prst="line">
            <a:avLst/>
          </a:prstGeom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45160" y="5834160"/>
            <a:ext cx="3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0080" y="5834160"/>
            <a:ext cx="3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55000" y="5834160"/>
            <a:ext cx="3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93040" y="5834160"/>
            <a:ext cx="3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00920" y="5834160"/>
            <a:ext cx="3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07360" y="583416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84e88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64920" y="549576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Corps uté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4320" y="5549760"/>
            <a:ext cx="50760" cy="182880"/>
          </a:xfrm>
          <a:prstGeom prst="rect">
            <a:avLst/>
          </a:prstGeom>
          <a:gradFill rotWithShape="0">
            <a:gsLst>
              <a:gs pos="0">
                <a:srgbClr val="bd75d1"/>
              </a:gs>
              <a:gs pos="100000">
                <a:srgbClr val="8700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26000" y="55022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84e88"/>
                </a:solidFill>
                <a:latin typeface="Arial"/>
              </a:rPr>
              <a:t>1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1252-FE45-4315-932E-A3FD19698D40}" type="slidenum">
              <a:t>13</a:t>
            </a:fld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Les Cancers Colorectaux en France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remière cause de cancer, tous sexes confondu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33 500 nouveaux cas par an soit 15 % des cancers en France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Cancers coliques : 21 500 nouveaux cas par an (65 % des cancers colorectaux)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00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Incidence en France en 1995 </a:t>
            </a:r>
            <a:r>
              <a:rPr b="0" i="1" lang="fr-FR" sz="1600" spc="-1" strike="noStrike">
                <a:solidFill>
                  <a:srgbClr val="ffffff"/>
                </a:solidFill>
                <a:latin typeface="Arial Rounded MT Bold"/>
              </a:rPr>
              <a:t>(taux standardisé selon la population européenne pour 100 000 habitants).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Epidémiologi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4365720"/>
            <a:ext cx="3744720" cy="503280"/>
          </a:xfrm>
          <a:prstGeom prst="rect">
            <a:avLst/>
          </a:prstGeom>
          <a:noFill/>
          <a:ln w="936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4941720"/>
            <a:ext cx="3744720" cy="503280"/>
          </a:xfrm>
          <a:prstGeom prst="rect">
            <a:avLst/>
          </a:prstGeom>
          <a:noFill/>
          <a:ln w="936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7164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Times New Roman"/>
              </a:rPr>
              <a:t>Homme = 6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941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Times New Roman"/>
              </a:rPr>
              <a:t>Femme = 37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734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Sex ratio homme/femme : 1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02D9-5285-472A-AD07-B7AB95106562}" type="slidenum">
              <a:t>14</a:t>
            </a:fld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29960" y="6657840"/>
            <a:ext cx="59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a5c5d7"/>
                </a:solidFill>
                <a:latin typeface="Arial Narrow"/>
                <a:ea typeface="Arial"/>
              </a:rPr>
              <a:t>Le cancer en France : incidence et mortalité. Rapport de la Direction Générale de la Santé, 1998; p. 4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5950080"/>
            <a:ext cx="56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Taux bruts pour 100 000 habi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2346480"/>
            <a:ext cx="10944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3000240"/>
            <a:ext cx="10944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654360"/>
            <a:ext cx="10944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4308480"/>
            <a:ext cx="10944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4962600"/>
            <a:ext cx="10944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73160" y="2673360"/>
            <a:ext cx="7920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73160" y="3327480"/>
            <a:ext cx="7920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73160" y="3981600"/>
            <a:ext cx="7920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73160" y="4635360"/>
            <a:ext cx="7920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3160" y="5289480"/>
            <a:ext cx="7920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5618160"/>
            <a:ext cx="109440" cy="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87280" y="5589720"/>
            <a:ext cx="1800" cy="12384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3080" y="220500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3080" y="28591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3080" y="351324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3080" y="416736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48211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5080" y="547524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5710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2313000"/>
            <a:ext cx="5138640" cy="3317760"/>
          </a:xfrm>
          <a:custGeom>
            <a:avLst/>
            <a:gdLst/>
            <a:ahLst/>
            <a:rect l="l" t="t" r="r" b="b"/>
            <a:pathLst>
              <a:path w="3642" h="2090">
                <a:moveTo>
                  <a:pt x="0" y="0"/>
                </a:moveTo>
                <a:lnTo>
                  <a:pt x="0" y="2090"/>
                </a:lnTo>
                <a:lnTo>
                  <a:pt x="3642" y="2090"/>
                </a:lnTo>
              </a:path>
            </a:pathLst>
          </a:custGeom>
          <a:noFill/>
          <a:ln w="19080">
            <a:solidFill>
              <a:srgbClr val="684e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63720" y="5619600"/>
            <a:ext cx="1440" cy="12384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573280" y="5619600"/>
            <a:ext cx="1800" cy="12384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284640" y="5619600"/>
            <a:ext cx="1440" cy="12384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995640" y="5610240"/>
            <a:ext cx="1800" cy="12384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705200" y="5619600"/>
            <a:ext cx="1800" cy="12384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415120" y="5619600"/>
            <a:ext cx="1440" cy="12384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126120" y="5627520"/>
            <a:ext cx="1800" cy="123840"/>
          </a:xfrm>
          <a:prstGeom prst="line">
            <a:avLst/>
          </a:prstGeom>
          <a:ln w="1260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5080" y="5710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92560" y="5710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96000" y="5710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18160" y="5710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21240" y="5710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39080" y="5710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2160" y="5710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82800" y="57103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684e88"/>
                </a:solidFill>
                <a:latin typeface="Arial Narrow"/>
                <a:ea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3489480"/>
            <a:ext cx="3119400" cy="2106360"/>
          </a:xfrm>
          <a:custGeom>
            <a:avLst/>
            <a:gdLst/>
            <a:ahLst/>
            <a:rect l="l" t="t" r="r" b="b"/>
            <a:pathLst>
              <a:path w="2210" h="1327">
                <a:moveTo>
                  <a:pt x="0" y="1327"/>
                </a:moveTo>
                <a:lnTo>
                  <a:pt x="247" y="1327"/>
                </a:lnTo>
                <a:lnTo>
                  <a:pt x="501" y="1299"/>
                </a:lnTo>
                <a:lnTo>
                  <a:pt x="911" y="1243"/>
                </a:lnTo>
                <a:lnTo>
                  <a:pt x="1306" y="1137"/>
                </a:lnTo>
                <a:lnTo>
                  <a:pt x="1433" y="1059"/>
                </a:lnTo>
                <a:lnTo>
                  <a:pt x="1793" y="763"/>
                </a:lnTo>
                <a:lnTo>
                  <a:pt x="1977" y="551"/>
                </a:lnTo>
                <a:lnTo>
                  <a:pt x="2082" y="360"/>
                </a:lnTo>
                <a:lnTo>
                  <a:pt x="2118" y="198"/>
                </a:lnTo>
                <a:lnTo>
                  <a:pt x="2118" y="113"/>
                </a:lnTo>
                <a:lnTo>
                  <a:pt x="2210" y="0"/>
                </a:lnTo>
              </a:path>
            </a:pathLst>
          </a:custGeom>
          <a:noFill/>
          <a:ln w="57240">
            <a:solidFill>
              <a:srgbClr val="bb30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65480" y="3613320"/>
            <a:ext cx="3555720" cy="1971360"/>
          </a:xfrm>
          <a:custGeom>
            <a:avLst/>
            <a:gdLst/>
            <a:ahLst/>
            <a:rect l="l" t="t" r="r" b="b"/>
            <a:pathLst>
              <a:path w="2520" h="1242">
                <a:moveTo>
                  <a:pt x="0" y="1242"/>
                </a:moveTo>
                <a:lnTo>
                  <a:pt x="247" y="1207"/>
                </a:lnTo>
                <a:lnTo>
                  <a:pt x="466" y="1172"/>
                </a:lnTo>
                <a:lnTo>
                  <a:pt x="734" y="1136"/>
                </a:lnTo>
                <a:lnTo>
                  <a:pt x="1003" y="974"/>
                </a:lnTo>
                <a:lnTo>
                  <a:pt x="1285" y="798"/>
                </a:lnTo>
                <a:lnTo>
                  <a:pt x="1426" y="812"/>
                </a:lnTo>
                <a:lnTo>
                  <a:pt x="1497" y="819"/>
                </a:lnTo>
                <a:lnTo>
                  <a:pt x="1709" y="692"/>
                </a:lnTo>
                <a:lnTo>
                  <a:pt x="2012" y="275"/>
                </a:lnTo>
                <a:lnTo>
                  <a:pt x="2259" y="0"/>
                </a:lnTo>
                <a:lnTo>
                  <a:pt x="2407" y="14"/>
                </a:lnTo>
                <a:lnTo>
                  <a:pt x="2520" y="14"/>
                </a:lnTo>
              </a:path>
            </a:pathLst>
          </a:custGeom>
          <a:noFill/>
          <a:ln w="57240">
            <a:solidFill>
              <a:srgbClr val="bb3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170000" y="2604960"/>
            <a:ext cx="4641840" cy="3013200"/>
            <a:chOff x="1170000" y="2604960"/>
            <a:chExt cx="4641840" cy="3013200"/>
          </a:xfrm>
        </p:grpSpPr>
        <p:sp>
          <p:nvSpPr>
            <p:cNvPr id="228" name=""/>
            <p:cNvSpPr/>
            <p:nvPr/>
          </p:nvSpPr>
          <p:spPr>
            <a:xfrm>
              <a:off x="2274840" y="2604960"/>
              <a:ext cx="3537000" cy="2979720"/>
            </a:xfrm>
            <a:custGeom>
              <a:avLst/>
              <a:gdLst/>
              <a:ahLst/>
              <a:rect l="l" t="t" r="r" b="b"/>
              <a:pathLst>
                <a:path w="2506" h="1877">
                  <a:moveTo>
                    <a:pt x="0" y="1877"/>
                  </a:moveTo>
                  <a:lnTo>
                    <a:pt x="318" y="1863"/>
                  </a:lnTo>
                  <a:lnTo>
                    <a:pt x="629" y="1835"/>
                  </a:lnTo>
                  <a:lnTo>
                    <a:pt x="967" y="1793"/>
                  </a:lnTo>
                  <a:lnTo>
                    <a:pt x="1229" y="1680"/>
                  </a:lnTo>
                  <a:lnTo>
                    <a:pt x="1560" y="1482"/>
                  </a:lnTo>
                  <a:lnTo>
                    <a:pt x="1723" y="1291"/>
                  </a:lnTo>
                  <a:lnTo>
                    <a:pt x="2033" y="861"/>
                  </a:lnTo>
                  <a:lnTo>
                    <a:pt x="2266" y="720"/>
                  </a:lnTo>
                  <a:lnTo>
                    <a:pt x="2506" y="0"/>
                  </a:lnTo>
                </a:path>
              </a:pathLst>
            </a:custGeom>
            <a:noFill/>
            <a:ln w="57240">
              <a:solidFill>
                <a:srgbClr val="11318b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0000" y="2705040"/>
              <a:ext cx="4632480" cy="2913120"/>
            </a:xfrm>
            <a:custGeom>
              <a:avLst/>
              <a:gdLst/>
              <a:ahLst/>
              <a:rect l="l" t="t" r="r" b="b"/>
              <a:pathLst>
                <a:path w="3282" h="1835">
                  <a:moveTo>
                    <a:pt x="0" y="1835"/>
                  </a:moveTo>
                  <a:lnTo>
                    <a:pt x="473" y="1807"/>
                  </a:lnTo>
                  <a:lnTo>
                    <a:pt x="812" y="1786"/>
                  </a:lnTo>
                  <a:lnTo>
                    <a:pt x="981" y="1758"/>
                  </a:lnTo>
                  <a:lnTo>
                    <a:pt x="1285" y="1708"/>
                  </a:lnTo>
                  <a:lnTo>
                    <a:pt x="1517" y="1595"/>
                  </a:lnTo>
                  <a:lnTo>
                    <a:pt x="1842" y="1306"/>
                  </a:lnTo>
                  <a:lnTo>
                    <a:pt x="2061" y="988"/>
                  </a:lnTo>
                  <a:lnTo>
                    <a:pt x="2315" y="925"/>
                  </a:lnTo>
                  <a:lnTo>
                    <a:pt x="2837" y="106"/>
                  </a:lnTo>
                  <a:lnTo>
                    <a:pt x="3042" y="0"/>
                  </a:lnTo>
                  <a:lnTo>
                    <a:pt x="3282" y="78"/>
                  </a:lnTo>
                </a:path>
              </a:pathLst>
            </a:custGeom>
            <a:noFill/>
            <a:ln w="57240">
              <a:solidFill>
                <a:srgbClr val="1131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497640" y="2228760"/>
            <a:ext cx="2898720" cy="1416960"/>
            <a:chOff x="6497640" y="2228760"/>
            <a:chExt cx="2898720" cy="1416960"/>
          </a:xfrm>
        </p:grpSpPr>
        <p:sp>
          <p:nvSpPr>
            <p:cNvPr id="231" name=""/>
            <p:cNvSpPr/>
            <p:nvPr/>
          </p:nvSpPr>
          <p:spPr>
            <a:xfrm>
              <a:off x="7074000" y="3308400"/>
              <a:ext cx="23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84e88"/>
                  </a:solidFill>
                  <a:latin typeface="Arial"/>
                  <a:ea typeface="Arial"/>
                </a:rPr>
                <a:t>Mortalité fem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15280" y="3524400"/>
              <a:ext cx="385560" cy="0"/>
            </a:xfrm>
            <a:prstGeom prst="line">
              <a:avLst/>
            </a:prstGeom>
            <a:ln w="57240">
              <a:solidFill>
                <a:srgbClr val="bb30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15280" y="3164040"/>
              <a:ext cx="385560" cy="0"/>
            </a:xfrm>
            <a:prstGeom prst="line">
              <a:avLst/>
            </a:prstGeom>
            <a:ln w="57240">
              <a:solidFill>
                <a:srgbClr val="11318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74000" y="2948040"/>
              <a:ext cx="23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84e88"/>
                  </a:solidFill>
                  <a:latin typeface="Arial"/>
                  <a:ea typeface="Arial"/>
                </a:rPr>
                <a:t>Mortalité hom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15280" y="2803680"/>
              <a:ext cx="387360" cy="0"/>
            </a:xfrm>
            <a:prstGeom prst="line">
              <a:avLst/>
            </a:prstGeom>
            <a:ln w="57240">
              <a:solidFill>
                <a:srgbClr val="bb3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74000" y="2587680"/>
              <a:ext cx="23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84e88"/>
                  </a:solidFill>
                  <a:latin typeface="Arial"/>
                  <a:ea typeface="Arial"/>
                </a:rPr>
                <a:t>Incidence fem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97640" y="2444760"/>
              <a:ext cx="385920" cy="0"/>
            </a:xfrm>
            <a:prstGeom prst="line">
              <a:avLst/>
            </a:prstGeom>
            <a:ln w="57240">
              <a:solidFill>
                <a:srgbClr val="1131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4920" y="2228760"/>
              <a:ext cx="23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84e88"/>
                  </a:solidFill>
                  <a:latin typeface="Arial"/>
                  <a:ea typeface="Arial"/>
                </a:rPr>
                <a:t>Incidence hom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Epidémiologi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224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Evolution de l’incidence et de la Mortalité du Cancer Colorectal en fonction de l’Age en France e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27640" y="2060640"/>
            <a:ext cx="2808360" cy="180000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2349000"/>
            <a:ext cx="1800000" cy="3240360"/>
            <a:chOff x="3276720" y="2349000"/>
            <a:chExt cx="1800000" cy="3240360"/>
          </a:xfrm>
        </p:grpSpPr>
        <p:sp>
          <p:nvSpPr>
            <p:cNvPr id="243" name=""/>
            <p:cNvSpPr/>
            <p:nvPr/>
          </p:nvSpPr>
          <p:spPr>
            <a:xfrm flipV="1">
              <a:off x="3276720" y="2349000"/>
              <a:ext cx="0" cy="32403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076720" y="2349000"/>
              <a:ext cx="0" cy="32403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059280" y="1963800"/>
            <a:ext cx="2232000" cy="817560"/>
            <a:chOff x="3059280" y="1963800"/>
            <a:chExt cx="2232000" cy="817560"/>
          </a:xfrm>
        </p:grpSpPr>
        <p:sp>
          <p:nvSpPr>
            <p:cNvPr id="246" name=""/>
            <p:cNvSpPr/>
            <p:nvPr/>
          </p:nvSpPr>
          <p:spPr>
            <a:xfrm>
              <a:off x="3276720" y="2637000"/>
              <a:ext cx="1800000" cy="144360"/>
            </a:xfrm>
            <a:prstGeom prst="leftRightArrow">
              <a:avLst>
                <a:gd name="adj1" fmla="val 50000"/>
                <a:gd name="adj2" fmla="val 248222"/>
              </a:avLst>
            </a:prstGeom>
            <a:solidFill>
              <a:srgbClr val="684e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9280" y="196380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84e88"/>
                  </a:solidFill>
                  <a:latin typeface="Arial Rounded MT Bold"/>
                </a:rPr>
                <a:t>Hemocult 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6559-F37E-4134-8A7E-D9023AFF888B}" type="slidenum">
              <a:t>15</a:t>
            </a:fld>
          </a:p>
        </p:txBody>
      </p:sp>
    </p:spTree>
  </p:cSld>
  <p:transition spd="slow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339440" y="5805360"/>
            <a:ext cx="477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684e88"/>
                </a:solidFill>
                <a:latin typeface="Arial Narrow"/>
                <a:ea typeface="Arial"/>
              </a:rPr>
              <a:t>1. S.O.R. Cancer du côlon, 1995; p. 90 - 2. S.O.R. Cancer du rectum, 1998; p.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66720" y="30960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Epidém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3827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Taux de survie à 5 ans des Cancers Colorectaux tous Stades confo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482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Cancer du Côlon </a:t>
            </a:r>
            <a:r>
              <a:rPr b="0" lang="fr-FR" sz="2600" spc="-1" strike="noStrike" baseline="30000">
                <a:solidFill>
                  <a:srgbClr val="684e88"/>
                </a:solidFill>
                <a:latin typeface="Arial Rounded MT Bold"/>
              </a:rPr>
              <a:t>(1)</a:t>
            </a: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 : </a:t>
            </a:r>
            <a:r>
              <a:rPr b="1" lang="fr-FR" sz="2600" spc="-1" strike="noStrike">
                <a:solidFill>
                  <a:srgbClr val="bb307f"/>
                </a:solidFill>
                <a:latin typeface="Arial Rounded MT Bold"/>
              </a:rPr>
              <a:t>42 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FEMMES : 4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HOMMES : 38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Cancer du rectum </a:t>
            </a:r>
            <a:r>
              <a:rPr b="0" lang="fr-FR" sz="2600" spc="-1" strike="noStrike" baseline="30000">
                <a:solidFill>
                  <a:srgbClr val="684e88"/>
                </a:solidFill>
                <a:latin typeface="Arial Rounded MT Bold"/>
              </a:rPr>
              <a:t>(2)</a:t>
            </a: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 : </a:t>
            </a:r>
            <a:r>
              <a:rPr b="1" lang="fr-FR" sz="2600" spc="-1" strike="noStrike">
                <a:solidFill>
                  <a:srgbClr val="bb307f"/>
                </a:solidFill>
                <a:latin typeface="Arial Rounded MT Bold"/>
              </a:rPr>
              <a:t>35 – 40 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FEMMES : 4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HOMMES : 3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43FF-8BB9-4A73-AE07-763072D6B444}" type="slidenum">
              <a:t>16</a:t>
            </a:fld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Régime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Effet protecteur des légumes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 Rounded MT Bold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Effet néfaste d’un apport excessif de calories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 Rounded MT Bold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Chimio prévention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 algn="r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Vitamines Antioxydantes inefficaces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 Rounded MT Bold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 algn="r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’utilisation d’anti-inflammatoires non stéroïdiens pourrait être efficace dans la prévention du cancer colorectal mais elle est actuellement non recommandée car les preuves sont insuffisantes et les effets secondaires gênants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 Rounded MT Bold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Facteurs de risqu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13827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Régime et Chimio prévention du Cancer Colore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44520" y="5877000"/>
            <a:ext cx="7653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algn="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524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684e88"/>
                </a:solidFill>
                <a:latin typeface="Arial Narrow"/>
              </a:rPr>
              <a:t>1. Conf. Consensus, 1998. Gastroentérol. Clin. Biol.,  1998; 22/3 bis : S227-S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524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684e88"/>
                </a:solidFill>
                <a:latin typeface="Arial Narrow"/>
              </a:rPr>
              <a:t>2. Greenberg ER et al. N Engl J Med 1994  21; 331(3): 141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524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684e88"/>
                </a:solidFill>
                <a:latin typeface="Arial Narrow"/>
              </a:rPr>
              <a:t>3. Eur J Cancer 1999 Jun; 35(6): 892-9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BD2F-37D6-4DC4-AAF7-FA6158073B1C}" type="slidenum">
              <a:t>17</a:t>
            </a:fld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Facteurs de risqu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Différents niveaux de risque conditionnent les différentes stratégies de dépistage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Sujets à risque moyen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Sujets à risque élevé :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b307f"/>
                </a:solidFill>
                <a:latin typeface="Arial Rounded MT Bold"/>
              </a:rPr>
              <a:t>du fait d’antécédents familiaux,</a:t>
            </a:r>
            <a:endParaRPr b="0" lang="en-US" sz="1800" spc="-1" strike="noStrike">
              <a:solidFill>
                <a:srgbClr val="bb307f"/>
              </a:solidFill>
              <a:latin typeface="Arial Rounded MT Bold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b307f"/>
                </a:solidFill>
                <a:latin typeface="Arial Rounded MT Bold"/>
              </a:rPr>
              <a:t>du fait d’antécédents personnels.</a:t>
            </a:r>
            <a:endParaRPr b="0" lang="en-US" sz="1800" spc="-1" strike="noStrike">
              <a:solidFill>
                <a:srgbClr val="bb307f"/>
              </a:solidFill>
              <a:latin typeface="Arial Rounded MT Bold"/>
            </a:endParaRPr>
          </a:p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Sujets à risque très élevé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HNPCC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AF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307f"/>
              </a:solidFill>
              <a:latin typeface="Arial Rounded MT Bold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D301-E5E5-4D65-9095-9B1490199D30}" type="slidenum">
              <a:t>18</a:t>
            </a:fld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Facteurs de risqu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259" name=""/>
          <p:cNvSpPr/>
          <p:nvPr/>
        </p:nvSpPr>
        <p:spPr>
          <a:xfrm>
            <a:off x="-108000" y="1382760"/>
            <a:ext cx="925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84e88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 </a:t>
            </a: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Lésions tumorales précancére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84e88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 </a:t>
            </a: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Risque cumulatif dé dégénérescence d’un polype &gt; 1 cm </a:t>
            </a:r>
            <a:r>
              <a:rPr b="0" lang="fr-FR" sz="2400" spc="-1" strike="noStrike" baseline="30000">
                <a:solidFill>
                  <a:srgbClr val="684e88"/>
                </a:solidFill>
                <a:latin typeface="Arial Rounded MT Bold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6920" y="3573360"/>
            <a:ext cx="1152360" cy="503280"/>
          </a:xfrm>
          <a:prstGeom prst="rightArrow">
            <a:avLst>
              <a:gd name="adj1" fmla="val 50000"/>
              <a:gd name="adj2" fmla="val 57242"/>
            </a:avLst>
          </a:prstGeom>
          <a:solidFill>
            <a:srgbClr val="684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8360" y="4510080"/>
            <a:ext cx="1152720" cy="503280"/>
          </a:xfrm>
          <a:prstGeom prst="rightArrow">
            <a:avLst>
              <a:gd name="adj1" fmla="val 50000"/>
              <a:gd name="adj2" fmla="val 57260"/>
            </a:avLst>
          </a:prstGeom>
          <a:solidFill>
            <a:srgbClr val="684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08360" y="5446800"/>
            <a:ext cx="1152720" cy="503280"/>
          </a:xfrm>
          <a:prstGeom prst="rightArrow">
            <a:avLst>
              <a:gd name="adj1" fmla="val 50000"/>
              <a:gd name="adj2" fmla="val 57260"/>
            </a:avLst>
          </a:prstGeom>
          <a:solidFill>
            <a:srgbClr val="684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32000" y="342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à 5 a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58920" y="44337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à 10 a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58920" y="52974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à 20 a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16360" y="3500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2,5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45054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8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53704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24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2708280"/>
            <a:ext cx="6551640" cy="3529080"/>
          </a:xfrm>
          <a:prstGeom prst="rect">
            <a:avLst/>
          </a:prstGeom>
          <a:noFill/>
          <a:ln w="28440">
            <a:solidFill>
              <a:srgbClr val="564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9AED-E894-4D68-803A-CFCDBDEA03F7}" type="slidenum">
              <a:t>19</a:t>
            </a:fld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	</a:t>
            </a: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SOMMAIR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Dépistage organisé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Quel contexte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ourquoi un dépistage organisé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révention primaire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Le Cancer colo-recta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Critères du dépistag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articularités et spécificités du dépistag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Epidémiologi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Facteurs de risqu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Dépistage du cancer colo-rectal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 cancer colo-rectal : évolution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 test Hemocult II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s indicateurs de performance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FEA8-FCFC-4652-8FBF-A650C5EF5ABF}" type="slidenum">
              <a:t>2</a:t>
            </a:fld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6720" y="309600"/>
            <a:ext cx="660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Dépistage du cancer colorec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Le test est proposé par le M. G (taux d’exploration 88% versus 77% par la poste) et par les pharmaciens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Le population ciblée est celle à risque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Age : 50 – 75 ans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Asymptomatiqu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Sans ATCD de Cancer ou de polyp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Sans MICI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Sans ATCD héréditaire de KCR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BFE9-8E98-4D19-A944-DABAC8C7C3CD}" type="slidenum">
              <a:t>20</a:t>
            </a:fld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4460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5040" y="6548400"/>
            <a:ext cx="82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5000"/>
              </a:lnSpc>
              <a:spcBef>
                <a:spcPts val="326"/>
              </a:spcBef>
              <a:buClr>
                <a:srgbClr val="ffffff"/>
              </a:buClr>
              <a:buSzPct val="135000"/>
              <a:buFont typeface="Arial Narrow"/>
              <a:buChar char="•"/>
              <a:tabLst>
                <a:tab algn="l" pos="524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564070"/>
                </a:solidFill>
                <a:latin typeface="Arial Narrow"/>
              </a:rPr>
              <a:t>Conf. Consensus, 1998. Gastroentérol. Clin. Biol., 1998; 22/3 bis: S277-S28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08320" y="1776240"/>
            <a:ext cx="231624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4240" y="1919160"/>
            <a:ext cx="1625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2198520"/>
            <a:ext cx="2592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Ri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moy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5000" y="3462480"/>
            <a:ext cx="1625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Risque éle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71880" y="1919160"/>
            <a:ext cx="2438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Facteurs de ris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74760" y="2338560"/>
            <a:ext cx="250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Age &gt; 50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4760" y="2800440"/>
            <a:ext cx="250668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307f"/>
                </a:solidFill>
                <a:latin typeface="Arial Narrow"/>
                <a:ea typeface="Arial"/>
              </a:rPr>
              <a:t>Parent du 1</a:t>
            </a:r>
            <a:r>
              <a:rPr b="1" lang="fr-FR" sz="1600" spc="-1" strike="noStrike" baseline="30000">
                <a:solidFill>
                  <a:srgbClr val="bb307f"/>
                </a:solidFill>
                <a:latin typeface="Arial Narrow"/>
                <a:ea typeface="Arial"/>
              </a:rPr>
              <a:t>er</a:t>
            </a:r>
            <a:r>
              <a:rPr b="1" lang="fr-FR" sz="1600" spc="-1" strike="noStrike">
                <a:solidFill>
                  <a:srgbClr val="bb307f"/>
                </a:solidFill>
                <a:latin typeface="Arial Narrow"/>
                <a:ea typeface="Arial"/>
              </a:rPr>
              <a:t> degré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ATCD d’adé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307f"/>
                </a:solidFill>
                <a:latin typeface="Arial Narrow"/>
                <a:ea typeface="Arial"/>
              </a:rPr>
              <a:t>ATCD de can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ATCD de MICI*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(&gt; 15 ans d ’évolution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18080" y="1919160"/>
            <a:ext cx="4038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Dépi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05480" y="2300400"/>
            <a:ext cx="3722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Evaluation de l’hemoccult systématique en c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52920" y="2936880"/>
            <a:ext cx="42670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307f"/>
                </a:solidFill>
                <a:latin typeface="Arial Narrow"/>
                <a:ea typeface="Arial"/>
              </a:rPr>
              <a:t>Coloscopie tous les 5 ans à partir de 45 ans ou 5 ans avant l’âge de diagnostic chez le parent atte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Coloscopie tous les 3 à 5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307f"/>
                </a:solidFill>
                <a:latin typeface="Arial Narrow"/>
                <a:ea typeface="Arial"/>
              </a:rPr>
              <a:t>Coloscopie tous les 3 à 5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Coloscopie tous les 2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6137280"/>
            <a:ext cx="73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684e88"/>
                </a:solidFill>
                <a:latin typeface="Arial Narrow"/>
                <a:ea typeface="Arial"/>
              </a:rPr>
              <a:t>* Maladie Inflammatoire Chronique de l’Intestin - ** Hereditary Non-Polyposis Colorectal Can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5000" y="5118120"/>
            <a:ext cx="1565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Risque</a:t>
            </a:r>
            <a:br>
              <a:rPr sz="1600"/>
            </a:br>
            <a:r>
              <a:rPr b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très éle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74760" y="4603680"/>
            <a:ext cx="25066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307f"/>
                </a:solidFill>
                <a:latin typeface="Arial Narrow"/>
                <a:ea typeface="Arial"/>
              </a:rPr>
              <a:t>Syndrome HNPCC</a:t>
            </a:r>
            <a:r>
              <a:rPr b="1" lang="fr-FR" sz="1600" spc="-1" strike="noStrike">
                <a:solidFill>
                  <a:srgbClr val="564070"/>
                </a:solidFill>
                <a:latin typeface="Arial Narrow"/>
                <a:ea typeface="Arial"/>
              </a:rPr>
              <a:t>**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Polyposie recto-colique famil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05480" y="4603680"/>
            <a:ext cx="42670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307f"/>
                </a:solidFill>
                <a:latin typeface="Arial Narrow"/>
                <a:ea typeface="Arial"/>
              </a:rPr>
              <a:t>Consultation génétique</a:t>
            </a:r>
            <a:br>
              <a:rPr sz="1600"/>
            </a:br>
            <a:r>
              <a:rPr b="1" lang="fr-FR" sz="1600" spc="-1" strike="noStrike">
                <a:solidFill>
                  <a:srgbClr val="bb307f"/>
                </a:solidFill>
                <a:latin typeface="Arial Narrow"/>
                <a:ea typeface="Arial"/>
              </a:rPr>
              <a:t>Coloscopie / 2 ans dès 25 ans ou 5 ans av. l’âge</a:t>
            </a:r>
            <a:br>
              <a:rPr sz="1600"/>
            </a:br>
            <a:r>
              <a:rPr b="1" lang="fr-FR" sz="1600" spc="-1" strike="noStrike">
                <a:solidFill>
                  <a:srgbClr val="bb307f"/>
                </a:solidFill>
                <a:latin typeface="Arial Narrow"/>
                <a:ea typeface="Arial"/>
              </a:rPr>
              <a:t>de diagnostic le plus préco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Consultation génétiqu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Rectosigmoïdoscopie souple de la puberté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 Narrow"/>
                <a:ea typeface="Arial"/>
              </a:rPr>
              <a:t>jusqu’à 40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925640"/>
            <a:ext cx="7883640" cy="4191120"/>
          </a:xfrm>
          <a:prstGeom prst="rect">
            <a:avLst/>
          </a:prstGeom>
          <a:noFill/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2230560"/>
            <a:ext cx="7883640" cy="0"/>
          </a:xfrm>
          <a:prstGeom prst="line">
            <a:avLst/>
          </a:prstGeom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2797200"/>
            <a:ext cx="7883640" cy="0"/>
          </a:xfrm>
          <a:prstGeom prst="line">
            <a:avLst/>
          </a:prstGeom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4610160"/>
            <a:ext cx="7883640" cy="0"/>
          </a:xfrm>
          <a:prstGeom prst="line">
            <a:avLst/>
          </a:prstGeom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66840" y="1919160"/>
            <a:ext cx="0" cy="4191120"/>
          </a:xfrm>
          <a:prstGeom prst="line">
            <a:avLst/>
          </a:prstGeom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95760" y="1919160"/>
            <a:ext cx="0" cy="4191120"/>
          </a:xfrm>
          <a:prstGeom prst="line">
            <a:avLst/>
          </a:prstGeom>
          <a:ln w="2844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66720" y="309600"/>
            <a:ext cx="660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Dépistage du cancer colorec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13827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Dépistage des Groupes à Ri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7BAC-D59F-44B9-974A-8597E5C07C5F}" type="slidenum">
              <a:t>21</a:t>
            </a:fld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Le test Hemocult II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3 études pilotes ont montré qu’avec l’adhésion au test d’au moins 50% de la population tous les 2 ans pendant 10 ans, on diminuerait la mortalité globale de 15 à 20% à 10 ans (et de 30 à 35% pour la population qui a fait le test).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EDF5-4A46-4277-B6C9-AAD6D0003ADB}" type="slidenum">
              <a:t>22</a:t>
            </a:fld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773280" y="6648480"/>
            <a:ext cx="82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524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564070"/>
                </a:solidFill>
                <a:latin typeface="Arial Narrow"/>
              </a:rPr>
              <a:t>Conf. Consensus, 1998. Gastroentérol. Clin. Biol., 1998; 22/3 bis: S34-39; S44-48; S218-225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03280" y="1465200"/>
            <a:ext cx="75596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64070"/>
                </a:solidFill>
                <a:latin typeface="Arial Rounded MT Bold"/>
              </a:rPr>
              <a:t>Résultats des campagnes de dépistage dans 3 études contrôl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55520" y="2192400"/>
            <a:ext cx="2708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7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1701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Tranche d’âge </a:t>
            </a:r>
            <a:r>
              <a:rPr b="1" i="1" lang="fr-FR" sz="1600" spc="-1" strike="noStrike">
                <a:solidFill>
                  <a:srgbClr val="564070"/>
                </a:solidFill>
                <a:latin typeface="Arial Rounded MT Bold"/>
              </a:rPr>
              <a:t>(a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Fréquence dépi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Suivi moy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Hemocult II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Valeur prédictive positive du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Compliance 1</a:t>
            </a:r>
            <a:r>
              <a:rPr b="1" lang="fr-FR" sz="1600" spc="-1" strike="noStrike" baseline="30000">
                <a:solidFill>
                  <a:srgbClr val="ffffff"/>
                </a:solidFill>
                <a:latin typeface="Arial Rounded MT Bold"/>
              </a:rPr>
              <a:t>er 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exa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Coloscop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Taux de cancer Duk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Baisse de mortalité </a:t>
            </a:r>
            <a:br>
              <a:rPr sz="1600"/>
            </a:b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par cancer colorec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60920" y="2060640"/>
            <a:ext cx="148896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307f"/>
                </a:solidFill>
                <a:latin typeface="Arial Rounded MT Bold"/>
              </a:rPr>
              <a:t>CALVADOS</a:t>
            </a:r>
            <a:br>
              <a:rPr sz="1800"/>
            </a:b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(1992-199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170 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45-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3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2,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8%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4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51,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33880" y="2060640"/>
            <a:ext cx="184320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307f"/>
                </a:solidFill>
                <a:latin typeface="Arial Rounded MT Bold"/>
              </a:rPr>
              <a:t>NOTTINGHAM</a:t>
            </a:r>
            <a:br>
              <a:rPr sz="1800"/>
            </a:b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(1981-199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152 8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50-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/ 2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7-8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2050 </a:t>
            </a:r>
            <a:r>
              <a:rPr b="1" i="1" lang="fr-FR" sz="1600" spc="-1" strike="noStrike">
                <a:solidFill>
                  <a:srgbClr val="ffffff"/>
                </a:solidFill>
                <a:latin typeface="Arial Rounded MT Bold"/>
              </a:rPr>
              <a:t>(2,3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11-14%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5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1 7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08680" y="2063880"/>
            <a:ext cx="12859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307f"/>
                </a:solidFill>
                <a:latin typeface="Arial Rounded MT Bold"/>
              </a:rPr>
              <a:t>FUNEN</a:t>
            </a:r>
            <a:br>
              <a:rPr sz="1600"/>
            </a:br>
            <a:r>
              <a:rPr b="1" lang="fr-FR" sz="1400" spc="-1" strike="noStrike">
                <a:solidFill>
                  <a:srgbClr val="bb307f"/>
                </a:solidFill>
                <a:latin typeface="Arial Rounded MT Bold"/>
              </a:rPr>
              <a:t>(1985-199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61 9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45-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/ 2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10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986 (</a:t>
            </a:r>
            <a:r>
              <a:rPr b="1" i="1" lang="fr-FR" sz="1600" spc="-1" strike="noStrike">
                <a:solidFill>
                  <a:srgbClr val="ffffff"/>
                </a:solidFill>
                <a:latin typeface="Arial Rounded MT Bold"/>
              </a:rPr>
              <a:t>1,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8-17%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6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8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2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50840" y="2589120"/>
            <a:ext cx="7043760" cy="0"/>
          </a:xfrm>
          <a:prstGeom prst="line">
            <a:avLst/>
          </a:prstGeom>
          <a:ln w="9360">
            <a:solidFill>
              <a:srgbClr val="bb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80000" y="2060640"/>
            <a:ext cx="0" cy="4254480"/>
          </a:xfrm>
          <a:prstGeom prst="line">
            <a:avLst/>
          </a:prstGeom>
          <a:ln w="9360">
            <a:solidFill>
              <a:srgbClr val="bb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19640" y="2060640"/>
            <a:ext cx="0" cy="4254480"/>
          </a:xfrm>
          <a:prstGeom prst="line">
            <a:avLst/>
          </a:prstGeom>
          <a:ln w="9360">
            <a:solidFill>
              <a:srgbClr val="bb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27760" y="2036880"/>
            <a:ext cx="0" cy="4254480"/>
          </a:xfrm>
          <a:prstGeom prst="line">
            <a:avLst/>
          </a:prstGeom>
          <a:ln w="9360">
            <a:solidFill>
              <a:srgbClr val="bb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101080" y="2060640"/>
            <a:ext cx="0" cy="4254480"/>
          </a:xfrm>
          <a:prstGeom prst="line">
            <a:avLst/>
          </a:prstGeom>
          <a:ln w="9360">
            <a:solidFill>
              <a:srgbClr val="bb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50840" y="6289560"/>
            <a:ext cx="7043760" cy="0"/>
          </a:xfrm>
          <a:prstGeom prst="line">
            <a:avLst/>
          </a:prstGeom>
          <a:ln w="9360">
            <a:solidFill>
              <a:srgbClr val="bb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50840" y="2041560"/>
            <a:ext cx="7043760" cy="0"/>
          </a:xfrm>
          <a:prstGeom prst="line">
            <a:avLst/>
          </a:prstGeom>
          <a:ln w="9360">
            <a:solidFill>
              <a:srgbClr val="bb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0840" y="2041560"/>
            <a:ext cx="0" cy="4253040"/>
          </a:xfrm>
          <a:prstGeom prst="line">
            <a:avLst/>
          </a:prstGeom>
          <a:ln w="9360">
            <a:solidFill>
              <a:srgbClr val="bb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309600"/>
            <a:ext cx="746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Dépistage du cancer colo-rec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1052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Dépistage organisé par Hemocul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767F-4E51-41BB-9529-37237B6700A5}" type="slidenum">
              <a:t>23</a:t>
            </a:fld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Le test Hemocult II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1368360"/>
            <a:ext cx="8350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Ce test n’est destiné qu’au dépistage organisé et non au dépistage individuel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 algn="r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Sensibilité 50%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 algn="r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Spécificité 98%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-533520" algn="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Il est réalisé tous les 2 ans en raison de saignements intermittents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 algn="r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2% de +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 algn="r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2 femmes pour un homme qui font le test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-533520" algn="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Le temps de latence pré clinique va de 2 ans RECTUM à 6 ans COLON D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La diminution de la mortalité est moins bonne pour les lésions rectales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 algn="r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85% de coloscopies réalisée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B396-810F-483E-A2CA-3CA735B265FF}" type="slidenum">
              <a:t>24</a:t>
            </a:fld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66720" y="309600"/>
            <a:ext cx="660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Cancer colorectal : évolu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Temps de séjour dans la phase pré clinique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Tumeurs d’évolution lente : dépistage +++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b307f"/>
                </a:solidFill>
                <a:latin typeface="Arial Rounded MT Bold"/>
              </a:rPr>
              <a:t>Colon droit : 3,5 ans</a:t>
            </a:r>
            <a:endParaRPr b="0" lang="en-US" sz="1800" spc="-1" strike="noStrike">
              <a:solidFill>
                <a:srgbClr val="bb307f"/>
              </a:solidFill>
              <a:latin typeface="Arial Rounded MT Bold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b307f"/>
                </a:solidFill>
                <a:latin typeface="Arial Rounded MT Bold"/>
              </a:rPr>
              <a:t>Colon gauche : 6,4 ans</a:t>
            </a:r>
            <a:endParaRPr b="0" lang="en-US" sz="1800" spc="-1" strike="noStrike">
              <a:solidFill>
                <a:srgbClr val="bb307f"/>
              </a:solidFill>
              <a:latin typeface="Arial Rounded MT Bold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b307f"/>
                </a:solidFill>
                <a:latin typeface="Arial Rounded MT Bold"/>
              </a:rPr>
              <a:t>Rectum : 2,6 ans</a:t>
            </a:r>
            <a:endParaRPr b="0" lang="en-US" sz="1800" spc="-1" strike="noStrike">
              <a:solidFill>
                <a:srgbClr val="bb307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Adénome pré existant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636C-4E64-4D12-A169-22CED1E73FB7}" type="slidenum">
              <a:t>25</a:t>
            </a:fld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066680" y="3063600"/>
            <a:ext cx="4038840" cy="1282320"/>
            <a:chOff x="1066680" y="3063600"/>
            <a:chExt cx="4038840" cy="1282320"/>
          </a:xfrm>
        </p:grpSpPr>
        <p:sp>
          <p:nvSpPr>
            <p:cNvPr id="319" name=""/>
            <p:cNvSpPr/>
            <p:nvPr/>
          </p:nvSpPr>
          <p:spPr>
            <a:xfrm rot="4441800">
              <a:off x="2932920" y="2400120"/>
              <a:ext cx="228600" cy="2133720"/>
            </a:xfrm>
            <a:prstGeom prst="downArrow">
              <a:avLst>
                <a:gd name="adj1" fmla="val 50000"/>
                <a:gd name="adj2" fmla="val 233346"/>
              </a:avLst>
            </a:prstGeom>
            <a:solidFill>
              <a:srgbClr val="684e88"/>
            </a:solidFill>
            <a:ln w="9360">
              <a:solidFill>
                <a:srgbClr val="684e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6680" y="388620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9 400 tests négati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43828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Population cible de 60 0000 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362320" y="1219320"/>
            <a:ext cx="5181480" cy="1907280"/>
            <a:chOff x="2362320" y="1219320"/>
            <a:chExt cx="5181480" cy="1907280"/>
          </a:xfrm>
        </p:grpSpPr>
        <p:sp>
          <p:nvSpPr>
            <p:cNvPr id="323" name=""/>
            <p:cNvSpPr/>
            <p:nvPr/>
          </p:nvSpPr>
          <p:spPr>
            <a:xfrm>
              <a:off x="3352680" y="26668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0 000 tests réalis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62320" y="1219320"/>
              <a:ext cx="5181480" cy="914400"/>
            </a:xfrm>
            <a:prstGeom prst="ellipse">
              <a:avLst/>
            </a:prstGeom>
            <a:noFill/>
            <a:ln w="57240">
              <a:solidFill>
                <a:srgbClr val="684e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2000" y="213372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684e88"/>
            </a:solidFill>
            <a:ln w="9360">
              <a:solidFill>
                <a:srgbClr val="684e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807080" y="3081600"/>
            <a:ext cx="4641840" cy="1340640"/>
            <a:chOff x="4807080" y="3081600"/>
            <a:chExt cx="4641840" cy="1340640"/>
          </a:xfrm>
        </p:grpSpPr>
        <p:sp>
          <p:nvSpPr>
            <p:cNvPr id="327" name=""/>
            <p:cNvSpPr/>
            <p:nvPr/>
          </p:nvSpPr>
          <p:spPr>
            <a:xfrm rot="17094600">
              <a:off x="5752800" y="2399760"/>
              <a:ext cx="228600" cy="2133720"/>
            </a:xfrm>
            <a:prstGeom prst="downArrow">
              <a:avLst>
                <a:gd name="adj1" fmla="val 50000"/>
                <a:gd name="adj2" fmla="val 233346"/>
              </a:avLst>
            </a:prstGeom>
            <a:solidFill>
              <a:srgbClr val="684e88"/>
            </a:solidFill>
            <a:ln w="9360">
              <a:solidFill>
                <a:srgbClr val="684e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10080" y="396252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00 tests positi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105520" y="3809880"/>
            <a:ext cx="3962160" cy="1755360"/>
            <a:chOff x="5105520" y="3809880"/>
            <a:chExt cx="3962160" cy="1755360"/>
          </a:xfrm>
        </p:grpSpPr>
        <p:grpSp>
          <p:nvGrpSpPr>
            <p:cNvPr id="330" name=""/>
            <p:cNvGrpSpPr/>
            <p:nvPr/>
          </p:nvGrpSpPr>
          <p:grpSpPr>
            <a:xfrm>
              <a:off x="5105520" y="3809880"/>
              <a:ext cx="3124080" cy="1371600"/>
              <a:chOff x="5105520" y="3809880"/>
              <a:chExt cx="3124080" cy="1371600"/>
            </a:xfrm>
          </p:grpSpPr>
          <p:sp>
            <p:nvSpPr>
              <p:cNvPr id="331" name=""/>
              <p:cNvSpPr/>
              <p:nvPr/>
            </p:nvSpPr>
            <p:spPr>
              <a:xfrm>
                <a:off x="5105520" y="3809880"/>
                <a:ext cx="3124080" cy="762120"/>
              </a:xfrm>
              <a:prstGeom prst="ellipse">
                <a:avLst/>
              </a:prstGeom>
              <a:noFill/>
              <a:ln w="57240">
                <a:solidFill>
                  <a:srgbClr val="684e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00800" y="4572000"/>
                <a:ext cx="533520" cy="609480"/>
              </a:xfrm>
              <a:prstGeom prst="downArrow">
                <a:avLst>
                  <a:gd name="adj1" fmla="val 50000"/>
                  <a:gd name="adj2" fmla="val 28559"/>
                </a:avLst>
              </a:prstGeom>
              <a:solidFill>
                <a:srgbClr val="684e88"/>
              </a:solidFill>
              <a:ln w="9360">
                <a:solidFill>
                  <a:srgbClr val="684e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562720" y="510552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40 coloscop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886200" y="5485320"/>
            <a:ext cx="4038480" cy="1406880"/>
            <a:chOff x="3886200" y="5485320"/>
            <a:chExt cx="4038480" cy="1406880"/>
          </a:xfrm>
        </p:grpSpPr>
        <p:sp>
          <p:nvSpPr>
            <p:cNvPr id="335" name=""/>
            <p:cNvSpPr/>
            <p:nvPr/>
          </p:nvSpPr>
          <p:spPr>
            <a:xfrm rot="19980000">
              <a:off x="4572000" y="5714640"/>
              <a:ext cx="1066680" cy="228600"/>
            </a:xfrm>
            <a:prstGeom prst="leftArrow">
              <a:avLst>
                <a:gd name="adj1" fmla="val 50000"/>
                <a:gd name="adj2" fmla="val 116654"/>
              </a:avLst>
            </a:prstGeom>
            <a:solidFill>
              <a:srgbClr val="684e88"/>
            </a:solidFill>
            <a:ln w="9360">
              <a:solidFill>
                <a:srgbClr val="684e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86200" y="6095880"/>
              <a:ext cx="403848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30 colo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rm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562720" y="5562720"/>
            <a:ext cx="1828800" cy="992880"/>
            <a:chOff x="5562720" y="5562720"/>
            <a:chExt cx="1828800" cy="992880"/>
          </a:xfrm>
        </p:grpSpPr>
        <p:sp>
          <p:nvSpPr>
            <p:cNvPr id="338" name=""/>
            <p:cNvSpPr/>
            <p:nvPr/>
          </p:nvSpPr>
          <p:spPr>
            <a:xfrm>
              <a:off x="6248520" y="5562720"/>
              <a:ext cx="347400" cy="609480"/>
            </a:xfrm>
            <a:prstGeom prst="downArrow">
              <a:avLst>
                <a:gd name="adj1" fmla="val 50000"/>
                <a:gd name="adj2" fmla="val 43860"/>
              </a:avLst>
            </a:prstGeom>
            <a:solidFill>
              <a:srgbClr val="684e88"/>
            </a:solidFill>
            <a:ln w="9360">
              <a:solidFill>
                <a:srgbClr val="684e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60958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0 canc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315200" y="5440320"/>
            <a:ext cx="2895480" cy="1671480"/>
            <a:chOff x="7315200" y="5440320"/>
            <a:chExt cx="2895480" cy="1671480"/>
          </a:xfrm>
        </p:grpSpPr>
        <p:sp>
          <p:nvSpPr>
            <p:cNvPr id="341" name=""/>
            <p:cNvSpPr/>
            <p:nvPr/>
          </p:nvSpPr>
          <p:spPr>
            <a:xfrm rot="17895600">
              <a:off x="7863120" y="5325480"/>
              <a:ext cx="282600" cy="907920"/>
            </a:xfrm>
            <a:prstGeom prst="downArrow">
              <a:avLst>
                <a:gd name="adj1" fmla="val 50000"/>
                <a:gd name="adj2" fmla="val 80318"/>
              </a:avLst>
            </a:prstGeom>
            <a:solidFill>
              <a:srgbClr val="684e88"/>
            </a:solidFill>
            <a:ln w="9360">
              <a:solidFill>
                <a:srgbClr val="684e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15200" y="6095880"/>
              <a:ext cx="2895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50 pol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72400" y="6477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(35-40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68360" y="4365720"/>
            <a:ext cx="3154320" cy="1828800"/>
          </a:xfrm>
          <a:prstGeom prst="rect">
            <a:avLst/>
          </a:prstGeom>
          <a:gradFill rotWithShape="0">
            <a:gsLst>
              <a:gs pos="0">
                <a:srgbClr val="8e73a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684e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1120" y="4343400"/>
            <a:ext cx="396216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84e88"/>
                </a:solidFill>
                <a:latin typeface="Arial"/>
                <a:ea typeface="Arial"/>
              </a:rPr>
              <a:t>Ce test dépist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84e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50% des cancer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84e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20% des adénomes &gt; 1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84e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50% de DUK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84e88"/>
                </a:solidFill>
                <a:latin typeface="Arial"/>
                <a:ea typeface="Arial"/>
              </a:rPr>
              <a:t>(100% de guérison à 5 a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84e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Le test Hemocult II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6791-772C-48B6-AC76-C0678F1756CD}" type="slidenum">
              <a:t>26</a:t>
            </a:fld>
          </a:p>
        </p:txBody>
      </p:sp>
    </p:spTree>
  </p:cSld>
  <p:transition spd="slow"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Le test Hemocult II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1 accident pour les 1 000 coloscopies réalisées</a:t>
            </a:r>
            <a:r>
              <a:rPr b="0" i="1" lang="fr-FR" sz="2600" spc="-1" strike="noStrike">
                <a:solidFill>
                  <a:srgbClr val="684e88"/>
                </a:solidFill>
                <a:latin typeface="Arial Rounded MT Bold"/>
              </a:rPr>
              <a:t>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r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1 décès pour 10 000 coloscopies réalisées</a:t>
            </a:r>
            <a:r>
              <a:rPr b="0" i="1" lang="fr-FR" sz="2600" spc="-1" strike="noStrike">
                <a:solidFill>
                  <a:srgbClr val="684e88"/>
                </a:solidFill>
                <a:latin typeface="Arial Rounded MT Bold"/>
              </a:rPr>
              <a:t>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r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1 accident pour 60 cancers évités.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0C73-1EE7-47F6-BF7A-0CCF8EBCD9F2}" type="slidenum">
              <a:t>27</a:t>
            </a:fld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Indicateurs de performanc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Taux de cancers dépistés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Taux de participation : 50%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Taux de positivité du test : 2%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Taux de sensibilité du test : 50%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VPP : 25% (8-12% K, 10-15% adénomes)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Taux d’acceptabilité de la coloscopie : 85%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2 obstacles de majeurs : 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Faible sensibilité à l’Hémoccult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Taux de participation insuffisan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4E88-9E3E-4373-911C-DA6EDD93056A}" type="slidenum">
              <a:t>28</a:t>
            </a:fld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44600" y="1311120"/>
            <a:ext cx="8466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24360" y="2133720"/>
            <a:ext cx="3888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8880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"/>
              </a:rPr>
              <a:t>A</a:t>
            </a: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Atteinte muqueus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et sous muqu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8880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B1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Atteinte muscul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8880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B2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Atteinte musculeus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avec atteinte sous-séreuse 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  ou séreuse ou au-del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8880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C1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B1 avec envahissement 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ganglionnaire prox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8880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C2</a:t>
            </a: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B2 avec envahissement 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ganglionnaire dis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8880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64070"/>
                </a:solidFill>
                <a:latin typeface="Arial Rounded MT Bold"/>
              </a:rPr>
              <a:t>D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 Rounded MT Bold"/>
              </a:rPr>
              <a:t>Métast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28880" y="6562800"/>
            <a:ext cx="6973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a5c5d7"/>
                </a:solidFill>
                <a:latin typeface="Arial Narrow"/>
              </a:rPr>
              <a:t>(1) Astler V.B., Coller F.A. Ann. Surg., 1954; 139: 846-85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40" y="2333520"/>
            <a:ext cx="35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668160"/>
                <a:tab algn="ctr" pos="1336680"/>
                <a:tab algn="ctr" pos="2284560"/>
                <a:tab algn="ctr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B1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B2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C1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5632560"/>
            <a:ext cx="40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2473200"/>
                <a:tab algn="ctr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GANGLIONS (N)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564070"/>
                </a:solidFill>
                <a:latin typeface="Arial"/>
              </a:rPr>
              <a:t>+</a:t>
            </a:r>
            <a:r>
              <a:rPr b="1" lang="fr-FR" sz="22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564070"/>
                </a:solidFill>
                <a:latin typeface="Arial"/>
              </a:rPr>
              <a:t>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2741760"/>
            <a:ext cx="21002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64070"/>
                </a:solidFill>
                <a:latin typeface="Arial Narrow"/>
              </a:rPr>
              <a:t>EPITHE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64070"/>
                </a:solidFill>
                <a:latin typeface="Arial Narrow"/>
              </a:rPr>
              <a:t>MUQUE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64070"/>
                </a:solidFill>
                <a:latin typeface="Arial Narrow"/>
              </a:rPr>
              <a:t>MUSCULARIS MUCOS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64070"/>
                </a:solidFill>
                <a:latin typeface="Arial Narrow"/>
              </a:rPr>
              <a:t>SOUS-MUQUE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64070"/>
                </a:solidFill>
                <a:latin typeface="Arial Narrow"/>
              </a:rPr>
              <a:t>MUSCULE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64070"/>
                </a:solidFill>
                <a:latin typeface="Arial Narrow"/>
              </a:rPr>
              <a:t>LIMITE EXTERNE</a:t>
            </a:r>
            <a:br>
              <a:rPr sz="1400"/>
            </a:br>
            <a:r>
              <a:rPr b="1" lang="fr-FR" sz="1400" spc="-1" strike="noStrike">
                <a:solidFill>
                  <a:srgbClr val="564070"/>
                </a:solidFill>
                <a:latin typeface="Arial Narrow"/>
              </a:rPr>
              <a:t>DE LA PAROI</a:t>
            </a:r>
            <a:br>
              <a:rPr sz="1400"/>
            </a:br>
            <a:r>
              <a:rPr b="1" lang="fr-FR" sz="1400" spc="-1" strike="noStrike">
                <a:solidFill>
                  <a:srgbClr val="564070"/>
                </a:solidFill>
                <a:latin typeface="Arial Narrow"/>
              </a:rPr>
              <a:t>SOUS-SERE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64070"/>
                </a:solidFill>
                <a:latin typeface="Arial Narrow"/>
              </a:rPr>
              <a:t>SERE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708360" y="2890800"/>
            <a:ext cx="19224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63800" y="3038400"/>
            <a:ext cx="136800" cy="428760"/>
          </a:xfrm>
          <a:custGeom>
            <a:avLst/>
            <a:gdLst>
              <a:gd name="textAreaLeft" fmla="*/ 0 w 136800"/>
              <a:gd name="textAreaRight" fmla="*/ 96120 w 1368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708360" y="3576600"/>
            <a:ext cx="1922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63800" y="3673440"/>
            <a:ext cx="136800" cy="301680"/>
          </a:xfrm>
          <a:custGeom>
            <a:avLst/>
            <a:gdLst>
              <a:gd name="textAreaLeft" fmla="*/ 0 w 136800"/>
              <a:gd name="textAreaRight" fmla="*/ 96120 w 13680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63800" y="4032360"/>
            <a:ext cx="136800" cy="691920"/>
          </a:xfrm>
          <a:custGeom>
            <a:avLst/>
            <a:gdLst>
              <a:gd name="textAreaLeft" fmla="*/ 0 w 136800"/>
              <a:gd name="textAreaRight" fmla="*/ 96120 w 1368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08360" y="4794120"/>
            <a:ext cx="1922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63800" y="4870440"/>
            <a:ext cx="136800" cy="374760"/>
          </a:xfrm>
          <a:custGeom>
            <a:avLst/>
            <a:gdLst>
              <a:gd name="textAreaLeft" fmla="*/ 0 w 136800"/>
              <a:gd name="textAreaRight" fmla="*/ 96120 w 13680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708360" y="5327640"/>
            <a:ext cx="19224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18960" y="2714760"/>
            <a:ext cx="3318120" cy="29145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566720" y="30960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Facteurs prono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181080" y="131112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Cancer colorectal : classification d’Astler-Coller (Dukes modifié) </a:t>
            </a:r>
            <a:r>
              <a:rPr b="0" lang="fr-FR" sz="2400" spc="-1" strike="noStrike" baseline="30000">
                <a:solidFill>
                  <a:srgbClr val="684e88"/>
                </a:solidFill>
                <a:latin typeface="Arial Rounded MT Bold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24360" y="2060640"/>
            <a:ext cx="3384720" cy="3313080"/>
          </a:xfrm>
          <a:prstGeom prst="rect">
            <a:avLst/>
          </a:prstGeom>
          <a:noFill/>
          <a:ln w="28440">
            <a:solidFill>
              <a:srgbClr val="564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5372-0DDB-40F9-9C12-D42E6699E15C}" type="slidenum">
              <a:t>29</a:t>
            </a:fld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	</a:t>
            </a: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SOMMAIR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bb307f"/>
                </a:solidFill>
                <a:latin typeface="Arial Rounded MT Bold"/>
              </a:rPr>
              <a:t>Dépistage organisé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Quel contexte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Pourquoi un dépistage organisé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Prévention primaire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Le Cancer colo-recta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Critères du dépistag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articularités et spécificités du dépistag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Epidémiologi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Facteurs de risqu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Dépistage du cancer colo-rectal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 cancer colo-rectal : évolution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 test hémoccult II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s indicateurs de performance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7716-CAB3-42EC-9CB3-13D57C0D3C8D}" type="slidenum">
              <a:t>3</a:t>
            </a:fld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5580000" y="2200320"/>
            <a:ext cx="370224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880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T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umeur prim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880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64070"/>
                </a:solidFill>
                <a:latin typeface="Arial"/>
              </a:rPr>
              <a:t>Tis</a:t>
            </a:r>
            <a:r>
              <a:rPr b="1" lang="fr-FR" sz="1800" spc="-1" strike="noStrike">
                <a:solidFill>
                  <a:srgbClr val="56407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Carcinome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880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64070"/>
                </a:solidFill>
                <a:latin typeface="Arial"/>
              </a:rPr>
              <a:t>T1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tteinte 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880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64070"/>
                </a:solidFill>
                <a:latin typeface="Arial"/>
              </a:rPr>
              <a:t>T2</a:t>
            </a:r>
            <a:r>
              <a:rPr b="1" lang="fr-FR" sz="1800" spc="-1" strike="noStrike">
                <a:solidFill>
                  <a:srgbClr val="56407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tteinte muscul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880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64070"/>
                </a:solidFill>
                <a:latin typeface="Arial"/>
              </a:rPr>
              <a:t>T3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tteinte sous-séreuse, 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éreuse ou graisse 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éri co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880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64070"/>
                </a:solidFill>
                <a:latin typeface="Arial"/>
              </a:rPr>
              <a:t>T4</a:t>
            </a:r>
            <a:r>
              <a:rPr b="1" lang="fr-FR" sz="18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tteinte cavité péritonéale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à travers la séreuse ou 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xtension par contiguïté  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ux organes de voisi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5040" y="6540480"/>
            <a:ext cx="8262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564070"/>
                </a:solidFill>
                <a:latin typeface="Arial Narrow"/>
              </a:rPr>
              <a:t>1. Colon and rectum. In: Hermanek P., Sabin L.H. (eds). TNM classification of malignant tumours (4th ed.) Berlin: Springer - Verlag 1992: 52-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064040" cy="3570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674640" y="1895400"/>
            <a:ext cx="409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336680"/>
                <a:tab algn="ctr" pos="2284560"/>
                <a:tab algn="ctr" pos="2952720"/>
                <a:tab algn="ctr" pos="390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Tis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T1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 T2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T3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64070"/>
                </a:solidFill>
                <a:latin typeface="Arial"/>
              </a:rPr>
              <a:t> 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8360" y="540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64070"/>
                </a:solidFill>
                <a:latin typeface="Arial"/>
              </a:rPr>
              <a:t>Extension à un organe adja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46440" y="5607000"/>
            <a:ext cx="4748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5986440"/>
            <a:ext cx="82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64070"/>
                </a:solidFill>
                <a:latin typeface="Arial"/>
              </a:rPr>
              <a:t>Classification TNM : pénétration de la tumeur dans la paroi intestinale 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66720" y="30960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Facteurs prono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181080" y="131112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4e88"/>
                </a:solidFill>
                <a:latin typeface="Arial Rounded MT Bold"/>
              </a:rPr>
              <a:t>Cancer colorectal : classification TNM </a:t>
            </a:r>
            <a:r>
              <a:rPr b="0" lang="fr-FR" sz="2400" spc="-1" strike="noStrike" baseline="30000">
                <a:solidFill>
                  <a:srgbClr val="684e88"/>
                </a:solidFill>
                <a:latin typeface="Arial Rounded MT Bold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80000" y="2060640"/>
            <a:ext cx="3384720" cy="3889440"/>
          </a:xfrm>
          <a:prstGeom prst="rect">
            <a:avLst/>
          </a:prstGeom>
          <a:noFill/>
          <a:ln w="28440">
            <a:solidFill>
              <a:srgbClr val="564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F788-AC53-4AB9-97A6-017E30901E08}" type="slidenum">
              <a:t>30</a:t>
            </a:fld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Le dépistage organisé relève d’une volonté politique affirmée et confirmée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 algn="just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Kouchner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 algn="just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Chirac : 24/04/03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-533520" algn="just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Actuellement, il se met en place progressivement en France pour 3 cancers :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 algn="just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 cancer du sein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 algn="just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 cancer colo-rectal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 algn="just"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 cancer du col de l’utérus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08360" y="333000"/>
            <a:ext cx="961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b307f"/>
                </a:solidFill>
                <a:latin typeface="Arial Rounded MT Bold"/>
              </a:rPr>
              <a:t>Dans quel contexte le dépistage organisé rentre-t-il ?</a:t>
            </a:r>
            <a:endParaRPr b="0" lang="en-US" sz="28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999C-CEE5-41F5-A2DF-2BEA6A9E86A3}" type="slidenum">
              <a:t>4</a:t>
            </a:fld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Fréquence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Gravité : survie à 5 ans : Colon 41%, Rectum 38%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Guérison : diagnostic  précoce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Prévention par détection d’adénomes.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b307f"/>
                </a:solidFill>
                <a:latin typeface="Arial Rounded MT Bold"/>
              </a:rPr>
              <a:t>Pourquoi un dépistage organisé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D77A-49F1-4075-AE66-19F31DA35A3C}" type="slidenum">
              <a:t>5</a:t>
            </a:fld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La Prévention Primair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50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84e88"/>
                </a:solidFill>
                <a:latin typeface="Arial Rounded MT Bold"/>
              </a:rPr>
              <a:t>La prévention primaire ne peut être efficace :</a:t>
            </a:r>
            <a:endParaRPr b="0" lang="en-US" sz="22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spcBef>
                <a:spcPts val="451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Rounded MT Bold"/>
              </a:rPr>
              <a:t>Diminution apport calorique,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51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Rounded MT Bold"/>
              </a:rPr>
              <a:t>Augmentation exercice physique,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51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Rounded MT Bold"/>
              </a:rPr>
              <a:t>Diminution graisses animales,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spcBef>
                <a:spcPts val="451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Rounded MT Bold"/>
              </a:rPr>
              <a:t>Augmentation fruits et légumes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bb307f"/>
                </a:solidFill>
                <a:latin typeface="Arial Rounded MT Bold"/>
              </a:rPr>
              <a:t>…</a:t>
            </a:r>
            <a:r>
              <a:rPr b="0" lang="fr-FR" sz="2200" spc="-1" strike="noStrike">
                <a:solidFill>
                  <a:srgbClr val="bb307f"/>
                </a:solidFill>
                <a:latin typeface="Arial Rounded MT Bold"/>
              </a:rPr>
              <a:t>AINS…</a:t>
            </a:r>
            <a:r>
              <a:rPr b="0" lang="fr-FR" sz="2200" spc="-1" strike="noStrike">
                <a:solidFill>
                  <a:srgbClr val="bb307f"/>
                </a:solidFill>
                <a:latin typeface="Arial Rounded MT Bold"/>
              </a:rPr>
              <a:t>	</a:t>
            </a:r>
            <a:r>
              <a:rPr b="0" lang="fr-FR" sz="2200" spc="-1" strike="noStrike">
                <a:solidFill>
                  <a:srgbClr val="bb307f"/>
                </a:solidFill>
                <a:latin typeface="Arial Rounded MT Bold"/>
              </a:rPr>
              <a:t>	</a:t>
            </a:r>
            <a:r>
              <a:rPr b="0" lang="fr-FR" sz="2200" spc="-1" strike="noStrike">
                <a:solidFill>
                  <a:srgbClr val="bb307f"/>
                </a:solidFill>
                <a:latin typeface="Arial Rounded MT Bold"/>
              </a:rPr>
              <a:t>	</a:t>
            </a:r>
            <a:r>
              <a:rPr b="0" lang="fr-FR" sz="2200" spc="-1" strike="noStrike">
                <a:solidFill>
                  <a:srgbClr val="bb307f"/>
                </a:solidFill>
                <a:latin typeface="Arial Rounded MT Bold"/>
              </a:rPr>
              <a:t>	</a:t>
            </a:r>
            <a:r>
              <a:rPr b="0" lang="fr-FR" sz="2200" spc="-1" strike="noStrike">
                <a:solidFill>
                  <a:srgbClr val="bb307f"/>
                </a:solidFill>
                <a:latin typeface="Arial Rounded MT Bold"/>
              </a:rPr>
              <a:t>ASPIRINE…(PAF)</a:t>
            </a:r>
            <a:endParaRPr b="0" lang="en-US" sz="22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spcBef>
                <a:spcPts val="550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84e88"/>
                </a:solidFill>
                <a:latin typeface="Arial Rounded MT Bold"/>
              </a:rPr>
              <a:t>D’où l’intérêt d’un dépistage organisé précoce : le but d’un traitement précoce est de diminuer la mortalité.</a:t>
            </a:r>
            <a:endParaRPr b="0" lang="en-US" sz="22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FB52-D808-41C0-9EF6-C399CB84CE7F}" type="slidenum">
              <a:t>6</a:t>
            </a:fld>
          </a:p>
        </p:txBody>
      </p:sp>
    </p:spTree>
  </p:cSld>
  <p:transition spd="slow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	</a:t>
            </a: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SOMMAIR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Dépistage organisé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Quel contexte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ourquoi un dépistage organisé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révention primaire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Le Cancer colo-recta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Critères du dépistag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articularités et spécificités du dépistag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Epidémiologi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Facteurs de risqu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Dépistage du cancer colo-rectal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 cancer colo-rectal : évolution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 test hémoccult II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Les indicateurs de performance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7EC4-0BEA-4C29-8632-8E74FD45BCFD}" type="slidenum">
              <a:t>7</a:t>
            </a:fld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66720" y="309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	</a:t>
            </a:r>
            <a:r>
              <a:rPr b="0" lang="fr-FR" sz="3200" spc="-1" strike="noStrike">
                <a:solidFill>
                  <a:srgbClr val="bb307f"/>
                </a:solidFill>
                <a:latin typeface="Arial Rounded MT Bold"/>
              </a:rPr>
              <a:t>SOMMAIRE</a:t>
            </a:r>
            <a:endParaRPr b="0" lang="en-US" sz="3200" spc="-1" strike="noStrike">
              <a:solidFill>
                <a:srgbClr val="bb307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Dépistage organisé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Quel contexte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ourquoi un dépistage organisé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Rounded MT Bold"/>
              </a:rPr>
              <a:t>Prévention primaire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bb307f"/>
                </a:solidFill>
                <a:latin typeface="Arial Rounded MT Bold"/>
              </a:rPr>
              <a:t>Le Cancer colo-rectal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Critères du dépistag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Particularités et spécificités du dépistag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Epidémiologi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Facteurs de risque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Dépistage du cancer colo-rectal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Le cancer colo-rectal : évolution ?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Le test hémoccult II,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84e88"/>
              </a:buClr>
              <a:buSzPct val="70000"/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307f"/>
                </a:solidFill>
                <a:latin typeface="Arial Rounded MT Bold"/>
              </a:rPr>
              <a:t>Les indicateurs de performance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6588-BD42-4199-86F2-36E0A8363FD0}" type="slidenum">
              <a:t>8</a:t>
            </a:fld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Affection fréquente : « problème de santé publique »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Histoire naturelle bien connue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Maladie décelable à un stade infra clinique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Test sensible, spécifique, reproductible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Test acceptable et sans risque et donc répétable à intervalles réguliers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Rapport coût / efficacité acceptable,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84e88"/>
                </a:solidFill>
                <a:latin typeface="Arial Rounded MT Bold"/>
              </a:rPr>
              <a:t>Evaluation de la politique de dépistage.</a:t>
            </a: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  <a:p>
            <a:pPr marL="5335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84e88"/>
              </a:solidFill>
              <a:latin typeface="Arial Rounded MT Bold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80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b307f"/>
                </a:solidFill>
                <a:latin typeface="Arial Rounded MT Bold"/>
              </a:rPr>
              <a:t>Critères du dépistage du cancer colo-rec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FA2D-7039-4BFB-8ADF-8724F03CF9B9}" type="slidenum">
              <a:t>9</a:t>
            </a:fld>
          </a:p>
        </p:txBody>
      </p:sp>
    </p:spTree>
  </p:cSld>
  <p:transition spd="slow"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0:16:20Z</dcterms:created>
  <dc:creator>JBROELAND</dc:creator>
  <dc:description/>
  <dc:language>en-US</dc:language>
  <cp:lastModifiedBy>VERHAEGHE</cp:lastModifiedBy>
  <dcterms:modified xsi:type="dcterms:W3CDTF">2003-12-19T15:51:42Z</dcterms:modified>
  <cp:revision>74</cp:revision>
  <dc:subject/>
  <dc:title>Présentation PowerPoint</dc:title>
</cp:coreProperties>
</file>