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2F6-34E3-4742-8070-EC950674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741-B854-4AEB-AD2C-8C5BB43F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0E0-834B-4FF5-B7DC-A66B15F5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969-7713-4A61-B49B-2A7D541F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9EA3-B5ED-458C-908E-454F639D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2724-123E-4985-A022-8E88F191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0E52-1BD3-467F-B6CD-9D242B7D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8B55-258C-46A5-B90F-E19B481C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9F60-6D88-48C9-8EA5-E8C3F03B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FB65-F3F5-4F75-B81F-00B7D10E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A13D-2D7B-421D-BC22-CA32CB3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E0A-BE0F-4A13-9C4D-85129D67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D2E-CF4A-4B23-97C5-2C2798D7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3AE1-9300-4265-9306-3F997AA6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726B-6926-4106-A31A-69E90168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4700-3780-43A8-AEC4-511F02F7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DC32-AF20-4EE8-895E-5CF37B94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C34-2C58-45EC-BA67-0A7C6132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435-AE99-40C6-9FF1-7C1FC7DD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E5E-A24B-49D3-A687-3128DDA1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B48-AA19-414F-B090-DA56E0C4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E59-D7A1-4CA3-9086-8F05E1B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6F5-33FA-4F71-AC34-6219FD1B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ACE-59CA-49DF-B617-EFB792F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B445-082D-4251-B757-C7E4C727E62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7468-427C-43A1-AB04-2CC02D7C599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ct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Place des endoprothèses vasculaires en 2004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62040"/>
            <a:ext cx="80010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e stent idéal existe t’il    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Biocompatible; Thrombogénicité b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Force radiale import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Manipulation fac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ositionnement précis</a:t>
            </a:r>
            <a:br>
              <a:rPr sz="2800"/>
            </a:b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Radio opaque; raccourcissement réd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daptable aux différentes configurations artérie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Flexibilité, calibre, profil, taux d ’expansion éle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Couverture circonférentiell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Trois groupes d’ind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774440"/>
            <a:ext cx="7772400" cy="447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dications confirm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dications plus discu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dications controversées ou en cours d’é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Indications Confirmé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2923920"/>
            <a:ext cx="3809880" cy="35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ou occlusions ilia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Restén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ou occlusions fémorales cour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névrysmes ilia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des artères ré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3280" y="2852280"/>
            <a:ext cx="3811680" cy="36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des F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des veines profondes (V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1628640"/>
            <a:ext cx="244800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rtè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1628640"/>
            <a:ext cx="259092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Ve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2133720"/>
            <a:ext cx="0" cy="71892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2133720"/>
            <a:ext cx="0" cy="71892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195640" y="2205000"/>
          <a:ext cx="504036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205000"/>
                    <a:ext cx="50403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692360" y="83664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Anévrisme ilia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éna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3480" y="1989000"/>
            <a:ext cx="3527640" cy="164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530520" cy="1676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5877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stén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410080"/>
            <a:ext cx="118728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2200" y="4705200"/>
            <a:ext cx="455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ténoses ostiales calcifi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653000"/>
            <a:ext cx="396072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3860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gioplastie en première in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292640"/>
            <a:ext cx="93492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157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Indications plus discutées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ténoses ou occlusions fémorales lon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ésions des artères de jam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raumatismes artéri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Fémorales  Poplitées Axes jambie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résultats sont moins bons que ceux de la chirurgie surtout pour les lésions longues &gt; 8 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Indications en cours d’évaluation 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31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névrysmes aor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Sténoses carot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Endoprothèses aortiqu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chnique validée sous conditions morphologiques favorables et après des mesures préci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ourdeur de la surveillance et morbi-mortalité encore un peu lourd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Bonnes indications                    « compassionnelle ??? et  petits anévrysmes &lt;45mm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27640" y="4653000"/>
            <a:ext cx="151272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Endoprothèses aortiqu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2133720"/>
          <a:ext cx="4548240" cy="3406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454824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962600" y="2133720"/>
            <a:ext cx="3952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Endoprotheses ou st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’angioplastie a progressivement gagné du terrain dans le traitement des pathologies vasculaires occlusi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complications de la technique ont contribué à développer les endoprothèses ou s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Endoprotheses aortiqu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Complications des endoprothèses aortiqu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ndo-fuites( type I, II , 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uptures artériel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mbolies dis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219640" y="1989000"/>
            <a:ext cx="3438720" cy="410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7740360" y="3500280"/>
            <a:ext cx="576360" cy="7207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Caroti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Faisabilité démontrée depuis 20 ans, avec maintenant des techniques de protection effica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Étude  comparative en cours versu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chirurgi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emiers résultats peu encourage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Une indication à retenir : la sténose radiqu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1773360"/>
            <a:ext cx="754380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Traitement adjuv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iscuté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lavix 1cp/j débuté au moins 3 à 5 jours avant la procé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Héparine per op puis prolongée 24 he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spirine+Plavix pendant un mo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Un antiagrégant par la su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Complications immédiates (rares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Embolie dis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3 à 5% avec stent  /  9% post ATL dans les recanalisations ilia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Traitement endoluminal par thromboaspiration ou thrombo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Dis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Occlusion aiguë          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Faute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upture artérielle      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xcep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Complications secondai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Resténoses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raitées par nouvelle angioplastie ou chirurgie conventionnel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Occlusions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                Chiru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38680" y="4572000"/>
            <a:ext cx="1800000" cy="0"/>
          </a:xfrm>
          <a:prstGeom prst="line">
            <a:avLst/>
          </a:prstGeom>
          <a:ln cap="sq" w="142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nclusion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’endoprothèse 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améliore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résultats de perméabilité à court et long terme  d‘ une angioplastie initiale imparfa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« stenting primaire » diminue  la fréquence des embolies distales .Intéressant dans les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ecanalisations et les localisations à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isque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Carot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ésultats :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23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stent couvert représente un traitement non invasif et efficace dans le traitement des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anévrismes iliaques ou des faux anévrys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L’avenir aux stents actifs ??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Imprégné de substances anti prolifération myo intimale Sirolimus(Ripamycine) ,Quanam*(Paxitax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tent radioac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tent ionis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Thrombo résistance passive :Phosphoryl choline(Biodiv Ysio*),héparine(Carmeda*),carbone(Carbostent Sorin*),silicone+carbone (Tenax stent Biotronik *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Ensemencé de cellules endothéliales ou de gè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 développement du »  stenting » a étendu les indications de l’angioplasti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x anévrysmes aor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x sténoses carotidien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 permis d’égaler la qualité des résultats de la chirurgie dans le traitement des sténoses des artères iliaques et des artères rénales avec une morbidité moind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765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troducti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25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résultats sont encore médiocres pour les artères de petit calibre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(fémorales, poplités,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rtères de jambe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Une voie de recherche  est en cours menée par les cardiologues (stents actifs) pour tenter d’améliorer la perméabilité secondaire des stents de petit diamèt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9079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troduction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1844640"/>
            <a:ext cx="85201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’échec éventuel d’un traitement endovasculaire ne coupe pas les ponts ( en principe) pour la chirur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a chirurgie vasculaire va garder sa place dans le traitement des lésions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plexes ou compliqué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765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troduction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e matériel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xpansibles sur bal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uto expansib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Stents couverts (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stents graffts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64000" y="3500280"/>
            <a:ext cx="3095640" cy="1656000"/>
            <a:chOff x="5364000" y="3500280"/>
            <a:chExt cx="3095640" cy="165600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5364000" y="3500280"/>
              <a:ext cx="309564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5364000" y="3500280"/>
              <a:ext cx="309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68360" y="4495680"/>
            <a:ext cx="115272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024360" cy="167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64000" y="4941720"/>
            <a:ext cx="3095640" cy="1766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09680" y="6172200"/>
            <a:ext cx="115272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74320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824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9079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tent aor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Mode d ’a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986280" cy="3517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2819520"/>
            <a:ext cx="3886200" cy="283716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’angioplastie improprement qualifiée de dilatation est en fait une </a:t>
            </a:r>
            <a:r>
              <a:rPr b="1" lang="fr-FR" sz="1800" spc="-1" strike="noStrike" u="sng">
                <a:solidFill>
                  <a:srgbClr val="ffff00"/>
                </a:solidFill>
                <a:uFillTx/>
                <a:latin typeface="Times New Roman"/>
              </a:rPr>
              <a:t>Diss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e Stent va corriger de la diss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06440" y="228600"/>
            <a:ext cx="7772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Mode d ’action du st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886040"/>
            <a:ext cx="40132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Elimine les sténoses résiduelles post AT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isse la surface artérielle: moins de turbulences sources de restén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Evite le recoil immédiat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Evite la rétraction artérielle lors de la cicat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11:20Z</dcterms:created>
  <dc:creator>CHDouai CHDouai</dc:creator>
  <dc:description/>
  <dc:language>en-US</dc:language>
  <cp:lastModifiedBy>MOSSER</cp:lastModifiedBy>
  <dcterms:modified xsi:type="dcterms:W3CDTF">2004-11-21T21:59:31Z</dcterms:modified>
  <cp:revision>36</cp:revision>
  <dc:subject/>
  <dc:title>Un stent ou endoprothèse métallique est un implant dont la fonction est de garder ouverte la lumière d’un vaisseau sanguin.</dc:title>
</cp:coreProperties>
</file>