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301-CC3E-4000-B17F-7AACB88D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548-7258-47AB-BC52-A20DD325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800-C95C-4A34-8860-A959A496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851-0933-4659-9411-3B63D073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63A8-E19D-4A17-8016-179C89A2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F5D3-6147-4FBE-921B-4C50FF1B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A4E-6D6F-42CC-8B00-585CD1E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463D-4182-4F7F-8A82-17240C8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605-C75F-4237-88C1-DC6D6FE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FB0-FE2C-4F4D-9B43-2032ADB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656-3B33-4CA4-BDB3-6DAE639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F95-AA8C-4A64-ADB9-EA1463A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746-C3EE-453D-B4C4-DE75995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D98D-EB14-408D-BD03-1D4C9D3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5CB-A108-4941-85E4-F9A7D4B6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FD67-99DF-422C-A70A-15C65EBC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9B7-334F-4739-9A1C-2B44B6CD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17A-D4F0-4FE5-BBD2-11B1FFD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7FA-60A6-42C8-A12D-D59DF86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124-081A-4C86-8440-E66AFB1D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121-4903-45A4-8A3E-C159BEA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EA2-3363-4E4C-95A1-00F6AB5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32C-8EBE-41FD-97F6-B1D3510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D56-FCDB-4290-A5B4-F15561F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20EA-E02E-4098-B61A-50ACFDBB2C0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635-9D6B-452E-87D3-F301C91CCCE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ct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Place des endoprothèses vasculaires en 2004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62040"/>
            <a:ext cx="80010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e stent idéal existe t’il    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Biocompatible; Thrombogénicité b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Force radiale impor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anipulation fac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ositionnement précis</a:t>
            </a:r>
            <a:br>
              <a:rPr sz="2800"/>
            </a:b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adio opaque; raccourcissement réd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daptable aux différentes configurations artérie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Flexibilité, calibre, profil, taux d ’expansion éle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uverture circonférentiel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Trois groupes d’ind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774440"/>
            <a:ext cx="7772400" cy="447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confirm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plus discu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dications controversées ou en cours d’é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Indications Confirmé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2923920"/>
            <a:ext cx="3809880" cy="35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ou occlusion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Restén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ou occlusions fémorales cour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névrysme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artères ré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3280" y="2852280"/>
            <a:ext cx="3811680" cy="36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F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ténoses des veines profondes (V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1628640"/>
            <a:ext cx="244800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rt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1628640"/>
            <a:ext cx="259092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Ve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133720"/>
            <a:ext cx="0" cy="71892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133720"/>
            <a:ext cx="0" cy="71892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195640" y="2205000"/>
          <a:ext cx="5040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205000"/>
                    <a:ext cx="5040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692360" y="83664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Anévrisme ilia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éna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3480" y="1989000"/>
            <a:ext cx="3527640" cy="164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530520" cy="1676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587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stén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410080"/>
            <a:ext cx="118728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4705200"/>
            <a:ext cx="455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énoses ostiales calcif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653000"/>
            <a:ext cx="396072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860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gioplastie en première in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292640"/>
            <a:ext cx="93492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157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Indications plus discutées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ténoses ou occlusions fémorales lon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ésions des artères de jam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umatismes artéri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Fémorales  Poplitées Axes jambi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résultats sont moins bons que ceux de la chirurgie surtout pour les lésions longues &gt; 8 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Indications en cours d’évaluation 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31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névrysmes aor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Sténoses caro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è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chnique validée sous conditions morphologiques favorables et après des mesures préc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ourdeur de la surveillance et morbi-mortalité encore un peu lourd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Bonnes indications                    « compassionnelle ??? et  petits anévrysmes &lt;45mm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7640" y="4653000"/>
            <a:ext cx="151272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è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2133720"/>
          <a:ext cx="4548240" cy="3406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454824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62600" y="2133720"/>
            <a:ext cx="3952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eses ou st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angioplastie a progressivement gagné du terrain dans le traitement des pathologies vasculaires occlusi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complications de la technique ont contribué à développer les endoprothèses ou s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Endoprotheses aortiq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Complications des endoprothèses aortiqu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ndo-fuites( type I, II , 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uptures artérie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mbolies dis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43872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7740360" y="3500280"/>
            <a:ext cx="576360" cy="7207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aroti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Faisabilité démontrée depuis 20 ans, avec maintenant des techniques de protection effic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Étude  comparative en cours versu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hirurgi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emiers résultats peu encourage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Une indication à retenir : la sténose radiqu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773360"/>
            <a:ext cx="754380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Traitement adjuv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iscuté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lavix 1cp/j débuté au moins 3 à 5 jours avant la procé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Héparine per op puis prolongée 24 he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spirine+Plavix pendant un m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Un antiagrégant par la su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mplications immédiates (rare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Embolie dis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3 à 5% avec stent  /  9% post ATL dans les recanalisations ilia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Traitement endoluminal par thromboaspiration ou thrombo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Dis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Occlusion aiguë    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Faute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upture artérielle     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xcep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mplications secondai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Resténoses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itées par nouvelle angioplastie ou chirurgie conventionne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Occlusions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                Chiru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38680" y="4572000"/>
            <a:ext cx="1800000" cy="0"/>
          </a:xfrm>
          <a:prstGeom prst="line">
            <a:avLst/>
          </a:prstGeom>
          <a:ln cap="sq" w="142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endoprothèse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méliore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résultats de perméabilité à court et long terme  d‘ une angioplastie initiale imparfa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« stenting primaire » diminue  la fréquence des embolies distales .Intéressant dans les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ecanalisations et les localisations à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isque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Carot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ésultats :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23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stent couvert représente un traitement non invasif et efficace dans le traitement des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névrismes iliaques ou des faux anévrys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L’avenir aux stents actifs ??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mprégné de substances anti prolifération myo intimale Sirolimus(Ripamycine) ,Quanam*(Paxitax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radio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ionis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hrombo résistance passive :Phosphoryl choline(Biodiv Ysio*),héparine(Carmeda*),carbone(Carbostent Sorin*),silicone+carbone (Tenax stent Biotronik *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Ensemencé de cellules endothéliales ou de gè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 développement du »  stenting » a étendu les indications de l’angioplasti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 anévrysmes aor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 sténoses carotidien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 permis d’égaler la qualité des résultats de la chirurgie dans le traitement des sténoses des artères iliaques et des artères rénales avec une morbidité moind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765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25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résultats sont encore médiocres pour les artères de petit calibr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fémorales, poplités,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rtères de jambe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Une voie de recherche  est en cours menée par les cardiologues (stents actifs) pour tenter d’améliorer la perméabilité secondaire des stents de petit diamèt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9079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1844640"/>
            <a:ext cx="8520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échec éventuel d’un traitement endovasculaire ne coupe pas les ponts ( en principe) pour la chirur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a chirurgie vasculaire va garder sa place dans le traitement des lésions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plexes ou compliqué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765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roductio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matériel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xpansibles sur ba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uto expans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Stents couverts (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stents graffts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64000" y="3500280"/>
            <a:ext cx="3095640" cy="1656000"/>
            <a:chOff x="5364000" y="3500280"/>
            <a:chExt cx="3095640" cy="16560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5364000" y="3500280"/>
              <a:ext cx="30956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5364000" y="3500280"/>
              <a:ext cx="309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68360" y="449568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24360" cy="167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64000" y="4941720"/>
            <a:ext cx="3095640" cy="1766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09680" y="617220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743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824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9079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ent aor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 d ’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986280" cy="351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2819520"/>
            <a:ext cx="3886200" cy="283716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’angioplastie improprement qualifiée de dilatation est en fait une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Dis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e Stent va corriger de la dis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06440" y="228600"/>
            <a:ext cx="7772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 d ’action du st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886040"/>
            <a:ext cx="4013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limine les sténoses résiduelles post AT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isse la surface artérielle: moins de turbulences sources de restén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vite le recoil immédiat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Evite la rétraction artérielle lors de la cicat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11:20Z</dcterms:created>
  <dc:creator>CHDouai CHDouai</dc:creator>
  <dc:description/>
  <dc:language>en-US</dc:language>
  <cp:lastModifiedBy>MOSSER</cp:lastModifiedBy>
  <dcterms:modified xsi:type="dcterms:W3CDTF">2004-11-21T21:59:31Z</dcterms:modified>
  <cp:revision>36</cp:revision>
  <dc:subject/>
  <dc:title>Un stent ou endoprothèse métallique est un implant dont la fonction est de garder ouverte la lumière d’un vaisseau sanguin.</dc:title>
</cp:coreProperties>
</file>