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528480"/>
            <a:ext cx="860904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Petits problèmes en urologie chez le garç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r G.N. SOUL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té d'Urolo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inique Saint 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mbres lez Dou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Le phimosis (1)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thologi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ins fréquente que le nombre d'opérations réalisé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blème religieux et circoncision rituel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ge : 1 à 2 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irurgie ambul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ect post opé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Le phimosis (2)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lani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hérences préput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olution spontanée vers la libé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 tendance actuelle est d'atten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rai phim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rconcision ou posthecto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épuce long et ser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épuce OK sauf en érection ==&gt; paraphim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Ectopie testiculaire : 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9280" y="1882440"/>
            <a:ext cx="92138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 présence permanente du testicule dans la b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en clinique difficile : Réflexe crémastér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 haut en 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 testicule abaissabl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=&gt; testicule ballad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 non abaissabl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=&gt; ect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.A.T.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vant 1 à 2 ans ==&gt; HCG (50 % de succè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vention chir simple ==&gt; vers 2 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on risque fertilité et cancér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orsion testiculaire (1) :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gence urolog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 pas perdre de te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étorsion manu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iru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ide au diagnostic  : écho doppl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orsion testiculaire (2) :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00320" y="3114720"/>
            <a:ext cx="7473960" cy="3965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08160" y="2198520"/>
            <a:ext cx="7556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étorsion manuelle : technique et sens de r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Varicocèle :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us fréquent à gau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en en position de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oeuvre de Valsal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opérer ou emboliser si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minution de la taille du testic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uleu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rt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 total peu d'indications chez le jeune garç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Hydrocèle :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ême origine qu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r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ct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ujours hydrocèle communic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ord ingu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çois MOSSER</cp:lastModifiedBy>
  <dcterms:modified xsi:type="dcterms:W3CDTF">2004-01-17T14:16:55Z</dcterms:modified>
  <cp:revision>1</cp:revision>
  <dc:subject/>
  <dc:title>Petits problèmes en urologie chez le garçon</dc:title>
</cp:coreProperties>
</file>