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288588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5240" y="127080"/>
            <a:ext cx="9956520" cy="6603840"/>
            <a:chOff x="165240" y="127080"/>
            <a:chExt cx="9956520" cy="6603840"/>
          </a:xfrm>
        </p:grpSpPr>
        <p:sp>
          <p:nvSpPr>
            <p:cNvPr id="1" name=""/>
            <p:cNvSpPr/>
            <p:nvPr/>
          </p:nvSpPr>
          <p:spPr>
            <a:xfrm>
              <a:off x="165240" y="127080"/>
              <a:ext cx="9956520" cy="6603840"/>
            </a:xfrm>
            <a:prstGeom prst="rect">
              <a:avLst/>
            </a:prstGeom>
            <a:gradFill rotWithShape="0">
              <a:gsLst>
                <a:gs pos="0">
                  <a:srgbClr val="1000a2"/>
                </a:gs>
                <a:gs pos="50000">
                  <a:srgbClr val="070050"/>
                </a:gs>
                <a:gs pos="100000">
                  <a:srgbClr val="1000a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65040" y="279360"/>
              <a:ext cx="9556920" cy="6299280"/>
            </a:xfrm>
            <a:prstGeom prst="rect">
              <a:avLst/>
            </a:prstGeom>
            <a:gradFill rotWithShape="0">
              <a:gsLst>
                <a:gs pos="0">
                  <a:srgbClr val="040030"/>
                </a:gs>
                <a:gs pos="50000">
                  <a:srgbClr val="1000a2"/>
                </a:gs>
                <a:gs pos="100000">
                  <a:srgbClr val="04003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5800" y="334800"/>
              <a:ext cx="9456840" cy="6189840"/>
            </a:xfrm>
            <a:prstGeom prst="rect">
              <a:avLst/>
            </a:prstGeom>
            <a:gradFill rotWithShape="0">
              <a:gsLst>
                <a:gs pos="0">
                  <a:srgbClr val="1000a2"/>
                </a:gs>
                <a:gs pos="50000">
                  <a:srgbClr val="070050"/>
                </a:gs>
                <a:gs pos="100000">
                  <a:srgbClr val="1000a2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65200" y="507960"/>
              <a:ext cx="9156600" cy="5842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000a2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e pied diabétique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. PREVOS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rvice Endocrinologie Diabétologi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 Doua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7/01/0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I. la neuropathi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562720" y="762120"/>
            <a:ext cx="350496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iagnostic 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monofilament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iapason gradué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réflexes ostéotendineu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62120" y="1371600"/>
            <a:ext cx="2819160" cy="4140360"/>
            <a:chOff x="762120" y="1371600"/>
            <a:chExt cx="2819160" cy="41403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281916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52480" y="1415880"/>
              <a:ext cx="2610000" cy="40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809880" y="3124080"/>
            <a:ext cx="3530880" cy="3048120"/>
            <a:chOff x="3809880" y="3124080"/>
            <a:chExt cx="3530880" cy="30481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3809880" y="3124080"/>
              <a:ext cx="35308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00600" y="3168720"/>
              <a:ext cx="3324240" cy="29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001000" y="3429000"/>
            <a:ext cx="95256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16120" y="3341520"/>
            <a:ext cx="6854760" cy="174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3880" y="-609480"/>
            <a:ext cx="7925040" cy="69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Hygiè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hauss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raitement de l’hyperkerat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n cas de plaie, consulter rapid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révention des troubles trophiqu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39116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Le pied diabétiqu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Pathologie fréquente, grave, complèx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Développer la préven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CONCLUS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</a:rPr>
              <a:t>PROBLÈME DE SANTE PUBLIQUE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évale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1908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5 À 10 %  patients diabétiques ont un ulcère du pie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1908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50% des journées d’hospitalisa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1908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0000 amputations/a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vité: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1908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isque d ’amputation * 2 à 15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1908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mputation majeure: mortalité 77% vs 32% sur 6an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û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7500 à 16000 euros en fonction du niveau d’amputatio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2040" y="25909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</a:rPr>
              <a:t>Pied: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Comic Sans MS"/>
              </a:rPr>
              <a:t>cible préviliégée du diabè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685800"/>
            <a:ext cx="28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neuropath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ascend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105520"/>
            <a:ext cx="2667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Comic Sans MS"/>
              </a:rPr>
              <a:t>Artér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Comic Sans MS"/>
              </a:rPr>
              <a:t>dis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495288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omic Sans MS"/>
              </a:rPr>
              <a:t>Inf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milieu confi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17017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419040" cy="80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3680" y="5105520"/>
            <a:ext cx="28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1055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85800" y="1523880"/>
            <a:ext cx="3530520" cy="1930680"/>
            <a:chOff x="685800" y="1523880"/>
            <a:chExt cx="3530520" cy="19306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85800" y="1523880"/>
              <a:ext cx="353052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76160" y="1568520"/>
              <a:ext cx="332424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I. la neuropathi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143680" y="3809880"/>
            <a:ext cx="3873240" cy="2006640"/>
            <a:chOff x="5143680" y="3809880"/>
            <a:chExt cx="3873240" cy="200664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143680" y="3809880"/>
              <a:ext cx="38732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234040" y="3854520"/>
              <a:ext cx="36669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62720" y="762120"/>
            <a:ext cx="350496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80% des patien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bsence de douleu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éformation des pied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886200"/>
            <a:ext cx="3530520" cy="1879560"/>
            <a:chOff x="685800" y="3886200"/>
            <a:chExt cx="3530520" cy="187956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685800" y="3886200"/>
              <a:ext cx="353052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76160" y="3930480"/>
              <a:ext cx="3323880" cy="17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I. la neuropathi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62720" y="762120"/>
            <a:ext cx="350496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Mal perforant plantair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arcade plantaire antérieur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pied de charcot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14400" y="1523880"/>
            <a:ext cx="3530520" cy="2476800"/>
            <a:chOff x="914400" y="1523880"/>
            <a:chExt cx="3530520" cy="24768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353052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004760" y="1568520"/>
              <a:ext cx="3324240" cy="23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562720" y="3733920"/>
            <a:ext cx="3530520" cy="2654280"/>
            <a:chOff x="5562720" y="3733920"/>
            <a:chExt cx="3530520" cy="265428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562720" y="3733920"/>
              <a:ext cx="353052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653080" y="3778200"/>
              <a:ext cx="3324240" cy="25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21928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uvent associée à la neuropathie (20% de lésions ischémiques pure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omme=fem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tère fémorale commun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tère tibiale postérieur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tère tibiale antérieu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62040" y="2705040"/>
            <a:ext cx="3530520" cy="2692440"/>
            <a:chOff x="1562040" y="2705040"/>
            <a:chExt cx="3530520" cy="269244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562040" y="2705040"/>
              <a:ext cx="353052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652760" y="2744640"/>
              <a:ext cx="3323880" cy="25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8600" y="457200"/>
            <a:ext cx="335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II. L ’artér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7560" y="1371600"/>
            <a:ext cx="666756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roblèmes diagnostiqu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Infections superficielles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Cellulites , douleur +-, chaleur+-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Infections profond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Atteintes osseuse: ostéi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+- signes généraux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+- signes biologiques(50% des cas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Diagnostic différentiel avec l ’osteoarthropathie neurogèn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Intérêt de la recherche du contact osseux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Sensibilité 50% des cas, spécificité 85%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4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-129528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III. L infec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révention des troubles trophiqu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épistage clinique  des patients à risqu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ucation du patie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 pas oublier: dans 75% cas, le début de la lésion fait suite à une traumatisme mineure (chaussure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 à 50% des amputations pourraient être évité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00a2"/>
            </a:gs>
            <a:gs pos="50000">
              <a:srgbClr val="000000"/>
            </a:gs>
            <a:gs pos="100000">
              <a:srgbClr val="1000a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épistages des Patients à risqu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TCD de trouble trophiqu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rtériopathie(palpation des  pouls pédieux et tibial postérieur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istence d’une neuropathi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révention des troubles trophiques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3:19:45Z</dcterms:created>
  <dc:creator>Emmanuelle Sandrap</dc:creator>
  <dc:description/>
  <dc:language>en-US</dc:language>
  <cp:lastModifiedBy>François MOSSER</cp:lastModifiedBy>
  <dcterms:modified xsi:type="dcterms:W3CDTF">2004-01-13T22:14:17Z</dcterms:modified>
  <cp:revision>4</cp:revision>
  <dc:subject/>
  <dc:title>Le pied diabétique</dc:title>
</cp:coreProperties>
</file>