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8112-0926-404C-B90E-78EA23930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20E7-F6CD-48ED-8877-B54DF64F8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5E9F-C334-46E5-8E59-F5A837EE2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4357-E3D1-4556-B723-EA4AC7635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91572-15A8-48E4-A2BA-269A6BAFE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5E8BE-4C18-443A-9AB9-09D58A860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B8874-3282-44B1-A5CD-095E4EBD2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8A338-E25B-49CE-A9E0-B7DE94E68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C8C38-1756-48C7-98C4-82F70A2CE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0FE41-C0BB-4804-BE28-D1FCC9A99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1002D-5A85-4927-A062-8DC061BD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8BAC-3294-49BA-82D4-29D01E24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581AC-B8DB-42E3-8213-E3B56336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59D60-A26D-4821-8911-6E006355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86190-C365-41BC-9B5F-2DED3CE4C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D90F1-276D-4E8A-87D7-CD98E5FB0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5298E-2EAD-4F0E-8214-A2A92F625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AA4D-B3BD-47C2-BC8E-BAE6DBC6D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B04B-26AD-4660-8C1A-BF12ECF2C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85D7-B091-4901-9A74-48F5CDC1B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DCA9-A86E-4C67-A52E-0EDC10EBC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81B5-CFDC-427D-B978-2AA36004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CF32-FCED-49EF-9584-8FBD7E4C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937F-8C5B-4076-8A5A-9F568732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619280" y="6381720"/>
            <a:ext cx="63374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rogramme de </a:t>
            </a: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anté de l’</a:t>
            </a: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rrondissement de </a:t>
            </a: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D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ou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E705D-F259-497C-BEAB-8BFCF8CCD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28600" y="60199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50920" y="62373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S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1908000" y="6381720"/>
            <a:ext cx="5616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P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rogramme de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S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anté de l’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rrondissement de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D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ou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53886-6EB4-4631-AAEE-B467439544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28600" y="6019920"/>
            <a:ext cx="746280" cy="838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50920" y="62373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S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59280" y="1700280"/>
            <a:ext cx="3846240" cy="4321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843280" y="1557360"/>
            <a:ext cx="3846600" cy="43210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"/>
              </a:rPr>
              <a:t>Des objectifs </a:t>
            </a:r>
            <a:r>
              <a:rPr b="1" lang="en-US" sz="3200" spc="-1" strike="noStrike">
                <a:solidFill>
                  <a:srgbClr val="ffcc00"/>
                </a:solidFill>
                <a:latin typeface="Wingdings 2"/>
                <a:ea typeface="Wingdings 2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0520" y="1980720"/>
            <a:ext cx="84582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omouvoir la recherche en vue de l’amélioration des connaiss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évelopper l’ingénierie, la logistique et mutualiser les ressour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1219320"/>
            <a:ext cx="7632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Promouvoir et développ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une dynamique « santé » cohére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24080" y="1828800"/>
            <a:ext cx="2895840" cy="1752480"/>
          </a:xfrm>
          <a:prstGeom prst="ellipse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Arial"/>
              </a:rPr>
              <a:t>P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rogramm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Arial"/>
              </a:rPr>
              <a:t>R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égionaux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Arial"/>
              </a:rPr>
              <a:t>S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an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95280" y="2819520"/>
            <a:ext cx="3505320" cy="1676160"/>
          </a:xfrm>
          <a:prstGeom prst="ellipse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Arial"/>
              </a:rPr>
              <a:t>Actions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Arial"/>
              </a:rPr>
              <a:t>san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219320" y="1752480"/>
            <a:ext cx="6553080" cy="4605480"/>
          </a:xfrm>
          <a:prstGeom prst="ellipse">
            <a:avLst/>
          </a:prstGeom>
          <a:noFill/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514600" y="4648320"/>
            <a:ext cx="41911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PSAD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898880" y="3075840"/>
            <a:ext cx="2317320" cy="1239840"/>
          </a:xfrm>
          <a:prstGeom prst="rect">
            <a:avLst/>
          </a:prstGeom>
          <a:noFill/>
          <a:ln w="41400">
            <a:solidFill>
              <a:srgbClr val="ffcc00"/>
            </a:solidFill>
            <a:miter/>
          </a:ln>
        </p:spPr>
        <p:txBody>
          <a:bodyPr anchor="t">
            <a:normAutofit fontScale="92000"/>
          </a:bodyPr>
          <a:p>
            <a:pPr marL="315360" indent="-31536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Arial"/>
              </a:rPr>
              <a:t>Contr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Arial"/>
              </a:rPr>
              <a:t>de Ville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380880"/>
            <a:ext cx="8010360" cy="1238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808080"/>
                  </a:outerShdw>
                </a:effectLst>
                <a:latin typeface="Impact"/>
              </a:rPr>
              <a:t>Couverture de tout le territoire </a:t>
            </a:r>
            <a:endParaRPr b="0" lang="en-US" sz="4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80808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808080"/>
                  </a:outerShdw>
                </a:effectLst>
                <a:latin typeface="Impact"/>
              </a:rPr>
              <a:t> </a:t>
            </a:r>
            <a:r>
              <a:rPr b="0" lang="en-US" sz="40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808080"/>
                  </a:outerShdw>
                </a:effectLst>
                <a:latin typeface="Impact"/>
              </a:rPr>
              <a:t>toute la population</a:t>
            </a:r>
            <a:endParaRPr b="0" lang="en-US" sz="40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80808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619280" y="6381720"/>
            <a:ext cx="63374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rogramme de </a:t>
            </a: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anté de l’</a:t>
            </a: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rrondissement de </a:t>
            </a: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D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ou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6 PROGRAMMES REGIONAU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PRS Cancer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PRS Santé Cardio-vascul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PRS Santé des Enfants et des Jeu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PRS Conduites de Consommation à ris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PRS - PRAPS : Programme Régional d ’accès à la prévention et aux so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PRS - PRASE : Programme Régional d ’accompagnement santé environn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"/>
              </a:rPr>
              <a:t>Diagnostic partag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36480" y="167652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lvl="1" marL="51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Chômag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2,18 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RMI =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,7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Surmort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ALCOOLIS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+ 92 % (</a:t>
            </a:r>
            <a:r>
              <a:rPr b="1" lang="en-US" sz="2800" spc="-1" strike="noStrike">
                <a:solidFill>
                  <a:srgbClr val="ff0000"/>
                </a:solidFill>
                <a:latin typeface="Webdings"/>
                <a:ea typeface="Webdings"/>
              </a:rPr>
              <a:t>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)      </a:t>
            </a: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+ 179 % (</a:t>
            </a:r>
            <a:r>
              <a:rPr b="1" lang="en-US" sz="2800" spc="-1" strike="noStrike">
                <a:solidFill>
                  <a:srgbClr val="ff3399"/>
                </a:solidFill>
                <a:latin typeface="Webdings"/>
                <a:ea typeface="Webdings"/>
              </a:rPr>
              <a:t></a:t>
            </a: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TUM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+ 37,6% (</a:t>
            </a:r>
            <a:r>
              <a:rPr b="1" lang="en-US" sz="2800" spc="-1" strike="noStrike">
                <a:solidFill>
                  <a:srgbClr val="ff0000"/>
                </a:solidFill>
                <a:latin typeface="Webdings"/>
                <a:ea typeface="Webdings"/>
              </a:rPr>
              <a:t>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)    </a:t>
            </a: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+ 10,6% (</a:t>
            </a:r>
            <a:r>
              <a:rPr b="1" lang="en-US" sz="2800" spc="-1" strike="noStrike">
                <a:solidFill>
                  <a:srgbClr val="ff3399"/>
                </a:solidFill>
                <a:latin typeface="Webdings"/>
                <a:ea typeface="Webdings"/>
              </a:rPr>
              <a:t></a:t>
            </a: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in, utérus, VADS, colon et pro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59280" y="1700280"/>
            <a:ext cx="3846240" cy="43210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843280" y="1557360"/>
            <a:ext cx="3846600" cy="43210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"/>
              </a:rPr>
              <a:t>Des objectifs </a:t>
            </a:r>
            <a:r>
              <a:rPr b="1" lang="en-US" sz="3200" spc="-1" strike="noStrike">
                <a:solidFill>
                  <a:srgbClr val="ffcc00"/>
                </a:solidFill>
                <a:latin typeface="Wingdings 2"/>
                <a:ea typeface="Wingdings 2"/>
              </a:rPr>
              <a:t>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837720" y="1828440"/>
            <a:ext cx="77043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Améliorer la santé physique et psychique et soutenir les parents isolés en difficul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Contribuer à l’adoption d’attitudes favorables à la santé des jeu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1219320"/>
            <a:ext cx="7632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Santé des Enfants et des Jeu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59280" y="1700280"/>
            <a:ext cx="3846240" cy="4321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843280" y="1557360"/>
            <a:ext cx="3846600" cy="43210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"/>
              </a:rPr>
              <a:t>Des objectifs </a:t>
            </a:r>
            <a:r>
              <a:rPr b="1" lang="en-US" sz="3200" spc="-1" strike="noStrike">
                <a:solidFill>
                  <a:srgbClr val="ffcc00"/>
                </a:solidFill>
                <a:latin typeface="Wingdings 2"/>
                <a:ea typeface="Wingdings 2"/>
              </a:rPr>
              <a:t>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1828440"/>
            <a:ext cx="86108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Diminuer la consommation des substances psychoactives chez les personnes ayant des mésu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Mettre en cohérence les pratiques de pré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1219320"/>
            <a:ext cx="7632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Conduites de Consommations à Ris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59280" y="1700280"/>
            <a:ext cx="3846240" cy="43210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843280" y="1557360"/>
            <a:ext cx="3846600" cy="43210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"/>
              </a:rPr>
              <a:t>Des objectifs </a:t>
            </a:r>
            <a:r>
              <a:rPr b="1" lang="en-US" sz="3200" spc="-1" strike="noStrike">
                <a:solidFill>
                  <a:srgbClr val="ffcc00"/>
                </a:solidFill>
                <a:latin typeface="Wingdings 2"/>
                <a:ea typeface="Wingdings 2"/>
              </a:rPr>
              <a:t>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837720" y="1599840"/>
            <a:ext cx="77043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Favoriser le bien-être en aidant les personnes à recouvrer une estime de so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3300"/>
                </a:solidFill>
                <a:latin typeface="Arial"/>
              </a:rPr>
              <a:t>Considérer la santé comme un capital qu’il faut préserver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143000"/>
            <a:ext cx="7632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Santé  Bien - Et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59280" y="1700280"/>
            <a:ext cx="3846240" cy="4321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843280" y="1557360"/>
            <a:ext cx="3846600" cy="43210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"/>
              </a:rPr>
              <a:t>Des objectifs </a:t>
            </a:r>
            <a:r>
              <a:rPr b="1" lang="en-US" sz="3200" spc="-1" strike="noStrike">
                <a:solidFill>
                  <a:srgbClr val="ffcc00"/>
                </a:solidFill>
                <a:latin typeface="Wingdings 2"/>
                <a:ea typeface="Wingdings 2"/>
              </a:rPr>
              <a:t>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04920" y="1752120"/>
            <a:ext cx="85341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ccompagner l’évolution du système de santé pour une meilleure prise en compte des besoins de la population de l’arrondissement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1143000"/>
            <a:ext cx="7632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Santé  Précarit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59280" y="1700280"/>
            <a:ext cx="3846240" cy="43210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843280" y="1557360"/>
            <a:ext cx="3846600" cy="43210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"/>
              </a:rPr>
              <a:t>Des objectifs </a:t>
            </a:r>
            <a:r>
              <a:rPr b="1" lang="en-US" sz="3200" spc="-1" strike="noStrike">
                <a:solidFill>
                  <a:srgbClr val="ffcc00"/>
                </a:solidFill>
                <a:latin typeface="Wingdings 2"/>
                <a:ea typeface="Wingdings 2"/>
              </a:rPr>
              <a:t>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33160" y="1828440"/>
            <a:ext cx="80089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aire connaître les risques pour la santé liés à l’environnement et inciter la population à adopter des comportements favorables à la san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1219320"/>
            <a:ext cx="7632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Santé  Environn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8T10:41:42Z</dcterms:created>
  <dc:creator>Jean luc LECOUTY</dc:creator>
  <dc:description/>
  <dc:language>en-US</dc:language>
  <cp:lastModifiedBy>Dr DALLE</cp:lastModifiedBy>
  <cp:lastPrinted>2002-10-09T16:38:00Z</cp:lastPrinted>
  <dcterms:modified xsi:type="dcterms:W3CDTF">2004-01-09T08:27:58Z</dcterms:modified>
  <cp:revision>71</cp:revision>
  <dc:subject/>
  <dc:title>Diapositive 1</dc:title>
</cp:coreProperties>
</file>