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B20-2802-4C28-AD5A-A0D360A9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46CA-016F-4340-A027-06D2BA8A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4E0-811B-4135-BF7A-7F6BB0AC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623-D6D5-4226-9D60-78AA7DC0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D26-7ABC-4044-86BD-21D368E3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D9B0-DB26-41FB-90C4-A43CEEE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F574-4700-493A-997E-D9DB172B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8C74-D5CC-4A21-B9C2-2169C355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E658-E47F-422B-B2DE-843D7732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319E-05F4-4EEC-85F9-8BA75B3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8CBA-AA75-4E15-9BB7-0CA9FF9E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12D-9BD8-4A52-90FE-F0F47C3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6A16-FC10-4381-A592-82EC111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15D-ED73-40D1-9C68-567CE41A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A88F-69D3-4007-BDBC-66D66B59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06C-6FDB-4FF8-9D61-794ED4C9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100E-E63D-429F-8F97-F4462357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647-5E86-40F7-866F-991B3854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A2F-150F-4CCE-BB2B-254108F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AA4-E05B-472D-B5EB-D42EADFB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985-A796-4215-988D-077D028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C07-56C0-45BB-8B2A-909002AF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FFF-7EA0-46B0-8DF8-92159E10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AB6-7D5E-414E-AA3E-B82C967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1616-1489-4DE9-A7B1-3C618617A4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39C5-D9CB-40DE-9283-993BC61DBC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ffcc00"/>
                </a:solidFill>
                <a:uFillTx/>
                <a:latin typeface="Times New Roman"/>
              </a:rPr>
              <a:t>Les Manipulations Vertéb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32040" y="1981080"/>
            <a:ext cx="727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Times New Roman"/>
              </a:rPr>
              <a:t>Quand proposer un traitement par manipulations vertébrales 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s douleurs rachidiennes communes et mécaniqu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s douleurs des membres d’origine rachidienne, totalement ou partiellement, en association avec une pathologie loc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s céphalées d’origine cervica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Les douleurs thoraciques, abdominales, pelviennes, pseudo-viscér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Certains signes fonctionnels : ex : pseudo-verti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Times New Roman"/>
              </a:rPr>
              <a:t>Quand NE PAS proposer de manipulations vertébrales 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1)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Contrindications technique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2)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Contrindications liées à la patholog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3) 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ffcc"/>
                </a:solidFill>
                <a:latin typeface="Times New Roman"/>
              </a:rPr>
              <a:t>Non-ind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Times New Roman"/>
              </a:rPr>
              <a:t>Contrindications liées à la pathologi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800" spc="-1" strike="noStrike" u="sng">
                <a:solidFill>
                  <a:srgbClr val="ffffcc"/>
                </a:solidFill>
                <a:uFillTx/>
                <a:latin typeface="Times New Roman"/>
              </a:rPr>
              <a:t>absol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Pathologie des artères vertébr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Affections tumorales, infectieuses, inflammatoi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ouleurs rachidiennes d’origine viscéra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2880" y="129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Ostéoporo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Hyperostose, arthroses évoluées, scolioses sévères, Scheuerman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Conflits disco-radicula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raumatismes bénins, coup du lapin : recul de 6 semai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Troubles de la coagu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Facteurs de risque vasculaire import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Âge : indications rarissimes avant 15 a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Pathologies musculai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Non - indic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Fibromyalgi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Troubles psychiatr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Certaines affections neurologiq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Radiculopathies inflammatoires ou infectie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yndromes parkinsonie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Conclusion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Nécessité d’un bilan clinique soigneux pour obtenir un diagnostic étiologique le plus précis possible, au besoin aidé d’examens complémentair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cc00"/>
                </a:solidFill>
                <a:uFillTx/>
                <a:latin typeface="Times New Roman"/>
              </a:rPr>
              <a:t>Où apprendre les manipulations vertébrales 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DIU de médecine manuelle et ostéopathi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(14 facultés de médecin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Structures d’enseignement post-universitaire 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Fédération francophone des groupes d’enseignement de médecine manuelle (FEMM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Société française d’ostéopathie (SFO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Zapf Dingba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Société française de médecine manuelle orthopédique et ostéopathique (SOFMMOO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cc"/>
                </a:solidFill>
                <a:uFillTx/>
                <a:latin typeface="Times New Roman"/>
              </a:rPr>
              <a:t>L’Ostéopathie</a:t>
            </a: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F. Le Corre et S. Toffaloni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coll. Que sais-je PU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ffffcc"/>
                </a:solidFill>
                <a:uFillTx/>
                <a:latin typeface="Times New Roman"/>
              </a:rPr>
              <a:t>Les manipulations vertébrales</a:t>
            </a:r>
            <a:r>
              <a:rPr b="0" lang="fr-FR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sous la direction du Pr.Vautravers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Lettre du Rhumatologue,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n°270, mars 2001, Edimark S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gotlib2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922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Times New Roman"/>
              </a:rPr>
              <a:t>Une manipulation vertébrale est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Un geste qui s’applique sur un segment intervertébral ou sur une articulation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portés aux limites de la mobilisation passiv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dans des conditions telles que seule cette articulation peut obéir à la suite du traitement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sans risque de douleurs supplémentaires ni de lésions pour le pati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46483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2278080" cy="3048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20011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Times New Roman"/>
              </a:rPr>
              <a:t>Une manipulation vertébrale est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05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 geste qui s’applique sur un segment intervertébral ou sur une articulation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portés aux limites de la mobilisation passive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dans des conditions telles que seule cette articulation peut obéir à la suite du traitement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sans risque de douleurs supplémentaires ni de lésions pour le patien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1440" y="198108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Une impulsion brusque (« Thrust »), très brève et rebondissante, de très faible amplitu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08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Times New Roman"/>
              </a:rPr>
              <a:t>Une manipulation vertébrale est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8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 geste qui s’applique sur un segment intervertébral ou sur une articulation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portés aux limites de la mobilisation passive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dans des conditions telles que seule cette articulation peut obéir à la suite du traitement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sans risque de douleurs supplémentaires ni de lésions pour le patien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76360" y="19807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e impulsion brusque (« Thrust »), très brève et rebondissante, de très faible amplitu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73392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 bruit de craquement sonore souvent perçu mais qui ne signifie ni que la manipulation a réellement eu lieu, ni qu’elle est efficace ; de même, une manipulation correcte ne déclenche pas forcément ce b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1600200"/>
            <a:ext cx="167004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Times New Roman"/>
              </a:rPr>
              <a:t>Une manipulation vertébrale est…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0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 geste qui s’applique sur un segment intervertébral ou sur une articulation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portés aux limites de la mobilisation passive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dans des conditions telles que seule cette articulation peut obéir à la suite du traitement,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sans risque de douleurs supplémentaires ni de lésions pour le patient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71440" y="1904760"/>
            <a:ext cx="2057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e impulsion brusque (« Thrust »), très brève et rebondissante, de très faible amplitud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15000" y="1905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2743200"/>
            <a:ext cx="320040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fr-FR" sz="1400" spc="-1" strike="noStrike">
                <a:solidFill>
                  <a:srgbClr val="ffffcc"/>
                </a:solidFill>
                <a:latin typeface="Times New Roman"/>
              </a:rPr>
              <a:t>Un bruit de craquement sonore                                                                                                                         souvent perçu mais qui ne signifie ni que la manipulation a réellement eu lieu, ni qu’elle est efficace ; de même, une manipulation correcte ne déclenche pas forcément ce bruit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4267080"/>
            <a:ext cx="525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ne technique aux côtés des autres techniques manuelles de traitement de la peau, des muscles, des tendons, de but et de mécanisme d’action très div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manip3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57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Times New Roman"/>
              </a:rPr>
              <a:t>Que se passe-t-il au cours d’une manipulation vertébrale 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Le mode d’action reste discut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La position des vertèbres les unes par rapport aux autres n’est pas modifiée : PAS DE REMISE EN PLACE 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cc"/>
                </a:solidFill>
                <a:uFillTx/>
                <a:latin typeface="Times New Roman"/>
              </a:rPr>
              <a:t>Déblocage segmentaire</a:t>
            </a:r>
            <a:r>
              <a:rPr b="0" lang="fr-FR" sz="2000" spc="-1" strike="noStrike">
                <a:solidFill>
                  <a:srgbClr val="ffffcc"/>
                </a:solidFill>
                <a:latin typeface="Times New Roman"/>
              </a:rPr>
              <a:t> : notion de restriction de mobilité segmentaire recherchée à l’examen clinique et de rétablissement du jeu articulaire norm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Phénomène réflexe, proprioceptif,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action sur les mécanorécepteurs, sur les systèmes de régulation d’une jointure ou d’un complexe cinétiqu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manip2" descr=""/>
          <p:cNvPicPr/>
          <p:nvPr/>
        </p:nvPicPr>
        <p:blipFill>
          <a:blip r:embed="rId1"/>
          <a:stretch/>
        </p:blipFill>
        <p:spPr>
          <a:xfrm>
            <a:off x="5486400" y="4572000"/>
            <a:ext cx="16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Times New Roman"/>
              </a:rPr>
              <a:t>Que se passe-t-il au cours d’une manipulation vertébrale ?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Le craquement ne peut provenir que de l’écartement brusque des articulations, lié à un phénomène de cavitati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manip4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419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Times New Roman"/>
              </a:rPr>
              <a:t>Quand proposer un traitement par manipulations vertébrales 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Lorsque l’examen clinique a mis en évidence une ou plusieur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dysfonctions vertébrales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 segmentaires, douloureuses, bénignes, réversibles, mécaniques ou réflex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= D.I.M. de Maig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manip5" descr=""/>
          <p:cNvPicPr/>
          <p:nvPr/>
        </p:nvPicPr>
        <p:blipFill>
          <a:blip r:embed="rId1"/>
          <a:stretch/>
        </p:blipFill>
        <p:spPr>
          <a:xfrm>
            <a:off x="4560840" y="1905120"/>
            <a:ext cx="4114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cc00"/>
                </a:solidFill>
                <a:latin typeface="Times New Roman"/>
              </a:rPr>
              <a:t>Quand proposer un traitement par manipulations vertébrales ?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ffcc"/>
                </a:solidFill>
                <a:uFillTx/>
                <a:latin typeface="Times New Roman"/>
              </a:rPr>
              <a:t>Syndrome cellulo-téno-myalgiqu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cc"/>
                </a:solidFill>
                <a:latin typeface="Times New Roman"/>
              </a:rPr>
              <a:t>manifestations douloureuses à distance du segment vertébral dans le même métamère, dans le territoire de la branche ant. et/ou pos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manip6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608360" cy="3224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114800" y="54100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cc"/>
                </a:solidFill>
                <a:latin typeface="Times New Roman"/>
              </a:rPr>
              <a:t>Exemple : topographie des manifestations cellulalgiques, myalgiques et téno-périostées en cas de souffrance segmentaire C5-C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manip7" descr=""/>
          <p:cNvPicPr/>
          <p:nvPr/>
        </p:nvPicPr>
        <p:blipFill>
          <a:blip r:embed="rId2"/>
          <a:stretch/>
        </p:blipFill>
        <p:spPr>
          <a:xfrm>
            <a:off x="3886200" y="2057400"/>
            <a:ext cx="5257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13:52:40Z</dcterms:created>
  <dc:creator>Mr Mangholz</dc:creator>
  <dc:description/>
  <dc:language>en-US</dc:language>
  <cp:lastModifiedBy>Sandrine Depret-MOSSER</cp:lastModifiedBy>
  <dcterms:modified xsi:type="dcterms:W3CDTF">2004-01-14T21:52:47Z</dcterms:modified>
  <cp:revision>19</cp:revision>
  <dc:subject/>
  <dc:title>Les Manipulations Vertébrales</dc:title>
</cp:coreProperties>
</file>