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F562-DF34-4339-808A-8EC7F9D9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A836-9E3D-4521-8C5B-B3A07B46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5960-B0EC-4ED6-B2EE-DBFE71E1D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1612-848C-4AE8-9938-9E62BB27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E5E4-6AE5-4492-80BA-35691326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FDE6-69BB-4841-B8B5-654DCB14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273B-E15E-48D7-B45F-A881A197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4BF9-E7B1-4989-9D0C-D47B5E45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11B8-5878-4736-9BC7-A815EE15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0BA7-71B9-497C-8003-73FC8807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C118-0145-48C2-A9F6-22063F70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75DA-18E3-4457-BE52-1624A84A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993C-6944-470D-9D88-CA531FC63558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ff"/>
                </a:solidFill>
                <a:latin typeface="Times New Roman"/>
              </a:rPr>
              <a:t>BONNE  ANNEE </a:t>
            </a:r>
            <a:br>
              <a:rPr sz="8000"/>
            </a:br>
            <a:r>
              <a:rPr b="0" lang="en-US" sz="8000" spc="-1" strike="noStrike">
                <a:solidFill>
                  <a:srgbClr val="0000ff"/>
                </a:solidFill>
                <a:latin typeface="Times New Roman"/>
              </a:rPr>
              <a:t>2004</a:t>
            </a:r>
            <a:endParaRPr b="0" lang="en-US" sz="8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runo MAETZ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2013"/>
                </a:solidFill>
                <a:latin typeface="Times New Roman"/>
              </a:rPr>
              <a:t>LA PRESBYACOUSI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buClr>
                <a:srgbClr val="1f0f7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1f0f7b"/>
                </a:solidFill>
                <a:uFillTx/>
                <a:latin typeface="Times New Roman"/>
              </a:rPr>
              <a:t>Quels traitements ?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1f0f7b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1f0f7b"/>
                </a:solidFill>
                <a:latin typeface="Times New Roman"/>
              </a:rPr>
              <a:t>Médicaments limités ( avenir)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1f0f7b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1f0f7b"/>
                </a:solidFill>
                <a:latin typeface="Times New Roman"/>
              </a:rPr>
              <a:t>Éviter l’aggravation 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1f0f7b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0f7b"/>
                </a:solidFill>
                <a:latin typeface="Times New Roman"/>
              </a:rPr>
              <a:t>le bruit</a:t>
            </a:r>
            <a:r>
              <a:rPr b="0" lang="fr-FR" sz="2000" spc="-1" strike="noStrike">
                <a:solidFill>
                  <a:srgbClr val="1f0f7b"/>
                </a:solidFill>
                <a:latin typeface="Times New Roman"/>
              </a:rPr>
              <a:t> ( +++)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92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0f7b"/>
                </a:solidFill>
                <a:latin typeface="Times New Roman"/>
              </a:rPr>
              <a:t>les maladies cardio-vasculaires,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92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0f7b"/>
                </a:solidFill>
                <a:latin typeface="Times New Roman"/>
              </a:rPr>
              <a:t>le tabac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92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0f7b"/>
                </a:solidFill>
                <a:latin typeface="Times New Roman"/>
              </a:rPr>
              <a:t>certains médicament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1f0f7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1f0f7b"/>
                </a:solidFill>
                <a:latin typeface="Times New Roman"/>
              </a:rPr>
              <a:t>-L’appareillage audioprothétique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1f0f7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0f7b"/>
                </a:solidFill>
                <a:latin typeface="Times New Roman"/>
              </a:rPr>
              <a:t>   </a:t>
            </a:r>
            <a:r>
              <a:rPr b="0" lang="fr-FR" sz="2800" spc="-1" strike="noStrike">
                <a:solidFill>
                  <a:srgbClr val="1f0f7b"/>
                </a:solidFill>
                <a:latin typeface="Times New Roman"/>
              </a:rPr>
              <a:t>(Le but n’est pas de récupérer des Décibels mais de tirer le meilleur parti de ceux qui restent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2013"/>
                </a:solidFill>
                <a:latin typeface="Times New Roman"/>
              </a:rPr>
              <a:t>LA PRESBYACOUSI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5341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0f7b"/>
                </a:solidFill>
                <a:latin typeface="Times New Roman"/>
              </a:rPr>
              <a:t>1/3 des personnes de plus de 65 ans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0f7b"/>
                </a:solidFill>
                <a:latin typeface="Times New Roman"/>
              </a:rPr>
              <a:t>Environ 3 millions en France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0f7b"/>
                </a:solidFill>
                <a:latin typeface="Times New Roman"/>
              </a:rPr>
              <a:t>Seul 10 % sont appareillés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1f0f7b"/>
                </a:solidFill>
                <a:latin typeface="Times New Roman"/>
              </a:rPr>
              <a:t>L’appareillage audioprothétique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14300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209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209160" indent="-2091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ff"/>
                </a:solidFill>
                <a:latin typeface="Times New Roman"/>
              </a:rPr>
              <a:t>Conduction aerienn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453240" indent="-1742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Le contour d’oreill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4532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ff"/>
              </a:solidFill>
              <a:latin typeface="Times New Roman"/>
            </a:endParaRPr>
          </a:p>
          <a:p>
            <a:pPr lvl="1" marL="453240" indent="-1742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L’intra auriculair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4532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ff"/>
              </a:solidFill>
              <a:latin typeface="Times New Roman"/>
            </a:endParaRPr>
          </a:p>
          <a:p>
            <a:pPr lvl="1" marL="453240" indent="-1742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Les Lunette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209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209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209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209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209160" indent="-2091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ff"/>
                </a:solidFill>
                <a:latin typeface="Times New Roman"/>
              </a:rPr>
              <a:t>Conduction osseuse</a:t>
            </a:r>
            <a:r>
              <a:rPr b="0" lang="fr-FR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453240" indent="-1742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Les Lunettes C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209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4" name="aide%20auditive" descr=""/>
          <p:cNvPicPr/>
          <p:nvPr/>
        </p:nvPicPr>
        <p:blipFill>
          <a:blip r:embed="rId1"/>
          <a:stretch/>
        </p:blipFill>
        <p:spPr>
          <a:xfrm>
            <a:off x="0" y="1600200"/>
            <a:ext cx="2895480" cy="2209680"/>
          </a:xfrm>
          <a:prstGeom prst="rect">
            <a:avLst/>
          </a:prstGeom>
          <a:ln w="0">
            <a:noFill/>
          </a:ln>
        </p:spPr>
      </p:pic>
      <p:pic>
        <p:nvPicPr>
          <p:cNvPr id="75" name="cros" descr=""/>
          <p:cNvPicPr/>
          <p:nvPr/>
        </p:nvPicPr>
        <p:blipFill>
          <a:blip r:embed="rId2"/>
          <a:stretch/>
        </p:blipFill>
        <p:spPr>
          <a:xfrm>
            <a:off x="6934320" y="3048120"/>
            <a:ext cx="2209680" cy="1776240"/>
          </a:xfrm>
          <a:prstGeom prst="rect">
            <a:avLst/>
          </a:prstGeom>
          <a:ln w="0">
            <a:noFill/>
          </a:ln>
        </p:spPr>
      </p:pic>
      <p:pic>
        <p:nvPicPr>
          <p:cNvPr id="76" name="differents%20intra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2666880" cy="2057400"/>
          </a:xfrm>
          <a:prstGeom prst="rect">
            <a:avLst/>
          </a:prstGeom>
          <a:ln w="0">
            <a:noFill/>
          </a:ln>
        </p:spPr>
      </p:pic>
      <p:pic>
        <p:nvPicPr>
          <p:cNvPr id="77" name="lunette%20CO" descr=""/>
          <p:cNvPicPr/>
          <p:nvPr/>
        </p:nvPicPr>
        <p:blipFill>
          <a:blip r:embed="rId4"/>
          <a:stretch/>
        </p:blipFill>
        <p:spPr>
          <a:xfrm>
            <a:off x="152280" y="4876920"/>
            <a:ext cx="274320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s nouveautés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La plasticité neuronale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 stéréophonie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 numérique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s modifications législatives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La plasticité neuronale</a:t>
            </a:r>
            <a:endParaRPr b="0" lang="en-US" sz="5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ff"/>
                </a:solidFill>
                <a:uFillTx/>
                <a:latin typeface="Times New Roman"/>
              </a:rPr>
              <a:t>Principe</a:t>
            </a:r>
            <a:r>
              <a:rPr b="1" lang="fr-FR" sz="4400" spc="-1" strike="noStrike">
                <a:solidFill>
                  <a:srgbClr val="0000ff"/>
                </a:solidFill>
                <a:latin typeface="Times New Roman"/>
              </a:rPr>
              <a:t> :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ff"/>
                </a:solidFill>
                <a:uFillTx/>
                <a:latin typeface="Times New Roman"/>
              </a:rPr>
              <a:t>Conséquences</a:t>
            </a:r>
            <a:r>
              <a:rPr b="1" lang="fr-FR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fr-FR" sz="4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0f7b"/>
                </a:solidFill>
                <a:latin typeface="Times New Roman"/>
                <a:ea typeface="Times New Roman"/>
              </a:rPr>
              <a:t> </a:t>
            </a:r>
            <a:r>
              <a:rPr b="0" lang="fr-FR" sz="3600" spc="-1" strike="noStrike">
                <a:solidFill>
                  <a:srgbClr val="1f0f7b"/>
                </a:solidFill>
                <a:latin typeface="Times New Roman"/>
                <a:ea typeface="Times New Roman"/>
              </a:rPr>
              <a:t>Lutter contre  l’isolement de la personne agé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0f7b"/>
                </a:solidFill>
                <a:latin typeface="Times New Roman"/>
              </a:rPr>
              <a:t> </a:t>
            </a:r>
            <a:r>
              <a:rPr b="0" lang="fr-FR" sz="3600" spc="-1" strike="noStrike">
                <a:solidFill>
                  <a:srgbClr val="0000ff"/>
                </a:solidFill>
                <a:latin typeface="Times New Roman"/>
              </a:rPr>
              <a:t>Précocité de l’appareillag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98560" y="2500200"/>
            <a:ext cx="2073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2860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0f7b"/>
                </a:solidFill>
                <a:latin typeface="Times New Roman"/>
              </a:rPr>
              <a:t>vieillissement normal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13360" y="2119320"/>
            <a:ext cx="268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65640" y="2119320"/>
            <a:ext cx="2835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32680" y="2209680"/>
            <a:ext cx="291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régénération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2666880"/>
            <a:ext cx="144792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00400" y="16765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timulations sensoriell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57800" y="2133720"/>
            <a:ext cx="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 stéréophonie</a:t>
            </a:r>
            <a:endParaRPr b="0" lang="en-US" sz="5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ff"/>
                </a:solidFill>
                <a:uFillTx/>
                <a:latin typeface="Times New Roman"/>
              </a:rPr>
              <a:t>Qualité sonor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Moindre puissance utilisé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Diminution de la distorsio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Retard d’apparition de l’éffet de larse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ff"/>
                </a:solidFill>
                <a:uFillTx/>
                <a:latin typeface="Times New Roman"/>
              </a:rPr>
              <a:t>Identification des son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Identification spatia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Localisation en profondeur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Meilleur intelligibilité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Meilleur discrimination dans le brui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Meilleur masquage des acouphène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umérique  - Analogique</a:t>
            </a:r>
            <a:endParaRPr b="0" lang="en-US" sz="5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Le réglage numérique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remplace le potentiomètre analogique (nombreuses distorsions) et permet de modifier le signal de façon infini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D’ou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erception accrue des voix faible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eilleur qualité acoustiqu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eilleur tolérance aux bruit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eilleur performance dans le brui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s modifications législatives</a:t>
            </a:r>
            <a:endParaRPr b="0" lang="en-US" sz="5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Pour les plus de 20 ans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a SS rembourse 65 % d’une somme forfaitaire de 199,71 e ( 1310 F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puis mai 2002 prise en charge de 2 appareils : soit 399,42 e (2656,15 F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Pour les moins de 20 ans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( ou patient atteint de cécité et d’une surdité nécessitant un appareillage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xonération du ticket modérateur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Remboursement au TIP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s modifications législatives</a:t>
            </a:r>
            <a:endParaRPr b="0" lang="en-US" sz="5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Pour les plus de 20 ans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llocation forfaitaire d’entretien : 65% de 36,59 e x 2 soit 73,18 e ( 280 F 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mbout auriculaire : 1 par an ( 32,24 F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Pour les moins de 20 ans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llocation forfaitaire d’entretien pour chaque apparei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mbout auriculaire : 4 par an jusqu’2 ans puis 1 par an et par apparei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s prothèses du 21 ème siècle</a:t>
            </a:r>
            <a:r>
              <a:rPr b="0" lang="fr-FR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Les prothèses BAHA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Les implants de l’oreille moyenne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Les implants cochléaires et du tronc cérébra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Y A T’IL ENCORE QUELQU’UN DANS LA SALLE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s prothèses BAHA </a:t>
            </a:r>
            <a:br>
              <a:rPr sz="4400"/>
            </a:b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320" y="7621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Principe</a:t>
            </a:r>
            <a:r>
              <a:rPr b="0" lang="fr-FR" sz="3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0" lang="fr-FR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 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stéo-intégration grâce à la biocompatibilité du titane en contact du tissu osseux, permet la transmission de l’onde sonore directement vers la cochlée</a:t>
            </a:r>
            <a:r>
              <a:rPr b="0" lang="fr-FR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000ff"/>
                </a:solidFill>
                <a:uFillTx/>
                <a:latin typeface="Times New Roman"/>
              </a:rPr>
              <a:t>Test</a:t>
            </a:r>
            <a:r>
              <a:rPr b="0" lang="fr-FR" sz="28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ff"/>
                </a:solidFill>
                <a:latin typeface="Times New Roman"/>
              </a:rPr>
              <a:t>: test rod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2" name="BAHA%202" descr=""/>
          <p:cNvPicPr/>
          <p:nvPr/>
        </p:nvPicPr>
        <p:blipFill>
          <a:blip r:embed="rId1"/>
          <a:stretch/>
        </p:blipFill>
        <p:spPr>
          <a:xfrm>
            <a:off x="4800600" y="3809880"/>
            <a:ext cx="4343400" cy="2895840"/>
          </a:xfrm>
          <a:prstGeom prst="rect">
            <a:avLst/>
          </a:prstGeom>
          <a:ln w="0">
            <a:noFill/>
          </a:ln>
        </p:spPr>
      </p:pic>
      <p:pic>
        <p:nvPicPr>
          <p:cNvPr id="103" name="TEST%20ROD" descr=""/>
          <p:cNvPicPr/>
          <p:nvPr/>
        </p:nvPicPr>
        <p:blipFill>
          <a:blip r:embed="rId2"/>
          <a:stretch/>
        </p:blipFill>
        <p:spPr>
          <a:xfrm>
            <a:off x="685800" y="4952880"/>
            <a:ext cx="2730600" cy="1652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>
            <a:off x="1752480" y="4572000"/>
            <a:ext cx="76320" cy="6094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3657600"/>
            <a:ext cx="1143000" cy="990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s prothèses BAHA</a:t>
            </a:r>
            <a:br>
              <a:rPr sz="5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dications</a:t>
            </a:r>
            <a:endParaRPr b="0" lang="en-US" sz="5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510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ppareillage conventionnel difficile (pathologie du conduit auditif externe),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PM,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urdité mixte</a:t>
            </a: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Cophose unilatérale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8" name="BAHA%20cophose%20unilatérale" descr=""/>
          <p:cNvPicPr/>
          <p:nvPr/>
        </p:nvPicPr>
        <p:blipFill>
          <a:blip r:embed="rId1"/>
          <a:stretch/>
        </p:blipFill>
        <p:spPr>
          <a:xfrm>
            <a:off x="5562720" y="4495680"/>
            <a:ext cx="3581280" cy="2133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038480" y="6095880"/>
            <a:ext cx="13716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1676160"/>
            <a:ext cx="89917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s implants de l’oreille moyenne</a:t>
            </a:r>
            <a:endParaRPr b="0" lang="en-US" sz="5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s implants de l’oreille moyenn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principe </a:t>
            </a:r>
            <a:r>
              <a:rPr b="0" lang="fr-FR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r>
              <a:rPr b="0" lang="fr-FR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mplant 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xé directement sur le système tympano-ossiculaire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ermettant la vibration de la chaîne ossiculaire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s implants de l’oreille moyenn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5105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ff"/>
                </a:solidFill>
                <a:uFillTx/>
                <a:latin typeface="Times New Roman"/>
              </a:rPr>
              <a:t>Audioprocesseur externe</a:t>
            </a: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 avec microphone, pile, système de TTT du son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ff"/>
                </a:solidFill>
                <a:uFillTx/>
                <a:latin typeface="Times New Roman"/>
              </a:rPr>
              <a:t>Transducteur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Branche descendante de l’enclume ( Symphonix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Corps de l’enclume (Otologics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s implants de l’oreille moyenne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5257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Avantages</a:t>
            </a:r>
            <a:r>
              <a:rPr b="0" lang="fr-FR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bsence de fermeture du CAE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sparition de l’inconfort de la fermeture  du CA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minution de l’effet de larsen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Indications</a:t>
            </a:r>
            <a:r>
              <a:rPr b="0" lang="fr-FR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r>
              <a:rPr b="0" lang="fr-F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échec des prothèses conventionnelles,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 cours d’évalution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ût ? Risques ? avenir 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23960" y="990720"/>
            <a:ext cx="7696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s implants cochléaires </a:t>
            </a:r>
            <a:br>
              <a:rPr sz="5400"/>
            </a:b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 </a:t>
            </a:r>
            <a:br>
              <a:rPr sz="5400"/>
            </a:b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u tronc cérébral</a:t>
            </a:r>
            <a:endParaRPr b="0" lang="en-US" sz="5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s implants cochléaires</a:t>
            </a:r>
            <a:endParaRPr b="0" lang="en-US" sz="5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La prévalence de la surdité à la naissance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est d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,4 pour 1000 naissances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Il s’agit donc du premier handicap de l’enfant à la naissance.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urdité : 140 pour 100 000 naissance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énylcétonurie :7 pour 100 000,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ypothyroïdie : 25 pour 100 000 naissances,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ucoviscidose : 50 pour 100 000 naissances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Actuellement, les surdités sévères à profondes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sont diagnostiquées ver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’âge de deux ans à deux ans et demi.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s implants cochléaires</a:t>
            </a:r>
            <a:br>
              <a:rPr sz="4400"/>
            </a:b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ment depister?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A l’hôpital ou en clinique</a:t>
            </a:r>
            <a:r>
              <a:rPr b="0" lang="fr-F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épistage possible par les oto-émissions voire par les potentiels évoqués précoces automatisés</a:t>
            </a: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n certain pourcentage des surdités n’apparaît que tardivement d’où la nécessité un dépistage plus tardif</a:t>
            </a: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Par le Médecin Traitant</a:t>
            </a:r>
            <a:r>
              <a:rPr b="0" lang="fr-F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: dépistage des surdités de l’enfant ( Interrogatoire + logiciel Myosotis pour le  9ème mois)</a:t>
            </a: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s implants cochléaires</a:t>
            </a:r>
            <a:endParaRPr b="0" lang="en-US" sz="5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5029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ff"/>
                </a:solidFill>
                <a:uFillTx/>
                <a:latin typeface="Times New Roman"/>
                <a:ea typeface="Arial Unicode MS"/>
              </a:rPr>
              <a:t>Principes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 :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L’implant est un transducteur qui transforme le signal acoustique en signal électrique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’implant remplace les cellules ciliées interne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7" name="IC%20enfant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380988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s surdités :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 la prothèse à l’implant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s implants cochléaires</a:t>
            </a:r>
            <a:endParaRPr b="0" lang="en-US" sz="5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4876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  <a:ea typeface="Arial Unicode MS"/>
              </a:rPr>
              <a:t>Technique: matériel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Partie externe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: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Microphone,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processeur externe,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Partie implantée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cesseur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interne et l’aimant,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orte électrode (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le plus souvent multi-électrode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0" name="électrode%20intracochléaire" descr=""/>
          <p:cNvPicPr/>
          <p:nvPr/>
        </p:nvPicPr>
        <p:blipFill>
          <a:blip r:embed="rId1"/>
          <a:stretch/>
        </p:blipFill>
        <p:spPr>
          <a:xfrm>
            <a:off x="5943600" y="487692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131" name="partie%20ext%20IC" descr=""/>
          <p:cNvPicPr/>
          <p:nvPr/>
        </p:nvPicPr>
        <p:blipFill>
          <a:blip r:embed="rId2"/>
          <a:stretch/>
        </p:blipFill>
        <p:spPr>
          <a:xfrm>
            <a:off x="5715000" y="1514520"/>
            <a:ext cx="2468520" cy="1914480"/>
          </a:xfrm>
          <a:prstGeom prst="rect">
            <a:avLst/>
          </a:prstGeom>
          <a:ln w="0">
            <a:noFill/>
          </a:ln>
        </p:spPr>
      </p:pic>
      <p:pic>
        <p:nvPicPr>
          <p:cNvPr id="132" name="partie%20implantée%20IC" descr=""/>
          <p:cNvPicPr/>
          <p:nvPr/>
        </p:nvPicPr>
        <p:blipFill>
          <a:blip r:embed="rId3"/>
          <a:stretch/>
        </p:blipFill>
        <p:spPr>
          <a:xfrm>
            <a:off x="5257800" y="3657600"/>
            <a:ext cx="3230640" cy="1179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V="1">
            <a:off x="2971800" y="2285640"/>
            <a:ext cx="312408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962520" y="2285640"/>
            <a:ext cx="3657600" cy="7621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038480" y="4266720"/>
            <a:ext cx="1143000" cy="2286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5638680"/>
            <a:ext cx="1295640" cy="2286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s implants du tronc cérébral</a:t>
            </a:r>
            <a:br>
              <a:rPr sz="5400"/>
            </a:br>
            <a:endParaRPr b="0" lang="en-US" sz="5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5181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Indication </a:t>
            </a:r>
            <a:r>
              <a:rPr b="1" lang="fr-FR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ff"/>
                </a:solidFill>
                <a:uFillTx/>
                <a:latin typeface="Times New Roman"/>
                <a:ea typeface="Arial Unicode MS"/>
              </a:rPr>
              <a:t>Materiel</a:t>
            </a:r>
            <a:r>
              <a:rPr b="1" lang="fr-FR" sz="2800" spc="-1" strike="noStrike" u="sng">
                <a:solidFill>
                  <a:srgbClr val="0000ff"/>
                </a:solidFill>
                <a:uFillTx/>
                <a:latin typeface="Times New Roman"/>
                <a:ea typeface="Arial Unicode MS"/>
              </a:rPr>
              <a:t>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Implant avec 15 à 21 électrodes au niveau des noyaux cochléaires</a:t>
            </a:r>
            <a:r>
              <a:rPr b="0" lang="fr-FR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41560" y="5776920"/>
            <a:ext cx="2835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Conclusion</a:t>
            </a:r>
            <a:endParaRPr b="0" lang="en-US" sz="7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 surdité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est un handicap majeur dans la vie quotidienne.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écessité de proposer à un patient sourd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la prothèse ou l’implant adapté à sa surdité et à son âge.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53316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s surdités :</a:t>
            </a:r>
            <a:br>
              <a:rPr sz="5400"/>
            </a:b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 la prothèse à l’implant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N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3048120"/>
            <a:ext cx="8991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Les prothèses auditives conventionnelles 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 presbyacousi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s nouveauté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Les prothèses du 21 ème siècl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s prothèses BAHA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s implants de l’oreille moyenne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s implants cochléaires et du tronc cérébra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487440"/>
            <a:ext cx="7924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2013"/>
                </a:solidFill>
                <a:latin typeface="Times New Roman"/>
              </a:rPr>
              <a:t>LA VOIX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: un mélange de son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057400"/>
            <a:ext cx="3200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0f7b"/>
                </a:solidFill>
                <a:latin typeface="Times New Roman"/>
              </a:rPr>
              <a:t>Un mélange qui varie sans cesse avec des sons complexes associant des basses,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0f7b"/>
                </a:solidFill>
                <a:latin typeface="Times New Roman"/>
              </a:rPr>
              <a:t>des médiums ,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0f7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1f0f7b"/>
                </a:solidFill>
                <a:latin typeface="Times New Roman"/>
              </a:rPr>
              <a:t>des </a:t>
            </a:r>
            <a:r>
              <a:rPr b="1" lang="en-US" sz="3200" spc="-1" strike="noStrike">
                <a:solidFill>
                  <a:srgbClr val="1f0f7b"/>
                </a:solidFill>
                <a:latin typeface="Times New Roman"/>
              </a:rPr>
              <a:t>aigu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s qualités des voies auditives: 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54380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2013"/>
                </a:solidFill>
                <a:latin typeface="Times New Roman"/>
              </a:rPr>
              <a:t>LA PRESBYACOUSI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5410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0f7b"/>
                </a:solidFill>
                <a:latin typeface="Times New Roman"/>
              </a:rPr>
              <a:t>C’est le vieillissement normal des circuits de l’audition avec au début la diminution du nombre de cellules ciliées de la cochlée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720" y="4648320"/>
            <a:ext cx="17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jet jeun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2013"/>
                </a:solidFill>
                <a:latin typeface="Times New Roman"/>
              </a:rPr>
              <a:t>LA PRESBYACOUSI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295280"/>
            <a:ext cx="4419720" cy="22269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erte auditive d’environ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dB/an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à partir de 40-60 an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0f7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tteinte d’abord des</a:t>
            </a:r>
            <a:r>
              <a:rPr b="0" lang="en-US" sz="2800" spc="-1" strike="noStrike">
                <a:solidFill>
                  <a:srgbClr val="1f0f7b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ons aigu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267080" y="83808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29600" y="1447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30 ans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229600" y="190512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50 ans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13760" y="2500200"/>
            <a:ext cx="9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70 ans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2013"/>
                </a:solidFill>
                <a:latin typeface="Times New Roman"/>
              </a:rPr>
              <a:t>LA PRESBYACOUSI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f0f7b"/>
                </a:solidFill>
                <a:uFillTx/>
                <a:latin typeface="Times New Roman"/>
              </a:rPr>
              <a:t>Différents stade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0f7b"/>
                </a:solidFill>
                <a:latin typeface="Times New Roman"/>
              </a:rPr>
              <a:t>On entend moins les sons aigus ( musique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0f7b"/>
                </a:solidFill>
                <a:latin typeface="Times New Roman"/>
              </a:rPr>
              <a:t>Gêné pour comprendre dans le bruit (réunion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0f7b"/>
                </a:solidFill>
                <a:latin typeface="Times New Roman"/>
              </a:rPr>
              <a:t>Mauvaise tolérance des bruits fort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0f7b"/>
                </a:solidFill>
                <a:latin typeface="Times New Roman"/>
              </a:rPr>
              <a:t>Majoration des difficultés de communicatio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0f7b"/>
                </a:solidFill>
                <a:latin typeface="Times New Roman"/>
              </a:rPr>
              <a:t>(« les gens parlent trop vite, n’articulent plus »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0f7b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1f0f7b"/>
                </a:solidFill>
                <a:latin typeface="Times New Roman"/>
              </a:rPr>
              <a:t>Isolement voire dépression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2400480"/>
            <a:ext cx="0" cy="2590560"/>
          </a:xfrm>
          <a:prstGeom prst="line">
            <a:avLst/>
          </a:prstGeom>
          <a:ln w="88920">
            <a:solidFill>
              <a:srgbClr val="1f0f7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88840" y="5729400"/>
            <a:ext cx="695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0f7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1f0f7b"/>
                </a:solidFill>
                <a:latin typeface="Times New Roman"/>
              </a:rPr>
              <a:t>mais existent  quelques moyens de suppléance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5715000"/>
            <a:ext cx="6858000" cy="533520"/>
          </a:xfrm>
          <a:prstGeom prst="rect">
            <a:avLst/>
          </a:prstGeom>
          <a:solidFill>
            <a:srgbClr val="333399">
              <a:alpha val="25000"/>
            </a:srgbClr>
          </a:solidFill>
          <a:ln w="9360">
            <a:solidFill>
              <a:srgbClr val="0000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08:59:28Z</dcterms:created>
  <dc:creator>maetz</dc:creator>
  <dc:description/>
  <dc:language>en-US</dc:language>
  <cp:lastModifiedBy>MOSSER</cp:lastModifiedBy>
  <dcterms:modified xsi:type="dcterms:W3CDTF">2004-11-21T00:45:13Z</dcterms:modified>
  <cp:revision>95</cp:revision>
  <dc:subject/>
  <dc:title>Les surdités  de la prothèse à l’implant. </dc:title>
</cp:coreProperties>
</file>