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10288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668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0000" y="304920"/>
            <a:ext cx="97329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Interactions médicamenteuses</a:t>
            </a:r>
            <a:endParaRPr b="0" lang="en-US" sz="48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82440" y="1689120"/>
            <a:ext cx="893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Comprendre pour reten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IAM : 2 médicaments … au-delà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Cahier complémentaire (!)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Comic Sans MS"/>
              </a:rPr>
              <a:t>CI, AssDéc, PE et àP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Subdivisées en IAM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</a:rPr>
              <a:t>Pharmacociné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</a:rPr>
              <a:t>Pharmacodynam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7680" y="457200"/>
            <a:ext cx="102153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ETABOLIS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1. Induction enzyma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8cf4ea"/>
                </a:solidFill>
                <a:latin typeface="Comic Sans MS"/>
              </a:rPr>
              <a:t>. Mécanism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stimulation non spécifique des microsomes (foi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maximum après 2 sema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risque à l’instauration et à l’arrêt de l’ind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5320" y="18864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Inducteurs enzymatiques et AVK</a:t>
            </a:r>
            <a:endParaRPr b="0" lang="en-US" sz="40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327320" y="1916280"/>
            <a:ext cx="0" cy="273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27320" y="4653000"/>
            <a:ext cx="7777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680" y="177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959680" y="4365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74960" y="5229360"/>
            <a:ext cx="2520720" cy="21564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4941720"/>
            <a:ext cx="4032360" cy="503280"/>
          </a:xfrm>
          <a:prstGeom prst="rect">
            <a:avLst/>
          </a:prstGeom>
          <a:solidFill>
            <a:srgbClr val="7900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98960" y="5877000"/>
            <a:ext cx="2950920" cy="216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39680" y="515772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Comic Sans MS"/>
                <a:ea typeface="Times New Roman"/>
              </a:rPr>
              <a:t>AV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6600" y="5734080"/>
            <a:ext cx="27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Carbamazép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368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8768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99320" y="234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98960" y="306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35320" y="2708280"/>
            <a:ext cx="5976720" cy="1079640"/>
          </a:xfrm>
          <a:custGeom>
            <a:avLst/>
            <a:gdLst/>
            <a:ahLst/>
            <a:rect l="l" t="t" r="r" b="b"/>
            <a:pathLst>
              <a:path w="3765" h="680">
                <a:moveTo>
                  <a:pt x="0" y="454"/>
                </a:moveTo>
                <a:lnTo>
                  <a:pt x="590" y="454"/>
                </a:lnTo>
                <a:lnTo>
                  <a:pt x="726" y="680"/>
                </a:lnTo>
                <a:lnTo>
                  <a:pt x="1361" y="680"/>
                </a:lnTo>
                <a:lnTo>
                  <a:pt x="1497" y="454"/>
                </a:lnTo>
                <a:lnTo>
                  <a:pt x="2449" y="454"/>
                </a:lnTo>
                <a:lnTo>
                  <a:pt x="2631" y="0"/>
                </a:lnTo>
                <a:lnTo>
                  <a:pt x="3765" y="0"/>
                </a:lnTo>
              </a:path>
            </a:pathLst>
          </a:custGeom>
          <a:noFill/>
          <a:ln w="5724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770040" y="217440"/>
            <a:ext cx="110570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afd00"/>
                </a:solidFill>
                <a:latin typeface="Comic Sans MS"/>
              </a:rPr>
              <a:t>. Principaux inducteurs enzyma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600" spc="-1" strike="noStrike">
                <a:solidFill>
                  <a:srgbClr val="00ff00"/>
                </a:solidFill>
                <a:latin typeface="Comic Sans MS"/>
              </a:rPr>
              <a:t>- antiépileptiques 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phénobarbital (GARDEN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carbamazépine (TEGRETO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phénytoïne (DI HYDAN), phosphénytoï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primidone (MYSOLINE) </a:t>
            </a:r>
            <a:r>
              <a:rPr b="1" lang="fr-FR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phénobarbit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600" spc="-1" strike="noStrike">
                <a:solidFill>
                  <a:srgbClr val="00ff00"/>
                </a:solidFill>
                <a:latin typeface="Comic Sans MS"/>
              </a:rPr>
              <a:t>- anti-infectieux 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rifampicine (RIFADINE, RIMACTA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rifabutine (ANSATIPIN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griséofulvine (GRISEFULINE, FULCIN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méfloquine (LARIAM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600" spc="-1" strike="noStrike">
                <a:solidFill>
                  <a:srgbClr val="00ff00"/>
                </a:solidFill>
                <a:latin typeface="Comic Sans MS"/>
              </a:rPr>
              <a:t>- INNTI :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éfavirenz (SUSTIVA), névirapine (VIRAMUN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600" spc="-1" strike="noStrike">
                <a:solidFill>
                  <a:srgbClr val="00ff00"/>
                </a:solidFill>
                <a:latin typeface="Comic Sans MS"/>
              </a:rPr>
              <a:t>- alcool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(chroniqu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600" spc="-1" strike="noStrike">
                <a:solidFill>
                  <a:srgbClr val="00ff00"/>
                </a:solidFill>
                <a:latin typeface="Comic Sans MS"/>
              </a:rPr>
              <a:t>- taba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600" spc="-1" strike="noStrike">
                <a:solidFill>
                  <a:srgbClr val="00ff00"/>
                </a:solidFill>
                <a:latin typeface="Comic Sans MS"/>
              </a:rPr>
              <a:t>- millepertu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24000"/>
            <a:ext cx="10287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. Exemples d’IAM par i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- Echec d’une contraception orale oestroprogestative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barbitur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ntiépileptiques (TEGRETOL, DI HYD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rifampicine, rifab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griséofulv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= Ass. Dé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millepertui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5840" y="57240"/>
            <a:ext cx="1026324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- Réactivation d’une épilepsie traitée par l’acide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valproïque (DEPAKINE) + méfloquine (LARIA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induction enzymatique par le LARIAM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+ effet convulsivant propre du LAR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- Antiprotéases du VIH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ntiépileptiques inducteu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C.I. pour saquinavir (INVIR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ssDéc pour ritonavir (NORVI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rifampicin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rifabutin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AssDéc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millepertui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inefficacité des antiproté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19040" y="361800"/>
            <a:ext cx="95439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- Millepertui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V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ntiprotéases du V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contraceptifs oraux (OP ou P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immunosuppresseurs : ciclosporine, tacrolimus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(PROGRAF), sirolim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digox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théophyl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5840" y="593640"/>
            <a:ext cx="1000116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2. Inhibition enzyma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. Mécanismes : blocage ou compétition / site 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enzyma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1 MT inhibiteur/ 1MT inhib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 effet maximum : parfois rapide (5 x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1/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66600" y="333000"/>
            <a:ext cx="87850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PK EN PRISES REITEREES</a:t>
            </a:r>
            <a:br>
              <a:rPr sz="4000"/>
            </a:br>
            <a:endParaRPr b="0" lang="en-US" sz="40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55680" y="2133720"/>
            <a:ext cx="0" cy="3959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55680" y="6093000"/>
            <a:ext cx="8280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66960" y="1700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04400" y="55897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5680" y="3824280"/>
            <a:ext cx="1224000" cy="2268720"/>
          </a:xfrm>
          <a:custGeom>
            <a:avLst/>
            <a:gdLst/>
            <a:ahLst/>
            <a:rect l="l" t="t" r="r" b="b"/>
            <a:pathLst>
              <a:path w="771" h="1429">
                <a:moveTo>
                  <a:pt x="0" y="1429"/>
                </a:moveTo>
                <a:cubicBezTo>
                  <a:pt x="72" y="873"/>
                  <a:pt x="144" y="318"/>
                  <a:pt x="272" y="159"/>
                </a:cubicBezTo>
                <a:cubicBezTo>
                  <a:pt x="400" y="0"/>
                  <a:pt x="688" y="424"/>
                  <a:pt x="771" y="477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79680" y="3416400"/>
            <a:ext cx="1150920" cy="1164960"/>
          </a:xfrm>
          <a:custGeom>
            <a:avLst/>
            <a:gdLst/>
            <a:ahLst/>
            <a:rect l="l" t="t" r="r" b="b"/>
            <a:pathLst>
              <a:path w="725" h="734">
                <a:moveTo>
                  <a:pt x="0" y="734"/>
                </a:moveTo>
                <a:cubicBezTo>
                  <a:pt x="75" y="420"/>
                  <a:pt x="151" y="106"/>
                  <a:pt x="272" y="53"/>
                </a:cubicBezTo>
                <a:cubicBezTo>
                  <a:pt x="393" y="0"/>
                  <a:pt x="650" y="356"/>
                  <a:pt x="725" y="416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0600" y="3189240"/>
            <a:ext cx="1225440" cy="887400"/>
          </a:xfrm>
          <a:custGeom>
            <a:avLst/>
            <a:gdLst/>
            <a:ahLst/>
            <a:rect l="l" t="t" r="r" b="b"/>
            <a:pathLst>
              <a:path w="772" h="559">
                <a:moveTo>
                  <a:pt x="0" y="559"/>
                </a:moveTo>
                <a:cubicBezTo>
                  <a:pt x="49" y="294"/>
                  <a:pt x="98" y="30"/>
                  <a:pt x="227" y="15"/>
                </a:cubicBezTo>
                <a:cubicBezTo>
                  <a:pt x="356" y="0"/>
                  <a:pt x="681" y="393"/>
                  <a:pt x="772" y="469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56040" y="2960640"/>
            <a:ext cx="1224000" cy="973080"/>
          </a:xfrm>
          <a:custGeom>
            <a:avLst/>
            <a:gdLst/>
            <a:ahLst/>
            <a:rect l="l" t="t" r="r" b="b"/>
            <a:pathLst>
              <a:path w="771" h="613">
                <a:moveTo>
                  <a:pt x="0" y="613"/>
                </a:moveTo>
                <a:cubicBezTo>
                  <a:pt x="49" y="329"/>
                  <a:pt x="98" y="46"/>
                  <a:pt x="226" y="23"/>
                </a:cubicBezTo>
                <a:cubicBezTo>
                  <a:pt x="354" y="0"/>
                  <a:pt x="680" y="401"/>
                  <a:pt x="771" y="476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80040" y="2828880"/>
            <a:ext cx="1224000" cy="887400"/>
          </a:xfrm>
          <a:custGeom>
            <a:avLst/>
            <a:gdLst/>
            <a:ahLst/>
            <a:rect l="l" t="t" r="r" b="b"/>
            <a:pathLst>
              <a:path w="771" h="559">
                <a:moveTo>
                  <a:pt x="0" y="559"/>
                </a:moveTo>
                <a:cubicBezTo>
                  <a:pt x="49" y="294"/>
                  <a:pt x="98" y="30"/>
                  <a:pt x="226" y="15"/>
                </a:cubicBezTo>
                <a:cubicBezTo>
                  <a:pt x="354" y="0"/>
                  <a:pt x="680" y="393"/>
                  <a:pt x="771" y="469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04040" y="2708280"/>
            <a:ext cx="1224000" cy="865080"/>
          </a:xfrm>
          <a:custGeom>
            <a:avLst/>
            <a:gdLst/>
            <a:ahLst/>
            <a:rect l="l" t="t" r="r" b="b"/>
            <a:pathLst>
              <a:path w="771" h="507">
                <a:moveTo>
                  <a:pt x="0" y="507"/>
                </a:moveTo>
                <a:cubicBezTo>
                  <a:pt x="49" y="261"/>
                  <a:pt x="99" y="16"/>
                  <a:pt x="227" y="8"/>
                </a:cubicBezTo>
                <a:cubicBezTo>
                  <a:pt x="355" y="0"/>
                  <a:pt x="680" y="386"/>
                  <a:pt x="771" y="461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28040" y="2697120"/>
            <a:ext cx="1224000" cy="803160"/>
          </a:xfrm>
          <a:custGeom>
            <a:avLst/>
            <a:gdLst/>
            <a:ahLst/>
            <a:rect l="l" t="t" r="r" b="b"/>
            <a:pathLst>
              <a:path w="771" h="506">
                <a:moveTo>
                  <a:pt x="0" y="506"/>
                </a:moveTo>
                <a:cubicBezTo>
                  <a:pt x="49" y="260"/>
                  <a:pt x="99" y="14"/>
                  <a:pt x="227" y="7"/>
                </a:cubicBezTo>
                <a:cubicBezTo>
                  <a:pt x="355" y="0"/>
                  <a:pt x="680" y="385"/>
                  <a:pt x="771" y="461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757920" y="1754280"/>
            <a:ext cx="3529080" cy="2168280"/>
            <a:chOff x="6757920" y="1754280"/>
            <a:chExt cx="3529080" cy="2168280"/>
          </a:xfrm>
        </p:grpSpPr>
        <p:sp>
          <p:nvSpPr>
            <p:cNvPr id="149" name=""/>
            <p:cNvSpPr/>
            <p:nvPr/>
          </p:nvSpPr>
          <p:spPr>
            <a:xfrm flipH="1">
              <a:off x="6973920" y="2689200"/>
              <a:ext cx="3240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973920" y="3481200"/>
              <a:ext cx="3240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7920" y="175428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Etat d’équilib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26280" y="225756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pi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81920" y="35542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creu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105680" y="2257560"/>
            <a:ext cx="1297080" cy="3816360"/>
            <a:chOff x="7105680" y="2257560"/>
            <a:chExt cx="1297080" cy="3816360"/>
          </a:xfrm>
        </p:grpSpPr>
        <p:sp>
          <p:nvSpPr>
            <p:cNvPr id="155" name=""/>
            <p:cNvSpPr/>
            <p:nvPr/>
          </p:nvSpPr>
          <p:spPr>
            <a:xfrm>
              <a:off x="7682040" y="2257560"/>
              <a:ext cx="0" cy="18000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05680" y="4130640"/>
              <a:ext cx="1297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Comic Sans MS"/>
                </a:rPr>
                <a:t>5 </a:t>
              </a:r>
              <a:r>
                <a:rPr b="1" lang="en-US" sz="2800" spc="-1" strike="noStrike">
                  <a:solidFill>
                    <a:srgbClr val="fc0128"/>
                  </a:solidFill>
                  <a:latin typeface="Arial"/>
                  <a:ea typeface="Arial"/>
                </a:rPr>
                <a:t>t</a:t>
              </a:r>
              <a:r>
                <a:rPr b="1" lang="en-US" sz="2800" spc="-1" strike="noStrike" baseline="-25000">
                  <a:solidFill>
                    <a:srgbClr val="fc0128"/>
                  </a:solidFill>
                  <a:latin typeface="Comic Sans MS"/>
                </a:rPr>
                <a:t>1/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82040" y="4633920"/>
              <a:ext cx="0" cy="14400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6760" y="328680"/>
            <a:ext cx="1002024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Principaux inhibiteurs enzyma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Comic Sans MS"/>
              </a:rPr>
              <a:t>- Anti-infectieux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. Macrolides et apparentés : érythromycine, josamycine, clarithromycine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(ZECLAR), télithromycine KETE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. Antifongiques azolés : kétoconazole (NIZORAL), itraconazole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(SPORANOX), miconazole (DAKTARIN), fluconazole (TRIFLUCAN),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voriconazole (VFEN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. Antiprotéases du VIH : indinavir (CRIXIVAN),nelfinavir (VIRACEPT),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saquiniavir (INVIRASE) ritonavir (NORVI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. Isoniazide (RIMIF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. Enoxacine (ENOX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Comic Sans MS"/>
              </a:rPr>
              <a:t>- Antiépileptique :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acide valproïque (DEPAK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Comic Sans MS"/>
              </a:rPr>
              <a:t>- Cimétidine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(TAGAM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Comic Sans MS"/>
              </a:rPr>
              <a:t>- Antagonistes du calcium :</a:t>
            </a: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 diltiazem (TILDIEM), vérapamil (ISOPT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Comic Sans MS"/>
              </a:rPr>
              <a:t>- Amiodarone (CORDARO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Comic Sans MS"/>
              </a:rPr>
              <a:t>- Jus de pamplemous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02870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Exe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- Dérivés de l’ergot :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ergotamine (GYNERGENE),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dihydroergotamine (DHE, IKARAN, SEGLOR...)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macrolides :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ntiprotéases :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voriconazole (VFEND)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- Théophylline :</a:t>
            </a: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cimétidine 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énoxacine (ENOXOR) 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- Anti-H</a:t>
            </a:r>
            <a:r>
              <a:rPr b="1" lang="fr-FR" sz="2800" spc="-1" strike="noStrike" baseline="-25000">
                <a:solidFill>
                  <a:srgbClr val="8cf4ea"/>
                </a:solidFill>
                <a:latin typeface="Comic Sans MS"/>
              </a:rPr>
              <a:t>1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 non sédatifs :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mizolastine (MIZOLLEN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kétoconazole, itraconazol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érythro, clarithro, télithromycin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85840" y="324000"/>
            <a:ext cx="967716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I.A.M. PHARMACOCINETIQU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- ABSORP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- DISTRIB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- METABOLIS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- ELIM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23960" y="380880"/>
            <a:ext cx="9334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- Cisapride (PREPULSI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macrolide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kétoconazole, itraconazole, miconazole,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fluconazol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 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ntiprotéases (indinavir, ritonavir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jus de pamplemouss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Ass. Dé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- Pimozide (ORAP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ntifongiques azolé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macrolide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ntiprotéase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23920"/>
            <a:ext cx="10577520" cy="81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cf4ea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Triazolam (HALCION)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macrolides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AssDé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kétoconazole, itraconazol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- Tacrolimus (PROGRAF) + kétoconazole (NIZOR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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de l’effet immunodépresseur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cf4ea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Statines : atorvastatine (TAHOR)/simvastatine (ZOC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ntiprotéases du VIH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kétoconazole, itraconazol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télithromycin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jus de pamplemouss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AssDéc</a:t>
            </a:r>
            <a:r>
              <a:rPr b="1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8360" y="1901520"/>
            <a:ext cx="10088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Illustrations des IAM par inhibition enzymatique</a:t>
            </a:r>
            <a:endParaRPr b="0" lang="en-US" sz="60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71640" y="4586400"/>
            <a:ext cx="74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nt l’actualité depuis 10 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58920" y="334800"/>
            <a:ext cx="992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RAPPEL PHARMACOCINET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58920" y="2708280"/>
            <a:ext cx="3015720" cy="3052080"/>
            <a:chOff x="358920" y="2708280"/>
            <a:chExt cx="3015720" cy="3052080"/>
          </a:xfrm>
        </p:grpSpPr>
        <p:sp>
          <p:nvSpPr>
            <p:cNvPr id="166" name=""/>
            <p:cNvSpPr/>
            <p:nvPr/>
          </p:nvSpPr>
          <p:spPr>
            <a:xfrm flipV="1">
              <a:off x="2789280" y="2997360"/>
              <a:ext cx="0" cy="2232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55280" y="2997360"/>
              <a:ext cx="113364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71240" y="5300640"/>
              <a:ext cx="11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Comic Sans MS"/>
                  <a:ea typeface="Times New Roman"/>
                </a:rPr>
                <a:t>t ma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920" y="270828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ff00"/>
                  </a:solidFill>
                  <a:latin typeface="Comic Sans MS"/>
                  <a:ea typeface="Times New Roman"/>
                </a:rPr>
                <a:t>Cma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655640" y="4005360"/>
            <a:ext cx="3240000" cy="1805400"/>
            <a:chOff x="1655640" y="4005360"/>
            <a:chExt cx="3240000" cy="1805400"/>
          </a:xfrm>
        </p:grpSpPr>
        <p:sp>
          <p:nvSpPr>
            <p:cNvPr id="171" name=""/>
            <p:cNvSpPr/>
            <p:nvPr/>
          </p:nvSpPr>
          <p:spPr>
            <a:xfrm>
              <a:off x="1655640" y="4005360"/>
              <a:ext cx="2591640" cy="0"/>
            </a:xfrm>
            <a:prstGeom prst="line">
              <a:avLst/>
            </a:prstGeom>
            <a:ln w="12600">
              <a:solidFill>
                <a:srgbClr val="000a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47280" y="4005360"/>
              <a:ext cx="0" cy="12240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04640" y="5300640"/>
              <a:ext cx="89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Comic Sans MS"/>
                  <a:ea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Comic Sans MS"/>
                  <a:ea typeface="Times New Roman"/>
                </a:rPr>
                <a:t>1/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82560" y="2924280"/>
            <a:ext cx="7697520" cy="3340800"/>
            <a:chOff x="682560" y="2924280"/>
            <a:chExt cx="7697520" cy="3340800"/>
          </a:xfrm>
        </p:grpSpPr>
        <p:sp>
          <p:nvSpPr>
            <p:cNvPr id="175" name=""/>
            <p:cNvSpPr/>
            <p:nvPr/>
          </p:nvSpPr>
          <p:spPr>
            <a:xfrm>
              <a:off x="1816560" y="2924280"/>
              <a:ext cx="6563520" cy="2305080"/>
            </a:xfrm>
            <a:custGeom>
              <a:avLst/>
              <a:gdLst/>
              <a:ahLst/>
              <a:rect l="l" t="t" r="r" b="b"/>
              <a:pathLst>
                <a:path w="3675" h="1980">
                  <a:moveTo>
                    <a:pt x="0" y="1980"/>
                  </a:moveTo>
                  <a:cubicBezTo>
                    <a:pt x="94" y="1292"/>
                    <a:pt x="189" y="604"/>
                    <a:pt x="318" y="302"/>
                  </a:cubicBezTo>
                  <a:cubicBezTo>
                    <a:pt x="447" y="0"/>
                    <a:pt x="598" y="60"/>
                    <a:pt x="772" y="166"/>
                  </a:cubicBezTo>
                  <a:cubicBezTo>
                    <a:pt x="946" y="272"/>
                    <a:pt x="1119" y="710"/>
                    <a:pt x="1361" y="937"/>
                  </a:cubicBezTo>
                  <a:cubicBezTo>
                    <a:pt x="1603" y="1164"/>
                    <a:pt x="1837" y="1352"/>
                    <a:pt x="2223" y="1526"/>
                  </a:cubicBezTo>
                  <a:cubicBezTo>
                    <a:pt x="2609" y="1700"/>
                    <a:pt x="3142" y="1840"/>
                    <a:pt x="3675" y="198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816560" y="5229000"/>
              <a:ext cx="0" cy="64764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560" y="5805360"/>
              <a:ext cx="22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Comic Sans MS"/>
                  <a:ea typeface="Times New Roman"/>
                </a:rPr>
                <a:t>Prise ora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133640" y="1773360"/>
            <a:ext cx="9153000" cy="3699720"/>
            <a:chOff x="1133640" y="1773360"/>
            <a:chExt cx="9153000" cy="3699720"/>
          </a:xfrm>
        </p:grpSpPr>
        <p:sp>
          <p:nvSpPr>
            <p:cNvPr id="179" name=""/>
            <p:cNvSpPr/>
            <p:nvPr/>
          </p:nvSpPr>
          <p:spPr>
            <a:xfrm>
              <a:off x="1619640" y="2205000"/>
              <a:ext cx="0" cy="3024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19640" y="5229360"/>
              <a:ext cx="8018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33640" y="1773360"/>
              <a:ext cx="97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neva"/>
                </a:rPr>
                <a:t>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478080" y="501336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enev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13040" y="3024360"/>
            <a:ext cx="6075000" cy="2160360"/>
            <a:chOff x="1913040" y="3024360"/>
            <a:chExt cx="6075000" cy="2160360"/>
          </a:xfrm>
        </p:grpSpPr>
        <p:sp>
          <p:nvSpPr>
            <p:cNvPr id="184" name=""/>
            <p:cNvSpPr/>
            <p:nvPr/>
          </p:nvSpPr>
          <p:spPr>
            <a:xfrm>
              <a:off x="2235960" y="3528720"/>
              <a:ext cx="82080" cy="16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98320" y="3240000"/>
              <a:ext cx="79920" cy="19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60680" y="3097080"/>
              <a:ext cx="80280" cy="20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21600" y="3024360"/>
              <a:ext cx="82080" cy="216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6680" y="3024360"/>
              <a:ext cx="79920" cy="21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83960" y="3024360"/>
              <a:ext cx="80280" cy="21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8320" y="3889080"/>
              <a:ext cx="799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9960" y="3240000"/>
              <a:ext cx="82080" cy="19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32320" y="3455640"/>
              <a:ext cx="80280" cy="172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94680" y="3600360"/>
              <a:ext cx="80280" cy="15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55600" y="3744720"/>
              <a:ext cx="8208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06320" y="5113080"/>
              <a:ext cx="817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09400" y="3168360"/>
              <a:ext cx="79920" cy="20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343400" y="4105080"/>
              <a:ext cx="82080" cy="10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80680" y="3960720"/>
              <a:ext cx="79920" cy="1223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3960" y="4176360"/>
              <a:ext cx="8208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73240" y="3960720"/>
              <a:ext cx="82080" cy="12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66320" y="4248000"/>
              <a:ext cx="8028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29400" y="4321080"/>
              <a:ext cx="79920" cy="86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89600" y="4392360"/>
              <a:ext cx="8208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52320" y="4464000"/>
              <a:ext cx="7992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14680" y="4536720"/>
              <a:ext cx="799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77040" y="4608360"/>
              <a:ext cx="802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18320" y="3816000"/>
              <a:ext cx="79920" cy="13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37960" y="4608360"/>
              <a:ext cx="8208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00680" y="4679640"/>
              <a:ext cx="7992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63040" y="4752720"/>
              <a:ext cx="799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3960" y="4752720"/>
              <a:ext cx="820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86320" y="4824360"/>
              <a:ext cx="820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48680" y="4824360"/>
              <a:ext cx="8028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11760" y="4897080"/>
              <a:ext cx="799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71960" y="4897080"/>
              <a:ext cx="8208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680" y="4968720"/>
              <a:ext cx="799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97040" y="4968720"/>
              <a:ext cx="799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57960" y="5040000"/>
              <a:ext cx="82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20320" y="5040000"/>
              <a:ext cx="820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82680" y="5040000"/>
              <a:ext cx="8028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45760" y="5113080"/>
              <a:ext cx="7992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13040" y="4752720"/>
              <a:ext cx="799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66320" y="3744720"/>
              <a:ext cx="121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A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029200" y="3033720"/>
            <a:ext cx="4587840" cy="6523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784080" y="290520"/>
            <a:ext cx="11572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Comic Sans MS"/>
              </a:rPr>
              <a:t>SIMVASTAT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6880" y="1417680"/>
            <a:ext cx="1129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Simvastatine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promédicament  (inact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HYDRO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Métabolite acide actif</a:t>
            </a: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       </a:t>
            </a: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pouvoir inhibiteur +++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CYP3A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3 métabolites actifs       pouvoir inhibiteur 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8840" y="2057400"/>
            <a:ext cx="0" cy="1008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75040" y="3700440"/>
            <a:ext cx="0" cy="10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18600" y="260280"/>
            <a:ext cx="972036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SIMVASTATINE / PAMPLEMOUSSE</a:t>
            </a:r>
            <a:endParaRPr b="0" lang="en-US" sz="40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203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10 volontaires s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Étude randomisée, crois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2 phases de 3 jour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témoin : 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jus de pamplemou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imvastatine J3 : 60 m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afd00"/>
                </a:solidFill>
                <a:latin typeface="Comic Sans MS"/>
              </a:rPr>
              <a:t>PK du métabolite ac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121280" y="1901880"/>
          <a:ext cx="6062400" cy="3098880"/>
        </p:xfrm>
        <a:graphic>
          <a:graphicData uri="http://schemas.openxmlformats.org/drawingml/2006/table">
            <a:tbl>
              <a:tblPr/>
              <a:tblGrid>
                <a:gridCol w="2043000"/>
                <a:gridCol w="1684440"/>
                <a:gridCol w="233496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EA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PAMPLEMOU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C</a:t>
                      </a:r>
                      <a:r>
                        <a:rPr b="1" lang="fr-FR" sz="2000" spc="-1" strike="noStrike" baseline="-25000">
                          <a:solidFill>
                            <a:srgbClr val="fafd00"/>
                          </a:solidFill>
                          <a:latin typeface="Comic Sans MS"/>
                        </a:rPr>
                        <a:t>max    </a:t>
                      </a:r>
                      <a:r>
                        <a:rPr b="1" lang="fr-FR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(ng/m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3.1 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 0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20.3 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 3.6***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</a:t>
                      </a:r>
                      <a:r>
                        <a:rPr b="1" lang="fr-FR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max</a:t>
                      </a: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(h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(2-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 (2-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(h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8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0.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.5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0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ASC (ng/ml/h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21.7 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 4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147 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2000" spc="-1" strike="noStrike">
                          <a:solidFill>
                            <a:srgbClr val="fafd00"/>
                          </a:solidFill>
                          <a:latin typeface="Comic Sans MS"/>
                        </a:rPr>
                        <a:t> 32.9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6854760" y="557856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* p &lt; 0.01, *** p &lt; 0.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23000" y="616572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lin Pharmacol Ther 1998;64:477-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7480" y="245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Comic Sans MS"/>
              </a:rPr>
              <a:t>Terfénadine</a:t>
            </a:r>
            <a:endParaRPr b="0" lang="en-US" sz="4800" spc="-1" strike="noStrike">
              <a:solidFill>
                <a:srgbClr val="f7668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01240" y="1988640"/>
            <a:ext cx="1008540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Anti-H</a:t>
            </a:r>
            <a:r>
              <a:rPr b="1" lang="fr-FR" sz="3200" spc="-1" strike="noStrike" baseline="-25000">
                <a:solidFill>
                  <a:srgbClr val="00ff00"/>
                </a:solidFill>
                <a:latin typeface="Comic Sans MS"/>
              </a:rPr>
              <a:t>1</a:t>
            </a: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 (1982, TELDA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1</a:t>
            </a:r>
            <a:r>
              <a:rPr b="1" lang="fr-FR" sz="3200" spc="-1" strike="noStrike" baseline="30000">
                <a:solidFill>
                  <a:srgbClr val="00ff00"/>
                </a:solidFill>
                <a:latin typeface="Comic Sans MS"/>
              </a:rPr>
              <a:t>ère</a:t>
            </a:r>
            <a:r>
              <a:rPr b="1" lang="fr-FR" sz="3200" spc="-1" strike="noStrike">
                <a:solidFill>
                  <a:srgbClr val="00ff00"/>
                </a:solidFill>
                <a:latin typeface="Comic Sans MS"/>
              </a:rPr>
              <a:t> notification en 1983 / Laboratoi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femme, 72 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terfénadine depuis 3 mois /TAO depuis 7 j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syncop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SA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Soins intensifs de cardiolog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70040" y="692280"/>
            <a:ext cx="8746920" cy="5113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22320" y="5430960"/>
            <a:ext cx="12956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60600" y="1225440"/>
            <a:ext cx="4130640" cy="0"/>
          </a:xfrm>
          <a:prstGeom prst="line">
            <a:avLst/>
          </a:prstGeom>
          <a:ln w="1015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81400" y="1125360"/>
            <a:ext cx="42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10040" y="5416560"/>
            <a:ext cx="1701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6" idx="1"/>
          </p:cNvCxnSpPr>
          <p:nvPr/>
        </p:nvCxnSpPr>
        <p:spPr>
          <a:xfrm>
            <a:off x="684360" y="324972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2" name=""/>
          <p:cNvCxnSpPr>
            <a:stCxn id="236" idx="1"/>
            <a:endCxn id="236" idx="1"/>
          </p:cNvCxnSpPr>
          <p:nvPr/>
        </p:nvCxnSpPr>
        <p:spPr>
          <a:xfrm>
            <a:off x="684000" y="324936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1617840" y="1428840"/>
            <a:ext cx="7200720" cy="3247920"/>
          </a:xfrm>
          <a:custGeom>
            <a:avLst/>
            <a:gdLst/>
            <a:ahLst/>
            <a:rect l="l" t="t" r="r" b="b"/>
            <a:pathLst>
              <a:path w="4032" h="2046">
                <a:moveTo>
                  <a:pt x="0" y="120"/>
                </a:moveTo>
                <a:lnTo>
                  <a:pt x="205" y="1033"/>
                </a:lnTo>
                <a:lnTo>
                  <a:pt x="408" y="1536"/>
                </a:lnTo>
                <a:lnTo>
                  <a:pt x="613" y="1532"/>
                </a:lnTo>
                <a:lnTo>
                  <a:pt x="810" y="1788"/>
                </a:lnTo>
                <a:lnTo>
                  <a:pt x="1021" y="1804"/>
                </a:lnTo>
                <a:lnTo>
                  <a:pt x="1224" y="1536"/>
                </a:lnTo>
                <a:lnTo>
                  <a:pt x="1416" y="1020"/>
                </a:lnTo>
                <a:lnTo>
                  <a:pt x="1626" y="630"/>
                </a:lnTo>
                <a:lnTo>
                  <a:pt x="1824" y="0"/>
                </a:lnTo>
                <a:lnTo>
                  <a:pt x="2028" y="246"/>
                </a:lnTo>
                <a:lnTo>
                  <a:pt x="2232" y="768"/>
                </a:lnTo>
                <a:lnTo>
                  <a:pt x="2424" y="1020"/>
                </a:lnTo>
                <a:lnTo>
                  <a:pt x="2634" y="1026"/>
                </a:lnTo>
                <a:lnTo>
                  <a:pt x="2814" y="1410"/>
                </a:lnTo>
                <a:lnTo>
                  <a:pt x="3036" y="1668"/>
                </a:lnTo>
                <a:lnTo>
                  <a:pt x="3228" y="2046"/>
                </a:lnTo>
                <a:lnTo>
                  <a:pt x="3426" y="1532"/>
                </a:lnTo>
                <a:lnTo>
                  <a:pt x="3652" y="1532"/>
                </a:lnTo>
                <a:lnTo>
                  <a:pt x="3834" y="2046"/>
                </a:lnTo>
                <a:lnTo>
                  <a:pt x="4032" y="153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14440" y="976320"/>
            <a:ext cx="2657520" cy="0"/>
          </a:xfrm>
          <a:prstGeom prst="line">
            <a:avLst/>
          </a:prstGeom>
          <a:ln w="101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82720" y="236520"/>
            <a:ext cx="8391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TERFENADINE (pro-médicamen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5400" y="2457360"/>
            <a:ext cx="913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Terfénadine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terfénadine carboxy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63920" y="2798640"/>
            <a:ext cx="1460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00560" y="2973240"/>
            <a:ext cx="205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YP 3A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235400" y="3536640"/>
            <a:ext cx="0" cy="78732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5000" y="4302000"/>
            <a:ext cx="5172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hibiteurs enzymat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23000" y="4127400"/>
            <a:ext cx="3564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- antifongiques azo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- macrol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- antiproté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2080" y="4325760"/>
            <a:ext cx="88920" cy="812880"/>
          </a:xfrm>
          <a:custGeom>
            <a:avLst/>
            <a:gdLst>
              <a:gd name="textAreaLeft" fmla="*/ 56880 w 88920"/>
              <a:gd name="textAreaRight" fmla="*/ 89280 w 8892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59000" y="838080"/>
            <a:ext cx="7823160" cy="51818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238720" y="6021360"/>
            <a:ext cx="3895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Woosley R.L. - JAMA 1993;269:1532-3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723000" y="4252320"/>
            <a:ext cx="2230560" cy="2323800"/>
            <a:chOff x="6723000" y="4252320"/>
            <a:chExt cx="2230560" cy="2323800"/>
          </a:xfrm>
        </p:grpSpPr>
        <p:sp>
          <p:nvSpPr>
            <p:cNvPr id="42" name=""/>
            <p:cNvSpPr/>
            <p:nvPr/>
          </p:nvSpPr>
          <p:spPr>
            <a:xfrm flipH="1" rot="20343000">
              <a:off x="7801560" y="4278240"/>
              <a:ext cx="209520" cy="343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20343000">
              <a:off x="7033680" y="4423320"/>
              <a:ext cx="1314720" cy="1982880"/>
            </a:xfrm>
            <a:custGeom>
              <a:avLst/>
              <a:gdLst/>
              <a:ahLst/>
              <a:rect l="l" t="t" r="r" b="b"/>
              <a:pathLst>
                <a:path w="828" h="1249">
                  <a:moveTo>
                    <a:pt x="72" y="1"/>
                  </a:moveTo>
                  <a:cubicBezTo>
                    <a:pt x="138" y="0"/>
                    <a:pt x="205" y="0"/>
                    <a:pt x="272" y="33"/>
                  </a:cubicBezTo>
                  <a:cubicBezTo>
                    <a:pt x="339" y="66"/>
                    <a:pt x="393" y="144"/>
                    <a:pt x="472" y="201"/>
                  </a:cubicBezTo>
                  <a:cubicBezTo>
                    <a:pt x="551" y="258"/>
                    <a:pt x="692" y="280"/>
                    <a:pt x="744" y="377"/>
                  </a:cubicBezTo>
                  <a:cubicBezTo>
                    <a:pt x="796" y="474"/>
                    <a:pt x="828" y="692"/>
                    <a:pt x="784" y="785"/>
                  </a:cubicBezTo>
                  <a:cubicBezTo>
                    <a:pt x="740" y="878"/>
                    <a:pt x="577" y="916"/>
                    <a:pt x="480" y="937"/>
                  </a:cubicBezTo>
                  <a:cubicBezTo>
                    <a:pt x="383" y="958"/>
                    <a:pt x="280" y="861"/>
                    <a:pt x="200" y="913"/>
                  </a:cubicBezTo>
                  <a:cubicBezTo>
                    <a:pt x="120" y="965"/>
                    <a:pt x="33" y="1193"/>
                    <a:pt x="0" y="124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2473800">
              <a:off x="8656560" y="5799960"/>
              <a:ext cx="209520" cy="343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20343000">
              <a:off x="7266240" y="4656240"/>
              <a:ext cx="1396800" cy="1473480"/>
            </a:xfrm>
            <a:custGeom>
              <a:avLst/>
              <a:gdLst/>
              <a:ahLst/>
              <a:rect l="l" t="t" r="r" b="b"/>
              <a:pathLst>
                <a:path w="880" h="928">
                  <a:moveTo>
                    <a:pt x="264" y="0"/>
                  </a:moveTo>
                  <a:cubicBezTo>
                    <a:pt x="308" y="0"/>
                    <a:pt x="353" y="0"/>
                    <a:pt x="416" y="32"/>
                  </a:cubicBezTo>
                  <a:cubicBezTo>
                    <a:pt x="479" y="64"/>
                    <a:pt x="573" y="148"/>
                    <a:pt x="640" y="192"/>
                  </a:cubicBezTo>
                  <a:cubicBezTo>
                    <a:pt x="707" y="236"/>
                    <a:pt x="789" y="236"/>
                    <a:pt x="816" y="296"/>
                  </a:cubicBezTo>
                  <a:cubicBezTo>
                    <a:pt x="843" y="356"/>
                    <a:pt x="880" y="513"/>
                    <a:pt x="800" y="552"/>
                  </a:cubicBezTo>
                  <a:cubicBezTo>
                    <a:pt x="720" y="591"/>
                    <a:pt x="469" y="465"/>
                    <a:pt x="336" y="528"/>
                  </a:cubicBezTo>
                  <a:cubicBezTo>
                    <a:pt x="203" y="591"/>
                    <a:pt x="56" y="861"/>
                    <a:pt x="0" y="92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178160" y="2751120"/>
            <a:ext cx="3243240" cy="3129120"/>
            <a:chOff x="4178160" y="2751120"/>
            <a:chExt cx="3243240" cy="3129120"/>
          </a:xfrm>
        </p:grpSpPr>
        <p:sp>
          <p:nvSpPr>
            <p:cNvPr id="47" name=""/>
            <p:cNvSpPr/>
            <p:nvPr/>
          </p:nvSpPr>
          <p:spPr>
            <a:xfrm>
              <a:off x="4178160" y="2751120"/>
              <a:ext cx="3243240" cy="1546200"/>
            </a:xfrm>
            <a:custGeom>
              <a:avLst/>
              <a:gdLst/>
              <a:ahLst/>
              <a:rect l="l" t="t" r="r" b="b"/>
              <a:pathLst>
                <a:path w="2043" h="974">
                  <a:moveTo>
                    <a:pt x="0" y="571"/>
                  </a:moveTo>
                  <a:cubicBezTo>
                    <a:pt x="0" y="478"/>
                    <a:pt x="15" y="391"/>
                    <a:pt x="72" y="307"/>
                  </a:cubicBezTo>
                  <a:cubicBezTo>
                    <a:pt x="129" y="223"/>
                    <a:pt x="160" y="116"/>
                    <a:pt x="344" y="67"/>
                  </a:cubicBezTo>
                  <a:cubicBezTo>
                    <a:pt x="528" y="18"/>
                    <a:pt x="916" y="0"/>
                    <a:pt x="1176" y="11"/>
                  </a:cubicBezTo>
                  <a:cubicBezTo>
                    <a:pt x="1436" y="22"/>
                    <a:pt x="1771" y="86"/>
                    <a:pt x="1904" y="131"/>
                  </a:cubicBezTo>
                  <a:cubicBezTo>
                    <a:pt x="2037" y="176"/>
                    <a:pt x="2043" y="236"/>
                    <a:pt x="1976" y="283"/>
                  </a:cubicBezTo>
                  <a:cubicBezTo>
                    <a:pt x="1909" y="330"/>
                    <a:pt x="1624" y="380"/>
                    <a:pt x="1504" y="411"/>
                  </a:cubicBezTo>
                  <a:cubicBezTo>
                    <a:pt x="1384" y="442"/>
                    <a:pt x="1336" y="443"/>
                    <a:pt x="1256" y="467"/>
                  </a:cubicBezTo>
                  <a:cubicBezTo>
                    <a:pt x="1176" y="491"/>
                    <a:pt x="1103" y="507"/>
                    <a:pt x="1024" y="555"/>
                  </a:cubicBezTo>
                  <a:cubicBezTo>
                    <a:pt x="945" y="603"/>
                    <a:pt x="888" y="688"/>
                    <a:pt x="784" y="755"/>
                  </a:cubicBezTo>
                  <a:cubicBezTo>
                    <a:pt x="680" y="822"/>
                    <a:pt x="519" y="936"/>
                    <a:pt x="400" y="955"/>
                  </a:cubicBezTo>
                  <a:cubicBezTo>
                    <a:pt x="281" y="974"/>
                    <a:pt x="139" y="930"/>
                    <a:pt x="72" y="867"/>
                  </a:cubicBezTo>
                  <a:cubicBezTo>
                    <a:pt x="5" y="804"/>
                    <a:pt x="0" y="664"/>
                    <a:pt x="0" y="571"/>
                  </a:cubicBezTo>
                  <a:close/>
                </a:path>
              </a:pathLst>
            </a:custGeom>
            <a:solidFill>
              <a:srgbClr val="790015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62680" y="3530520"/>
              <a:ext cx="793800" cy="2247840"/>
            </a:xfrm>
            <a:custGeom>
              <a:avLst/>
              <a:gdLst/>
              <a:ahLst/>
              <a:rect l="l" t="t" r="r" b="b"/>
              <a:pathLst>
                <a:path w="500" h="1416">
                  <a:moveTo>
                    <a:pt x="84" y="0"/>
                  </a:moveTo>
                  <a:cubicBezTo>
                    <a:pt x="64" y="67"/>
                    <a:pt x="45" y="135"/>
                    <a:pt x="44" y="216"/>
                  </a:cubicBezTo>
                  <a:cubicBezTo>
                    <a:pt x="43" y="297"/>
                    <a:pt x="0" y="288"/>
                    <a:pt x="76" y="488"/>
                  </a:cubicBezTo>
                  <a:cubicBezTo>
                    <a:pt x="152" y="688"/>
                    <a:pt x="429" y="1261"/>
                    <a:pt x="500" y="1416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94440" y="3568680"/>
              <a:ext cx="1422360" cy="2273400"/>
            </a:xfrm>
            <a:custGeom>
              <a:avLst/>
              <a:gdLst/>
              <a:ahLst/>
              <a:rect l="l" t="t" r="r" b="b"/>
              <a:pathLst>
                <a:path w="896" h="1432">
                  <a:moveTo>
                    <a:pt x="480" y="0"/>
                  </a:moveTo>
                  <a:cubicBezTo>
                    <a:pt x="480" y="133"/>
                    <a:pt x="481" y="267"/>
                    <a:pt x="448" y="312"/>
                  </a:cubicBezTo>
                  <a:cubicBezTo>
                    <a:pt x="415" y="357"/>
                    <a:pt x="329" y="277"/>
                    <a:pt x="280" y="272"/>
                  </a:cubicBezTo>
                  <a:cubicBezTo>
                    <a:pt x="231" y="267"/>
                    <a:pt x="191" y="267"/>
                    <a:pt x="152" y="280"/>
                  </a:cubicBezTo>
                  <a:cubicBezTo>
                    <a:pt x="113" y="293"/>
                    <a:pt x="73" y="307"/>
                    <a:pt x="48" y="352"/>
                  </a:cubicBezTo>
                  <a:cubicBezTo>
                    <a:pt x="23" y="397"/>
                    <a:pt x="0" y="487"/>
                    <a:pt x="0" y="552"/>
                  </a:cubicBezTo>
                  <a:cubicBezTo>
                    <a:pt x="0" y="617"/>
                    <a:pt x="15" y="699"/>
                    <a:pt x="48" y="744"/>
                  </a:cubicBezTo>
                  <a:cubicBezTo>
                    <a:pt x="81" y="789"/>
                    <a:pt x="157" y="827"/>
                    <a:pt x="200" y="824"/>
                  </a:cubicBezTo>
                  <a:cubicBezTo>
                    <a:pt x="243" y="821"/>
                    <a:pt x="287" y="772"/>
                    <a:pt x="304" y="728"/>
                  </a:cubicBezTo>
                  <a:cubicBezTo>
                    <a:pt x="321" y="684"/>
                    <a:pt x="321" y="607"/>
                    <a:pt x="304" y="560"/>
                  </a:cubicBezTo>
                  <a:cubicBezTo>
                    <a:pt x="287" y="513"/>
                    <a:pt x="213" y="481"/>
                    <a:pt x="200" y="448"/>
                  </a:cubicBezTo>
                  <a:cubicBezTo>
                    <a:pt x="187" y="415"/>
                    <a:pt x="185" y="367"/>
                    <a:pt x="224" y="360"/>
                  </a:cubicBezTo>
                  <a:cubicBezTo>
                    <a:pt x="263" y="353"/>
                    <a:pt x="387" y="379"/>
                    <a:pt x="432" y="408"/>
                  </a:cubicBezTo>
                  <a:cubicBezTo>
                    <a:pt x="477" y="437"/>
                    <a:pt x="419" y="365"/>
                    <a:pt x="496" y="536"/>
                  </a:cubicBezTo>
                  <a:cubicBezTo>
                    <a:pt x="573" y="707"/>
                    <a:pt x="734" y="1069"/>
                    <a:pt x="896" y="1432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91240" y="5740560"/>
              <a:ext cx="165240" cy="1396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867800" y="2031840"/>
            <a:ext cx="1168200" cy="1727280"/>
          </a:xfrm>
          <a:custGeom>
            <a:avLst/>
            <a:gdLst/>
            <a:ahLst/>
            <a:rect l="l" t="t" r="r" b="b"/>
            <a:pathLst>
              <a:path w="792" h="1320">
                <a:moveTo>
                  <a:pt x="768" y="0"/>
                </a:moveTo>
                <a:cubicBezTo>
                  <a:pt x="780" y="175"/>
                  <a:pt x="792" y="350"/>
                  <a:pt x="768" y="540"/>
                </a:cubicBezTo>
                <a:cubicBezTo>
                  <a:pt x="744" y="730"/>
                  <a:pt x="752" y="1010"/>
                  <a:pt x="624" y="1140"/>
                </a:cubicBezTo>
                <a:cubicBezTo>
                  <a:pt x="496" y="1270"/>
                  <a:pt x="104" y="1290"/>
                  <a:pt x="0" y="132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54840" y="1987560"/>
            <a:ext cx="2432160" cy="2082960"/>
          </a:xfrm>
          <a:custGeom>
            <a:avLst/>
            <a:gdLst/>
            <a:ahLst/>
            <a:rect l="l" t="t" r="r" b="b"/>
            <a:pathLst>
              <a:path w="1544" h="1524">
                <a:moveTo>
                  <a:pt x="960" y="0"/>
                </a:moveTo>
                <a:cubicBezTo>
                  <a:pt x="940" y="135"/>
                  <a:pt x="920" y="270"/>
                  <a:pt x="948" y="312"/>
                </a:cubicBezTo>
                <a:cubicBezTo>
                  <a:pt x="976" y="354"/>
                  <a:pt x="1068" y="256"/>
                  <a:pt x="1128" y="252"/>
                </a:cubicBezTo>
                <a:cubicBezTo>
                  <a:pt x="1188" y="248"/>
                  <a:pt x="1260" y="240"/>
                  <a:pt x="1308" y="288"/>
                </a:cubicBezTo>
                <a:cubicBezTo>
                  <a:pt x="1356" y="336"/>
                  <a:pt x="1416" y="364"/>
                  <a:pt x="1416" y="540"/>
                </a:cubicBezTo>
                <a:cubicBezTo>
                  <a:pt x="1416" y="716"/>
                  <a:pt x="1544" y="1180"/>
                  <a:pt x="1308" y="1344"/>
                </a:cubicBezTo>
                <a:cubicBezTo>
                  <a:pt x="1072" y="1508"/>
                  <a:pt x="218" y="1494"/>
                  <a:pt x="0" y="15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04080" y="3753000"/>
            <a:ext cx="114480" cy="3110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97840" y="1968480"/>
            <a:ext cx="355680" cy="88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4800" y="4025880"/>
            <a:ext cx="1231920" cy="482760"/>
          </a:xfrm>
          <a:custGeom>
            <a:avLst/>
            <a:gdLst/>
            <a:ahLst/>
            <a:rect l="l" t="t" r="r" b="b"/>
            <a:pathLst>
              <a:path w="776" h="304">
                <a:moveTo>
                  <a:pt x="776" y="288"/>
                </a:moveTo>
                <a:cubicBezTo>
                  <a:pt x="715" y="296"/>
                  <a:pt x="655" y="304"/>
                  <a:pt x="584" y="296"/>
                </a:cubicBezTo>
                <a:cubicBezTo>
                  <a:pt x="513" y="288"/>
                  <a:pt x="449" y="289"/>
                  <a:pt x="352" y="240"/>
                </a:cubicBezTo>
                <a:cubicBezTo>
                  <a:pt x="255" y="191"/>
                  <a:pt x="59" y="40"/>
                  <a:pt x="0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77240" y="615960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49760" y="2960640"/>
            <a:ext cx="406440" cy="227160"/>
          </a:xfrm>
          <a:custGeom>
            <a:avLst/>
            <a:gdLst/>
            <a:ahLst/>
            <a:rect l="l" t="t" r="r" b="b"/>
            <a:pathLst>
              <a:path w="256" h="143">
                <a:moveTo>
                  <a:pt x="256" y="47"/>
                </a:moveTo>
                <a:cubicBezTo>
                  <a:pt x="228" y="29"/>
                  <a:pt x="201" y="11"/>
                  <a:pt x="168" y="7"/>
                </a:cubicBezTo>
                <a:cubicBezTo>
                  <a:pt x="135" y="3"/>
                  <a:pt x="84" y="0"/>
                  <a:pt x="56" y="23"/>
                </a:cubicBezTo>
                <a:cubicBezTo>
                  <a:pt x="28" y="46"/>
                  <a:pt x="14" y="94"/>
                  <a:pt x="0" y="14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34040" y="2489040"/>
            <a:ext cx="114480" cy="432000"/>
          </a:xfrm>
          <a:custGeom>
            <a:avLst/>
            <a:gdLst/>
            <a:ahLst/>
            <a:rect l="l" t="t" r="r" b="b"/>
            <a:pathLst>
              <a:path w="64" h="232">
                <a:moveTo>
                  <a:pt x="0" y="232"/>
                </a:moveTo>
                <a:cubicBezTo>
                  <a:pt x="26" y="135"/>
                  <a:pt x="53" y="38"/>
                  <a:pt x="6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16720" y="486396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158760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54960" y="85104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45120" y="303516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42000" y="1803240"/>
            <a:ext cx="10188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47120" y="379728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99000" y="3276720"/>
            <a:ext cx="101880" cy="114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38960" y="2400480"/>
            <a:ext cx="101520" cy="114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6095880"/>
            <a:ext cx="101880" cy="1144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16520" y="152388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736560"/>
            <a:ext cx="10188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11880" y="200664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45120" y="233676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15280" y="118116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64160" y="1486080"/>
            <a:ext cx="10188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70680" y="128268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65760" y="115560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62640" y="5105520"/>
            <a:ext cx="406440" cy="927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54960" y="5753160"/>
            <a:ext cx="8892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83440" y="385920"/>
            <a:ext cx="21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dmin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or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0" y="1282680"/>
            <a:ext cx="0" cy="5842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33840" y="3301920"/>
            <a:ext cx="762120" cy="36828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P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75040" y="863640"/>
            <a:ext cx="10188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3680" y="100332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260440"/>
            <a:ext cx="1409760" cy="642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bsor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3594240"/>
            <a:ext cx="1333800" cy="64260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ésor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3400" y="623880"/>
            <a:ext cx="488880" cy="862200"/>
          </a:xfrm>
          <a:custGeom>
            <a:avLst/>
            <a:gdLst/>
            <a:ahLst/>
            <a:rect l="l" t="t" r="r" b="b"/>
            <a:pathLst>
              <a:path w="796" h="1519">
                <a:moveTo>
                  <a:pt x="235" y="199"/>
                </a:moveTo>
                <a:cubicBezTo>
                  <a:pt x="234" y="223"/>
                  <a:pt x="236" y="266"/>
                  <a:pt x="203" y="279"/>
                </a:cubicBezTo>
                <a:cubicBezTo>
                  <a:pt x="170" y="292"/>
                  <a:pt x="64" y="252"/>
                  <a:pt x="35" y="279"/>
                </a:cubicBezTo>
                <a:cubicBezTo>
                  <a:pt x="6" y="306"/>
                  <a:pt x="0" y="386"/>
                  <a:pt x="27" y="439"/>
                </a:cubicBezTo>
                <a:cubicBezTo>
                  <a:pt x="54" y="492"/>
                  <a:pt x="143" y="492"/>
                  <a:pt x="195" y="599"/>
                </a:cubicBezTo>
                <a:cubicBezTo>
                  <a:pt x="247" y="706"/>
                  <a:pt x="319" y="954"/>
                  <a:pt x="339" y="1079"/>
                </a:cubicBezTo>
                <a:cubicBezTo>
                  <a:pt x="359" y="1204"/>
                  <a:pt x="314" y="1283"/>
                  <a:pt x="315" y="1351"/>
                </a:cubicBezTo>
                <a:cubicBezTo>
                  <a:pt x="316" y="1419"/>
                  <a:pt x="308" y="1462"/>
                  <a:pt x="347" y="1487"/>
                </a:cubicBezTo>
                <a:cubicBezTo>
                  <a:pt x="386" y="1512"/>
                  <a:pt x="514" y="1519"/>
                  <a:pt x="547" y="1503"/>
                </a:cubicBezTo>
                <a:cubicBezTo>
                  <a:pt x="580" y="1487"/>
                  <a:pt x="532" y="1400"/>
                  <a:pt x="547" y="1391"/>
                </a:cubicBezTo>
                <a:cubicBezTo>
                  <a:pt x="562" y="1382"/>
                  <a:pt x="596" y="1444"/>
                  <a:pt x="635" y="1447"/>
                </a:cubicBezTo>
                <a:cubicBezTo>
                  <a:pt x="674" y="1450"/>
                  <a:pt x="762" y="1435"/>
                  <a:pt x="779" y="1407"/>
                </a:cubicBezTo>
                <a:cubicBezTo>
                  <a:pt x="796" y="1379"/>
                  <a:pt x="754" y="1316"/>
                  <a:pt x="739" y="1279"/>
                </a:cubicBezTo>
                <a:cubicBezTo>
                  <a:pt x="724" y="1242"/>
                  <a:pt x="720" y="1204"/>
                  <a:pt x="691" y="1183"/>
                </a:cubicBezTo>
                <a:cubicBezTo>
                  <a:pt x="662" y="1162"/>
                  <a:pt x="624" y="1266"/>
                  <a:pt x="563" y="1151"/>
                </a:cubicBezTo>
                <a:cubicBezTo>
                  <a:pt x="502" y="1036"/>
                  <a:pt x="358" y="628"/>
                  <a:pt x="323" y="495"/>
                </a:cubicBezTo>
                <a:cubicBezTo>
                  <a:pt x="288" y="362"/>
                  <a:pt x="323" y="380"/>
                  <a:pt x="355" y="351"/>
                </a:cubicBezTo>
                <a:cubicBezTo>
                  <a:pt x="387" y="322"/>
                  <a:pt x="479" y="346"/>
                  <a:pt x="515" y="319"/>
                </a:cubicBezTo>
                <a:cubicBezTo>
                  <a:pt x="551" y="292"/>
                  <a:pt x="568" y="220"/>
                  <a:pt x="571" y="191"/>
                </a:cubicBezTo>
                <a:cubicBezTo>
                  <a:pt x="574" y="162"/>
                  <a:pt x="554" y="167"/>
                  <a:pt x="531" y="143"/>
                </a:cubicBezTo>
                <a:cubicBezTo>
                  <a:pt x="508" y="119"/>
                  <a:pt x="462" y="70"/>
                  <a:pt x="435" y="47"/>
                </a:cubicBezTo>
                <a:cubicBezTo>
                  <a:pt x="408" y="24"/>
                  <a:pt x="389" y="14"/>
                  <a:pt x="371" y="7"/>
                </a:cubicBezTo>
                <a:cubicBezTo>
                  <a:pt x="353" y="0"/>
                  <a:pt x="341" y="0"/>
                  <a:pt x="323" y="7"/>
                </a:cubicBezTo>
                <a:cubicBezTo>
                  <a:pt x="305" y="14"/>
                  <a:pt x="278" y="26"/>
                  <a:pt x="259" y="47"/>
                </a:cubicBezTo>
                <a:cubicBezTo>
                  <a:pt x="240" y="68"/>
                  <a:pt x="216" y="110"/>
                  <a:pt x="211" y="135"/>
                </a:cubicBezTo>
                <a:cubicBezTo>
                  <a:pt x="206" y="160"/>
                  <a:pt x="236" y="175"/>
                  <a:pt x="235" y="199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727280" y="1104840"/>
            <a:ext cx="290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409400" y="1231920"/>
            <a:ext cx="3213000" cy="207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25680" y="927000"/>
            <a:ext cx="1523880" cy="642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74760" y="2982960"/>
            <a:ext cx="969840" cy="2363760"/>
            <a:chOff x="374760" y="2982960"/>
            <a:chExt cx="969840" cy="2363760"/>
          </a:xfrm>
        </p:grpSpPr>
        <p:sp>
          <p:nvSpPr>
            <p:cNvPr id="90" name=""/>
            <p:cNvSpPr/>
            <p:nvPr/>
          </p:nvSpPr>
          <p:spPr>
            <a:xfrm>
              <a:off x="374760" y="2982960"/>
              <a:ext cx="711360" cy="1197000"/>
            </a:xfrm>
            <a:custGeom>
              <a:avLst/>
              <a:gdLst/>
              <a:ahLst/>
              <a:rect l="l" t="t" r="r" b="b"/>
              <a:pathLst>
                <a:path w="448" h="754">
                  <a:moveTo>
                    <a:pt x="308" y="217"/>
                  </a:moveTo>
                  <a:cubicBezTo>
                    <a:pt x="325" y="224"/>
                    <a:pt x="343" y="232"/>
                    <a:pt x="364" y="225"/>
                  </a:cubicBezTo>
                  <a:cubicBezTo>
                    <a:pt x="385" y="218"/>
                    <a:pt x="424" y="197"/>
                    <a:pt x="436" y="177"/>
                  </a:cubicBezTo>
                  <a:cubicBezTo>
                    <a:pt x="448" y="157"/>
                    <a:pt x="441" y="128"/>
                    <a:pt x="436" y="105"/>
                  </a:cubicBezTo>
                  <a:cubicBezTo>
                    <a:pt x="431" y="82"/>
                    <a:pt x="429" y="58"/>
                    <a:pt x="404" y="41"/>
                  </a:cubicBezTo>
                  <a:cubicBezTo>
                    <a:pt x="379" y="24"/>
                    <a:pt x="329" y="0"/>
                    <a:pt x="284" y="1"/>
                  </a:cubicBezTo>
                  <a:cubicBezTo>
                    <a:pt x="239" y="2"/>
                    <a:pt x="172" y="21"/>
                    <a:pt x="132" y="49"/>
                  </a:cubicBezTo>
                  <a:cubicBezTo>
                    <a:pt x="92" y="77"/>
                    <a:pt x="64" y="101"/>
                    <a:pt x="44" y="169"/>
                  </a:cubicBezTo>
                  <a:cubicBezTo>
                    <a:pt x="24" y="237"/>
                    <a:pt x="0" y="370"/>
                    <a:pt x="12" y="457"/>
                  </a:cubicBezTo>
                  <a:cubicBezTo>
                    <a:pt x="24" y="544"/>
                    <a:pt x="67" y="641"/>
                    <a:pt x="116" y="689"/>
                  </a:cubicBezTo>
                  <a:cubicBezTo>
                    <a:pt x="165" y="737"/>
                    <a:pt x="265" y="754"/>
                    <a:pt x="308" y="745"/>
                  </a:cubicBezTo>
                  <a:cubicBezTo>
                    <a:pt x="351" y="736"/>
                    <a:pt x="368" y="668"/>
                    <a:pt x="372" y="633"/>
                  </a:cubicBezTo>
                  <a:cubicBezTo>
                    <a:pt x="376" y="598"/>
                    <a:pt x="349" y="553"/>
                    <a:pt x="332" y="537"/>
                  </a:cubicBezTo>
                  <a:cubicBezTo>
                    <a:pt x="315" y="521"/>
                    <a:pt x="291" y="529"/>
                    <a:pt x="268" y="537"/>
                  </a:cubicBezTo>
                </a:path>
              </a:pathLst>
            </a:custGeom>
            <a:solidFill>
              <a:srgbClr val="790015"/>
            </a:solidFill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8440" y="3353040"/>
              <a:ext cx="506160" cy="1981080"/>
            </a:xfrm>
            <a:custGeom>
              <a:avLst/>
              <a:gdLst/>
              <a:ahLst/>
              <a:rect l="l" t="t" r="r" b="b"/>
              <a:pathLst>
                <a:path w="287" h="1264">
                  <a:moveTo>
                    <a:pt x="0" y="0"/>
                  </a:moveTo>
                  <a:cubicBezTo>
                    <a:pt x="46" y="10"/>
                    <a:pt x="92" y="21"/>
                    <a:pt x="128" y="40"/>
                  </a:cubicBezTo>
                  <a:cubicBezTo>
                    <a:pt x="164" y="59"/>
                    <a:pt x="196" y="91"/>
                    <a:pt x="216" y="112"/>
                  </a:cubicBezTo>
                  <a:cubicBezTo>
                    <a:pt x="236" y="133"/>
                    <a:pt x="239" y="139"/>
                    <a:pt x="248" y="168"/>
                  </a:cubicBezTo>
                  <a:cubicBezTo>
                    <a:pt x="257" y="197"/>
                    <a:pt x="267" y="221"/>
                    <a:pt x="272" y="288"/>
                  </a:cubicBezTo>
                  <a:cubicBezTo>
                    <a:pt x="277" y="355"/>
                    <a:pt x="287" y="405"/>
                    <a:pt x="280" y="568"/>
                  </a:cubicBezTo>
                  <a:cubicBezTo>
                    <a:pt x="273" y="731"/>
                    <a:pt x="252" y="997"/>
                    <a:pt x="232" y="1264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7680" y="3778200"/>
              <a:ext cx="414000" cy="1568520"/>
            </a:xfrm>
            <a:custGeom>
              <a:avLst/>
              <a:gdLst/>
              <a:ahLst/>
              <a:rect l="l" t="t" r="r" b="b"/>
              <a:pathLst>
                <a:path w="237" h="988">
                  <a:moveTo>
                    <a:pt x="0" y="20"/>
                  </a:moveTo>
                  <a:cubicBezTo>
                    <a:pt x="37" y="10"/>
                    <a:pt x="75" y="0"/>
                    <a:pt x="104" y="12"/>
                  </a:cubicBezTo>
                  <a:cubicBezTo>
                    <a:pt x="133" y="24"/>
                    <a:pt x="155" y="36"/>
                    <a:pt x="176" y="92"/>
                  </a:cubicBezTo>
                  <a:cubicBezTo>
                    <a:pt x="197" y="148"/>
                    <a:pt x="227" y="199"/>
                    <a:pt x="232" y="348"/>
                  </a:cubicBezTo>
                  <a:cubicBezTo>
                    <a:pt x="237" y="497"/>
                    <a:pt x="212" y="881"/>
                    <a:pt x="208" y="98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901880" y="2300400"/>
            <a:ext cx="1523880" cy="368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lim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75120" y="1397160"/>
            <a:ext cx="1636560" cy="3338280"/>
          </a:xfrm>
          <a:custGeom>
            <a:avLst/>
            <a:gdLst/>
            <a:ahLst/>
            <a:rect l="l" t="t" r="r" b="b"/>
            <a:pathLst>
              <a:path w="1031" h="2103">
                <a:moveTo>
                  <a:pt x="1031" y="0"/>
                </a:moveTo>
                <a:cubicBezTo>
                  <a:pt x="688" y="409"/>
                  <a:pt x="346" y="819"/>
                  <a:pt x="183" y="1128"/>
                </a:cubicBezTo>
                <a:cubicBezTo>
                  <a:pt x="20" y="1437"/>
                  <a:pt x="0" y="1695"/>
                  <a:pt x="55" y="1856"/>
                </a:cubicBezTo>
                <a:cubicBezTo>
                  <a:pt x="110" y="2017"/>
                  <a:pt x="367" y="2089"/>
                  <a:pt x="511" y="2096"/>
                </a:cubicBezTo>
                <a:cubicBezTo>
                  <a:pt x="655" y="2103"/>
                  <a:pt x="787" y="1999"/>
                  <a:pt x="919" y="189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8920" y="3797280"/>
            <a:ext cx="1841760" cy="642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étabol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635040"/>
            <a:ext cx="101520" cy="114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9520" y="1104840"/>
            <a:ext cx="101520" cy="1144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05840" y="2514600"/>
            <a:ext cx="406440" cy="393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864640" y="2946240"/>
            <a:ext cx="738000" cy="736920"/>
          </a:xfrm>
          <a:custGeom>
            <a:avLst/>
            <a:gdLst/>
            <a:ahLst/>
            <a:rect l="l" t="t" r="r" b="b"/>
            <a:pathLst>
              <a:path w="465" h="464">
                <a:moveTo>
                  <a:pt x="416" y="0"/>
                </a:moveTo>
                <a:cubicBezTo>
                  <a:pt x="440" y="77"/>
                  <a:pt x="465" y="155"/>
                  <a:pt x="432" y="224"/>
                </a:cubicBezTo>
                <a:cubicBezTo>
                  <a:pt x="399" y="293"/>
                  <a:pt x="288" y="376"/>
                  <a:pt x="216" y="416"/>
                </a:cubicBezTo>
                <a:cubicBezTo>
                  <a:pt x="144" y="456"/>
                  <a:pt x="72" y="460"/>
                  <a:pt x="0" y="46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991720" y="3200400"/>
            <a:ext cx="1104840" cy="52020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issol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897800">
            <a:off x="5477040" y="1245960"/>
            <a:ext cx="38088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428200">
            <a:off x="6261840" y="812160"/>
            <a:ext cx="38088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984600">
            <a:off x="6235200" y="1612080"/>
            <a:ext cx="38088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5400" y="133344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866960"/>
            <a:ext cx="10188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95320" y="5495760"/>
            <a:ext cx="101520" cy="1144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73120" y="5464080"/>
            <a:ext cx="101520" cy="1144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79360" y="5661000"/>
            <a:ext cx="10188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38240" y="380880"/>
            <a:ext cx="86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IAM terfénadine/kétoconazo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7160" y="1600200"/>
            <a:ext cx="874404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Etude de phase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Honig PK, JAMA 1993; 269: 1513-15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6 volontaires sai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terfénadine 120 mg/j pdt 7j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terfénadine pdt 3j. + kétoconazole 400 mg/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Etude PK et EC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QTc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état basal :</a:t>
            </a:r>
            <a:r>
              <a:rPr b="1" lang="fr-FR" sz="2400" spc="-1" strike="noStrike">
                <a:solidFill>
                  <a:srgbClr val="000a7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408 </a:t>
            </a:r>
            <a:r>
              <a:rPr b="1" lang="fr-FR" sz="2400" spc="-1" strike="noStrike">
                <a:solidFill>
                  <a:srgbClr val="8cf4ea"/>
                </a:solidFill>
                <a:latin typeface="Symbol"/>
                <a:ea typeface="Symbol"/>
              </a:rPr>
              <a:t>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 8 m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terfénadine seule :</a:t>
            </a:r>
            <a:r>
              <a:rPr b="1" lang="fr-FR" sz="2400" spc="-1" strike="noStrike">
                <a:solidFill>
                  <a:srgbClr val="000a7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416 </a:t>
            </a:r>
            <a:r>
              <a:rPr b="1" lang="fr-FR" sz="2400" spc="-1" strike="noStrike">
                <a:solidFill>
                  <a:srgbClr val="8cf4ea"/>
                </a:solidFill>
                <a:latin typeface="Symbol"/>
                <a:ea typeface="Symbol"/>
              </a:rPr>
              <a:t>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 6 m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terfénadine + kétoconazole :</a:t>
            </a:r>
            <a:r>
              <a:rPr b="1" lang="fr-FR" sz="2400" spc="-1" strike="noStrike">
                <a:solidFill>
                  <a:srgbClr val="000a7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490 </a:t>
            </a:r>
            <a:r>
              <a:rPr b="1" lang="fr-FR" sz="2400" spc="-1" strike="noStrike">
                <a:solidFill>
                  <a:srgbClr val="8cf4ea"/>
                </a:solidFill>
                <a:latin typeface="Symbol"/>
                <a:ea typeface="Symbol"/>
              </a:rPr>
              <a:t>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 16 m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1224000" y="514440"/>
          <a:ext cx="7667640" cy="56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514440"/>
                    <a:ext cx="766764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930240" y="647640"/>
          <a:ext cx="8024760" cy="579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0240" y="647640"/>
                    <a:ext cx="8024760" cy="57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76280" y="0"/>
            <a:ext cx="59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omic Sans MS"/>
              </a:rPr>
              <a:t>- Autres exe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18280" y="674640"/>
            <a:ext cx="0" cy="579276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640" y="690480"/>
            <a:ext cx="428796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INHIBIT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- disulfiram (ESPER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- métronidazole (FLAGY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- griséofulvine (GRISEFULI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sulfamides hypoglycémiant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. chlorpropamide (DIABINESES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. glibenclamide (DAONIL)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- certaines céphalospor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- chloramphénic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(liste VIDAL)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Ass. Dé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- allopurinol (ZYLORI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44960" y="660240"/>
            <a:ext cx="24876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ENZY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Acétaldéhy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deshydrogén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xanthine oxyd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4280" y="674640"/>
            <a:ext cx="36669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Comic Sans MS"/>
              </a:rPr>
              <a:t>METABOLISME INH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Alco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fr-FR" sz="1600" spc="-1" strike="noStrike">
                <a:solidFill>
                  <a:srgbClr val="ffffff"/>
                </a:solidFill>
                <a:latin typeface="Symbol"/>
                <a:ea typeface="Symbol"/>
              </a:rPr>
              <a:t>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acétaldéhy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(effet antabus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dégrad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- azathioprine (IMURE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- mercaptopurine (PURINETHO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de posologie de 2/3 à 3/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800" y="674640"/>
            <a:ext cx="9739440" cy="57927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1800" y="1471680"/>
            <a:ext cx="973944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2400" y="674640"/>
            <a:ext cx="0" cy="579276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1800" y="5027760"/>
            <a:ext cx="9739440" cy="0"/>
          </a:xfrm>
          <a:prstGeom prst="line">
            <a:avLst/>
          </a:prstGeom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717560"/>
            <a:ext cx="1670040" cy="1285920"/>
          </a:xfrm>
          <a:custGeom>
            <a:avLst/>
            <a:gdLst/>
            <a:ahLst/>
            <a:rect l="l" t="t" r="r" b="b"/>
            <a:pathLst>
              <a:path w="1104" h="684">
                <a:moveTo>
                  <a:pt x="0" y="0"/>
                </a:moveTo>
                <a:lnTo>
                  <a:pt x="1104" y="0"/>
                </a:lnTo>
                <a:lnTo>
                  <a:pt x="1104" y="684"/>
                </a:lnTo>
              </a:path>
            </a:pathLst>
          </a:custGeom>
          <a:noFill/>
          <a:ln w="3168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149720" y="3387240"/>
            <a:ext cx="344520" cy="1800"/>
          </a:xfrm>
          <a:prstGeom prst="line">
            <a:avLst/>
          </a:prstGeom>
          <a:ln w="316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16640" y="3346560"/>
            <a:ext cx="1312920" cy="0"/>
          </a:xfrm>
          <a:prstGeom prst="line">
            <a:avLst/>
          </a:prstGeom>
          <a:ln w="316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31120" y="3735360"/>
            <a:ext cx="0" cy="784080"/>
          </a:xfrm>
          <a:prstGeom prst="line">
            <a:avLst/>
          </a:prstGeom>
          <a:ln w="316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92960" y="2590920"/>
            <a:ext cx="1800" cy="463320"/>
          </a:xfrm>
          <a:prstGeom prst="line">
            <a:avLst/>
          </a:prstGeom>
          <a:ln w="316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11320" y="5405400"/>
            <a:ext cx="1487520" cy="0"/>
          </a:xfrm>
          <a:prstGeom prst="line">
            <a:avLst/>
          </a:prstGeom>
          <a:ln w="316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46720" y="2039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19560" y="4973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48120" y="2220840"/>
            <a:ext cx="144360" cy="2322720"/>
          </a:xfrm>
          <a:custGeom>
            <a:avLst/>
            <a:gdLst>
              <a:gd name="textAreaLeft" fmla="*/ 0 w 144360"/>
              <a:gd name="textAreaRight" fmla="*/ 52200 w 144360"/>
              <a:gd name="textAreaTop" fmla="*/ 60480 h 2322720"/>
              <a:gd name="textAreaBottom" fmla="*/ 2262240 h 232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33280" y="301680"/>
            <a:ext cx="1056492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afd00"/>
                </a:solidFill>
                <a:latin typeface="Comic Sans MS"/>
              </a:rPr>
              <a:t>ELIMIN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1. Elimination uri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. IAM au niveau de la sécrétion tubul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mécanisme : compétition entre 2 M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exemple: méthotrexa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phénylbutazon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 (+ déplace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aspirine (+ déplacement)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C.I., si méthotrexate &gt; 15 mg/s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réc. emploi si &lt;15 mg/sem (1 NFS/s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0"/>
            <a:ext cx="9563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autres AIN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ssDéc, si méthotrexate &gt; 15 mg/s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E, si &lt;15 mg/sem (1 NFS/s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. 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IAM au niveau de la réabsorption tubul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par compétition : lithium et salidiurétiques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AssDé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par modification du pH uri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alcalinisation des urine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ionisation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des acides fai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mis à profit dans les intox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ar aspirine (barbituriques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= principe de la diurèse alca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7840" y="547560"/>
            <a:ext cx="97344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2. Elimination biliair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oetroprogestatif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sulfo et glycuroconjuga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hydrolyse par bactéries intestinale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ycle E.H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AT à larges spectre (bêtalactamines, cycli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destruction de la flore intesti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interruption du C.E.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échec de contraception (pilules mini-dosé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19040" y="476280"/>
            <a:ext cx="946800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algn="ctr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Comic Sans MS"/>
              </a:rPr>
              <a:t>INTERACTIONS PHARMACODYNAM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- expliquées : mécanismes d’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- nombreuses IAM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- conséquenc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antagonisme : total ou parti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synergie additive : totale ou partiel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potent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228600"/>
            <a:ext cx="10287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algn="ctr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400" spc="-1" strike="noStrike">
                <a:solidFill>
                  <a:srgbClr val="fafd00"/>
                </a:solidFill>
                <a:latin typeface="Comic Sans MS"/>
              </a:rPr>
              <a:t>INTERACTIONS PHARMACODYNAM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algn="ctr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algn="ctr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Comic Sans MS"/>
              </a:rPr>
              <a:t>DIMINUTION DES EFF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1. Lévodopa + neuroleptiques (illogiqu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+ neuroleptiques antipsychotiques :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blocage des récepteurs dopaminergiques (D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inefficacité de la lévodo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ssDéc (doses minimales efficaces des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sauf clozapine (LEPONEX) :  (D4, 5HT2, D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85840" y="247680"/>
            <a:ext cx="1000116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+ neuroleptiques antiémétiques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métoclopramide (PRIMPER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métopimazine (VOGALENE)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lizapride ( PLITIC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dompéridone (MOTILIUM) : pas de passage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B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+ neuroleptiques cachés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véralipride (AGREAL)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ssDé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08760" y="885960"/>
            <a:ext cx="88920" cy="1087200"/>
          </a:xfrm>
          <a:custGeom>
            <a:avLst/>
            <a:gdLst>
              <a:gd name="textAreaLeft" fmla="*/ 0 w 88920"/>
              <a:gd name="textAreaRight" fmla="*/ 32040 w 88920"/>
              <a:gd name="textAreaTop" fmla="*/ 28080 h 1087200"/>
              <a:gd name="textAreaBottom" fmla="*/ 1059120 h 108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5840" y="347760"/>
            <a:ext cx="100011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omic Sans MS"/>
              </a:rPr>
              <a:t>RESORPTION (digestiv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1.</a:t>
            </a:r>
            <a:r>
              <a:rPr b="0" lang="fr-FR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IAM par complexation </a:t>
            </a:r>
            <a:r>
              <a:rPr b="1" lang="fr-FR" sz="28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mauvaise ré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Chélation : cations métalliques (Ca</a:t>
            </a:r>
            <a:r>
              <a:rPr b="1" lang="fr-FR" sz="2800" spc="-1" strike="noStrike" baseline="30000">
                <a:solidFill>
                  <a:srgbClr val="ffffff"/>
                </a:solidFill>
                <a:latin typeface="Comic Sans MS"/>
              </a:rPr>
              <a:t>++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, Al</a:t>
            </a:r>
            <a:r>
              <a:rPr b="1" lang="fr-FR" sz="2800" spc="-1" strike="noStrike" baseline="30000">
                <a:solidFill>
                  <a:srgbClr val="ffffff"/>
                </a:solidFill>
                <a:latin typeface="Comic Sans MS"/>
              </a:rPr>
              <a:t>++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, Mg</a:t>
            </a:r>
            <a:r>
              <a:rPr b="1" lang="fr-FR" sz="2800" spc="-1" strike="noStrike" baseline="30000">
                <a:solidFill>
                  <a:srgbClr val="ffffff"/>
                </a:solidFill>
                <a:latin typeface="Comic Sans MS"/>
              </a:rPr>
              <a:t>++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(MAALOX,</a:t>
            </a:r>
            <a:r>
              <a:rPr b="1" lang="fr-FR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laitages) et cy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Adsorption : colestyramine (QUESTRAN) et 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VK, digitaliques, hormones thyroïdien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2. IAM par modification du pH gastrique : antiac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H gastrique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résorption digestive des acides faibles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(exemple : antiacides et aspir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994428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2. Opioïdes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600" spc="-1" strike="noStrike">
                <a:solidFill>
                  <a:srgbClr val="8cf4ea"/>
                </a:solidFill>
                <a:latin typeface="Symbol"/>
                <a:ea typeface="Symbol"/>
              </a:rPr>
              <a:t></a:t>
            </a:r>
            <a:r>
              <a:rPr b="1" lang="fr-FR" sz="2600" spc="-1" strike="noStrike">
                <a:solidFill>
                  <a:srgbClr val="8cf4ea"/>
                </a:solidFill>
                <a:latin typeface="Comic Sans MS"/>
              </a:rPr>
              <a:t> </a:t>
            </a:r>
            <a:r>
              <a:rPr b="1" lang="fr-FR" sz="2600" spc="-1" strike="noStrike">
                <a:solidFill>
                  <a:srgbClr val="8cf4ea"/>
                </a:solidFill>
                <a:latin typeface="Comic Sans MS"/>
              </a:rPr>
              <a:t>Agonistes purs (récepteurs </a:t>
            </a:r>
            <a:r>
              <a:rPr b="1" lang="fr-FR" sz="2600" spc="-1" strike="noStrike">
                <a:solidFill>
                  <a:srgbClr val="8cf4ea"/>
                </a:solidFill>
                <a:latin typeface="Symbol"/>
                <a:ea typeface="Symbol"/>
              </a:rPr>
              <a:t></a:t>
            </a:r>
            <a:r>
              <a:rPr b="1" lang="fr-FR" sz="2600" spc="-1" strike="noStrike">
                <a:solidFill>
                  <a:srgbClr val="8cf4ea"/>
                </a:solidFill>
                <a:latin typeface="Comic Sans MS"/>
              </a:rPr>
              <a:t>)  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- Antalgiques :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morphine (SKENAN, MOSCONTIN)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péthidine (DOLOSAL)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dextromoramide (PALFIUM)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pentazocine (FORTAL)</a:t>
            </a:r>
            <a:r>
              <a:rPr b="1" lang="fr-FR" sz="26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- Méthadone (substitu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c0128"/>
                </a:solidFill>
                <a:latin typeface="Comic Sans MS"/>
              </a:rPr>
              <a:t>+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8cf4ea"/>
                </a:solidFill>
                <a:latin typeface="Symbol"/>
                <a:ea typeface="Symbol"/>
              </a:rPr>
              <a:t></a:t>
            </a:r>
            <a:r>
              <a:rPr b="1" lang="fr-FR" sz="2600" spc="-1" strike="noStrike">
                <a:solidFill>
                  <a:srgbClr val="8cf4ea"/>
                </a:solidFill>
                <a:latin typeface="Comic Sans MS"/>
              </a:rPr>
              <a:t> </a:t>
            </a:r>
            <a:r>
              <a:rPr b="1" lang="fr-FR" sz="2600" spc="-1" strike="noStrike">
                <a:solidFill>
                  <a:srgbClr val="8cf4ea"/>
                </a:solidFill>
                <a:latin typeface="Comic Sans MS"/>
              </a:rPr>
              <a:t>Agonistes-antagonistes :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buprénorphine (TEMGESIC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nalbuphine (NUB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. pentazocine (FORT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= C.I. </a:t>
            </a:r>
            <a:r>
              <a:rPr b="1" lang="fr-FR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diminution de l’action antalgiq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600" spc="-1" strike="noStrike">
                <a:solidFill>
                  <a:srgbClr val="ffffff"/>
                </a:solidFill>
                <a:latin typeface="Comic Sans MS"/>
              </a:rPr>
              <a:t>éventuel syndrome de sevr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47680" y="285840"/>
            <a:ext cx="100393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omic Sans MS"/>
              </a:rPr>
              <a:t>INTERACTIONS PHARMACODYNAMIQU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00ff00"/>
                </a:solidFill>
                <a:latin typeface="Comic Sans MS"/>
              </a:rPr>
              <a:t>MAJORATION DES EFF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1. Triméthoprime (BACTRIM) + méthotrexate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Les 2 produits inhibent la dihydrofolate réduct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synthèse des fol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toxicité hématologique du méthotrex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déplacement du méthotrex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compétition tubul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9960" y="495360"/>
            <a:ext cx="916308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2. Rétinoïdes + cyclines </a:t>
            </a:r>
            <a:r>
              <a:rPr b="1" lang="fr-FR" sz="2800" spc="-1" strike="noStrike">
                <a:solidFill>
                  <a:srgbClr val="8cf4ea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 HTIC =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isotrétinoïne (ROACCUTA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acitrétine (SORIATA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3. Digitaliques et sels de Ca</a:t>
            </a:r>
            <a:r>
              <a:rPr b="1" lang="fr-FR" sz="2800" spc="-1" strike="noStrike" baseline="30000">
                <a:solidFill>
                  <a:srgbClr val="8cf4ea"/>
                </a:solidFill>
                <a:latin typeface="Comic Sans MS"/>
              </a:rPr>
              <a:t>++ 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I.V.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surcharge calciqu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TDR ventr. (F.V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4. Majoration des effets vasoconstricte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4.1. IMAO non sélectifs (pour mémoi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-357120" y="287280"/>
            <a:ext cx="11098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4.2. IMAO-B (NA, </a:t>
            </a:r>
            <a:r>
              <a:rPr b="1" lang="fr-FR" sz="2800" spc="-1" strike="noStrike" u="sng">
                <a:solidFill>
                  <a:srgbClr val="fafd00"/>
                </a:solidFill>
                <a:uFillTx/>
                <a:latin typeface="Comic Sans MS"/>
              </a:rPr>
              <a:t>dopamine</a:t>
            </a: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)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: sélégiline (DEPRENY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Triptan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HTA  paroxystique, V/C coronai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sumatriptan (IMIJECT, IMIGRAME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zolmitriptan (ZOMIG</a:t>
            </a:r>
            <a:r>
              <a:rPr b="1" lang="fr-FR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naratriptan (NARAMIG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AssDé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4.3. Triptans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ergotamine, DHE, méthysergide (DESERNIL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HTA paroxys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V/C coro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38120" y="0"/>
            <a:ext cx="9848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afd00"/>
                </a:solidFill>
                <a:latin typeface="Comic Sans MS"/>
              </a:rPr>
              <a:t>4.4. Bupropion  (ZYBAN), sibutramine (SIBUTR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IMAO non sélectifs, sélectifs A ou B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5. Le syndrome sérotoninergiqu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surdosage en lithium ou lors d’association de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MTs qui augmentent la neurotransmission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sérotoninerg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clinique (potentiellement létal)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troubles digestif : diarrhé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troubles psychiques : confusion, ag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troubles moteurs : tremblements, rigidité,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myoclonies, hyperréflex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troubles végétatifs : fièvre, sueurs,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tachycardie, hTA ou H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438120"/>
            <a:ext cx="10020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- IMAO-A (NA, </a:t>
            </a:r>
            <a:r>
              <a:rPr b="1" lang="fr-FR" sz="2400" spc="-1" strike="noStrike" u="sng">
                <a:solidFill>
                  <a:srgbClr val="8cf4ea"/>
                </a:solidFill>
                <a:uFillTx/>
                <a:latin typeface="Comic Sans MS"/>
              </a:rPr>
              <a:t>sérotonine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) :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moclobémide (MOCLAMIN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toloxatone (HUMORY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+ ATD ‘sérotoninergiques’ </a:t>
            </a: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Ass. Dé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IRS : fluoxétine (PROZAC), paroxétine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(DEROXAT), fluvoxamine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(FLOXYFRAL), citalopram (SEROPR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ATD imipraminiques mixtes : imipramine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  (TOFRANIL), clomipramine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(ANAFRANIL), amitriptyline (LAROXYL,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ELAV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ATD noradrénergiques-sérotoninergiqu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milnacipran (IXEL), venlafaxine (EFFEX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28600" y="304920"/>
            <a:ext cx="97344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péthidine (DOLOSAL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tramadol (TOPALGIC…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tript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sumatriptan (IMIJECT, IMIGRAME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zolmitriptan (ZOMIG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naratriptan (NARAMIG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AssDé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- IMAO-B (sérotonine, </a:t>
            </a:r>
            <a:r>
              <a:rPr b="1" lang="fr-FR" sz="2800" spc="-1" strike="noStrike" u="sng">
                <a:solidFill>
                  <a:srgbClr val="8cf4ea"/>
                </a:solidFill>
                <a:uFillTx/>
                <a:latin typeface="Comic Sans MS"/>
              </a:rPr>
              <a:t>dopamine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)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sélégiline (DEPRENY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péthidine (DOLOSAL)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tramadol (TOPALGIC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5840" y="0"/>
            <a:ext cx="100011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6. Associations de MTs </a:t>
            </a:r>
            <a:r>
              <a:rPr b="1" lang="fr-FR" sz="28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torsades de poi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antiarythmiques  de classe 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quinidiniques (LONGACOR, SERECOR .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disopyramide (RYTHMOD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antiarythmiques  de classe 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amiodarone (CORDARO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sotalol (SOTALE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ibutilide (CORVE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antagoniste du Ca</a:t>
            </a:r>
            <a:r>
              <a:rPr b="1" lang="fr-FR" sz="2800" spc="-1" strike="noStrike" baseline="30000">
                <a:solidFill>
                  <a:srgbClr val="ffffff"/>
                </a:solidFill>
                <a:latin typeface="Comic Sans MS"/>
              </a:rPr>
              <a:t>++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: bépridil (UNICORDIU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MTs non antiarythmiqu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érythromycine 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cisapride (PREPULSI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mizolastine (MIZOLL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sparfloxacine (ZAGA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halofantrine (HALF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61800" y="0"/>
            <a:ext cx="965844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neuroleptiques (ECG avant precription 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sultopride (BARNET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thioridazine (MELLER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imozide (ORA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C.I. e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7. IAM liées au blocage des récepteurs adrénerg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bêtabloqueurs + floctafénine (IDARAC)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8. Aminosides entre-eux  </a:t>
            </a:r>
            <a:r>
              <a:rPr b="1" lang="fr-FR" sz="2800" spc="-1" strike="noStrike">
                <a:solidFill>
                  <a:srgbClr val="00ff00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C.I. (néphrotoxicit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9. Sildénafil (VIAGRA) + dérivés nitrés :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hTA et aggravation d’une ischémie coro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19040" y="1514520"/>
            <a:ext cx="962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MT :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+ eau, + position verticale (avant le coucher), + intervalle libre de 2 à 3 heures avec les ‘topiques gastro-intestinaux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2.</a:t>
            </a:r>
            <a:r>
              <a:rPr b="0" lang="fr-FR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AINS :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lasse à risque (y compris coxib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600200" indent="-4572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spirin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3g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600200" indent="-4572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hénylbutaz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3.</a:t>
            </a:r>
            <a:r>
              <a:rPr b="0" lang="fr-FR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Inducteurs et inhibiteurs enzyma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600200" indent="-4572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ntipépilep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600200" indent="-4572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ntitubercule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1160" y="2476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10 Points à reteni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3040" y="725400"/>
            <a:ext cx="1008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3. IAM par facteur méca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pansements digestifs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‘barrière mécanique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sucralfate (ULCAR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20% de la résorption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de la phénytoïne (DIHYDAN), de la digox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61800" y="0"/>
            <a:ext cx="99252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ntibiotiques (macrolides +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ntifongiques (azolés +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ntiproté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jus de pamplemousse, millepertu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4. Effet antabuse de l’alcool : penser aux MTs asso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5.</a:t>
            </a:r>
            <a:r>
              <a:rPr b="0" lang="fr-FR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Méthotrex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6. Neuroleptiques cachés et non cach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7</a:t>
            </a:r>
            <a:r>
              <a:rPr b="0" lang="fr-FR" sz="2800" spc="-1" strike="noStrike">
                <a:solidFill>
                  <a:srgbClr val="00ff00"/>
                </a:solidFill>
                <a:latin typeface="Comic Sans MS"/>
              </a:rPr>
              <a:t>.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Ne pas associer d’opioï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0880" y="457200"/>
            <a:ext cx="9506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8. Mts vasoacti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Vasoconstricteurs : IMAO, triptans,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dérivés de l’erg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Vasodilatateurs : h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9</a:t>
            </a:r>
            <a:r>
              <a:rPr b="0" lang="fr-FR" sz="2800" spc="-1" strike="noStrike">
                <a:solidFill>
                  <a:srgbClr val="00ff00"/>
                </a:solidFill>
                <a:latin typeface="Comic Sans MS"/>
              </a:rPr>
              <a:t>. </a:t>
            </a:r>
            <a:r>
              <a:rPr b="1" lang="fr-FR" sz="2800" spc="-1" strike="noStrike">
                <a:solidFill>
                  <a:srgbClr val="00ff00"/>
                </a:solidFill>
                <a:latin typeface="Symbol"/>
                <a:ea typeface="Symbol"/>
              </a:rPr>
              <a:t>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 sérotoninerg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Lith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ATD sérotoninerg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IMAO-A et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Opioï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10</a:t>
            </a:r>
            <a:r>
              <a:rPr b="0" lang="fr-FR" sz="2800" spc="-1" strike="noStrike">
                <a:solidFill>
                  <a:srgbClr val="00ff00"/>
                </a:solidFill>
                <a:latin typeface="Comic Sans MS"/>
              </a:rPr>
              <a:t>. </a:t>
            </a: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Mts donnant des torsades de poi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antiarythm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non antiarythm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47680" y="399960"/>
            <a:ext cx="952488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algn="ctr">
              <a:lnSpc>
                <a:spcPct val="100000"/>
              </a:lnSpc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afd00"/>
                </a:solidFill>
                <a:latin typeface="Comic Sans MS"/>
              </a:rPr>
              <a:t>CAS CLIN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afd00"/>
                </a:solidFill>
                <a:latin typeface="Comic Sans MS"/>
              </a:rPr>
              <a:t>(Interactions médicamenteus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Homme de 56 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ntécédents : hypercholestérolé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Traitement : simvastatine (ZOCOR) : 40 mg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Novembre 2001 : vacances en Guadeloupe (clu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09480" y="438120"/>
            <a:ext cx="838224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1 novembre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douleurs musculaires croissa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fatigabil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3 novembre : consul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sang : CPK x 10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arrêt du ZOC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t du jus de pamplemou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7200" y="285840"/>
            <a:ext cx="95058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afd00"/>
                </a:solidFill>
                <a:latin typeface="Comic Sans MS"/>
              </a:rPr>
              <a:t>CAS CLINIQU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afd00"/>
                </a:solidFill>
                <a:latin typeface="Comic Sans MS"/>
              </a:rPr>
              <a:t>(Interactions médicamenteus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Femme : 62 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ntécédents : AC/FA depuis 2 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Traitement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REVISCAN : 1cp/J (INR stable cibl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Digoxine : 1 cp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Février 2002 : névralgie essentielle du trijumea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15/03/2002 : TEGRETOL LP 200 mg : ½ cp x 2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30/03/2002 : AVC ischém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552600"/>
            <a:ext cx="8896320" cy="59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algn="ctr">
              <a:lnSpc>
                <a:spcPct val="100000"/>
              </a:lnSpc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CAS CLINIQU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(Interactions médicamenteus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omme 72 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técédents : HTA, constipation chro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raitement : depuis plusieurs ann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SOTALEX : 160 mg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AMLOR : 10 mg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TAMARINE gélule : 2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43080" y="419040"/>
            <a:ext cx="94294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15/10/2001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depuis 3 mois  : angor d’eff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consultation spécialisée : RV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25/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 traitement d’attent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spirine : 160 mg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NICORDIUM : 200 mg/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20/10/2001 : syn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6723000" y="4252320"/>
            <a:ext cx="2230560" cy="2323800"/>
            <a:chOff x="6723000" y="4252320"/>
            <a:chExt cx="2230560" cy="2323800"/>
          </a:xfrm>
        </p:grpSpPr>
        <p:sp>
          <p:nvSpPr>
            <p:cNvPr id="305" name=""/>
            <p:cNvSpPr/>
            <p:nvPr/>
          </p:nvSpPr>
          <p:spPr>
            <a:xfrm flipH="1" rot="20343000">
              <a:off x="7801560" y="4278240"/>
              <a:ext cx="209520" cy="343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rot="20343000">
              <a:off x="7033680" y="4423320"/>
              <a:ext cx="1314720" cy="1982880"/>
            </a:xfrm>
            <a:custGeom>
              <a:avLst/>
              <a:gdLst/>
              <a:ahLst/>
              <a:rect l="l" t="t" r="r" b="b"/>
              <a:pathLst>
                <a:path w="828" h="1249">
                  <a:moveTo>
                    <a:pt x="72" y="1"/>
                  </a:moveTo>
                  <a:cubicBezTo>
                    <a:pt x="138" y="0"/>
                    <a:pt x="205" y="0"/>
                    <a:pt x="272" y="33"/>
                  </a:cubicBezTo>
                  <a:cubicBezTo>
                    <a:pt x="339" y="66"/>
                    <a:pt x="393" y="144"/>
                    <a:pt x="472" y="201"/>
                  </a:cubicBezTo>
                  <a:cubicBezTo>
                    <a:pt x="551" y="258"/>
                    <a:pt x="692" y="280"/>
                    <a:pt x="744" y="377"/>
                  </a:cubicBezTo>
                  <a:cubicBezTo>
                    <a:pt x="796" y="474"/>
                    <a:pt x="828" y="692"/>
                    <a:pt x="784" y="785"/>
                  </a:cubicBezTo>
                  <a:cubicBezTo>
                    <a:pt x="740" y="878"/>
                    <a:pt x="577" y="916"/>
                    <a:pt x="480" y="937"/>
                  </a:cubicBezTo>
                  <a:cubicBezTo>
                    <a:pt x="383" y="958"/>
                    <a:pt x="280" y="861"/>
                    <a:pt x="200" y="913"/>
                  </a:cubicBezTo>
                  <a:cubicBezTo>
                    <a:pt x="120" y="965"/>
                    <a:pt x="33" y="1193"/>
                    <a:pt x="0" y="124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rot="2473800">
              <a:off x="8656560" y="5799960"/>
              <a:ext cx="209520" cy="343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rot="20343000">
              <a:off x="7266240" y="4656240"/>
              <a:ext cx="1396800" cy="1473480"/>
            </a:xfrm>
            <a:custGeom>
              <a:avLst/>
              <a:gdLst/>
              <a:ahLst/>
              <a:rect l="l" t="t" r="r" b="b"/>
              <a:pathLst>
                <a:path w="880" h="928">
                  <a:moveTo>
                    <a:pt x="264" y="0"/>
                  </a:moveTo>
                  <a:cubicBezTo>
                    <a:pt x="308" y="0"/>
                    <a:pt x="353" y="0"/>
                    <a:pt x="416" y="32"/>
                  </a:cubicBezTo>
                  <a:cubicBezTo>
                    <a:pt x="479" y="64"/>
                    <a:pt x="573" y="148"/>
                    <a:pt x="640" y="192"/>
                  </a:cubicBezTo>
                  <a:cubicBezTo>
                    <a:pt x="707" y="236"/>
                    <a:pt x="789" y="236"/>
                    <a:pt x="816" y="296"/>
                  </a:cubicBezTo>
                  <a:cubicBezTo>
                    <a:pt x="843" y="356"/>
                    <a:pt x="880" y="513"/>
                    <a:pt x="800" y="552"/>
                  </a:cubicBezTo>
                  <a:cubicBezTo>
                    <a:pt x="720" y="591"/>
                    <a:pt x="469" y="465"/>
                    <a:pt x="336" y="528"/>
                  </a:cubicBezTo>
                  <a:cubicBezTo>
                    <a:pt x="203" y="591"/>
                    <a:pt x="56" y="861"/>
                    <a:pt x="0" y="92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178160" y="2751120"/>
            <a:ext cx="3243240" cy="1546200"/>
          </a:xfrm>
          <a:custGeom>
            <a:avLst/>
            <a:gdLst/>
            <a:ahLst/>
            <a:rect l="l" t="t" r="r" b="b"/>
            <a:pathLst>
              <a:path w="2043" h="974">
                <a:moveTo>
                  <a:pt x="0" y="571"/>
                </a:moveTo>
                <a:cubicBezTo>
                  <a:pt x="0" y="478"/>
                  <a:pt x="15" y="391"/>
                  <a:pt x="72" y="307"/>
                </a:cubicBezTo>
                <a:cubicBezTo>
                  <a:pt x="129" y="223"/>
                  <a:pt x="160" y="116"/>
                  <a:pt x="344" y="67"/>
                </a:cubicBezTo>
                <a:cubicBezTo>
                  <a:pt x="528" y="18"/>
                  <a:pt x="916" y="0"/>
                  <a:pt x="1176" y="11"/>
                </a:cubicBezTo>
                <a:cubicBezTo>
                  <a:pt x="1436" y="22"/>
                  <a:pt x="1771" y="86"/>
                  <a:pt x="1904" y="131"/>
                </a:cubicBezTo>
                <a:cubicBezTo>
                  <a:pt x="2037" y="176"/>
                  <a:pt x="2043" y="236"/>
                  <a:pt x="1976" y="283"/>
                </a:cubicBezTo>
                <a:cubicBezTo>
                  <a:pt x="1909" y="330"/>
                  <a:pt x="1624" y="380"/>
                  <a:pt x="1504" y="411"/>
                </a:cubicBezTo>
                <a:cubicBezTo>
                  <a:pt x="1384" y="442"/>
                  <a:pt x="1336" y="443"/>
                  <a:pt x="1256" y="467"/>
                </a:cubicBezTo>
                <a:cubicBezTo>
                  <a:pt x="1176" y="491"/>
                  <a:pt x="1103" y="507"/>
                  <a:pt x="1024" y="555"/>
                </a:cubicBezTo>
                <a:cubicBezTo>
                  <a:pt x="945" y="603"/>
                  <a:pt x="888" y="688"/>
                  <a:pt x="784" y="755"/>
                </a:cubicBezTo>
                <a:cubicBezTo>
                  <a:pt x="680" y="822"/>
                  <a:pt x="519" y="936"/>
                  <a:pt x="400" y="955"/>
                </a:cubicBezTo>
                <a:cubicBezTo>
                  <a:pt x="281" y="974"/>
                  <a:pt x="139" y="930"/>
                  <a:pt x="72" y="867"/>
                </a:cubicBezTo>
                <a:cubicBezTo>
                  <a:pt x="5" y="804"/>
                  <a:pt x="0" y="664"/>
                  <a:pt x="0" y="571"/>
                </a:cubicBezTo>
                <a:close/>
              </a:path>
            </a:pathLst>
          </a:custGeom>
          <a:solidFill>
            <a:srgbClr val="790015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2680" y="3530520"/>
            <a:ext cx="793800" cy="2247840"/>
          </a:xfrm>
          <a:custGeom>
            <a:avLst/>
            <a:gdLst/>
            <a:ahLst/>
            <a:rect l="l" t="t" r="r" b="b"/>
            <a:pathLst>
              <a:path w="500" h="1416">
                <a:moveTo>
                  <a:pt x="84" y="0"/>
                </a:moveTo>
                <a:cubicBezTo>
                  <a:pt x="64" y="67"/>
                  <a:pt x="45" y="135"/>
                  <a:pt x="44" y="216"/>
                </a:cubicBezTo>
                <a:cubicBezTo>
                  <a:pt x="43" y="297"/>
                  <a:pt x="0" y="288"/>
                  <a:pt x="76" y="488"/>
                </a:cubicBezTo>
                <a:cubicBezTo>
                  <a:pt x="152" y="688"/>
                  <a:pt x="429" y="1261"/>
                  <a:pt x="500" y="1416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94440" y="3568680"/>
            <a:ext cx="1422360" cy="2273400"/>
          </a:xfrm>
          <a:custGeom>
            <a:avLst/>
            <a:gdLst/>
            <a:ahLst/>
            <a:rect l="l" t="t" r="r" b="b"/>
            <a:pathLst>
              <a:path w="896" h="1432">
                <a:moveTo>
                  <a:pt x="480" y="0"/>
                </a:moveTo>
                <a:cubicBezTo>
                  <a:pt x="480" y="133"/>
                  <a:pt x="481" y="267"/>
                  <a:pt x="448" y="312"/>
                </a:cubicBezTo>
                <a:cubicBezTo>
                  <a:pt x="415" y="357"/>
                  <a:pt x="329" y="277"/>
                  <a:pt x="280" y="272"/>
                </a:cubicBezTo>
                <a:cubicBezTo>
                  <a:pt x="231" y="267"/>
                  <a:pt x="191" y="267"/>
                  <a:pt x="152" y="280"/>
                </a:cubicBezTo>
                <a:cubicBezTo>
                  <a:pt x="113" y="293"/>
                  <a:pt x="73" y="307"/>
                  <a:pt x="48" y="352"/>
                </a:cubicBezTo>
                <a:cubicBezTo>
                  <a:pt x="23" y="397"/>
                  <a:pt x="0" y="487"/>
                  <a:pt x="0" y="552"/>
                </a:cubicBezTo>
                <a:cubicBezTo>
                  <a:pt x="0" y="617"/>
                  <a:pt x="15" y="699"/>
                  <a:pt x="48" y="744"/>
                </a:cubicBezTo>
                <a:cubicBezTo>
                  <a:pt x="81" y="789"/>
                  <a:pt x="157" y="827"/>
                  <a:pt x="200" y="824"/>
                </a:cubicBezTo>
                <a:cubicBezTo>
                  <a:pt x="243" y="821"/>
                  <a:pt x="287" y="772"/>
                  <a:pt x="304" y="728"/>
                </a:cubicBezTo>
                <a:cubicBezTo>
                  <a:pt x="321" y="684"/>
                  <a:pt x="321" y="607"/>
                  <a:pt x="304" y="560"/>
                </a:cubicBezTo>
                <a:cubicBezTo>
                  <a:pt x="287" y="513"/>
                  <a:pt x="213" y="481"/>
                  <a:pt x="200" y="448"/>
                </a:cubicBezTo>
                <a:cubicBezTo>
                  <a:pt x="187" y="415"/>
                  <a:pt x="185" y="367"/>
                  <a:pt x="224" y="360"/>
                </a:cubicBezTo>
                <a:cubicBezTo>
                  <a:pt x="263" y="353"/>
                  <a:pt x="387" y="379"/>
                  <a:pt x="432" y="408"/>
                </a:cubicBezTo>
                <a:cubicBezTo>
                  <a:pt x="477" y="437"/>
                  <a:pt x="419" y="365"/>
                  <a:pt x="496" y="536"/>
                </a:cubicBezTo>
                <a:cubicBezTo>
                  <a:pt x="573" y="707"/>
                  <a:pt x="734" y="1069"/>
                  <a:pt x="896" y="1432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91240" y="5740560"/>
            <a:ext cx="165240" cy="1396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67800" y="2031840"/>
            <a:ext cx="1168200" cy="1727280"/>
          </a:xfrm>
          <a:custGeom>
            <a:avLst/>
            <a:gdLst/>
            <a:ahLst/>
            <a:rect l="l" t="t" r="r" b="b"/>
            <a:pathLst>
              <a:path w="792" h="1320">
                <a:moveTo>
                  <a:pt x="768" y="0"/>
                </a:moveTo>
                <a:cubicBezTo>
                  <a:pt x="780" y="175"/>
                  <a:pt x="792" y="350"/>
                  <a:pt x="768" y="540"/>
                </a:cubicBezTo>
                <a:cubicBezTo>
                  <a:pt x="744" y="730"/>
                  <a:pt x="752" y="1010"/>
                  <a:pt x="624" y="1140"/>
                </a:cubicBezTo>
                <a:cubicBezTo>
                  <a:pt x="496" y="1270"/>
                  <a:pt x="104" y="1290"/>
                  <a:pt x="0" y="132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54840" y="1987560"/>
            <a:ext cx="2432160" cy="2082960"/>
          </a:xfrm>
          <a:custGeom>
            <a:avLst/>
            <a:gdLst/>
            <a:ahLst/>
            <a:rect l="l" t="t" r="r" b="b"/>
            <a:pathLst>
              <a:path w="1544" h="1524">
                <a:moveTo>
                  <a:pt x="960" y="0"/>
                </a:moveTo>
                <a:cubicBezTo>
                  <a:pt x="940" y="135"/>
                  <a:pt x="920" y="270"/>
                  <a:pt x="948" y="312"/>
                </a:cubicBezTo>
                <a:cubicBezTo>
                  <a:pt x="976" y="354"/>
                  <a:pt x="1068" y="256"/>
                  <a:pt x="1128" y="252"/>
                </a:cubicBezTo>
                <a:cubicBezTo>
                  <a:pt x="1188" y="248"/>
                  <a:pt x="1260" y="240"/>
                  <a:pt x="1308" y="288"/>
                </a:cubicBezTo>
                <a:cubicBezTo>
                  <a:pt x="1356" y="336"/>
                  <a:pt x="1416" y="364"/>
                  <a:pt x="1416" y="540"/>
                </a:cubicBezTo>
                <a:cubicBezTo>
                  <a:pt x="1416" y="716"/>
                  <a:pt x="1544" y="1180"/>
                  <a:pt x="1308" y="1344"/>
                </a:cubicBezTo>
                <a:cubicBezTo>
                  <a:pt x="1072" y="1508"/>
                  <a:pt x="218" y="1494"/>
                  <a:pt x="0" y="15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04080" y="3753000"/>
            <a:ext cx="114480" cy="3110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997840" y="1968480"/>
            <a:ext cx="355680" cy="88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84800" y="4025880"/>
            <a:ext cx="1231920" cy="482760"/>
          </a:xfrm>
          <a:custGeom>
            <a:avLst/>
            <a:gdLst/>
            <a:ahLst/>
            <a:rect l="l" t="t" r="r" b="b"/>
            <a:pathLst>
              <a:path w="776" h="304">
                <a:moveTo>
                  <a:pt x="776" y="288"/>
                </a:moveTo>
                <a:cubicBezTo>
                  <a:pt x="715" y="296"/>
                  <a:pt x="655" y="304"/>
                  <a:pt x="584" y="296"/>
                </a:cubicBezTo>
                <a:cubicBezTo>
                  <a:pt x="513" y="288"/>
                  <a:pt x="449" y="289"/>
                  <a:pt x="352" y="240"/>
                </a:cubicBezTo>
                <a:cubicBezTo>
                  <a:pt x="255" y="191"/>
                  <a:pt x="59" y="40"/>
                  <a:pt x="0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877240" y="615960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49760" y="2960640"/>
            <a:ext cx="406440" cy="227160"/>
          </a:xfrm>
          <a:custGeom>
            <a:avLst/>
            <a:gdLst/>
            <a:ahLst/>
            <a:rect l="l" t="t" r="r" b="b"/>
            <a:pathLst>
              <a:path w="256" h="143">
                <a:moveTo>
                  <a:pt x="256" y="47"/>
                </a:moveTo>
                <a:cubicBezTo>
                  <a:pt x="228" y="29"/>
                  <a:pt x="201" y="11"/>
                  <a:pt x="168" y="7"/>
                </a:cubicBezTo>
                <a:cubicBezTo>
                  <a:pt x="135" y="3"/>
                  <a:pt x="84" y="0"/>
                  <a:pt x="56" y="23"/>
                </a:cubicBezTo>
                <a:cubicBezTo>
                  <a:pt x="28" y="46"/>
                  <a:pt x="14" y="94"/>
                  <a:pt x="0" y="14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34040" y="2489040"/>
            <a:ext cx="114480" cy="432000"/>
          </a:xfrm>
          <a:custGeom>
            <a:avLst/>
            <a:gdLst/>
            <a:ahLst/>
            <a:rect l="l" t="t" r="r" b="b"/>
            <a:pathLst>
              <a:path w="64" h="232">
                <a:moveTo>
                  <a:pt x="0" y="232"/>
                </a:moveTo>
                <a:cubicBezTo>
                  <a:pt x="26" y="135"/>
                  <a:pt x="53" y="38"/>
                  <a:pt x="64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16720" y="486396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58760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54960" y="85104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45120" y="303516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42000" y="1803240"/>
            <a:ext cx="10188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47120" y="379728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99000" y="3276720"/>
            <a:ext cx="101880" cy="114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38960" y="2400480"/>
            <a:ext cx="101520" cy="114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6095880"/>
            <a:ext cx="101880" cy="1144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16520" y="152388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56200" y="736560"/>
            <a:ext cx="10188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11880" y="200664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5120" y="233676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15280" y="118116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64160" y="1486080"/>
            <a:ext cx="10188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0680" y="128268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65760" y="115560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62640" y="5105520"/>
            <a:ext cx="406440" cy="9270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54960" y="5753160"/>
            <a:ext cx="8892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83440" y="385920"/>
            <a:ext cx="21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dmin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or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0" y="1282680"/>
            <a:ext cx="0" cy="584280"/>
          </a:xfrm>
          <a:prstGeom prst="line">
            <a:avLst/>
          </a:prstGeom>
          <a:ln w="381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33840" y="3301920"/>
            <a:ext cx="762120" cy="36828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P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75040" y="863640"/>
            <a:ext cx="10188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43680" y="1003320"/>
            <a:ext cx="10152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2260440"/>
            <a:ext cx="1409760" cy="642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bsor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24480" y="3594240"/>
            <a:ext cx="1333800" cy="64260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ésor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3400" y="623880"/>
            <a:ext cx="488880" cy="862200"/>
          </a:xfrm>
          <a:custGeom>
            <a:avLst/>
            <a:gdLst/>
            <a:ahLst/>
            <a:rect l="l" t="t" r="r" b="b"/>
            <a:pathLst>
              <a:path w="796" h="1519">
                <a:moveTo>
                  <a:pt x="235" y="199"/>
                </a:moveTo>
                <a:cubicBezTo>
                  <a:pt x="234" y="223"/>
                  <a:pt x="236" y="266"/>
                  <a:pt x="203" y="279"/>
                </a:cubicBezTo>
                <a:cubicBezTo>
                  <a:pt x="170" y="292"/>
                  <a:pt x="64" y="252"/>
                  <a:pt x="35" y="279"/>
                </a:cubicBezTo>
                <a:cubicBezTo>
                  <a:pt x="6" y="306"/>
                  <a:pt x="0" y="386"/>
                  <a:pt x="27" y="439"/>
                </a:cubicBezTo>
                <a:cubicBezTo>
                  <a:pt x="54" y="492"/>
                  <a:pt x="143" y="492"/>
                  <a:pt x="195" y="599"/>
                </a:cubicBezTo>
                <a:cubicBezTo>
                  <a:pt x="247" y="706"/>
                  <a:pt x="319" y="954"/>
                  <a:pt x="339" y="1079"/>
                </a:cubicBezTo>
                <a:cubicBezTo>
                  <a:pt x="359" y="1204"/>
                  <a:pt x="314" y="1283"/>
                  <a:pt x="315" y="1351"/>
                </a:cubicBezTo>
                <a:cubicBezTo>
                  <a:pt x="316" y="1419"/>
                  <a:pt x="308" y="1462"/>
                  <a:pt x="347" y="1487"/>
                </a:cubicBezTo>
                <a:cubicBezTo>
                  <a:pt x="386" y="1512"/>
                  <a:pt x="514" y="1519"/>
                  <a:pt x="547" y="1503"/>
                </a:cubicBezTo>
                <a:cubicBezTo>
                  <a:pt x="580" y="1487"/>
                  <a:pt x="532" y="1400"/>
                  <a:pt x="547" y="1391"/>
                </a:cubicBezTo>
                <a:cubicBezTo>
                  <a:pt x="562" y="1382"/>
                  <a:pt x="596" y="1444"/>
                  <a:pt x="635" y="1447"/>
                </a:cubicBezTo>
                <a:cubicBezTo>
                  <a:pt x="674" y="1450"/>
                  <a:pt x="762" y="1435"/>
                  <a:pt x="779" y="1407"/>
                </a:cubicBezTo>
                <a:cubicBezTo>
                  <a:pt x="796" y="1379"/>
                  <a:pt x="754" y="1316"/>
                  <a:pt x="739" y="1279"/>
                </a:cubicBezTo>
                <a:cubicBezTo>
                  <a:pt x="724" y="1242"/>
                  <a:pt x="720" y="1204"/>
                  <a:pt x="691" y="1183"/>
                </a:cubicBezTo>
                <a:cubicBezTo>
                  <a:pt x="662" y="1162"/>
                  <a:pt x="624" y="1266"/>
                  <a:pt x="563" y="1151"/>
                </a:cubicBezTo>
                <a:cubicBezTo>
                  <a:pt x="502" y="1036"/>
                  <a:pt x="358" y="628"/>
                  <a:pt x="323" y="495"/>
                </a:cubicBezTo>
                <a:cubicBezTo>
                  <a:pt x="288" y="362"/>
                  <a:pt x="323" y="380"/>
                  <a:pt x="355" y="351"/>
                </a:cubicBezTo>
                <a:cubicBezTo>
                  <a:pt x="387" y="322"/>
                  <a:pt x="479" y="346"/>
                  <a:pt x="515" y="319"/>
                </a:cubicBezTo>
                <a:cubicBezTo>
                  <a:pt x="551" y="292"/>
                  <a:pt x="568" y="220"/>
                  <a:pt x="571" y="191"/>
                </a:cubicBezTo>
                <a:cubicBezTo>
                  <a:pt x="574" y="162"/>
                  <a:pt x="554" y="167"/>
                  <a:pt x="531" y="143"/>
                </a:cubicBezTo>
                <a:cubicBezTo>
                  <a:pt x="508" y="119"/>
                  <a:pt x="462" y="70"/>
                  <a:pt x="435" y="47"/>
                </a:cubicBezTo>
                <a:cubicBezTo>
                  <a:pt x="408" y="24"/>
                  <a:pt x="389" y="14"/>
                  <a:pt x="371" y="7"/>
                </a:cubicBezTo>
                <a:cubicBezTo>
                  <a:pt x="353" y="0"/>
                  <a:pt x="341" y="0"/>
                  <a:pt x="323" y="7"/>
                </a:cubicBezTo>
                <a:cubicBezTo>
                  <a:pt x="305" y="14"/>
                  <a:pt x="278" y="26"/>
                  <a:pt x="259" y="47"/>
                </a:cubicBezTo>
                <a:cubicBezTo>
                  <a:pt x="240" y="68"/>
                  <a:pt x="216" y="110"/>
                  <a:pt x="211" y="135"/>
                </a:cubicBezTo>
                <a:cubicBezTo>
                  <a:pt x="206" y="160"/>
                  <a:pt x="236" y="175"/>
                  <a:pt x="235" y="199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727280" y="1104840"/>
            <a:ext cx="290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409400" y="1231920"/>
            <a:ext cx="3213000" cy="207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25680" y="927000"/>
            <a:ext cx="1523880" cy="642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74760" y="2982960"/>
            <a:ext cx="969840" cy="2363760"/>
            <a:chOff x="374760" y="2982960"/>
            <a:chExt cx="969840" cy="2363760"/>
          </a:xfrm>
        </p:grpSpPr>
        <p:sp>
          <p:nvSpPr>
            <p:cNvPr id="352" name=""/>
            <p:cNvSpPr/>
            <p:nvPr/>
          </p:nvSpPr>
          <p:spPr>
            <a:xfrm>
              <a:off x="374760" y="2982960"/>
              <a:ext cx="711360" cy="1197000"/>
            </a:xfrm>
            <a:custGeom>
              <a:avLst/>
              <a:gdLst/>
              <a:ahLst/>
              <a:rect l="l" t="t" r="r" b="b"/>
              <a:pathLst>
                <a:path w="448" h="754">
                  <a:moveTo>
                    <a:pt x="308" y="217"/>
                  </a:moveTo>
                  <a:cubicBezTo>
                    <a:pt x="325" y="224"/>
                    <a:pt x="343" y="232"/>
                    <a:pt x="364" y="225"/>
                  </a:cubicBezTo>
                  <a:cubicBezTo>
                    <a:pt x="385" y="218"/>
                    <a:pt x="424" y="197"/>
                    <a:pt x="436" y="177"/>
                  </a:cubicBezTo>
                  <a:cubicBezTo>
                    <a:pt x="448" y="157"/>
                    <a:pt x="441" y="128"/>
                    <a:pt x="436" y="105"/>
                  </a:cubicBezTo>
                  <a:cubicBezTo>
                    <a:pt x="431" y="82"/>
                    <a:pt x="429" y="58"/>
                    <a:pt x="404" y="41"/>
                  </a:cubicBezTo>
                  <a:cubicBezTo>
                    <a:pt x="379" y="24"/>
                    <a:pt x="329" y="0"/>
                    <a:pt x="284" y="1"/>
                  </a:cubicBezTo>
                  <a:cubicBezTo>
                    <a:pt x="239" y="2"/>
                    <a:pt x="172" y="21"/>
                    <a:pt x="132" y="49"/>
                  </a:cubicBezTo>
                  <a:cubicBezTo>
                    <a:pt x="92" y="77"/>
                    <a:pt x="64" y="101"/>
                    <a:pt x="44" y="169"/>
                  </a:cubicBezTo>
                  <a:cubicBezTo>
                    <a:pt x="24" y="237"/>
                    <a:pt x="0" y="370"/>
                    <a:pt x="12" y="457"/>
                  </a:cubicBezTo>
                  <a:cubicBezTo>
                    <a:pt x="24" y="544"/>
                    <a:pt x="67" y="641"/>
                    <a:pt x="116" y="689"/>
                  </a:cubicBezTo>
                  <a:cubicBezTo>
                    <a:pt x="165" y="737"/>
                    <a:pt x="265" y="754"/>
                    <a:pt x="308" y="745"/>
                  </a:cubicBezTo>
                  <a:cubicBezTo>
                    <a:pt x="351" y="736"/>
                    <a:pt x="368" y="668"/>
                    <a:pt x="372" y="633"/>
                  </a:cubicBezTo>
                  <a:cubicBezTo>
                    <a:pt x="376" y="598"/>
                    <a:pt x="349" y="553"/>
                    <a:pt x="332" y="537"/>
                  </a:cubicBezTo>
                  <a:cubicBezTo>
                    <a:pt x="315" y="521"/>
                    <a:pt x="291" y="529"/>
                    <a:pt x="268" y="537"/>
                  </a:cubicBezTo>
                </a:path>
              </a:pathLst>
            </a:custGeom>
            <a:solidFill>
              <a:srgbClr val="790015"/>
            </a:solidFill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440" y="3353040"/>
              <a:ext cx="506160" cy="1981080"/>
            </a:xfrm>
            <a:custGeom>
              <a:avLst/>
              <a:gdLst/>
              <a:ahLst/>
              <a:rect l="l" t="t" r="r" b="b"/>
              <a:pathLst>
                <a:path w="287" h="1264">
                  <a:moveTo>
                    <a:pt x="0" y="0"/>
                  </a:moveTo>
                  <a:cubicBezTo>
                    <a:pt x="46" y="10"/>
                    <a:pt x="92" y="21"/>
                    <a:pt x="128" y="40"/>
                  </a:cubicBezTo>
                  <a:cubicBezTo>
                    <a:pt x="164" y="59"/>
                    <a:pt x="196" y="91"/>
                    <a:pt x="216" y="112"/>
                  </a:cubicBezTo>
                  <a:cubicBezTo>
                    <a:pt x="236" y="133"/>
                    <a:pt x="239" y="139"/>
                    <a:pt x="248" y="168"/>
                  </a:cubicBezTo>
                  <a:cubicBezTo>
                    <a:pt x="257" y="197"/>
                    <a:pt x="267" y="221"/>
                    <a:pt x="272" y="288"/>
                  </a:cubicBezTo>
                  <a:cubicBezTo>
                    <a:pt x="277" y="355"/>
                    <a:pt x="287" y="405"/>
                    <a:pt x="280" y="568"/>
                  </a:cubicBezTo>
                  <a:cubicBezTo>
                    <a:pt x="273" y="731"/>
                    <a:pt x="252" y="997"/>
                    <a:pt x="232" y="1264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680" y="3778200"/>
              <a:ext cx="414000" cy="1568520"/>
            </a:xfrm>
            <a:custGeom>
              <a:avLst/>
              <a:gdLst/>
              <a:ahLst/>
              <a:rect l="l" t="t" r="r" b="b"/>
              <a:pathLst>
                <a:path w="237" h="988">
                  <a:moveTo>
                    <a:pt x="0" y="20"/>
                  </a:moveTo>
                  <a:cubicBezTo>
                    <a:pt x="37" y="10"/>
                    <a:pt x="75" y="0"/>
                    <a:pt x="104" y="12"/>
                  </a:cubicBezTo>
                  <a:cubicBezTo>
                    <a:pt x="133" y="24"/>
                    <a:pt x="155" y="36"/>
                    <a:pt x="176" y="92"/>
                  </a:cubicBezTo>
                  <a:cubicBezTo>
                    <a:pt x="197" y="148"/>
                    <a:pt x="227" y="199"/>
                    <a:pt x="232" y="348"/>
                  </a:cubicBezTo>
                  <a:cubicBezTo>
                    <a:pt x="237" y="497"/>
                    <a:pt x="212" y="881"/>
                    <a:pt x="208" y="98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01880" y="2300400"/>
            <a:ext cx="1523880" cy="368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Elimi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75120" y="1397160"/>
            <a:ext cx="1636560" cy="3338280"/>
          </a:xfrm>
          <a:custGeom>
            <a:avLst/>
            <a:gdLst/>
            <a:ahLst/>
            <a:rect l="l" t="t" r="r" b="b"/>
            <a:pathLst>
              <a:path w="1031" h="2103">
                <a:moveTo>
                  <a:pt x="1031" y="0"/>
                </a:moveTo>
                <a:cubicBezTo>
                  <a:pt x="688" y="409"/>
                  <a:pt x="346" y="819"/>
                  <a:pt x="183" y="1128"/>
                </a:cubicBezTo>
                <a:cubicBezTo>
                  <a:pt x="20" y="1437"/>
                  <a:pt x="0" y="1695"/>
                  <a:pt x="55" y="1856"/>
                </a:cubicBezTo>
                <a:cubicBezTo>
                  <a:pt x="110" y="2017"/>
                  <a:pt x="367" y="2089"/>
                  <a:pt x="511" y="2096"/>
                </a:cubicBezTo>
                <a:cubicBezTo>
                  <a:pt x="655" y="2103"/>
                  <a:pt x="787" y="1999"/>
                  <a:pt x="919" y="189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58920" y="3797280"/>
            <a:ext cx="1841760" cy="642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étabol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635040"/>
            <a:ext cx="101520" cy="114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89520" y="1104840"/>
            <a:ext cx="101520" cy="1144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05840" y="2514600"/>
            <a:ext cx="406440" cy="393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864640" y="2946240"/>
            <a:ext cx="738000" cy="736920"/>
          </a:xfrm>
          <a:custGeom>
            <a:avLst/>
            <a:gdLst/>
            <a:ahLst/>
            <a:rect l="l" t="t" r="r" b="b"/>
            <a:pathLst>
              <a:path w="465" h="464">
                <a:moveTo>
                  <a:pt x="416" y="0"/>
                </a:moveTo>
                <a:cubicBezTo>
                  <a:pt x="440" y="77"/>
                  <a:pt x="465" y="155"/>
                  <a:pt x="432" y="224"/>
                </a:cubicBezTo>
                <a:cubicBezTo>
                  <a:pt x="399" y="293"/>
                  <a:pt x="288" y="376"/>
                  <a:pt x="216" y="416"/>
                </a:cubicBezTo>
                <a:cubicBezTo>
                  <a:pt x="144" y="456"/>
                  <a:pt x="72" y="460"/>
                  <a:pt x="0" y="46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991720" y="3200400"/>
            <a:ext cx="1104840" cy="520200"/>
          </a:xfrm>
          <a:prstGeom prst="rect">
            <a:avLst/>
          </a:prstGeom>
          <a:solidFill>
            <a:srgbClr val="f7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issol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897800">
            <a:off x="5477040" y="1245960"/>
            <a:ext cx="38088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0428200">
            <a:off x="6261840" y="812160"/>
            <a:ext cx="38088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984600">
            <a:off x="6235200" y="1612080"/>
            <a:ext cx="380880" cy="368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5400" y="1333440"/>
            <a:ext cx="101520" cy="114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67280" y="1866960"/>
            <a:ext cx="101880" cy="114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3080" y="247680"/>
            <a:ext cx="99439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4. IAM par modification de la flore intestin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Diminution des capacités de dégradatio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flore intestinal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atabolisme de la digox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AB à larges spectres (érythromycine)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résorption de la digox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Diminution des capacités de synthè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Vit K : apport alimentaire et synthèse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(flo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- AB à larges spectres (macrolides, cyclin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fluoroquinolones) + AV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risque hémorrag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6040" y="236520"/>
            <a:ext cx="1011096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5. IAM au niveau de la P-gp entérocytai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P-glycoprotéine : transpor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contrôle : gène MDR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localisation  : membranes cellulaires (entérocy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hépatocyte [face biliaire], rein [TCP], BH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Rôl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protecteur ? / xénobiotiques (M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expulsion des xénobiotiques hors de la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¢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- Facteurs de variabilité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mutation génétique des </a:t>
            </a: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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cancére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gène MDR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-gp : multi-drug re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 interactions / inhibiteurs de la P-gp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médica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jus de pamplemousse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3976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omic Sans MS"/>
              </a:rPr>
              <a:t>DISTRIB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1. Rappel : forme libre/forme lié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2. Mécanisme de l’IAM : dé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Comic Sans MS"/>
              </a:rPr>
              <a:t>3. Exemple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. Antivitamines K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phénylbutazone (BUTAZOLIDINE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spirine (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3 g/j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miconazole (DAKTARIN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 (+ gel bucc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dé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inhibiteur enzymat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54b"/>
            </a:gs>
            <a:gs pos="50000">
              <a:srgbClr val="000a7f"/>
            </a:gs>
            <a:gs pos="100000">
              <a:srgbClr val="00054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523800" y="423720"/>
            <a:ext cx="102744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utres AIN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déplacement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. IAM pharmacodynamiqu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Ass. Déc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8cf4ea"/>
                </a:solidFill>
                <a:latin typeface="Comic Sans MS"/>
              </a:rPr>
              <a:t>. 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Sulfamides hypoglycémiants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miconazole (DAKTARIN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 (+ gel bucc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phénylbutazonze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Ass. Dé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8cf4ea"/>
                </a:solidFill>
                <a:latin typeface="Comic Sans MS"/>
              </a:rPr>
              <a:t>. Méthotrexate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phénylbutazonze (BUTAZOLIDINE)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C.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+ aspirine et salicylés : déplacement 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clairance rénale (cf plus loin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5:39:44Z</dcterms:created>
  <dc:creator>D.I.T.</dc:creator>
  <dc:description/>
  <dc:language>en-US</dc:language>
  <cp:lastModifiedBy>MOSSER</cp:lastModifiedBy>
  <cp:lastPrinted>2002-03-20T18:11:47Z</cp:lastPrinted>
  <dcterms:modified xsi:type="dcterms:W3CDTF">2004-11-21T20:58:14Z</dcterms:modified>
  <cp:revision>184</cp:revision>
  <dc:subject/>
  <dc:title>Aucun titre de diapositive</dc:title>
</cp:coreProperties>
</file>