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1B4F-575B-4A2A-95CB-FAD5020071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F6B9-1262-470F-A0BD-075F0E9AFD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3BFB-4F19-47CB-BADA-16F60D83AD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5/58.8 mill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’inclut pas les causes seconda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E809-3C99-46A1-8AF5-DDBFD563F0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E29-6445-4BAC-953A-3E9E4BAE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886-2C6F-407A-8CE3-7AFD6FB8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94C-7A3D-4B63-9574-A3ACED00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116-5D09-4EC2-A76A-7635CFA6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666-9C31-49D2-A8D5-EFFD5713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5D2-CC6F-497B-9A76-C2566DBC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CD7-1CC4-4284-BE45-9957742E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D2E-0B24-4288-95C3-6F2480E6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F6F-28FB-42C2-9BFD-1684C9CB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DA6-AC0D-4ECC-AB1F-5974E92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B09-D314-4F69-9686-2BAB6E44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448-506C-44A3-B214-5DBEAE89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6219-132E-44B8-9DD1-EFEFC734B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éclaration obligatoire (DO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dalité de surveillance qui s’impose à tous (cliniciens, biologistes et patient concerné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3 acteur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les déclarants : les biologistes et médecins qui suspectent ou diagnostiquent les maladies à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les médecins désignés par les directeurs des Agences régionales de santé (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les épidémiologistes de l’Institut de Veille Sanitaire (InV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 procédur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elles pour lesquelles des mesures de santé publique efficaces sont disponibles et permettent d’en limiter la diffusion :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gnalement et not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elles qui ne nécessitent pas cette action de maîtrise urgente pour en limiter la diffusion, mais dont la connaissance des caractéristiques épidémiologiques est nécessaire à la conduite de la politique de prévention :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athogènes découverts 1983-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Espace réservé du contenu 3" descr=""/>
          <p:cNvPicPr/>
          <p:nvPr/>
        </p:nvPicPr>
        <p:blipFill>
          <a:blip r:embed="rId1"/>
          <a:srcRect l="25289" t="19383" r="25686" b="15075"/>
          <a:stretch/>
        </p:blipFill>
        <p:spPr>
          <a:xfrm>
            <a:off x="1403280" y="1557360"/>
            <a:ext cx="66247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athogènes émerg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IDS, Ebola, SRAS, H5N1, H1N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on géographique: dengue, chikungunya, West Ni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ultiresistance : Tuberculosis NDM-1, 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E. coli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(O 104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276960" y="1197000"/>
            <a:ext cx="2276640" cy="172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6276960" y="2836800"/>
            <a:ext cx="227664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6276960" y="4397400"/>
            <a:ext cx="2276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Émergence de nouveaux pathogè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298080" cy="497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5499000" y="6440400"/>
            <a:ext cx="36100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rigine des men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8120" y="1773360"/>
            <a:ext cx="8253360" cy="406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076720" y="5877000"/>
            <a:ext cx="36100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’un des meilleurs vect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5308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super vect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4624560" cy="294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3559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iste des 30 maladies à déclaration obligato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68360" y="2198520"/>
            <a:ext cx="828036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ervo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rvoir humai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IH,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Salmonella typh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méningoco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rvoir anim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Campylobacte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salmonelles,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E. coli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leptospirose, psittac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rvoir environnement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au, sol, aliments,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Giardia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choléra, tét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lore bactérienne diges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Espace réservé du contenu 3" descr=""/>
          <p:cNvPicPr/>
          <p:nvPr/>
        </p:nvPicPr>
        <p:blipFill>
          <a:blip r:embed="rId1"/>
          <a:srcRect l="34989" t="31871" r="36586" b="20596"/>
          <a:stretch/>
        </p:blipFill>
        <p:spPr>
          <a:xfrm>
            <a:off x="2179800" y="1627200"/>
            <a:ext cx="51037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Survie des bacté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almonelles dans les baignoires et toilettes (biofilm)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semaines, malgré l'emploi de produits ménagers, persistance dans les endroits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umides et sous forme degoutelettes après action de chasse d'eau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Barker, J Appl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icrobiol, 200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E. coli, P. aeruginosa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vie &gt; 6 mois sur surfaces sèches (coton, caillot sanguin);survie courte sur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face de verre (&lt;4 semaines), quelques heures sur formica surface sèch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cinetobacter spp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vie prolongée sur surfaces sèches (13 jours), (Getchell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ite, Infect Contro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p Epidemiol, 198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taphylocoques et entérocoqu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ton (vêtements, serviettes), 60% coton-40% polyester,100% polyester, 100%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opylène : 2 à 90 jours de survie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nez: plusieurs années (jusqu’à 4 a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ycobactéri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M. avium, M. intracellulare, M.tuberculosi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érosols dans l'air: &lt;1 h (Lever, Lett Appl Microbiol, 200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Survie des bacté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 retenir : le rôle des produits biologiques dans la  survie prolongée des bactérie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face tachée de sang sec : survie de staphylocoques 3 à 6 mois,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E. coli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P. aeruginosa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&gt; 6 mois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face de verre sèche: staphylocoques,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E. coli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P. aeruginosa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&lt;4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maines (Smith et al., J. Med., 198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ettoyage des surfaces +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légione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•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des rares bactéries à se multiplier dans les eaux chaudes jusqu'à 42°C ---&gt; concentrations for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ultiplication favorisée par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stagnation de l'eau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température insuffisamment chaude (40°C)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mauvais entretien (tartre, biofilm ...)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tozoai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3" descr=""/>
          <p:cNvPicPr/>
          <p:nvPr/>
        </p:nvPicPr>
        <p:blipFill>
          <a:blip r:embed="rId1"/>
          <a:srcRect l="23045" t="17031" r="20664" b="1108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ortalité annuelle / maladies infectieu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8137440" cy="456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575400" y="6021360"/>
            <a:ext cx="2028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9:39:17Z</dcterms:created>
  <dc:creator>éric</dc:creator>
  <dc:description/>
  <dc:language>en-US</dc:language>
  <cp:lastModifiedBy>éric</cp:lastModifiedBy>
  <dcterms:modified xsi:type="dcterms:W3CDTF">2013-01-15T18:37:01Z</dcterms:modified>
  <cp:revision>20</cp:revision>
  <dc:subject/>
  <dc:title>Présentation PowerPoint</dc:title>
</cp:coreProperties>
</file>