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6BC-F313-43B1-85E9-01AF33CE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B33-D69B-4431-B4F4-F9084BDB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E89-6D83-40FE-B0FA-1BD40D75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58A-36C2-4693-92E1-ADA90D76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E353-CAF8-48C5-85B7-39F93103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FB46-47FF-45AF-AA15-B6B3BBF0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7C2F-E5B4-405A-B2E5-62D6C867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1B7A-5424-48E3-ACC7-D557CEDE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C94B-5BBF-47E1-8706-AEE99EB2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5947-F36D-44D8-A117-CF99C5CD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C1C7-DBD1-4800-AFFE-69715DC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82F-3D0F-4A3E-B6FB-22F95C08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2236-1AA3-4E5E-B0FF-06345B46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0E59-F1A0-4B8C-B953-CD4F15FA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D05E-C082-47B2-8456-F1559952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7E1C-E612-4FE1-B19D-3FA73D2E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4D7E-8E6A-4490-967D-0A411E08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E6CF-2F08-49BD-9EFB-559EE2AC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3EDF-4041-45C9-8FE7-3D056BD4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D90F-6BB7-427C-BF77-08A9D501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0BC1-F1C9-46F0-8AC8-9DA8A4A2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CD49-0C92-4C30-8CB8-7F6BE6CA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8B3-4FBD-4E25-AAAD-8E36B8C9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DF7E-3B6C-46C5-A142-25D6A4F8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D02C-2667-4B55-B2EE-A8CB908D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8D11-6566-46F9-9D92-2CEDB00C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1ECE-C30F-4FC4-82FF-A1A76D18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0D81-B2AE-4030-80D7-4DA9FFF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44E4-EC90-46B4-A638-1DF3D098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D2E0-5C0E-4642-94A5-2EE434A1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6426-3945-42B4-A52B-08593D3D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AAEF-7928-4814-9504-0987A8AE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D853-FCB2-4146-A460-6CB5D8D1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2D4-71DA-489E-A9B8-8466A553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7806-5DCC-4B46-8EC4-09E61375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F47EA-98D7-4DB9-8AC4-DA9DFE59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51BB3-3EBC-4EE0-9458-E347C5B1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32F9-2225-486B-81A9-08675C1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39651-540C-4CEE-A2ED-E0CD24B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8D5F8-B19C-4497-8256-FA3A643F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1EED-A057-44EF-8395-1D93B601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BE15-6FB0-44F6-B1C4-24DA4E98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CA83E-FF0F-4B83-BFF0-4C1166D7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565-ABB5-4E47-9E2D-0FFF6C43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FEB-A192-43BC-B5A2-A32FBAA6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FDA-3D17-42A1-83AB-B336CAA8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E68-CA03-4D10-B5AB-AB2810B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1ED-ED75-4613-B958-935A640C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5DC4-2448-447F-B41B-31D906A30E9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DF87-621E-4545-A3D6-37DE9C2A7CD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DC7B-8D18-43B3-B0E7-45E1E1484D1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B6E3-54DA-462D-8E58-2CEBDE53E8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r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re 1" descr=""/>
          <p:cNvPicPr/>
          <p:nvPr/>
        </p:nvPicPr>
        <p:blipFill>
          <a:blip r:embed="rId1"/>
          <a:stretch/>
        </p:blipFill>
        <p:spPr>
          <a:xfrm>
            <a:off x="66600" y="244440"/>
            <a:ext cx="8255160" cy="1157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028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a vaccination contre la varicelle est recommandé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pour 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es adolescents de 12 à 18 ans n’ayant pas d’antécédent clinique de varicelle ou dont l’histoire est douteuse ; un contrôle sérologique préalable peut être pratiqué dans ce cas 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es femmes en âge de procréer, notamment celles ayant un projet de grossesse, et sans antécédent clinique de varicelle ; un contrôle sérologique préalable peut être pratiqué 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es femmes n’ayant pas d’antécédent clinique de varicelle (ou dont l’histoire est douteuse) dans les suites d’une première grossesse 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es adultes de plus de 18 ans exposés à la varicelle, immunocompétents sans antécédent de varicelle ou dont l’histoire est douteuse (sérologie facultative), dans les trois jours suivant l’exposition à un patient avec érup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toute personne sans antécédent de varicelle et dont la sérologie est négative, en contact étroit avec des personnes immunodéprimé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re 1" descr=""/>
          <p:cNvPicPr/>
          <p:nvPr/>
        </p:nvPicPr>
        <p:blipFill>
          <a:blip r:embed="rId1"/>
          <a:stretch/>
        </p:blipFill>
        <p:spPr>
          <a:xfrm>
            <a:off x="-6480" y="469800"/>
            <a:ext cx="8255160" cy="1438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0280" y="1989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Rattrapage vers 26-28 ans chez l’adul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cooning autour du nourris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our le moment pas plus d’une vaccination chez l’adulte… dans l’état actuel de nos connaissanc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255160" cy="1438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Image 3" descr="reco rougeole1.jpg"/>
          <p:cNvPicPr/>
          <p:nvPr/>
        </p:nvPicPr>
        <p:blipFill>
          <a:blip r:embed="rId2"/>
          <a:stretch/>
        </p:blipFill>
        <p:spPr>
          <a:xfrm>
            <a:off x="179280" y="1679400"/>
            <a:ext cx="8785440" cy="34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Image 3" descr="reco rougeole 2.jpg"/>
          <p:cNvPicPr/>
          <p:nvPr/>
        </p:nvPicPr>
        <p:blipFill>
          <a:blip r:embed="rId1"/>
          <a:stretch/>
        </p:blipFill>
        <p:spPr>
          <a:xfrm>
            <a:off x="250920" y="946080"/>
            <a:ext cx="87138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re 1" descr=""/>
          <p:cNvPicPr/>
          <p:nvPr/>
        </p:nvPicPr>
        <p:blipFill>
          <a:blip r:embed="rId1"/>
          <a:stretch/>
        </p:blipFill>
        <p:spPr>
          <a:xfrm>
            <a:off x="133200" y="9684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13372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Image 3" descr="hcsp1.jpg"/>
          <p:cNvPicPr/>
          <p:nvPr/>
        </p:nvPicPr>
        <p:blipFill>
          <a:blip r:embed="rId2"/>
          <a:stretch/>
        </p:blipFill>
        <p:spPr>
          <a:xfrm>
            <a:off x="179280" y="1484280"/>
            <a:ext cx="878544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re 1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8255160" cy="20113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0280" y="263700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Réalisée par Raji Hachem (Interne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tude observance et vécu des recommandations vaccinale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tude prospective réalisée devant la recrudescence en 2011 du nombre de cas de rougeoles hospitalisées (8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as de donnée dans la littérature en France sur ces données en vil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re 1" descr=""/>
          <p:cNvPicPr/>
          <p:nvPr/>
        </p:nvPicPr>
        <p:blipFill>
          <a:blip r:embed="rId1"/>
          <a:stretch/>
        </p:blipFill>
        <p:spPr>
          <a:xfrm>
            <a:off x="66600" y="32868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028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Questionnaire envoyé à 60 médecins tirés au sort dans l’effectif de 158 exerçant dans le Douaisi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tude de début décembre 2011 à fin janvier 201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ritère de jugement: ad équation des pratiques par rapport au référentiel du HCSP de février 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ntact téléphonique d’abord puis envoi d’une lettre explicative avec questionnaire et enveloppe… pré timbré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Questionnaire rédigé avec l’aide de la CIR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nonymisation des répons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0280" y="90756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Image 3" descr="Question1.jpg"/>
          <p:cNvPicPr/>
          <p:nvPr/>
        </p:nvPicPr>
        <p:blipFill>
          <a:blip r:embed="rId1"/>
          <a:stretch/>
        </p:blipFill>
        <p:spPr>
          <a:xfrm>
            <a:off x="1996920" y="476280"/>
            <a:ext cx="5150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0280" y="620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Image 5" descr="Question2.jpg"/>
          <p:cNvPicPr/>
          <p:nvPr/>
        </p:nvPicPr>
        <p:blipFill>
          <a:blip r:embed="rId1"/>
          <a:stretch/>
        </p:blipFill>
        <p:spPr>
          <a:xfrm>
            <a:off x="1882800" y="333360"/>
            <a:ext cx="5378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0280" y="1052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Image 4" descr="Question3.jpg"/>
          <p:cNvPicPr/>
          <p:nvPr/>
        </p:nvPicPr>
        <p:blipFill>
          <a:blip r:embed="rId1"/>
          <a:stretch/>
        </p:blipFill>
        <p:spPr>
          <a:xfrm>
            <a:off x="1371600" y="501480"/>
            <a:ext cx="640080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re 1" descr=""/>
          <p:cNvPicPr/>
          <p:nvPr/>
        </p:nvPicPr>
        <p:blipFill>
          <a:blip r:embed="rId1"/>
          <a:stretch/>
        </p:blipFill>
        <p:spPr>
          <a:xfrm>
            <a:off x="-6480" y="396720"/>
            <a:ext cx="8255160" cy="1438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204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Larousse: transmission d’une maladie d’un sujet malade à une personne saine par contact direct ou indire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re 1" descr=""/>
          <p:cNvPicPr/>
          <p:nvPr/>
        </p:nvPicPr>
        <p:blipFill>
          <a:blip r:embed="rId1"/>
          <a:stretch/>
        </p:blipFill>
        <p:spPr>
          <a:xfrm>
            <a:off x="463680" y="45720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028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26 réponses/60 (46%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53% de femm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42% de 40 à 50 ans, 58% + de 5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85% ont participé à une FM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76% des médecins sont très favorables, 19% plutôt favorable et un seul médecin déclare ne pas être favorabl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Motif de non pratique: injections trop rapproché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54% déclarent être parfois confrontés à un refus de la part des patients, parmi eux 71% essayent de les convaincre et 29% disent respecter leur choix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23% vérifient systématiquement le statut vaccinal de tous vos patients nés après 1980 , 65% le font souvent, 8% parfois et 1 médecin avoue ne jamais le fair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Méthodes employées pour vérifier le statut vaccinal des patients:50% ont recours au carnet de santé , 34% par l’interrogatoire et le carnet de santé , 8% par l’interrogatoire seul, 1 utilise la sérologie, 1 a un dossier informatisé des vacci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028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Concernant les patients qui n’ont jamais été vaccinés par le ROR, seul  27% des médecins  font 2 injections, 23% n’en font qu’une et 50% disent que ça dépend de leur année de naiss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Quand le patient a déjà reçu une dose unique de vaccin, 81 % des médecins disent  refaire une deuxième injection, les 5 médecins restant ont répondus non et trois parmi eux estiment que cela dépend de leur année de naissanc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92% des médecins interrogés disent connaître les dernières recommandations de Mai 2011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73% estiment avoir reçu une information suffisante de la part des autorités compétentes concernant le plan d’élimination de la rougeol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re 1" descr=""/>
          <p:cNvPicPr/>
          <p:nvPr/>
        </p:nvPicPr>
        <p:blipFill>
          <a:blip r:embed="rId1"/>
          <a:stretch/>
        </p:blipFill>
        <p:spPr>
          <a:xfrm>
            <a:off x="66600" y="469800"/>
            <a:ext cx="8255160" cy="1438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Taux de réponse correct pour ce type d’étud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95% de médecins plutôt favorables au RO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29% respectent le choix de refus des pare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12% vérifient rarement ou pas le statut vaccina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8% se basent sur l’interrogatoire seu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0280" y="17733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23% des médecins ne font qu’une injection si patient non vacciné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20% ne font qu’une injection si patient vacciné une seule fo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iscordance avec  les 92% de médecins disant  connaitre les recommandation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73% estiment avoir reçu une information suffisan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Flèche droite 3"/>
          <p:cNvSpPr/>
          <p:nvPr/>
        </p:nvSpPr>
        <p:spPr>
          <a:xfrm>
            <a:off x="755640" y="3573360"/>
            <a:ext cx="863640" cy="1429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re 1" descr=""/>
          <p:cNvPicPr/>
          <p:nvPr/>
        </p:nvPicPr>
        <p:blipFill>
          <a:blip r:embed="rId1"/>
          <a:stretch/>
        </p:blipFill>
        <p:spPr>
          <a:xfrm>
            <a:off x="536400" y="182520"/>
            <a:ext cx="7785360" cy="2011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0280" y="2205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Améliorer la formation et l’inform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Intérêt améliorer formation continue, collaboration avec services d’infectiologie (lignes directes avec au CH DOUAI le 0327947450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Communication des nouvelles recos: moyen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Favoriser la discussion avec les parents: temp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Augmenter le taux de vérification des vacci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But: atteindre les 95% de couverture vaccina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re 1" descr=""/>
          <p:cNvPicPr/>
          <p:nvPr/>
        </p:nvPicPr>
        <p:blipFill>
          <a:blip r:embed="rId1"/>
          <a:stretch/>
        </p:blipFill>
        <p:spPr>
          <a:xfrm>
            <a:off x="-6480" y="542880"/>
            <a:ext cx="8255160" cy="1438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mélioration des connaissance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Mais besoin d’améliorer l’observan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Qui ne pourra se faire qu’avec la participation active de l’ensemble des acteurs de santé…. et surtout des généralistes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255160" cy="14385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028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’éviction de la collectivité est réservée à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Constantia"/>
              </a:rPr>
              <a:t>11 pathologies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 seulemen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’éviction de la collectivité est une obligation réglementaire pour certaines patholog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’angine à streptocoque (2js après début ATB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scarlatin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coqueluche (5js après début ATB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’hépatite A (10js après début de l’ictère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’impétigo (lorsque les lésions sont étendues 3js après début ATB)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es infections invasives à méningocoqu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es oreillons (9js après début parotidite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rougeole (5js après début éruption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tuberculos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gastro-entérite à </a:t>
            </a:r>
            <a:r>
              <a:rPr b="1" i="1" lang="fr-FR" sz="2000" spc="-1" strike="noStrike">
                <a:solidFill>
                  <a:srgbClr val="ffffff"/>
                </a:solidFill>
                <a:latin typeface="Constantia"/>
              </a:rPr>
              <a:t>Escherichia coli entéro-hémorragiqu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gastro-entérite à </a:t>
            </a:r>
            <a:r>
              <a:rPr b="1" i="1" lang="fr-FR" sz="2000" spc="-1" strike="noStrike">
                <a:solidFill>
                  <a:srgbClr val="ffffff"/>
                </a:solidFill>
                <a:latin typeface="Constantia"/>
              </a:rPr>
              <a:t>Shigella sonne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re 1" descr=""/>
          <p:cNvPicPr/>
          <p:nvPr/>
        </p:nvPicPr>
        <p:blipFill>
          <a:blip r:embed="rId1"/>
          <a:stretch/>
        </p:blipFill>
        <p:spPr>
          <a:xfrm>
            <a:off x="-79200" y="45720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028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Contact: direct ou indire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Par vecteur: insecte, arthropod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Respiratoires: air ou gouttelett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re 1" descr=""/>
          <p:cNvPicPr/>
          <p:nvPr/>
        </p:nvPicPr>
        <p:blipFill>
          <a:blip r:embed="rId1"/>
          <a:stretch/>
        </p:blipFill>
        <p:spPr>
          <a:xfrm>
            <a:off x="66600" y="328680"/>
            <a:ext cx="8523360" cy="1287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0280" y="191592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+de 5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Toux, éternuem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Ne restent pas dans l’ai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Transmission à 1 mètre de la sourc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Grippe, méningite, oreillons, rhume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Masque chirurgica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Flèche droite 3"/>
          <p:cNvSpPr/>
          <p:nvPr/>
        </p:nvSpPr>
        <p:spPr>
          <a:xfrm>
            <a:off x="900000" y="4076640"/>
            <a:ext cx="432000" cy="2890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re 1" descr=""/>
          <p:cNvPicPr/>
          <p:nvPr/>
        </p:nvPicPr>
        <p:blipFill>
          <a:blip r:embed="rId1"/>
          <a:stretch/>
        </p:blipFill>
        <p:spPr>
          <a:xfrm>
            <a:off x="66600" y="542880"/>
            <a:ext cx="8255160" cy="1438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0280" y="2420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&lt;5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Possibilité de rester plusieurs heures dans l’air, avec grandes distanc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Possibilité sans contact même visu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varicelle, rougeol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Masque FFP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Agents transmissibles par aérosolisation d’eau: légionellos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Flèche droite 3"/>
          <p:cNvSpPr/>
          <p:nvPr/>
        </p:nvSpPr>
        <p:spPr>
          <a:xfrm>
            <a:off x="826920" y="4581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r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re 1" descr=""/>
          <p:cNvPicPr/>
          <p:nvPr/>
        </p:nvPicPr>
        <p:blipFill>
          <a:blip r:embed="rId1"/>
          <a:stretch/>
        </p:blipFill>
        <p:spPr>
          <a:xfrm>
            <a:off x="536400" y="-176040"/>
            <a:ext cx="7785360" cy="20113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lonisation nasale le plus souv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ossibles porteurs intermitt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écontamination uniquement lors de cas groupés ou infections cutanées récidivantes: infection à SA Panton Valentine… qui peuvent être méti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our le personn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as de risque, si pas de facteurs favorisant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Le personnel est porteur transitoire →mains (peu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transmettre le germe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écautions en moyen séjour, pas (ou peu) en long séjou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re 1" descr=""/>
          <p:cNvPicPr/>
          <p:nvPr/>
        </p:nvPicPr>
        <p:blipFill>
          <a:blip r:embed="rId1"/>
          <a:stretch/>
        </p:blipFill>
        <p:spPr>
          <a:xfrm>
            <a:off x="536400" y="615960"/>
            <a:ext cx="7785360" cy="1420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0280" y="2276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ugmentation progressive de leur inciden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oblême des resistances (ERV, et EPC) et virulence (EPC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Liés à une forte consommation d’antibiotiqu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Mesure drastiques à l’hopita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Lors du retour à domicile, précautions pour les soignants, vie normale++ pour les patient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ntrôle dépistage si patient a été en contact avec un patient porteur à l’hopita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Intérêt contrôle atb surtout C3g, Glycopeptides et Carbapénèm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14:34:22Z</dcterms:created>
  <dc:creator>xl</dc:creator>
  <dc:description/>
  <dc:language>en-US</dc:language>
  <cp:lastModifiedBy>xl</cp:lastModifiedBy>
  <dcterms:modified xsi:type="dcterms:W3CDTF">2013-01-15T15:48:05Z</dcterms:modified>
  <cp:revision>8</cp:revision>
  <dc:subject/>
  <dc:title>Maladies Infectieuses et Contagion</dc:title>
</cp:coreProperties>
</file>