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147-BC8F-40FA-828F-00F9759877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EFAA-457C-4BC7-9118-4BAB8D697A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EC27-B52E-414B-A8FB-67A54A121A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5/58.8 mil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’inclut pas les causes second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FB6C-675A-43F4-9A01-F13DD77FE9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646-04C5-4AC0-88D5-304187C5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063-132A-41F1-8025-730C1F8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269-F172-45CD-94B7-A8D03619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D25-BA16-4CFE-A16C-BA3F900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F50-38E6-4300-B6CE-B982026A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867-FB9F-4B46-8207-A546D91B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141-D8D5-4674-9D0F-1EA435F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EF2-0D65-4805-8DBA-7BF728D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FA5-91A1-4666-8908-1CE4B2B7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69F-296F-48B4-AA5B-45FBE5F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2AC-FB04-4E97-9F91-F2FEDE9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A40-DC72-46BA-A56B-A81861A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8070-BE10-4654-B001-7F54C0B42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claration obligatoire (DO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dalité de surveillance qui s’impose à tous (cliniciens, biologistes et patient concern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3 acteur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es déclarants : les biologistes et médecins qui suspectent ou diagnostiquent les maladies à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es médecins désignés par les directeurs des Agences régionales de santé (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es épidémiologistes de l’Institut de Veille Sanitaire (InV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 procédur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elles pour lesquelles des mesures de santé publique efficaces sont disponibles et permettent d’en limiter la diffusion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gnalement et no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elles qui ne nécessitent pas cette action de maîtrise urgente pour en limiter la diffusion, mais dont la connaissance des caractéristiques épidémiologiques est nécessaire à la conduite de la politique de prévention :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thogènes découverts 1983-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3" descr=""/>
          <p:cNvPicPr/>
          <p:nvPr/>
        </p:nvPicPr>
        <p:blipFill>
          <a:blip r:embed="rId1"/>
          <a:srcRect l="25289" t="19383" r="25686" b="15075"/>
          <a:stretch/>
        </p:blipFill>
        <p:spPr>
          <a:xfrm>
            <a:off x="1403280" y="1557360"/>
            <a:ext cx="6624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thogènes émer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IDS, Ebola, SRAS, H5N1, H1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géographique: dengue, chikungunya, West Ni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ultiresistance : Tuberculosis NDM-1,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(O 10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276960" y="1197000"/>
            <a:ext cx="227664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6276960" y="2836800"/>
            <a:ext cx="227664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6276960" y="4397400"/>
            <a:ext cx="2276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Émergence de nouveaux pathogè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298080" cy="497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499000" y="6440400"/>
            <a:ext cx="36100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rigine des men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8253360" cy="40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76720" y="5877000"/>
            <a:ext cx="36100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’un des meilleurs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super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624560" cy="294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3559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iste des 30 maladies à déclaration obligato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8360" y="2198520"/>
            <a:ext cx="828036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ervo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rvoir humai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IH,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almonella typh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méningoco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rvoir anim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Campylobact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almonelles,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E. col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eptospirose, psittac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rvoir environnement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au, sol, aliments,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Giardia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choléra, tét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lore bactérienne diges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3" descr=""/>
          <p:cNvPicPr/>
          <p:nvPr/>
        </p:nvPicPr>
        <p:blipFill>
          <a:blip r:embed="rId1"/>
          <a:srcRect l="34989" t="31871" r="36586" b="20596"/>
          <a:stretch/>
        </p:blipFill>
        <p:spPr>
          <a:xfrm>
            <a:off x="2179800" y="1627200"/>
            <a:ext cx="51037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urvie des bacté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almonelles dans les baignoires et toilettes (biofilm)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semaines, malgré l'emploi de produits ménagers, persistance dans les endroits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umides et sous forme degoutelettes après action de chasse d'eau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Barker, J Appl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crobiol, 200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E. coli, P. aeruginos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vie &gt; 6 mois sur surfaces sèches (coton, caillot sanguin);survie courte sur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face de verre (&lt;4 semaines), quelques heures sur formica surface sèch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cinetobacter spp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vie prolongée sur surfaces sèches (13 jours), (Getchell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ite, Infect Contr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p Epidemiol, 198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taphylocoques et entéroco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ton (vêtements, serviettes), 60% coton-40% polyester,100% polyester, 100%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opylène : 2 à 90 jours de survie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ez: plusieurs années (jusqu’à 4 a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ycobactéri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M. avium, M. intracellulare, M.tuberculosi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érosols dans l'air: &lt;1 h (Lever, Lett Appl Microbiol, 200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urvie des bacté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 retenir : le rôle des produits biologiques dans la  survie prolongée des bactéri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face tachée de sang sec : survie de staphylocoques 3 à 6 mois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E. coli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. aeruginosa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&gt; 6 mois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face de verre sèche: staphylocoques,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. aeruginosa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&lt;4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maines (Smith et al., J. Med., 198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ettoyage des surfaces 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légion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des rares bactéries à se multiplier dans les eaux chaudes jusqu'à 42°C ---&gt; concentrations for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ultiplication favorisée pa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stagnation de l'eau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température insuffisamment chaude (40°C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mauvais entretien (tartre, biofilm ...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tozoai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3" descr=""/>
          <p:cNvPicPr/>
          <p:nvPr/>
        </p:nvPicPr>
        <p:blipFill>
          <a:blip r:embed="rId1"/>
          <a:srcRect l="23045" t="17031" r="20664" b="1108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rtalité annuelle / maladies infectie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137440" cy="456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575400" y="6021360"/>
            <a:ext cx="2028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9:39:17Z</dcterms:created>
  <dc:creator>éric</dc:creator>
  <dc:description/>
  <dc:language>en-US</dc:language>
  <cp:lastModifiedBy>éric</cp:lastModifiedBy>
  <dcterms:modified xsi:type="dcterms:W3CDTF">2013-01-15T18:37:01Z</dcterms:modified>
  <cp:revision>20</cp:revision>
  <dc:subject/>
  <dc:title>Présentation PowerPoint</dc:title>
</cp:coreProperties>
</file>