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F40-DBBB-436C-8374-47AF8909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80D-21CD-48C3-8F0F-35DF49B6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2A6-0A7B-4C34-92E6-BC9D4700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BEA-FBE1-4B6A-B697-335E7C1E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BEC-7A62-4232-A9A9-55C88181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6C4-FC5B-4A3A-9257-1D3AE5D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DD4F-AEF7-4F59-9F23-B85FACD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01A-FBE2-496E-A588-EA8F7A7B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E3D-C930-43DA-802F-00300B64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E14-C71B-40E8-ADE6-9381F8C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91CC-6722-4E35-87F4-0928FE9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A4E-F621-4621-9AE5-987E001F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6A1-28D3-46D8-8851-49CE44E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500-8A15-474F-AAFA-FFA2BE5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C2D-2636-4B3D-9EA6-E5DA817B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DB4-7C91-47FC-857C-9E6DA0A1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A30E-F058-457B-B6C8-756E2D0A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420F-30BD-470B-B9D6-E7573BE4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C98C-7A76-4F3B-BE0A-CC73437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3B12-5CE8-4765-94B2-1BF12E9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819E-716C-4BAF-B803-FD8011E0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F7CE-F6FD-4FE6-B344-F428DE68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4A6-CC7B-4784-AD06-028CB58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A9D4-C12C-4891-B194-243E894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11DE-A603-471B-9578-E279414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BC36-EBA7-4F01-8584-1BF977A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B416-500A-4D5C-9254-55D3BF4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771A-6EB4-481D-A935-DD1DCC8A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FB46-D428-435C-B149-448C2508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CCD9-B818-4064-BAD5-693F667C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F319-1ACB-4198-9387-A3069E79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EEDA-2647-4E6C-ACAF-7D06EFB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7159-E3FA-4B7E-83AB-5777A21E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132-FEAE-491E-8F86-959D2EE8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0B56-49D1-4FC3-B783-F4A0310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51AC-77A7-4399-9376-4C8A166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752B-9D88-4090-B9A8-A8EAB40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8ADC-429A-4C93-B730-3340CD2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E14C-60F7-431A-A578-9EBEBFC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FA75-D7E8-45C9-8EB6-86EE4B0E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02BC-8BA2-4B11-98D5-19C60A4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DEB8-D3AE-45B0-8944-3317B2E9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D728-600E-4627-B961-8F7EFA3F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39C-4B8A-49FA-8035-12C174B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AC8-0D9D-48BA-B3E2-C07EF94C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923-7BB1-416A-A094-E04DB2C7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73E-26B6-4489-B656-99A64A8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88D-7682-4650-BA33-82B8C517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9A79-8B61-44CA-81D8-AD5B2223A7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95DB-0AE0-447A-9C56-76BB787C57F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DFD-39C3-4DD5-9EAA-4B24B0390D0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3664-6942-40BD-9450-FFF8F93767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re 1" descr=""/>
          <p:cNvPicPr/>
          <p:nvPr/>
        </p:nvPicPr>
        <p:blipFill>
          <a:blip r:embed="rId1"/>
          <a:stretch/>
        </p:blipFill>
        <p:spPr>
          <a:xfrm>
            <a:off x="66600" y="244440"/>
            <a:ext cx="8255160" cy="1157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028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a vaccination contre la varicelle est recommandé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pour 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adolescents de 12 à 18 ans n’ayant pas d’antécédent clinique de varicelle ou dont l’histoire est douteuse ; un contrôle sérologique préalable peut être pratiqué dans ce cas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femmes en âge de procréer, notamment celles ayant un projet de grossesse, et sans antécédent clinique de varicelle ; un contrôle sérologique préalable peut être pratiqué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femmes n’ayant pas d’antécédent clinique de varicelle (ou dont l’histoire est douteuse) dans les suites d’une première grossesse 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es adultes de plus de 18 ans exposés à la varicelle, immunocompétents sans antécédent de varicelle ou dont l’histoire est douteuse (sérologie facultative), dans les trois jours suivant l’exposition à un patient avec éru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toute personne sans antécédent de varicelle et dont la sérologie est négative, en contact étroit avec des personnes immunodéprimé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re 1" descr=""/>
          <p:cNvPicPr/>
          <p:nvPr/>
        </p:nvPicPr>
        <p:blipFill>
          <a:blip r:embed="rId1"/>
          <a:stretch/>
        </p:blipFill>
        <p:spPr>
          <a:xfrm>
            <a:off x="-6480" y="46980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028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attrapage vers 26-28 ans chez l’adul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cooning autour du nourris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ur le moment pas plus d’une vaccination chez l’adulte… dans l’état actuel de nos connaissanc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Image 3" descr="reco rougeole1.jpg"/>
          <p:cNvPicPr/>
          <p:nvPr/>
        </p:nvPicPr>
        <p:blipFill>
          <a:blip r:embed="rId2"/>
          <a:stretch/>
        </p:blipFill>
        <p:spPr>
          <a:xfrm>
            <a:off x="179280" y="1679400"/>
            <a:ext cx="878544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Image 3" descr="reco rougeole 2.jpg"/>
          <p:cNvPicPr/>
          <p:nvPr/>
        </p:nvPicPr>
        <p:blipFill>
          <a:blip r:embed="rId1"/>
          <a:stretch/>
        </p:blipFill>
        <p:spPr>
          <a:xfrm>
            <a:off x="250920" y="946080"/>
            <a:ext cx="87138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re 1" descr=""/>
          <p:cNvPicPr/>
          <p:nvPr/>
        </p:nvPicPr>
        <p:blipFill>
          <a:blip r:embed="rId1"/>
          <a:stretch/>
        </p:blipFill>
        <p:spPr>
          <a:xfrm>
            <a:off x="133200" y="9684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Image 3" descr="hcsp1.jpg"/>
          <p:cNvPicPr/>
          <p:nvPr/>
        </p:nvPicPr>
        <p:blipFill>
          <a:blip r:embed="rId2"/>
          <a:stretch/>
        </p:blipFill>
        <p:spPr>
          <a:xfrm>
            <a:off x="179280" y="1484280"/>
            <a:ext cx="87854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re 1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8255160" cy="2011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028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Réalisée par Raji Hachem (Intern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observance et vécu des recommandations vaccinal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prospective réalisée devant la recrudescence en 2011 du nombre de cas de rougeoles hospitalisées (8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as de donnée dans la littérature en France sur ces données en vil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re 1" descr=""/>
          <p:cNvPicPr/>
          <p:nvPr/>
        </p:nvPicPr>
        <p:blipFill>
          <a:blip r:embed="rId1"/>
          <a:stretch/>
        </p:blipFill>
        <p:spPr>
          <a:xfrm>
            <a:off x="66600" y="3286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estionnaire envoyé à 60 médecins tirés au sort dans l’effectif de 158 exerçant dans le Douaisi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Etude de début décembre 2011 à fin janvier 20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ritère de jugement: ad équation des pratiques par rapport au référentiel du HCSP de février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ntact téléphonique d’abord puis envoi d’une lettre explicative avec questionnaire et enveloppe… pré timbré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estionnaire rédigé avec l’aide de la CI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nonymisation des répons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0280" y="9075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Image 3" descr="Question1.jpg"/>
          <p:cNvPicPr/>
          <p:nvPr/>
        </p:nvPicPr>
        <p:blipFill>
          <a:blip r:embed="rId1"/>
          <a:stretch/>
        </p:blipFill>
        <p:spPr>
          <a:xfrm>
            <a:off x="1996920" y="476280"/>
            <a:ext cx="5150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0280" y="620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Image 5" descr="Question2.jpg"/>
          <p:cNvPicPr/>
          <p:nvPr/>
        </p:nvPicPr>
        <p:blipFill>
          <a:blip r:embed="rId1"/>
          <a:stretch/>
        </p:blipFill>
        <p:spPr>
          <a:xfrm>
            <a:off x="1882800" y="333360"/>
            <a:ext cx="5378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0280" y="1052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Image 4" descr="Question3.jpg"/>
          <p:cNvPicPr/>
          <p:nvPr/>
        </p:nvPicPr>
        <p:blipFill>
          <a:blip r:embed="rId1"/>
          <a:stretch/>
        </p:blipFill>
        <p:spPr>
          <a:xfrm>
            <a:off x="1371600" y="501480"/>
            <a:ext cx="64008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re 1" descr=""/>
          <p:cNvPicPr/>
          <p:nvPr/>
        </p:nvPicPr>
        <p:blipFill>
          <a:blip r:embed="rId1"/>
          <a:stretch/>
        </p:blipFill>
        <p:spPr>
          <a:xfrm>
            <a:off x="-6480" y="39672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Larousse: transmission d’une maladie d’un sujet malade à une personne saine par contact direct ou indir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re 1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028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26 réponses/60 (46%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53% de fem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42% de 40 à 50 ans, 58% + de 5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85% ont participé à une FM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76% des médecins sont très favorables, 19% plutôt favorable et un seul médecin déclare ne pas être favorab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Motif de non pratique: injections trop rapproché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54% déclarent être parfois confrontés à un refus de la part des patients, parmi eux 71% essayent de les convaincre et 29% disent respecter leur choix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3% vérifient systématiquement le statut vaccinal de tous vos patients nés après 1980 , 65% le font souvent, 8% parfois et 1 médecin avoue ne jamais le fair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Méthodes employées pour vérifier le statut vaccinal des patients:50% ont recours au carnet de santé , 34% par l’interrogatoire et le carnet de santé , 8% par l’interrogatoire seul, 1 utilise la sérologie, 1 a un dossier informatisé des vacci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028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ncernant les patients qui n’ont jamais été vaccinés par le ROR, seul  27% des médecins  font 2 injections, 23% n’en font qu’une et 50% disent que ça dépend de leur année de naiss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Quand le patient a déjà reçu une dose unique de vaccin, 81 % des médecins disent  refaire une deuxième injection, les 5 médecins restant ont répondus non et trois parmi eux estiment que cela dépend de leur année de naissan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92% des médecins interrogés disent connaître les dernières recommandations de Mai 2011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73% estiment avoir reçu une information suffisante de la part des autorités compétentes concernant le plan d’élimination de la rougeo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re 1" descr=""/>
          <p:cNvPicPr/>
          <p:nvPr/>
        </p:nvPicPr>
        <p:blipFill>
          <a:blip r:embed="rId1"/>
          <a:stretch/>
        </p:blipFill>
        <p:spPr>
          <a:xfrm>
            <a:off x="66600" y="46980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aux de réponse correct pour ce type d’ét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95% de médecins plutôt favorables au R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29% respectent le choix de refus des par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12% vérifient rarement ou pas le statut vaccin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8% se basent sur l’interrogatoire seu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0280" y="1773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3% des médecins ne font qu’une injection si patient non vacciné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20% ne font qu’une injection si patient vacciné une seule fo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iscordance avec  les 92% de médecins disant  connaitre les recommandation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73% estiment avoir reçu une information suffisan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Flèche droite 3"/>
          <p:cNvSpPr/>
          <p:nvPr/>
        </p:nvSpPr>
        <p:spPr>
          <a:xfrm>
            <a:off x="755640" y="3573360"/>
            <a:ext cx="863640" cy="142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re 1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7785360" cy="2011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028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Améliorer la formation et l’inform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Intérêt améliorer formation continue, collaboration avec services d’infectiologie (lignes directes avec au CH DOUAI le 0327947450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mmunication des nouvelles recos: moyen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Favoriser la discussion avec les parents: temp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Augmenter le taux de vérification des vacci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But: atteindre les 95% de couverture vaccina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re 1" descr=""/>
          <p:cNvPicPr/>
          <p:nvPr/>
        </p:nvPicPr>
        <p:blipFill>
          <a:blip r:embed="rId1"/>
          <a:stretch/>
        </p:blipFill>
        <p:spPr>
          <a:xfrm>
            <a:off x="-6480" y="54288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mélioration des connaissance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ais besoin d’améliorer l’observa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Qui ne pourra se faire qu’avec la participation active de l’ensemble des acteurs de santé…. et surtout des généraliste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55160" cy="1438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028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’éviction de la collectivité est réservée à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Constantia"/>
              </a:rPr>
              <a:t>11 pathologies</a:t>
            </a: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 seul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nstantia"/>
              </a:rPr>
              <a:t>L’éviction de la collectivité est une obligation réglementaire pour certaines patholog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angine à streptocoque (2js après début ATB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scarlat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coqueluche (5js après début ATB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hépatite A (10js après début de l’ictèr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’impétigo (lorsque les lésions sont étendues 3js après début ATB)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es infections invasives à méningocoqu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es oreillons (9js après début parotidite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rougeole (5js après début éruption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tuberculos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gastro-entérite à </a:t>
            </a:r>
            <a:r>
              <a:rPr b="1" i="1" lang="fr-FR" sz="2000" spc="-1" strike="noStrike">
                <a:solidFill>
                  <a:srgbClr val="ffffff"/>
                </a:solidFill>
                <a:latin typeface="Constantia"/>
              </a:rPr>
              <a:t>Escherichia coli entéro-hémorragiqu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nstantia"/>
              </a:rPr>
              <a:t>&gt; La gastro-entérite à </a:t>
            </a:r>
            <a:r>
              <a:rPr b="1" i="1" lang="fr-FR" sz="2000" spc="-1" strike="noStrike">
                <a:solidFill>
                  <a:srgbClr val="ffffff"/>
                </a:solidFill>
                <a:latin typeface="Constantia"/>
              </a:rPr>
              <a:t>Shigella sonne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re 1" descr=""/>
          <p:cNvPicPr/>
          <p:nvPr/>
        </p:nvPicPr>
        <p:blipFill>
          <a:blip r:embed="rId1"/>
          <a:stretch/>
        </p:blipFill>
        <p:spPr>
          <a:xfrm>
            <a:off x="-79200" y="45720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028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Contact: direct ou indir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Par vecteur: insecte, arthropo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nstantia"/>
              </a:rPr>
              <a:t>Respiratoires: air ou gouttelett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re 1" descr=""/>
          <p:cNvPicPr/>
          <p:nvPr/>
        </p:nvPicPr>
        <p:blipFill>
          <a:blip r:embed="rId1"/>
          <a:stretch/>
        </p:blipFill>
        <p:spPr>
          <a:xfrm>
            <a:off x="66600" y="328680"/>
            <a:ext cx="8523360" cy="1287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0280" y="191592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+de 5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oux, éternue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Ne restent pas dans l’ai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Transmission à 1 mètre de la sour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Grippe, méningite, oreillons, rhume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Masque chirurgic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Flèche droite 3"/>
          <p:cNvSpPr/>
          <p:nvPr/>
        </p:nvSpPr>
        <p:spPr>
          <a:xfrm>
            <a:off x="900000" y="4076640"/>
            <a:ext cx="432000" cy="289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re 1" descr=""/>
          <p:cNvPicPr/>
          <p:nvPr/>
        </p:nvPicPr>
        <p:blipFill>
          <a:blip r:embed="rId1"/>
          <a:stretch/>
        </p:blipFill>
        <p:spPr>
          <a:xfrm>
            <a:off x="66600" y="542880"/>
            <a:ext cx="8255160" cy="1438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420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&lt;5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Possibilité de rester plusieurs heures dans l’air, avec grandes distan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Possibilité sans contact même visu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varicelle, rougeo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Masque FFP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nstantia"/>
              </a:rPr>
              <a:t>Agents transmissibles par aérosolisation d’eau: légionello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Flèche droite 3"/>
          <p:cNvSpPr/>
          <p:nvPr/>
        </p:nvSpPr>
        <p:spPr>
          <a:xfrm>
            <a:off x="826920" y="4581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r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re 1" descr=""/>
          <p:cNvPicPr/>
          <p:nvPr/>
        </p:nvPicPr>
        <p:blipFill>
          <a:blip r:embed="rId1"/>
          <a:stretch/>
        </p:blipFill>
        <p:spPr>
          <a:xfrm>
            <a:off x="536400" y="-176040"/>
            <a:ext cx="7785360" cy="2011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lonisation nasale le plus souv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ssibles porteurs intermitt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Décontamination uniquement lors de cas groupés ou infections cutanées récidivantes: infection à SA Panton Valentine… qui peuvent être méti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our le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as de risque, si pas de facteurs favorisa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• </a:t>
            </a: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e personnel est porteur transitoire →mains (peu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transmettre le germe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écautions en moyen séjour, pas (ou peu) en long séjou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re 1" descr=""/>
          <p:cNvPicPr/>
          <p:nvPr/>
        </p:nvPicPr>
        <p:blipFill>
          <a:blip r:embed="rId1"/>
          <a:stretch/>
        </p:blipFill>
        <p:spPr>
          <a:xfrm>
            <a:off x="536400" y="615960"/>
            <a:ext cx="7785360" cy="1420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0280" y="2276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Augmentation progressive de leur incid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Problême des resistances (ERV, et EPC) et virulence (EPC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iés à une forte consommation d’antibiotiq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Mesure drastiques à l’hopit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Lors du retour à domicile, précautions pour les soignants, vie normale++ pour les patient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Contrôle dépistage si patient a été en contact avec un patient porteur à l’hopita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nstantia"/>
              </a:rPr>
              <a:t>Intérêt contrôle atb surtout C3g, Glycopeptides et Carbapénè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14:34:22Z</dcterms:created>
  <dc:creator>xl</dc:creator>
  <dc:description/>
  <dc:language>en-US</dc:language>
  <cp:lastModifiedBy>xl</cp:lastModifiedBy>
  <dcterms:modified xsi:type="dcterms:W3CDTF">2013-01-15T15:48:05Z</dcterms:modified>
  <cp:revision>8</cp:revision>
  <dc:subject/>
  <dc:title>Maladies Infectieuses et Contagion</dc:title>
</cp:coreProperties>
</file>