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5B0-E651-466C-BC63-9C28A621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792-DE37-46F4-9937-D926E4D5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C4F-D330-4A62-9A88-845775AB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F78-9A96-462E-B604-A9A87567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BE9-BB43-4200-B3E0-43E91BA0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3DB-FC13-4BE4-899A-EB4E40C2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6A1-9C61-4D63-A7B3-6F508030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33D-627B-4DDB-BD8E-53FF1C35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596-3AA4-487D-99EB-B58E5782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6B3-2734-4104-BE89-EF9777B7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BC7-794E-44C2-A46B-98172AC7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F8B-5F12-439E-93C5-9395A0C6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21B7-81F4-4B6D-9BB4-778272649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roubles urinaires de l’enf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4653000"/>
            <a:ext cx="680112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Société de Médecine de Dou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20 mars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Facteurs génétiques de l’énuré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 un parent énurétique dans l’enfanc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5 % de ris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 deux parents énurétiques dans l’enfanc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75 % de ris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ff0066"/>
                </a:solidFill>
                <a:latin typeface="Arial"/>
              </a:rPr>
              <a:t>.De la génét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ff0066"/>
                </a:solidFill>
                <a:latin typeface="Arial"/>
              </a:rPr>
              <a:t>.au scénario transgénérat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xamen clinique de l’enfant énurétiq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garder le dos +++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herche de dysraphism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rmalité de l’examen neurologiqu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stipation associé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ff"/>
                </a:solidFill>
                <a:latin typeface="Arial"/>
              </a:rPr>
              <a:t>Observer et écouter l’enf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Arial"/>
              </a:rPr>
              <a:t>impact psychologique et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ff"/>
                </a:solidFill>
                <a:latin typeface="Arial"/>
              </a:rPr>
              <a:t>Observer et écouter les par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0" lang="fr-FR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Arial"/>
              </a:rPr>
              <a:t>tolérance … inquiétude… exaspé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raitement de l’énuré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fiance et respect / enf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unication intrafamiliale constru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parler (livre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loriser les progrès (calendrier …si Sole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tit rôle (non vexatoire). Retrait des couch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miter les boissons le so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esmopressine (Minirin °) :</a:t>
            </a:r>
            <a:r>
              <a:rPr b="0" lang="fr-FR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Arial"/>
              </a:rPr>
              <a:t>analogue structural de l’HAD : diminue la production nocturne d’uri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t antidiurétique de 7 à 11 he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yoc : 120 µg de MinirinMelt = cp 0,2 mg de Mini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ur 6 mois…… efficacité 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voir l’enfant ++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nstabilité vésical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’énurésie est associée à une instabilité vésicale dans 30% des 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ff"/>
                </a:solidFill>
                <a:latin typeface="Arial"/>
              </a:rPr>
              <a:t>Diagnostic clin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llakiurie, impériosités et fuites uri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’explorations paracliniques en 1° intention (débitmétri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ff"/>
                </a:solidFill>
                <a:latin typeface="Arial"/>
              </a:rPr>
              <a:t>Traiteme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esures non médicamenteus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riner toutes les deux à trois he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tificat pour l’école 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itement de la const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itement anticholinergique : oxybutyrine (Driptane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ologie de 0,2 à 0,5 mg/kg/jour en trois prises (car demi-vie cou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ff"/>
                </a:solidFill>
                <a:latin typeface="Arial"/>
              </a:rPr>
              <a:t>Dys synergie vésico-sphinctérien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ff"/>
                </a:solidFill>
                <a:latin typeface="Arial"/>
              </a:rPr>
              <a:t>Défini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perte (ou non acquisition) de la coordination entr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la contraction du détru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l’ouverture du sphincter stri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66ff"/>
                </a:solidFill>
                <a:latin typeface="Arial"/>
              </a:rPr>
              <a:t>dysurie, rétention vésicale chronique, fuit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ff"/>
                </a:solidFill>
                <a:latin typeface="Arial"/>
              </a:rPr>
              <a:t>Elle peut êt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ésionnelle (spina bifida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thologie fonctionnelle ac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isque pour la fonction rénale +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66"/>
                </a:solidFill>
                <a:latin typeface="Arial"/>
              </a:rPr>
              <a:t>Dyssynergie vésico-sphinctéri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Bilans complexes 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) débitmétri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avec EMG périné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échographie réna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ut appar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paisseur de la paroi vési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sidu post-mic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ystographie rétro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RVU  par hyperpression vé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natomie vésicale (vessie de lutte, diverticule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natomie urétrale (« urètre en toupie 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Traitement de la dys synergie </a:t>
            </a:r>
            <a:br>
              <a:rPr sz="2800"/>
            </a:b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vésico sphinctéri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ff"/>
                </a:solidFill>
                <a:latin typeface="Arial"/>
              </a:rPr>
              <a:t>Mesures hygiéno diétét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ctions réguli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itement de la const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ydratation suffi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ff"/>
                </a:solidFill>
                <a:latin typeface="Arial"/>
              </a:rPr>
              <a:t>Traitement médicament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’instabilité vési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surinfections uri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itement par alpha bloquants (Xatral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ff"/>
                </a:solidFill>
                <a:latin typeface="Arial"/>
              </a:rPr>
              <a:t>Rééducation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kinésithérap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o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0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n cas de « blocage »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cquisition du contrôle mictionnel :   </a:t>
            </a:r>
            <a:br>
              <a:rPr sz="3200"/>
            </a:b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le nouveau 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16000" y="2421000"/>
            <a:ext cx="403884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rc médullaire réfl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ension vésica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écepteurs pariéta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ion cuta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340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Acquisition du contrôle mictionnel</a:t>
            </a:r>
            <a:br>
              <a:rPr sz="2400"/>
            </a:b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progressivement à partir de l’âge de 1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3114720" cy="3238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3190680" cy="3047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5877000"/>
            <a:ext cx="5040360" cy="503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nergie vésico - sphinctéri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360" y="2781360"/>
            <a:ext cx="2448000" cy="1728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ôle mic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5589720"/>
            <a:ext cx="3960720" cy="1008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nergie vésico-sphinctéri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284640"/>
            <a:ext cx="237636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é vés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3141720"/>
            <a:ext cx="23781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ôle neurolog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endocri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692280"/>
            <a:ext cx="41752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rôle cognitivo-comporte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788000" y="4581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268360" y="4365720"/>
            <a:ext cx="11512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78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84360" y="3860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300360" y="4581360"/>
            <a:ext cx="792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7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7612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ff"/>
                </a:solidFill>
                <a:latin typeface="Arial"/>
              </a:rPr>
              <a:t>Enurésie nocturn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continence urinaire durant le sommeil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ez un </a:t>
            </a:r>
            <a:r>
              <a:rPr b="1" lang="fr-FR" sz="2800" spc="-1" strike="noStrike">
                <a:solidFill>
                  <a:srgbClr val="ff00ff"/>
                </a:solidFill>
                <a:latin typeface="Arial"/>
              </a:rPr>
              <a:t>enfant de plus de 5 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rimaire :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il n’y a jamais eu de continence urinaire de plus de 6 m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% des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econdaire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période de propreté &gt; 6 moi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% des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chercher des symptômes urinaires diurne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       associés +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Symptômes uri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cc33"/>
                </a:solidFill>
                <a:latin typeface="Arial"/>
              </a:rPr>
              <a:t>Pollakiuri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équence des mictions &gt; 8 / 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Urgenturi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mpériosités mictionnelles et manœuvres de ret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Faux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cc33"/>
                </a:solidFill>
                <a:latin typeface="Arial"/>
              </a:rPr>
              <a:t>Nycturi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syndrome polyuro-polydipsiqu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cc33"/>
                </a:solidFill>
                <a:latin typeface="Arial"/>
              </a:rPr>
              <a:t>Incontinenc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 fuites urinaires, dribb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Efforts de pous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blesse du 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jet mic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ff"/>
                </a:solidFill>
                <a:latin typeface="Arial"/>
              </a:rPr>
              <a:t>Cystalgi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u douleurs gén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Arial"/>
              </a:rPr>
              <a:t>Entretien parental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fections urinaires documen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st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ndrome polyuro-polydips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66ff"/>
                </a:solidFill>
                <a:latin typeface="Arial"/>
              </a:rPr>
              <a:t>Enurésie monosymptomatiqu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3200"/>
            </a:b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ncontinence urinaire nocturne de l’enfant de plus de 5 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odérée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&lt; 1 fois par se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oyenne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1 à 2 fois par se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évè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&gt; 2 fois par se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rimaire ou second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99"/>
                </a:solidFill>
                <a:latin typeface="Arial"/>
              </a:rPr>
              <a:t>Enurésie noctur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ncidence 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% des enfants de 5 à 7 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à 6 % des enfants de 7 à 8 a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x de guérison spontanée de 10 % à 15 % par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 chez 1% des adul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Sexe rat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60 % de garçons / 40 % de f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dentiques pour tous les enfants du m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ment s’explique t’on l’énurésie ?</a:t>
            </a:r>
            <a:br>
              <a:rPr sz="2400"/>
            </a:b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</a:rPr>
              <a:t>…explication non univo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) Forme polyurique avec capacité vésicale nor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V théorique (ml) : âge + 1  x 3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70 % des c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ff"/>
                </a:solidFill>
                <a:latin typeface="Arial"/>
              </a:rPr>
              <a:t>inversion du rythme nycthéméral de la sécrétion d’ADH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basse durant la nu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) Forme polyurique avec capacité vésicale fonctionnelle rédu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facteurs surajou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66ff"/>
                </a:solidFill>
                <a:latin typeface="Arial"/>
              </a:rPr>
              <a:t>Sommeil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uil d’éveil plus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66ff"/>
                </a:solidFill>
                <a:latin typeface="Arial"/>
              </a:rPr>
              <a:t>THADA</a:t>
            </a: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0 % des enfants énurétiques présentent un TH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66ff"/>
                </a:solidFill>
                <a:latin typeface="Arial"/>
              </a:rPr>
              <a:t>Facteurs géné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09:25:15Z</dcterms:created>
  <dc:creator>sracouss</dc:creator>
  <dc:description/>
  <dc:language>en-US</dc:language>
  <cp:lastModifiedBy>pmeignie</cp:lastModifiedBy>
  <dcterms:modified xsi:type="dcterms:W3CDTF">2010-03-19T14:57:36Z</dcterms:modified>
  <cp:revision>15</cp:revision>
  <dc:subject/>
  <dc:title>Troubles urinaires de l’enfant</dc:title>
</cp:coreProperties>
</file>