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B22-53EB-4645-A15C-F8AB5C25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93D-9FAE-48E3-84FF-368D25BB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6A0-69A1-4F42-930A-5B94555E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7B4-2551-4E06-B076-955C68DC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39295-EB05-48B9-90D4-68D3F453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8EB9F-7B5B-45AD-848A-698324EA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E76A5-542F-4070-911D-DC97DA51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B34AD-1837-43FD-A138-092CC485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0A6DA-C111-4CB1-A6AE-6427DB86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1408C-12D4-4C4B-8568-B23A310A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3C247-C776-4090-88FB-429A5DD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BD9-C877-4463-88A8-95E0B1B2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51F3B-7EDA-4B28-BD18-E9333222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3ED5E-1A6C-459D-BFDE-9C31D2C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1165F-9BC9-4512-8FE3-1C7E7ACB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2AE47-0776-404A-B59A-B819941D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74557-2CA8-43BB-BB4A-81B58489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C7E-C398-444A-B747-BAC4D635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834-8C7F-48B5-BF6B-72B04AAB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493-926B-4621-A497-876804D2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198-5305-4947-B980-C5DE91CD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BB1-5676-4D1C-8C4E-D46637E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A1B-1412-47EB-8DAE-B84FCED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35B-9EA6-468C-B52C-AFE763A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3789-31D7-41B2-B471-D8BC1EB47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328A-B651-4712-8A23-321B2A151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’énurésie en 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79280" y="4797000"/>
            <a:ext cx="71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arine Prouveur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sychologue au Centre Hospitalier de Dou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619520" cy="34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peut ainsi espér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345440" cy="388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59500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Qu’ils se dirigent vers d’autres centres d’intérê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app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’énurésie primaire: propreté non acquise, qui répond à une immaturité fonctionnelle de la vess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 énurésie secondaire: propreté acquise sur une courte période, l’énurésie étant la conséquence d’un bouleversement émotionnel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s causes principales de l’énurésie prima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entissage précoce de la propreté sans tenir compte de la maturation anatom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entissage trop rigide par rapport aux rythmes de l’enf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protection parentale (couch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4360" y="2716200"/>
            <a:ext cx="3598560" cy="27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s causes principales de l’énurésie seconda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rivée d’un nouveau béb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érents événements de vie ( divorce, déménagement, nouvelle éco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oisse de sépa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 Occupes toi de moi, je suis encore petit 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88960" y="2400480"/>
            <a:ext cx="1979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’énurés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 point de vue de l’enf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 point de vue des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 point de vue de l’enfa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peut se déprimer, avoir une mauvaise image de so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peut ressentir un sentiment  d’infériorité vis-à-vis d’autr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peut être anxieux pour son deven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peut connaître des bénéfices secondaires qui l’invitent à rester béb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’attitude de l’enfant à l’égard de son symptôme peut être passive masquant les inconvénients de l’énurésie d’autres fois le plaisir de la régression d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 point de vue des par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z les parents, on observe à l’égard de l’énurésie deux attitu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oit une tolérance extrê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oit une intolérance absolue à l’égard des symptômes sous la forme de réprimandes, brimades, pun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 s’agit à chaque fois d’un dysfonctionnement paren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s recommand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« Ce qu’il faut faire 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nir compte de la motivation de l’enfant pour réajuster le trait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voriser la réalisation d’un calendrier urina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onsabiliser l’enfant dans la prise en charge de son trou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courager les progrès de l’enfant et travailler sur l’autonomis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« Ce qu’il ne faut pas faire 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l faut se souvenir qu’il ne s’agit pas de culpabiliser l’enfant car c’est un acte inconscient et involonta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 traiter comme un béb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retenir le port des cou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éveiller l’enfant la nu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s thérapeut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traitements médicament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méthodes d’éducation et de rééducation mictionne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sychothérap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entretiens familia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59:05Z</dcterms:created>
  <dc:creator>kprouveu</dc:creator>
  <dc:description/>
  <dc:language>en-US</dc:language>
  <cp:lastModifiedBy>kprouveu</cp:lastModifiedBy>
  <dcterms:modified xsi:type="dcterms:W3CDTF">2010-03-19T08:05:43Z</dcterms:modified>
  <cp:revision>39</cp:revision>
  <dc:subject/>
  <dc:title>L’énurésie en question</dc:title>
</cp:coreProperties>
</file>