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49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30.jpeg" ContentType="image/jpeg"/>
  <Override PartName="/ppt/media/image52.png" ContentType="image/png"/>
  <Override PartName="/ppt/media/image31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48.png" ContentType="image/png"/>
  <Override PartName="/ppt/media/image32.jpeg" ContentType="image/jpeg"/>
  <Override PartName="/ppt/media/image51.png" ContentType="image/png"/>
  <Override PartName="/ppt/media/image53.png" ContentType="image/png"/>
  <Override PartName="/ppt/media/image43.jpeg" ContentType="image/jpeg"/>
  <Override PartName="/ppt/media/image5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8AE-A83D-4B8D-91DF-4A529F5B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0C6-A454-4FE4-9E47-0886AC62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6EA-1B33-4F33-A3CB-16FECEB6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CF8-3258-4C24-A7A7-BE7CDE9A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C285-5863-4396-830E-4D65EDB0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D2B2-7FC9-4D5A-8425-78D2E0C6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999-D5A8-4475-895F-61AD0A6A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E513-352F-446C-BEB6-591553CD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E913-CCFC-48D7-ADBC-A1660BE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FD2A-DDCD-4514-BC62-E43515E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052-77A2-4D72-BDFD-CFC018C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808-2C6D-46F1-8B93-A99EE53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2EED-F650-476A-91EE-F223A18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A315-283B-4FF6-A78C-F73B4A0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805B-D682-4E64-8961-29E9814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E542-F389-46D5-88A4-206719B0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9DE1-AC2E-4349-9A29-60DF330A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2626-05BD-46F6-98EB-14D95C39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ADF1-1731-46CC-B375-F89A40F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7036-B995-4194-9D7A-FAE0C19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1B56-6570-4C10-88C5-D1B1729B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27C8-5BAF-4D3E-A328-BA50756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0AA-85C5-4873-AE0B-CF892C4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DC09-DCB0-4E84-83CD-762E8B4D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7DE9-CFEA-4B62-875A-4C5C324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F7E7-CA29-45EF-94F6-53CEC9C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0658-9D7E-4733-A8D3-2C97CCB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1155-6178-43D4-B12F-E2DFB78D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6A61-D6B3-415E-9BB2-7E63DA6C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2950-D041-4045-B29A-9739787F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3522-D856-48FB-B208-D3A58E3E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939E-6B99-40B9-919D-3FEE719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A780-A9E2-4B2A-A637-8FC24AC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A5A-4CB4-4497-9B64-E64B2238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0D59E-F447-45FB-BA0E-E8F5AB2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DD71-77A5-45F6-93E7-68A6DB7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E700-48FD-4D1C-987B-F3A0AE0F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EF8E-D790-4DA5-B82E-61B1EA0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D8B6-661F-443C-896F-3D45348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3E6B-6243-4D8A-AFAD-C624AE0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FE0D-2CED-436F-BF08-A73A53BC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BA0D-8969-44D4-B395-85505D6F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6D72-031D-41FB-B073-BA57FF12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7C8-466C-474C-A37E-F768CCA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51E-4012-4A0A-AB32-6C153724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FC3-B2DB-4F05-959A-0AD5AB8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5E8-97ED-4E03-809D-C19F2B0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174-BA51-40A6-B401-74356E6B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365-FC60-48B8-A130-DA1CB02DBE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98E7-7BC2-4F46-B633-AD9F200584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C88F-FF9F-4A10-A2A5-FCBA44FD9DF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7EA5-03F6-4889-BFE0-0EE96C62A1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Image 3" descr="Sans titre-6.jpg"/>
          <p:cNvPicPr/>
          <p:nvPr/>
        </p:nvPicPr>
        <p:blipFill>
          <a:blip r:embed="rId1"/>
          <a:stretch/>
        </p:blipFill>
        <p:spPr>
          <a:xfrm>
            <a:off x="142920" y="1857240"/>
            <a:ext cx="8858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Image 3" descr="Sans titre-7.jpg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re 1" descr=""/>
          <p:cNvPicPr/>
          <p:nvPr/>
        </p:nvPicPr>
        <p:blipFill>
          <a:blip r:embed="rId1"/>
          <a:stretch/>
        </p:blipFill>
        <p:spPr>
          <a:xfrm>
            <a:off x="96840" y="585720"/>
            <a:ext cx="8255160" cy="1157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0280" y="192888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Vaccin dans les 3js Rouvax  pour les non immuns à partir de 6 mois (vaccination standard à refaire + tard chez les 6-8 mois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inon IG polyvalentes à discuter pour les moins de 1 an et plus de 6 mois non vaccinés en post expo, les – de 6 mois, les femmes enceint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re 1" descr=""/>
          <p:cNvPicPr/>
          <p:nvPr/>
        </p:nvPicPr>
        <p:blipFill>
          <a:blip r:embed="rId1"/>
          <a:stretch/>
        </p:blipFill>
        <p:spPr>
          <a:xfrm>
            <a:off x="55440" y="731880"/>
            <a:ext cx="8253360" cy="2017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re 1" descr=""/>
          <p:cNvPicPr/>
          <p:nvPr/>
        </p:nvPicPr>
        <p:blipFill>
          <a:blip r:embed="rId1"/>
          <a:stretch/>
        </p:blipFill>
        <p:spPr>
          <a:xfrm>
            <a:off x="96840" y="-8568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0280" y="121428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Tout cas répondant à un ou plusieurs des critères cliniques e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biologiques suivants  doit être signalé sans délai à la Ddas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fièvre supérieure ou égale à 38,5 8C associée à une érup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aculopapuleuse et à au moins un des signes suivants : conjonctivite, coryza, toux, signe de Koplik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éroconversion ou élévation (en l’absence de vaccin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récente) de quatre fois au moins du titre des IgG sériqu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ntre la phase aiguë et la phase de convalescence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tection (en l’absence de vaccination récente) sérologiqu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ou salivaire d’IgM spécifiques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tection du virus par PCR ou culture positive sur prélèvements sanguin, rhinopharyngé, salivaire ou urinaire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0280" y="2071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Image 4" descr="Sans titre-2.jpg"/>
          <p:cNvPicPr/>
          <p:nvPr/>
        </p:nvPicPr>
        <p:blipFill>
          <a:blip r:embed="rId1"/>
          <a:stretch/>
        </p:blipFill>
        <p:spPr>
          <a:xfrm>
            <a:off x="214200" y="627120"/>
            <a:ext cx="86439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Image 3" descr="Sans titre-3.jpg"/>
          <p:cNvPicPr/>
          <p:nvPr/>
        </p:nvPicPr>
        <p:blipFill>
          <a:blip r:embed="rId1"/>
          <a:stretch/>
        </p:blipFill>
        <p:spPr>
          <a:xfrm>
            <a:off x="368280" y="642960"/>
            <a:ext cx="84074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02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Statut vaccinal des cas sur 75 avec données disponib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3 avaient reçu 2 do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3 avaient reçu 1 dos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 avec nombre de dose inconn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63% non vacciné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Flèche vers le bas 3"/>
          <p:cNvSpPr/>
          <p:nvPr/>
        </p:nvSpPr>
        <p:spPr>
          <a:xfrm>
            <a:off x="3786120" y="3357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4" descr="Sans titre-4.jpg"/>
          <p:cNvPicPr/>
          <p:nvPr/>
        </p:nvPicPr>
        <p:blipFill>
          <a:blip r:embed="rId1"/>
          <a:stretch/>
        </p:blipFill>
        <p:spPr>
          <a:xfrm>
            <a:off x="214200" y="785880"/>
            <a:ext cx="8643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028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bables sous déclaratio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Taux de vaccination à 2 doses de 66% à 15 ans; taux d’immunité nécessaire pour éliminer  la rougeole: 95%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Faible valeur prédictive de la clinique (40%): intérêt de la confirmation biologiqu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portion des plus de 10 ans importante car enfants moins bien vaccinés dans les 10 dernières années et taux de circulation du virus faib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r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re 3" descr=""/>
          <p:cNvPicPr/>
          <p:nvPr/>
        </p:nvPicPr>
        <p:blipFill>
          <a:blip r:embed="rId1"/>
          <a:stretch/>
        </p:blipFill>
        <p:spPr>
          <a:xfrm>
            <a:off x="165240" y="353880"/>
            <a:ext cx="8253360" cy="1432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19998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Virus très contagieux (du début au 3</a:t>
            </a:r>
            <a:r>
              <a:rPr b="0" lang="fr-FR" sz="2400" spc="-1" strike="noStrike" baseline="30000">
                <a:solidFill>
                  <a:srgbClr val="ffffff"/>
                </a:solidFill>
                <a:latin typeface="Constantia"/>
              </a:rPr>
              <a:t>ème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 jour de l’éruption) avec complications sévères possibles chez le nourrisson et l’adul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Immunité maternelle jusqu’à 6-8 mois, immunité à vi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Vaccin introduit en 1983: 300 000 cas en 1986, moins de 10 000 depuis  l’an 200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Déclaration obligatoire depuis 2005 dans un but d’erradic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re 1" descr=""/>
          <p:cNvPicPr/>
          <p:nvPr/>
        </p:nvPicPr>
        <p:blipFill>
          <a:blip r:embed="rId1"/>
          <a:stretch/>
        </p:blipFill>
        <p:spPr>
          <a:xfrm>
            <a:off x="96840" y="41436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0280" y="178596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ouvent liée à un strepto A (Bcp plus rarement C ou G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Incubation 24-48h, contagiosité 24h avant début des signes, 48h après le début de l’antibiothérapi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ouvent début par  angine  avec début horaire, vomisseme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xanthème souvent dans les suites  après 24-48h d’abord sur le thorax et racines des membres, puis extension respectant paumes et plantes  ainsi que la région péribuccale. O intervalle de peau saine. Aspect granité. Desquamation  du 8 au 30</a:t>
            </a:r>
            <a:r>
              <a:rPr b="0" lang="fr-FR" sz="2200" spc="-1" strike="noStrike" baseline="30000">
                <a:solidFill>
                  <a:srgbClr val="ffffff"/>
                </a:solidFill>
                <a:latin typeface="Constantia"/>
              </a:rPr>
              <a:t>ème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 j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re 1" descr=""/>
          <p:cNvPicPr/>
          <p:nvPr/>
        </p:nvPicPr>
        <p:blipFill>
          <a:blip r:embed="rId1"/>
          <a:stretch/>
        </p:blipFill>
        <p:spPr>
          <a:xfrm>
            <a:off x="165240" y="353880"/>
            <a:ext cx="825336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Image 3" descr="Scarlet.jpg"/>
          <p:cNvPicPr/>
          <p:nvPr/>
        </p:nvPicPr>
        <p:blipFill>
          <a:blip r:embed="rId2"/>
          <a:stretch/>
        </p:blipFill>
        <p:spPr>
          <a:xfrm>
            <a:off x="3857760" y="1857240"/>
            <a:ext cx="3786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re 1" descr=""/>
          <p:cNvPicPr/>
          <p:nvPr/>
        </p:nvPicPr>
        <p:blipFill>
          <a:blip r:embed="rId1"/>
          <a:stretch/>
        </p:blipFill>
        <p:spPr>
          <a:xfrm>
            <a:off x="-49320" y="334800"/>
            <a:ext cx="8255160" cy="1159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Image 4" descr="477359485OIogbo_ph.jpg"/>
          <p:cNvPicPr/>
          <p:nvPr/>
        </p:nvPicPr>
        <p:blipFill>
          <a:blip r:embed="rId2"/>
          <a:stretch/>
        </p:blipFill>
        <p:spPr>
          <a:xfrm>
            <a:off x="285840" y="1785960"/>
            <a:ext cx="84963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re 1" descr=""/>
          <p:cNvPicPr/>
          <p:nvPr/>
        </p:nvPicPr>
        <p:blipFill>
          <a:blip r:embed="rId1"/>
          <a:stretch/>
        </p:blipFill>
        <p:spPr>
          <a:xfrm>
            <a:off x="96840" y="628560"/>
            <a:ext cx="8255160" cy="11574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2" name="Image 3" descr="scarletFever_13104_lg.jpg"/>
          <p:cNvPicPr/>
          <p:nvPr/>
        </p:nvPicPr>
        <p:blipFill>
          <a:blip r:embed="rId2"/>
          <a:stretch/>
        </p:blipFill>
        <p:spPr>
          <a:xfrm>
            <a:off x="2214720" y="3571920"/>
            <a:ext cx="40719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re 1" descr=""/>
          <p:cNvPicPr/>
          <p:nvPr/>
        </p:nvPicPr>
        <p:blipFill>
          <a:blip r:embed="rId1"/>
          <a:stretch/>
        </p:blipFill>
        <p:spPr>
          <a:xfrm>
            <a:off x="23760" y="633240"/>
            <a:ext cx="8255160" cy="1440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nanthème associé: langue saburrale, puis desquamation périph (V), aspect framboisé à J6 (J1 dans Kawasaki), lisse J9, normale J14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igne consta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Image 3" descr="StrawberrytongueScarletfever.jpg"/>
          <p:cNvPicPr/>
          <p:nvPr/>
        </p:nvPicPr>
        <p:blipFill>
          <a:blip r:embed="rId1"/>
          <a:stretch/>
        </p:blipFill>
        <p:spPr>
          <a:xfrm>
            <a:off x="1714680" y="571680"/>
            <a:ext cx="5744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Image 3" descr="Scharlach.JPG"/>
          <p:cNvPicPr/>
          <p:nvPr/>
        </p:nvPicPr>
        <p:blipFill>
          <a:blip r:embed="rId1"/>
          <a:stretch/>
        </p:blipFill>
        <p:spPr>
          <a:xfrm>
            <a:off x="2031840" y="317520"/>
            <a:ext cx="50803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re 1" descr=""/>
          <p:cNvPicPr/>
          <p:nvPr/>
        </p:nvPicPr>
        <p:blipFill>
          <a:blip r:embed="rId1"/>
          <a:stretch/>
        </p:blipFill>
        <p:spPr>
          <a:xfrm>
            <a:off x="-49320" y="5666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0280" y="207144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Formes post-opératoire, notamment sur cicatri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Forme d’origine gynéco (protection hygiénique) qui récidive si cause reste présente. Absence d’angine, signe cutanés périinguinaux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re 1" descr=""/>
          <p:cNvPicPr/>
          <p:nvPr/>
        </p:nvPicPr>
        <p:blipFill>
          <a:blip r:embed="rId1"/>
          <a:stretch/>
        </p:blipFill>
        <p:spPr>
          <a:xfrm>
            <a:off x="23760" y="420840"/>
            <a:ext cx="8255160" cy="1225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0280" y="17856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elles de l’angi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Toxiniques précoces: néphrite interstitielle précoce souvent sans séquelle, rhumatisme scarlatin sans gravité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e choc toxique streptococciqu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Tardives: post-streptococciques (ne pas oublier BU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re 1" descr=""/>
          <p:cNvPicPr/>
          <p:nvPr/>
        </p:nvPicPr>
        <p:blipFill>
          <a:blip r:embed="rId1"/>
          <a:stretch/>
        </p:blipFill>
        <p:spPr>
          <a:xfrm>
            <a:off x="-49320" y="37152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30280" y="16430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mme une angine classique (Blactam++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phylaxie par  C3G orale ou Péni A pendant 10js si épidémie, sujet avec eczéma, pathologies chroniques…. et souvent pour tous les contacts proches familiaux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claration obligatoi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re 1" descr=""/>
          <p:cNvPicPr/>
          <p:nvPr/>
        </p:nvPicPr>
        <p:blipFill>
          <a:blip r:embed="rId1"/>
          <a:stretch/>
        </p:blipFill>
        <p:spPr>
          <a:xfrm>
            <a:off x="165240" y="4874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0280" y="178560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Incubation 10j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Invasion:  catarrhe oculorespi (conjonctivite, larmoiement, rhinorrhée, toux), fièvre 39-40, parfois signes digestifs et neuros, signe de Koplik à la 36 ème heure (taches blanchatres sur fond érythémateux en regard des prémolaires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ruption maculopapuleuse en relief avec intervalles de peau saine  de derrière les  oreilles puis la face et évolution descendan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pyrexie 4 js après érup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dénopathi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re 1" descr=""/>
          <p:cNvPicPr/>
          <p:nvPr/>
        </p:nvPicPr>
        <p:blipFill>
          <a:blip r:embed="rId1"/>
          <a:stretch/>
        </p:blipFill>
        <p:spPr>
          <a:xfrm>
            <a:off x="3524400" y="353880"/>
            <a:ext cx="5327640" cy="1432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Image 3" descr="pvl_mrsa_sore.gif"/>
          <p:cNvPicPr/>
          <p:nvPr/>
        </p:nvPicPr>
        <p:blipFill>
          <a:blip r:embed="rId2"/>
          <a:stretch/>
        </p:blipFill>
        <p:spPr>
          <a:xfrm>
            <a:off x="3429000" y="2357280"/>
            <a:ext cx="5415120" cy="4219560"/>
          </a:xfrm>
          <a:prstGeom prst="rect">
            <a:avLst/>
          </a:prstGeom>
          <a:ln w="0">
            <a:noFill/>
          </a:ln>
        </p:spPr>
      </p:pic>
      <p:pic>
        <p:nvPicPr>
          <p:cNvPr id="270" name="Image 4" descr="Image1.jpg"/>
          <p:cNvPicPr/>
          <p:nvPr/>
        </p:nvPicPr>
        <p:blipFill>
          <a:blip r:embed="rId3"/>
          <a:stretch/>
        </p:blipFill>
        <p:spPr>
          <a:xfrm>
            <a:off x="285840" y="285840"/>
            <a:ext cx="2992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re 1" descr=""/>
          <p:cNvPicPr/>
          <p:nvPr/>
        </p:nvPicPr>
        <p:blipFill>
          <a:blip r:embed="rId1"/>
          <a:stretch/>
        </p:blipFill>
        <p:spPr>
          <a:xfrm>
            <a:off x="55440" y="-122400"/>
            <a:ext cx="8277480" cy="28720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Image 3" descr="Image2.jpg"/>
          <p:cNvPicPr/>
          <p:nvPr/>
        </p:nvPicPr>
        <p:blipFill>
          <a:blip r:embed="rId2"/>
          <a:stretch/>
        </p:blipFill>
        <p:spPr>
          <a:xfrm>
            <a:off x="2000160" y="3000240"/>
            <a:ext cx="534672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re 1" descr=""/>
          <p:cNvPicPr/>
          <p:nvPr/>
        </p:nvPicPr>
        <p:blipFill>
          <a:blip r:embed="rId1"/>
          <a:stretch/>
        </p:blipFill>
        <p:spPr>
          <a:xfrm>
            <a:off x="23760" y="633240"/>
            <a:ext cx="8255160" cy="1440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530280" y="214308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nstantia"/>
              </a:rPr>
              <a:t>1894 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: substance toxique pour les leucocytes par Van deVelde : « substance leucocidine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nstantia"/>
              </a:rPr>
              <a:t>1932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 : association de cette toxine à des infections de la peau et parties molles par Panton et Valenti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nstantia"/>
              </a:rPr>
              <a:t>Récemment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, épidémies de lésions cutanées dans des communautés précises aux EU (joueurs professionnels, prisons, Indiens d’Amérique, enfants) : souches USA 300 et 40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re 1" descr=""/>
          <p:cNvPicPr/>
          <p:nvPr/>
        </p:nvPicPr>
        <p:blipFill>
          <a:blip r:embed="rId1"/>
          <a:stretch/>
        </p:blipFill>
        <p:spPr>
          <a:xfrm>
            <a:off x="23760" y="20808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8760" y="214308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Constantia"/>
              </a:rPr>
              <a:t>Europe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mise en évidence d’un clone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500" spc="-1" strike="noStrike">
                <a:solidFill>
                  <a:srgbClr val="ffffff"/>
                </a:solidFill>
                <a:latin typeface="Constantia"/>
              </a:rPr>
              <a:t>ST80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575"/>
              </a:spcBef>
              <a:buClr>
                <a:srgbClr val="0bd0d9"/>
              </a:buClr>
              <a:buSzPct val="6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antibiogramme évocateur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575"/>
              </a:spcBef>
              <a:buClr>
                <a:srgbClr val="10cf9b"/>
              </a:buClr>
              <a:buSzPct val="6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onstantia"/>
              </a:rPr>
              <a:t>Méti R</a:t>
            </a: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, Kana R, Tobra S, </a:t>
            </a:r>
            <a:r>
              <a:rPr b="0" lang="fr-FR" sz="2300" spc="-1" strike="noStrike">
                <a:solidFill>
                  <a:srgbClr val="000000"/>
                </a:solidFill>
                <a:latin typeface="Constantia"/>
              </a:rPr>
              <a:t>FQ S</a:t>
            </a:r>
            <a:r>
              <a:rPr b="0" lang="fr-FR" sz="2300" spc="-1" strike="noStrike">
                <a:solidFill>
                  <a:srgbClr val="ffffff"/>
                </a:solidFill>
                <a:latin typeface="Constantia"/>
              </a:rPr>
              <a:t>, Fuci I ou R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ugmentation du nombre de cas surtout aux USA et en Europe  avec multiplicité des clones notamment Méti 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on ne peut plus se baser uniquement sur l’antibiogramm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Flèche vers le bas 3"/>
          <p:cNvSpPr/>
          <p:nvPr/>
        </p:nvSpPr>
        <p:spPr>
          <a:xfrm>
            <a:off x="3786120" y="5072040"/>
            <a:ext cx="71640" cy="357120"/>
          </a:xfrm>
          <a:prstGeom prst="downArrow">
            <a:avLst>
              <a:gd name="adj1" fmla="val 50000"/>
              <a:gd name="adj2" fmla="val 4984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re 1" descr=""/>
          <p:cNvPicPr/>
          <p:nvPr/>
        </p:nvPicPr>
        <p:blipFill>
          <a:blip r:embed="rId1"/>
          <a:stretch/>
        </p:blipFill>
        <p:spPr>
          <a:xfrm>
            <a:off x="23760" y="48744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0280" y="192852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Constantia"/>
              </a:rPr>
              <a:t>Peau : abcès, furoncles, fasciite nécrosante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Constantia"/>
              </a:rPr>
              <a:t>Poumons : pneumopathie nécrosante, pleurésie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Constantia"/>
              </a:rPr>
              <a:t>Autre : ostéomyélite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Image 3" descr="Image3.jpg"/>
          <p:cNvPicPr/>
          <p:nvPr/>
        </p:nvPicPr>
        <p:blipFill>
          <a:blip r:embed="rId2"/>
          <a:stretch/>
        </p:blipFill>
        <p:spPr>
          <a:xfrm>
            <a:off x="3143160" y="2928960"/>
            <a:ext cx="23907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re 1" descr=""/>
          <p:cNvPicPr/>
          <p:nvPr/>
        </p:nvPicPr>
        <p:blipFill>
          <a:blip r:embed="rId1"/>
          <a:stretch/>
        </p:blipFill>
        <p:spPr>
          <a:xfrm>
            <a:off x="23760" y="48744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0280" y="17856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ésions cutanées furonculeuses plus souvent nécrotiques, récidivantes, risque de contagiosité importa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blême thérapeutique de la résistance aux pénicillines: environ 3% des souches de PVL, mais jusque 30%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blême des récidives… et du dépistage de portage de Staph (nasal)…. et de la décontamination de tous les membres de la famille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re 1" descr=""/>
          <p:cNvPicPr/>
          <p:nvPr/>
        </p:nvPicPr>
        <p:blipFill>
          <a:blip r:embed="rId1"/>
          <a:stretch/>
        </p:blipFill>
        <p:spPr>
          <a:xfrm>
            <a:off x="-49320" y="34128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530280" y="4000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Etude rétrospective dans le NPDC sur  64 cas de SA PVL+ isolés dans les hôpitaux de la rég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42600" y="343440"/>
            <a:ext cx="792972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0280" y="185724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66% de SAR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44% d’antibiothérapies inadapté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24 ans de moyenne  d’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éférentiellement automne-hiv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Nombre moyen de personnes dans le foyer: 4,5 contre 2,5 en moyenne dans le NPD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37% (dont une bonne partie sont des SARM) avaient reçu un ATB dans les 3 mois précéde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20% de lésions nécrotiques…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re 1" descr=""/>
          <p:cNvPicPr/>
          <p:nvPr/>
        </p:nvPicPr>
        <p:blipFill>
          <a:blip r:embed="rId1"/>
          <a:stretch/>
        </p:blipFill>
        <p:spPr>
          <a:xfrm>
            <a:off x="23760" y="49356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0280" y="2214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evant des abcès récidivants parfois nécrotiqu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Notion de lésions dans la famil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evant un antibiogramm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Penser à prélever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Flèche vers le bas 3"/>
          <p:cNvSpPr/>
          <p:nvPr/>
        </p:nvSpPr>
        <p:spPr>
          <a:xfrm>
            <a:off x="3714840" y="3571920"/>
            <a:ext cx="107136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re 1" descr=""/>
          <p:cNvPicPr/>
          <p:nvPr/>
        </p:nvPicPr>
        <p:blipFill>
          <a:blip r:embed="rId1"/>
          <a:stretch/>
        </p:blipFill>
        <p:spPr>
          <a:xfrm>
            <a:off x="23760" y="731880"/>
            <a:ext cx="8255160" cy="1157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0280" y="2142720"/>
            <a:ext cx="777240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rainage: toujours si possib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sinfection loca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TB: de préférence éviter les pénicillines (augmentent la libération de toxine) car risque de résistance: privilégier la Pyostacine® ou à défaut le Bactrim®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re 1" descr=""/>
          <p:cNvPicPr/>
          <p:nvPr/>
        </p:nvPicPr>
        <p:blipFill>
          <a:blip r:embed="rId1"/>
          <a:stretch/>
        </p:blipFill>
        <p:spPr>
          <a:xfrm>
            <a:off x="96840" y="128520"/>
            <a:ext cx="8255160" cy="11574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Image 3" descr="Koplik.jpg"/>
          <p:cNvPicPr/>
          <p:nvPr/>
        </p:nvPicPr>
        <p:blipFill>
          <a:blip r:embed="rId2"/>
          <a:stretch/>
        </p:blipFill>
        <p:spPr>
          <a:xfrm>
            <a:off x="571680" y="150012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re 1" descr=""/>
          <p:cNvPicPr/>
          <p:nvPr/>
        </p:nvPicPr>
        <p:blipFill>
          <a:blip r:embed="rId1"/>
          <a:stretch/>
        </p:blipFill>
        <p:spPr>
          <a:xfrm>
            <a:off x="36360" y="689040"/>
            <a:ext cx="8510760" cy="112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0280" y="214308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Oui si récidive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Oui si lésions identiques dans la famille… et donc dépister toute la famil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n nas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i +                                                toujours insister sur  </a:t>
            </a: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hygiè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upirocine application nasa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sinfection par bains de Chlorexidi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Flèche droite 3"/>
          <p:cNvSpPr/>
          <p:nvPr/>
        </p:nvSpPr>
        <p:spPr>
          <a:xfrm>
            <a:off x="1571760" y="3857760"/>
            <a:ext cx="2714400" cy="14292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r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ugmentation du nombre de SARM communautai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Rôle possible dans la surinfection des grippes…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re 1" descr=""/>
          <p:cNvPicPr/>
          <p:nvPr/>
        </p:nvPicPr>
        <p:blipFill>
          <a:blip r:embed="rId1"/>
          <a:stretch/>
        </p:blipFill>
        <p:spPr>
          <a:xfrm>
            <a:off x="23760" y="34128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15714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Image 3" descr="rougeole4.jpg"/>
          <p:cNvPicPr/>
          <p:nvPr/>
        </p:nvPicPr>
        <p:blipFill>
          <a:blip r:embed="rId2"/>
          <a:stretch/>
        </p:blipFill>
        <p:spPr>
          <a:xfrm>
            <a:off x="4143240" y="1000080"/>
            <a:ext cx="43023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re 1" descr=""/>
          <p:cNvPicPr/>
          <p:nvPr/>
        </p:nvPicPr>
        <p:blipFill>
          <a:blip r:embed="rId1"/>
          <a:stretch/>
        </p:blipFill>
        <p:spPr>
          <a:xfrm>
            <a:off x="23760" y="44460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7146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urinfection: OMA, broncho-pneumonie, kératit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Neuros: encéphali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écaniques de type atélectasi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aligne: détresse respi, atteinte neurologique rare+++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re 1" descr=""/>
          <p:cNvPicPr/>
          <p:nvPr/>
        </p:nvPicPr>
        <p:blipFill>
          <a:blip r:embed="rId1"/>
          <a:stretch/>
        </p:blipFill>
        <p:spPr>
          <a:xfrm>
            <a:off x="23760" y="633240"/>
            <a:ext cx="8255160" cy="1440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214308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liniqu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tection des IgM salivaires  (le long de la gencive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Sérologie: présence d’IgM ou x4 des IgG en 2 semaines (en l’absence de vaccination dans les 2 derniers mois). IgM apparaissent  au moment de l’éruption et persistent 60j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re 1" descr=""/>
          <p:cNvPicPr/>
          <p:nvPr/>
        </p:nvPicPr>
        <p:blipFill>
          <a:blip r:embed="rId1"/>
          <a:stretch/>
        </p:blipFill>
        <p:spPr>
          <a:xfrm>
            <a:off x="96840" y="26820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19285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fficace dans 95% des cas dès J4 et pendant longtemps (même si absence d’anticorps restants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I: Déficit immunitaire, grossesse (déconseillée), allergie à l’œuf (+/-) et à la néomyci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Vaccin à 12 mois (ou 9 mois puis nouveau vaccin 6 mois plus tard), puis à 2 ans ou si cela n’a pas été fait vers 11-13 a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mplications: éruption J5-J12, fièvre avec parfois convulsion toujours bénigne, anergie tuberculine pendant 3 moi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ttendre  3 mois après transfusion ou Ig poly pour vaccin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Image 3" descr="Sans titre-5.jpg"/>
          <p:cNvPicPr/>
          <p:nvPr/>
        </p:nvPicPr>
        <p:blipFill>
          <a:blip r:embed="rId1"/>
          <a:stretch/>
        </p:blipFill>
        <p:spPr>
          <a:xfrm>
            <a:off x="214200" y="1022400"/>
            <a:ext cx="87156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20:19Z</dcterms:created>
  <dc:creator>xl</dc:creator>
  <dc:description/>
  <dc:language>en-US</dc:language>
  <cp:lastModifiedBy>xl</cp:lastModifiedBy>
  <dcterms:modified xsi:type="dcterms:W3CDTF">2009-09-14T18:18:06Z</dcterms:modified>
  <cp:revision>8</cp:revision>
  <dc:subject/>
  <dc:title>Pathologies infectieuses (ré)émergentes en ville</dc:title>
</cp:coreProperties>
</file>