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AD3-7AB1-408A-92CA-5B275917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C52-BE52-4B3F-8B57-5C65B9B5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3DF-BEC8-4B18-A283-8BAFB55D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0F2-D955-4CDB-BEE9-B4E2ADE8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9A2-29DB-473A-A9EF-AE664716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8E7-C63B-4344-A0D0-CD1B0AAF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1F5-F56D-4B14-BC4E-247367E8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445-8A8A-4A95-A709-21E051F2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719-5060-46C1-81F3-17EECD8C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434-CD19-4AB2-9BBD-F230D143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7A8-223E-481D-86F0-9DB81FE5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99E-D349-46DE-B647-BBDABB5D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158A-2235-417E-91D4-49F4DF4325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STIP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teur Frédéric COUTTEN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U L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 de Dou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 thérapeutiq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1er message : les laxatifs ne rendent pas le transit fainéa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2 éme message ils n’abîment pas le tube diges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3 eme message ils ne rendent pas dépend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 thérapeutique suit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ivilégier les laxatifs voie haute plutôt que les formes rec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dapter les doses de laxatif en fonction de la consistance des selles et non en fonction du vid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onstipation est un symptôme qui doit être pris en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tte prise en charge est sur le long te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onstipation est une amie fidè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on les critères de ROM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équences des sel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ins de 3 par semaine chez le moins de 3 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ins de 2 par semaine chez le plus de 3 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ances des s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ine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é à l’émission des selles (douleu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Étiologi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incipalement fonctio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rganiq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ladie de hirschspr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Hypothyroi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ucovisci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ller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Quels sont les signes évocateurs d’une pathologie organique 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but en période néonatale préco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etentissement sur la courbe staturo pondér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Échec de la prise en charge bien cond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ymptomatologie évocatrice associ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Quels examens paracliniques 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général aucun n’est nécess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 (rôle didactiqu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mét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de la su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an thyroïd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herche allergie test cutanée 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 cas particulier du nourris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aitement mat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équence des selles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ance des selles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laits artificie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eur en lact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eur en casé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ise en charg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° hygiéno-diété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° rééducation sphinctérien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° place des laxatif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ègles hygiéno-diététiq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mentation diversifi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 d’aliments inter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ilégier les aliments laxatifs ou accélérateur de trans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é phys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tion au quant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 rééducation sphinctérien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ésentation à la selle réguliè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ofiter des « bons moments 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lexe gastro-col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matin au reve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ttention au conditions de défé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Éviter les doule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0:18:26Z</dcterms:created>
  <dc:creator>Frédéric Couttenier</dc:creator>
  <dc:description/>
  <dc:language>en-US</dc:language>
  <cp:lastModifiedBy>frederic couttenier</cp:lastModifiedBy>
  <dcterms:modified xsi:type="dcterms:W3CDTF">2008-01-12T12:23:59Z</dcterms:modified>
  <cp:revision>4</cp:revision>
  <dc:subject/>
  <dc:title>CONSTIPATION</dc:title>
</cp:coreProperties>
</file>