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66C3-961C-4D82-81AE-EA1BE8AB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3B7-E95A-4D04-A20A-2A756BA9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180D-8D5F-4AF3-9696-CE6A07F1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09C-E23F-47CC-AC86-FD16B7D2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3D5F-BE9E-4527-BE7A-A06F2DEF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4998-A5E7-4C94-A324-D2125D60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4A5B-1E3E-4EAB-86CF-E58CD3E2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A100-7DCB-49A2-AC0C-8A5E0A14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61EC-CF85-432C-B0EB-C0F663B1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DD39-4729-454D-BDCD-7C0D602E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8DB9-6A90-4892-BCF7-82C1F184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A80-C897-4591-A5E2-1878E1F4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D8D9-ED7F-4142-97E5-CC8FF60B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A5AC-BA66-48E7-8503-E8A89574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53DC-C7F7-45E5-91A7-E6134AC2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533C-D3C4-4C01-886A-0E6659C3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ECEA-3509-471F-8DA6-F2E76F40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C8CD-E513-4434-A85F-14EFD572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017B-6F2E-4ED6-B2F3-3F0CA73D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337-14B2-4D31-8D7F-7CD2BD29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92A-56F9-4C14-8AC9-AB00A272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A18-4987-4F9F-8E30-31864930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686-F7C0-47B1-8116-7302A9A1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5A09-D4E5-40F6-8D46-97296B56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35B9-12A4-45E3-9C08-B7E6938264E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E4D9-C5B3-40A8-8BD5-AAC9018C0B8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hyperlink" Target="http://www.ulg.ac.be/maxiplas/nouveau/enseig_online/paralysie-face/P1050005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2.png"/><Relationship Id="rId8" Type="http://schemas.openxmlformats.org/officeDocument/2006/relationships/hyperlink" Target="http://www.ulg.ac.be/maxiplas/nouveau/enseig_online/paralysie-face/P1050005.JPG" TargetMode="Externa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dbbd71"/>
                </a:solidFill>
                <a:latin typeface="Arial"/>
              </a:rPr>
              <a:t>Arythmies atriales</a:t>
            </a:r>
            <a:br>
              <a:rPr sz="4800"/>
            </a:br>
            <a:r>
              <a:rPr b="0" lang="fr-FR" sz="4800" spc="-1" strike="noStrike">
                <a:solidFill>
                  <a:srgbClr val="dbbd71"/>
                </a:solidFill>
                <a:latin typeface="Arial"/>
              </a:rPr>
              <a:t>&amp;</a:t>
            </a:r>
            <a:br>
              <a:rPr sz="4800"/>
            </a:br>
            <a:r>
              <a:rPr b="0" lang="fr-FR" sz="4800" spc="-1" strike="noStrike">
                <a:solidFill>
                  <a:srgbClr val="dbbd71"/>
                </a:solidFill>
                <a:latin typeface="Arial"/>
              </a:rPr>
              <a:t>Anticoagulation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 EM PRETOR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ervice de Cardiologi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H DOUA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195640" y="189000"/>
            <a:ext cx="4599000" cy="337320"/>
          </a:xfrm>
          <a:prstGeom prst="rect">
            <a:avLst/>
          </a:prstGeom>
          <a:gradFill rotWithShape="0">
            <a:gsLst>
              <a:gs pos="0">
                <a:srgbClr val="ffff99">
                  <a:alpha val="38039"/>
                </a:srgbClr>
              </a:gs>
              <a:gs pos="50000">
                <a:srgbClr val="757546"/>
              </a:gs>
              <a:gs pos="100000">
                <a:srgbClr val="ffff99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19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 Unicode MS"/>
              </a:rPr>
              <a:t>ème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 journée de la SMD - 12 janvier 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356000" y="54936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52292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r EMP -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3640" y="3573360"/>
            <a:ext cx="59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9900"/>
                </a:solidFill>
                <a:latin typeface="Arial"/>
              </a:rPr>
              <a:t>Tout ce que vous avez toujours voulu savoir sur la FA sans jamais oser le deman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bbd71"/>
                </a:solidFill>
                <a:latin typeface="Arial"/>
              </a:rPr>
              <a:t>Anticoagulation (4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37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Qui peut-on ne pas anticoagul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i="1" lang="fr-FR" sz="2400" spc="-1" strike="noStrike">
                <a:solidFill>
                  <a:srgbClr val="ffff99"/>
                </a:solidFill>
                <a:latin typeface="Tahoma"/>
              </a:rPr>
              <a:t>patient &lt; 65ans, CHADS</a:t>
            </a:r>
            <a:r>
              <a:rPr b="0" i="1" lang="fr-FR" sz="2400" spc="-1" strike="noStrike" baseline="-25000">
                <a:solidFill>
                  <a:srgbClr val="ffff99"/>
                </a:solidFill>
                <a:latin typeface="Tahoma"/>
              </a:rPr>
              <a:t>2</a:t>
            </a:r>
            <a:r>
              <a:rPr b="0" i="1" lang="fr-FR" sz="2400" spc="-1" strike="noStrike">
                <a:solidFill>
                  <a:srgbClr val="ffff99"/>
                </a:solidFill>
                <a:latin typeface="Tahoma"/>
              </a:rPr>
              <a:t> = 0/6, cœur sain (FA isolé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Qui peut recevoir uniquement de l’Aspirine (160mg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fr-FR" sz="2400" spc="-1" strike="noStrike">
                <a:solidFill>
                  <a:srgbClr val="ffff99"/>
                </a:solidFill>
                <a:latin typeface="Tahoma"/>
              </a:rPr>
              <a:t>CHADS2 = 0-1/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Qui doit recevoir des AVK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i="1" lang="fr-FR" sz="2400" spc="-1" strike="noStrike">
                <a:solidFill>
                  <a:srgbClr val="ffff99"/>
                </a:solidFill>
                <a:latin typeface="Tahoma"/>
              </a:rPr>
              <a:t>tous les autres pati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749448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r EMP -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as particuliers (1)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rrêt AVK - Relais Héparin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ff99"/>
                </a:solidFill>
                <a:latin typeface="Tahoma"/>
              </a:rPr>
              <a:t>Non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s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HADS</a:t>
            </a:r>
            <a:r>
              <a:rPr b="0" lang="fr-FR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= 1-4/6 et arrêt nécessaire &lt; 1 s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2929"/>
                </a:solidFill>
                <a:latin typeface="Tahoma"/>
              </a:rPr>
              <a:t>Oui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fr-FR" sz="2400" spc="-1" strike="noStrike">
                <a:solidFill>
                  <a:srgbClr val="ffff99"/>
                </a:solidFill>
                <a:latin typeface="Tahoma"/>
              </a:rPr>
              <a:t>(HNF avec TCA = 2-3 N)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s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HADS</a:t>
            </a:r>
            <a:r>
              <a:rPr b="0" lang="fr-FR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= 5-6/6 ou arrêt nécessaire &gt; 1 s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Valvulopathie mitr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Valve mécani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ahoma"/>
              </a:rPr>
              <a:t>HBPM possible mais à </a:t>
            </a:r>
            <a:r>
              <a:rPr b="1" i="1" lang="fr-FR" sz="2400" spc="-1" strike="noStrike">
                <a:solidFill>
                  <a:srgbClr val="ffcc66"/>
                </a:solidFill>
                <a:latin typeface="Tahoma"/>
              </a:rPr>
              <a:t>dose cura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749448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r EMP -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as particuliers (2)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urdosage en AVK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6360" y="2701800"/>
          <a:ext cx="7775640" cy="31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2701800"/>
                    <a:ext cx="7775640" cy="31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7710120" y="4724280"/>
            <a:ext cx="15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Hospit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23080" y="6093000"/>
            <a:ext cx="507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929"/>
                </a:solidFill>
                <a:latin typeface="Tahoma"/>
              </a:rPr>
              <a:t>Hospitalisation indispens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443640" y="6381720"/>
            <a:ext cx="1332000" cy="0"/>
          </a:xfrm>
          <a:prstGeom prst="line">
            <a:avLst/>
          </a:prstGeom>
          <a:ln w="57240">
            <a:solidFill>
              <a:srgbClr val="ff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247160" y="5518080"/>
            <a:ext cx="1140840" cy="86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26480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264807"/>
              </a:path>
            </a:pathLst>
          </a:custGeom>
          <a:noFill/>
          <a:ln w="57240">
            <a:solidFill>
              <a:srgbClr val="ff2929"/>
            </a:solidFill>
            <a:miter/>
          </a:ln>
          <a:effectLst>
            <a:outerShdw dist="52300" dir="836435" blurRad="0" rotWithShape="0">
              <a:srgbClr val="402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29400" y="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r EMP -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as particuliers (3)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daptation des dos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essage N°1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Festina lent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(on veut toujours aller TROP VITE à la hausse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essage N°2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Viser la cibl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mieux vaut un INR à 3.2 qu’un INR à 1.6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essage N°3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rs de l’introduction en ambulatoire du PREVISCAN (toujours à 1cp/j et en prise vespérale) =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99"/>
                </a:solidFill>
                <a:latin typeface="Tahoma"/>
              </a:rPr>
              <a:t>INR à J</a:t>
            </a:r>
            <a:r>
              <a:rPr b="0" lang="en-US" sz="1600" spc="-1" strike="noStrike" baseline="-25000">
                <a:solidFill>
                  <a:srgbClr val="99ff99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: si &lt; 1.8 alors 1cp/j le soir; si &gt; 1.8 baisser à J3 (sert uniquement à dépister les patients présentant une hypersensibilité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99"/>
                </a:solidFill>
                <a:latin typeface="Tahoma"/>
              </a:rPr>
              <a:t>INR à J</a:t>
            </a:r>
            <a:r>
              <a:rPr b="0" lang="en-US" sz="1600" spc="-1" strike="noStrike" baseline="-25000">
                <a:solidFill>
                  <a:srgbClr val="99ff99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: reflète le mieux l’équilibre chroniqu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essage N°4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Son calvaire est le vôt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(pas de contrôles INR plus espacés que 15 jour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essage N°5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Laisser le temps au temps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(INR de contrôle après modification de dose après 72h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752292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r EMP -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t n’oubliez pas 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914560" y="2828880"/>
            <a:ext cx="3529080" cy="3033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2124000" y="2133720"/>
            <a:ext cx="5068800" cy="174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03.27.99.61.58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619280" y="5805360"/>
            <a:ext cx="6192720" cy="819360"/>
          </a:xfrm>
          <a:prstGeom prst="rect">
            <a:avLst/>
          </a:prstGeom>
        </p:spPr>
        <p:txBody>
          <a:bodyPr wrap="none" lIns="90000" rIns="90000" tIns="46800" bIns="46800" anchor="t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Un cardiologue disponible 7/7 et 24/24</a:t>
            </a:r>
            <a:endParaRPr b="1" lang="en-US" sz="1800" spc="1" strike="noStrike">
              <a:ln w="9360">
                <a:solidFill>
                  <a:srgbClr val="808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243" name=""/>
          <p:cNvSpPr/>
          <p:nvPr/>
        </p:nvSpPr>
        <p:spPr>
          <a:xfrm>
            <a:off x="749448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r EMP -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rythmies atriales (1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’</a:t>
            </a:r>
            <a:r>
              <a:rPr b="0" lang="fr-FR" sz="3200" spc="-1" strike="noStrike">
                <a:solidFill>
                  <a:srgbClr val="ffff99"/>
                </a:solidFill>
                <a:latin typeface="Tahoma"/>
              </a:rPr>
              <a:t>extrasystolie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ffff99"/>
                </a:solidFill>
                <a:latin typeface="Tahoma"/>
              </a:rPr>
              <a:t>atriale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peut mimer au pouls une véritable arythmie mais n’est pas emboligè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fr-FR" sz="3200" spc="-1" strike="noStrike">
                <a:solidFill>
                  <a:srgbClr val="ffff99"/>
                </a:solidFill>
                <a:latin typeface="Tahoma"/>
              </a:rPr>
              <a:t>Fibrillation Atriale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(FA), le </a:t>
            </a:r>
            <a:r>
              <a:rPr b="0" lang="fr-FR" sz="3200" spc="-1" strike="noStrike">
                <a:solidFill>
                  <a:srgbClr val="ffff99"/>
                </a:solidFill>
                <a:latin typeface="Tahoma"/>
              </a:rPr>
              <a:t>Flutter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(Fl) et la </a:t>
            </a:r>
            <a:r>
              <a:rPr b="0" lang="fr-FR" sz="3200" spc="-1" strike="noStrike">
                <a:solidFill>
                  <a:srgbClr val="ffff99"/>
                </a:solidFill>
                <a:latin typeface="Tahoma"/>
              </a:rPr>
              <a:t>Tachycardie Atriale Focale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(TAF) ont tous les trois le même caractère emboligène = 3 facettes d’une même maladie rythm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752292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r EMP -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rythmies atriales (2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 risque emboliqu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 maximal au moment de la régulari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gmente avec la durée de l’arythm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OLAIRE :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L’arythmie paroxystique a le même risque embolique que l’arythmie perman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752292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r EMP -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rythmies atriales (3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 </a:t>
            </a:r>
            <a:r>
              <a:rPr b="0" i="1" lang="en-US" sz="3200" spc="-1" strike="noStrike">
                <a:solidFill>
                  <a:srgbClr val="99ff99"/>
                </a:solidFill>
                <a:latin typeface="Tahoma"/>
              </a:rPr>
              <a:t>ressenti cliniq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palpitations, dyspnée, angor…) n’est pas dû à l’arythmie elle-même (qui est ATRIALE) mais à la FC (qui est VENTRICULAI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332000" y="3716280"/>
          <a:ext cx="6985080" cy="29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3716280"/>
                    <a:ext cx="698508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 flipH="1">
            <a:off x="4284720" y="5300640"/>
            <a:ext cx="1869840" cy="360360"/>
          </a:xfrm>
          <a:custGeom>
            <a:avLst/>
            <a:gdLst>
              <a:gd name="textAreaLeft" fmla="*/ 327600 w 1869840"/>
              <a:gd name="textAreaRight" fmla="*/ 1356120 w 18698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5003640" y="5084640"/>
            <a:ext cx="722520" cy="99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077080" y="5084640"/>
            <a:ext cx="616680" cy="337320"/>
          </a:xfrm>
          <a:prstGeom prst="rect">
            <a:avLst/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fffff">
                  <a:alpha val="7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NA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57520" y="458136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3300"/>
                </a:solidFill>
                <a:latin typeface="Tahoma"/>
              </a:rPr>
              <a:t>Oreille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23720" y="60930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bd71"/>
                </a:solidFill>
                <a:latin typeface="Tahoma"/>
              </a:rPr>
              <a:t>Ventric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09400" y="51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3300"/>
                </a:solidFill>
                <a:latin typeface="Tahoma"/>
              </a:rPr>
              <a:t>Fq ≈ 400/m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71960" y="558972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bbd71"/>
                </a:solidFill>
                <a:latin typeface="Tahoma"/>
              </a:rPr>
              <a:t>Fq ≈ 60-180/m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292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r EMP -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26920" y="3575160"/>
            <a:ext cx="7417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ahoma"/>
              </a:rPr>
              <a:t>On ne ralentit pas l’arythmie mais la cadence ventriculaire (FC) en ralentissant la conduction dans le NAV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280" y="5735520"/>
            <a:ext cx="8964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Ralentisseurs nodau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fr-FR" sz="3000" spc="-1" strike="noStrike">
                <a:solidFill>
                  <a:srgbClr val="ffff99"/>
                </a:solidFill>
                <a:latin typeface="Tahoma"/>
              </a:rPr>
              <a:t>Digoxine, ISOPTINE, TILDIEM, BB</a:t>
            </a: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… CORDARON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rythmies atriales (3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 </a:t>
            </a:r>
            <a:r>
              <a:rPr b="0" i="1" lang="en-US" sz="3200" spc="-1" strike="noStrike">
                <a:solidFill>
                  <a:srgbClr val="99ff99"/>
                </a:solidFill>
                <a:latin typeface="Tahoma"/>
              </a:rPr>
              <a:t>ressenti cliniq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palpitations, dyspnée, angor…) n’est pas dû à l’arythmie elle-même (qui est ATRIALE) mais à la FC (qui est VENTRICULAI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5016600"/>
            <a:ext cx="0" cy="86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29400" y="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r EMP -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187280" y="3429000"/>
          <a:ext cx="691380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429000"/>
                    <a:ext cx="691380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rythmies atriales (4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 risque embolique est dû à l’arythmie elle-même (stase, ectasie atriale…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73680" y="3801960"/>
          <a:ext cx="2685960" cy="22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73680" y="3801960"/>
                    <a:ext cx="268596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6084720" y="5013360"/>
            <a:ext cx="574920" cy="142920"/>
          </a:xfrm>
          <a:prstGeom prst="ellipse">
            <a:avLst/>
          </a:prstGeom>
          <a:solidFill>
            <a:srgbClr val="ff2929"/>
          </a:solidFill>
          <a:ln w="9360">
            <a:solidFill>
              <a:srgbClr val="ff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08720" y="5229360"/>
            <a:ext cx="358560" cy="214200"/>
          </a:xfrm>
          <a:prstGeom prst="ellipse">
            <a:avLst/>
          </a:prstGeom>
          <a:solidFill>
            <a:srgbClr val="ff2929"/>
          </a:solidFill>
          <a:ln w="9360">
            <a:solidFill>
              <a:srgbClr val="ff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4360" y="4219560"/>
            <a:ext cx="288720" cy="289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5013360"/>
            <a:ext cx="28872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5516640"/>
            <a:ext cx="360360" cy="217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5299200"/>
            <a:ext cx="216000" cy="74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2292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r EMP -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bbd71"/>
                </a:solidFill>
                <a:latin typeface="Arial"/>
              </a:rPr>
              <a:t>L’anticoagulation (1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LOI N°1 (le médicolégal)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99"/>
                </a:solidFill>
                <a:latin typeface="Tahoma"/>
              </a:rPr>
              <a:t>Devant toute arythmie atriale on doit se poser la question de l’anticoag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LOI N°2 (le scientifique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99"/>
                </a:solidFill>
                <a:latin typeface="Tahoma"/>
              </a:rPr>
              <a:t>Peut-on ne pas anticoagule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99"/>
                </a:solidFill>
                <a:latin typeface="Tahoma"/>
              </a:rPr>
              <a:t>Peut-on ne mettre que de l’Aspirin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LOI N°3 (le raisonnable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99"/>
                </a:solidFill>
                <a:latin typeface="Tahoma"/>
              </a:rPr>
              <a:t>Le rapport bénéfice-risque est-il favorabl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4292640"/>
            <a:ext cx="0" cy="50472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9448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r EMP -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bbd71"/>
                </a:solidFill>
                <a:latin typeface="Arial"/>
              </a:rPr>
              <a:t>Anticoagulation (2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284720" y="3097080"/>
            <a:ext cx="4680000" cy="3205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92200" y="2508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7480" y="3284640"/>
            <a:ext cx="400464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ff99"/>
                </a:solidFill>
                <a:latin typeface="Tahoma"/>
              </a:rPr>
              <a:t>C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= Congestiv HF (IC congestiv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ff99"/>
                </a:solidFill>
                <a:latin typeface="Tahoma"/>
              </a:rPr>
              <a:t>H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= H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ff99"/>
                </a:solidFill>
                <a:latin typeface="Tahoma"/>
              </a:rPr>
              <a:t>A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= Age &gt; 75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ff99"/>
                </a:solidFill>
                <a:latin typeface="Tahoma"/>
              </a:rPr>
              <a:t>D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= Diabè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ff99"/>
                </a:solidFill>
                <a:latin typeface="Tahoma"/>
              </a:rPr>
              <a:t>S</a:t>
            </a:r>
            <a:r>
              <a:rPr b="1" lang="fr-FR" sz="2000" spc="-1" strike="noStrike" baseline="-25000">
                <a:solidFill>
                  <a:srgbClr val="99ff99"/>
                </a:solidFill>
                <a:latin typeface="Tahoma"/>
              </a:rPr>
              <a:t>2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= Stroke (AIT / AV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86480" y="1932120"/>
            <a:ext cx="3013920" cy="3682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items – score de 0 à 6 /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55760" y="1341360"/>
            <a:ext cx="62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2929"/>
                </a:solidFill>
                <a:latin typeface="Tahoma"/>
              </a:rPr>
              <a:t>Ne concerne pas les arythmies sur valvulopathie mitr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9448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r EMP -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bbd71"/>
                </a:solidFill>
                <a:latin typeface="Arial"/>
              </a:rPr>
              <a:t>Anticoagulation (3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11280" y="1477800"/>
          <a:ext cx="7632720" cy="447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77800"/>
                    <a:ext cx="7632720" cy="44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4572000" y="2492280"/>
            <a:ext cx="17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3300"/>
                </a:solidFill>
                <a:latin typeface="Tahoma"/>
              </a:rPr>
              <a:t>AVC hémor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1700280"/>
            <a:ext cx="1150920" cy="3319560"/>
          </a:xfrm>
          <a:prstGeom prst="rect">
            <a:avLst/>
          </a:prstGeom>
          <a:solidFill>
            <a:srgbClr val="f8a5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3640" y="6005520"/>
            <a:ext cx="2816280" cy="520560"/>
          </a:xfrm>
          <a:prstGeom prst="rect">
            <a:avLst/>
          </a:prstGeom>
          <a:gradFill rotWithShape="0">
            <a:gsLst>
              <a:gs pos="0">
                <a:srgbClr val="ffcc66">
                  <a:alpha val="39215"/>
                </a:srgbClr>
              </a:gs>
              <a:gs pos="100000">
                <a:srgbClr val="755e2f">
                  <a:alpha val="3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INR cible = 2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1700280"/>
            <a:ext cx="1019160" cy="819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435640" y="2924280"/>
            <a:ext cx="201600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5003640" y="2936880"/>
            <a:ext cx="9367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1692360" y="2924280"/>
          <a:ext cx="888840" cy="108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2924280"/>
                    <a:ext cx="88884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 flipV="1">
            <a:off x="1654200" y="1699920"/>
            <a:ext cx="0" cy="33130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24000" y="2492280"/>
            <a:ext cx="719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681200" y="1746360"/>
            <a:ext cx="1019160" cy="819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547640" y="25574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3300"/>
                </a:solidFill>
                <a:latin typeface="Tahoma"/>
              </a:rPr>
              <a:t>AVC is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2292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Dr EMP - 12.01.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41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23:16:26Z</dcterms:created>
  <dc:creator>mpretori</dc:creator>
  <dc:description/>
  <dc:language>en-US</dc:language>
  <cp:lastModifiedBy>mpretori</cp:lastModifiedBy>
  <dcterms:modified xsi:type="dcterms:W3CDTF">2008-01-11T16:04:29Z</dcterms:modified>
  <cp:revision>17</cp:revision>
  <dc:subject/>
  <dc:title>Arythmies atriales &amp; Anticoagulation</dc:title>
</cp:coreProperties>
</file>