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5D5-B1E8-4F2D-A9FD-6104D296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119-0BE3-482F-93E3-1E464866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1D2-CA42-40E3-BD5D-4686F296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A3F-4A62-45D2-B03F-549461E4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6A55-4DC8-4FD6-877A-A063DDC7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A253-D01A-4643-9F2E-B76839A3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F150-D3EA-4E6C-B8B0-CE608265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BB0D-7703-48F2-98DC-F2DA26E5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DA27-8D80-4CFC-9129-6684625E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48D5-E098-49F9-B1FD-F495C306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5165-0E00-4473-B68F-548D23E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6D4-B518-45CA-A551-9B8C0B8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B346-DB91-4617-9E3B-427842BD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F1B0-DF27-474A-87F2-2F43E3D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9866-103B-4FFF-835B-69A1FB42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6D2C-F2AD-47F5-A162-72909DAC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68B7-E097-428B-953A-8E83FD24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5F9-4F03-4CD7-B4DD-7B3FD47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DEF-6B36-4C3E-B01D-8D48AB84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BDC-25EA-40F6-B493-89EB96F8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198-B8E7-4B47-AF0C-522C6CC9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9D6-894B-47C3-B864-3EAAC443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A3D-C76A-4C0B-A5AF-4AC36D91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7B0-513D-4471-91F1-1EEE063A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767-4961-4AAE-8412-F75014D8EE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1AF4-8510-49E2-85C5-565251BD96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Les malheurs d’une valvulopat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 N DE LAGUEREN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rvice de Cardiolo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DOU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189000"/>
            <a:ext cx="4599000" cy="337320"/>
          </a:xfrm>
          <a:prstGeom prst="rect">
            <a:avLst/>
          </a:prstGeom>
          <a:gradFill rotWithShape="0">
            <a:gsLst>
              <a:gs pos="0">
                <a:srgbClr val="ffff99">
                  <a:alpha val="38039"/>
                </a:srgbClr>
              </a:gs>
              <a:gs pos="50000">
                <a:srgbClr val="757546"/>
              </a:gs>
              <a:gs pos="100000">
                <a:srgbClr val="ffff99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19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 Unicode MS"/>
              </a:rPr>
              <a:t>ème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journée de la SMD - 12 janvier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85040" y="6610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-612720" y="27000"/>
          <a:ext cx="104410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2720" y="27000"/>
                    <a:ext cx="104410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V="1">
            <a:off x="3780000" y="3860280"/>
            <a:ext cx="2087280" cy="223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76720" y="4508640"/>
            <a:ext cx="71280" cy="1366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2340000" y="4076640"/>
            <a:ext cx="287280" cy="19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587700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6160" y="61578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gé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me G est opérée avec remplacement valvulaire Ao par prothèse mécanique St Ju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imo implantation d’un PM double chambre pour les trbles conducti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21844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8 mois plus tard elle vient vous voir: asthénie, pâleur cutanéo-muqueuse, selles noi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’Hb est à 8g/d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Vous prescrivez une FO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3080" y="4724280"/>
            <a:ext cx="934920" cy="505080"/>
          </a:xfrm>
          <a:custGeom>
            <a:avLst/>
            <a:gdLst>
              <a:gd name="textAreaLeft" fmla="*/ 11664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Faut il faire une prophylaxie de l’ endocardite infectieu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98280"/>
            <a:ext cx="829152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hylaxie de l’endocardite infectieuse: nouvelles recommandatio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5589360"/>
            <a:ext cx="82803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ilson et al in Circulation. 2007;116:1736-17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phylaxie: 4 con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thèse valvulaire cardia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TCD d’infection endocardit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ertaines cardiopathies congén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ardiopathies cyanogènes non réparé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ans les 6 mois postop d’une chirurgie correctr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ersistance d’une fuite/défect après chirurgie (gène à l’endothélialis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planté cardiaque avec valvulopath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phylaxie: quels ges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tervention dentaire av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nipulation tissu gingival et/ou parodo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nipulation muqueuse buc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cision/biopsie muqueuse respirato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ples: biopsie sous fibro, amygdalectomi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s d’indication dans fibroscopie bronchique si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tervention chirurgicale sur tissus mous infecté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phylaxie: non recommandé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ions gastro-intestinales (FOGD, coloscopie, endoscopie hépato biliai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ions génito-urinai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QUEMENT EN L’ABSENCE D’INFECTION DE CES TIS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60360" y="4508640"/>
            <a:ext cx="863640" cy="649080"/>
          </a:xfrm>
          <a:custGeom>
            <a:avLst/>
            <a:gdLst>
              <a:gd name="textAreaLeft" fmla="*/ 108000 w 863640"/>
              <a:gd name="textAreaRight" fmla="*/ 756000 w 86364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rmes en ca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91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ptocoques non groupables, d'origine buccodentaire ou rhinopharyngée </a:t>
            </a:r>
            <a:r>
              <a:rPr b="0" lang="fr-FR" sz="2800" spc="-1" strike="noStrike">
                <a:solidFill>
                  <a:srgbClr val="ff6f6f"/>
                </a:solidFill>
                <a:latin typeface="Arial"/>
              </a:rPr>
              <a:t>50%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eptocoques groupables, groupe D : strepto bovis, enterocoques (fæcalis et devians) </a:t>
            </a:r>
            <a:r>
              <a:rPr b="0" lang="fr-FR" sz="2800" spc="-1" strike="noStrike">
                <a:solidFill>
                  <a:srgbClr val="ff6f6f"/>
                </a:solidFill>
                <a:latin typeface="Arial"/>
              </a:rPr>
              <a:t>12%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aphylocoques (aureus, epidermidis) </a:t>
            </a:r>
            <a:r>
              <a:rPr b="0" lang="fr-FR" sz="2800" spc="-1" strike="noStrike">
                <a:solidFill>
                  <a:srgbClr val="ff6f6f"/>
                </a:solidFill>
                <a:latin typeface="Arial"/>
              </a:rPr>
              <a:t>20%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Germes divers </a:t>
            </a:r>
            <a:r>
              <a:rPr b="0" lang="fr-FR" sz="2800" spc="-1" strike="noStrike">
                <a:solidFill>
                  <a:srgbClr val="ff6f6f"/>
                </a:solidFill>
                <a:latin typeface="Arial"/>
              </a:rPr>
              <a:t>10%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émoculture négative </a:t>
            </a:r>
            <a:r>
              <a:rPr b="0" lang="fr-FR" sz="2800" spc="-1" strike="noStrike">
                <a:solidFill>
                  <a:srgbClr val="ff6f6f"/>
                </a:solidFill>
                <a:latin typeface="Arial"/>
              </a:rPr>
              <a:t>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002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Quel trai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9280" y="1197000"/>
          <a:ext cx="8785440" cy="5546880"/>
        </p:xfrm>
        <a:graphic>
          <a:graphicData uri="http://schemas.openxmlformats.org/drawingml/2006/table">
            <a:tbl>
              <a:tblPr/>
              <a:tblGrid>
                <a:gridCol w="1224000"/>
                <a:gridCol w="4248360"/>
                <a:gridCol w="1441440"/>
                <a:gridCol w="1871640"/>
              </a:tblGrid>
              <a:tr h="445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mple dose 30 à 60minutes avant procéd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moléc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Adul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enf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oxicil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g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mg/k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picilline ou cefazoline/ceftriaxone (rocephi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®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gr IM/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gr IM/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mg/kg IM/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Allergie</a:t>
                      </a:r>
                      <a:r>
                        <a:rPr b="0" lang="fr-F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pé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(P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phalexine (kefora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®)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u clindamycine (dalaci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®)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u azithromycine/clarithromycine (zecl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®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g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m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m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mg/k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g/k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mg/k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6f6f"/>
                          </a:solidFill>
                          <a:latin typeface="Arial"/>
                        </a:rPr>
                        <a:t>Allergie péni (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fazoline/ceftriaxone ou clindamyc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g IM/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mg IM/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mg/kg IM/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g/kg IM/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385040" y="4428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S CLINI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me G, 28ans, marocaine, cs pour AE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TCD: RAo post RAA connu suiv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linique: TA 13/4, souffle syst connu + composante diast non con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CG: c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8 mois plus tard Mme G revient vous voir: bronchite traînante depuis 2 semaines, sueurs noctur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iolog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ono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FS normale, 12000 G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P 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ora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-324000" y="-81000"/>
          <a:ext cx="9649080" cy="71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-81000"/>
                    <a:ext cx="964908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6360" y="692280"/>
          <a:ext cx="914400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692280"/>
                    <a:ext cx="914400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0" y="3135240"/>
          <a:ext cx="3635280" cy="346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135240"/>
                    <a:ext cx="3635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ser à  l’endocardite sur sonde de PM devant bronchites traînantes ou à répétition++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0 mois plus tard Mme G vient vous voir car elle est enceinte de 2 mois. Comment gérez vous les anticoagula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331920"/>
            <a:ext cx="8532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esse et prothèse valvula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AVK: proscr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2ème moitié du 1er trimestre (risque malformati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2 dernières semaines (risque hémorragiqu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 CI pas l’allait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BPM: place grandiss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 SC/j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nti-Xa: 0.7-1.2UI/ml 4h après inj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lais HNF 48h avant accouchement programm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637524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’après Bonow et al JACC 2006; 48: 598-6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85040" y="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CG habitu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647720"/>
          <a:ext cx="9144000" cy="44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7720"/>
                    <a:ext cx="9144000" cy="44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CG du jou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841400"/>
          <a:ext cx="914400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1400"/>
                    <a:ext cx="91440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 flipV="1">
            <a:off x="3780000" y="3860640"/>
            <a:ext cx="57600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Vous adressez la patiente à votre confrère cardiologu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Echocardiographi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692280"/>
          <a:ext cx="914400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84360" y="1628640"/>
            <a:ext cx="172692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égétation 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2133720"/>
            <a:ext cx="2305080" cy="86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700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6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9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0360" y="28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o a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260280"/>
          <a:ext cx="914400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00000" y="692280"/>
            <a:ext cx="86364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08720" y="1773360"/>
            <a:ext cx="129564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cè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112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45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ardite aortique délabrante avec abcès de l’ann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-162000"/>
          <a:ext cx="10764720" cy="70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62000"/>
                    <a:ext cx="10764720" cy="70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27280" y="62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o a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386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ve mit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2205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égé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82920" y="2421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85040" y="6583320"/>
            <a:ext cx="17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 NDLG –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2:21:27Z</dcterms:created>
  <dc:creator>Nicolas Grozieu de le Garenne</dc:creator>
  <dc:description/>
  <dc:language>en-US</dc:language>
  <cp:lastModifiedBy>mpretori</cp:lastModifiedBy>
  <dcterms:modified xsi:type="dcterms:W3CDTF">2008-01-11T15:57:56Z</dcterms:modified>
  <cp:revision>53</cp:revision>
  <dc:subject/>
  <dc:title>Diapositive 1</dc:title>
</cp:coreProperties>
</file>