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26B7-DBBB-4B71-A234-A8E38AB8CE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presents another difference between the HFSA guideline and the AHA/ACC’s in that this is not as strong a recomme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placement, LV function should be re-assessed, ideally after 3-6 months of optimal medical thera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come primarily from SHEP study. Data regarding type 2 diabetes come from UKPDS stu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doses: Spironolactone 12.5 mg PO QD (or 6.25 mg in high risk patient); Epleronone 25 mg Q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 doses: Advance spironolactone at 4 weeks to 25mg PO QD;Advance epleronone at 4 weeks to 50 mg Q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void higher d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181-3462-4EB5-BBD1-83C2DB9D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0D0-A36E-4E07-8E92-0F2BFB53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AA0-642B-4229-83A8-87C670CA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3D8-8234-497E-96AC-515523F4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EED4-E374-4BA9-B835-E6030804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430-FC89-413E-8749-1E707D8B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F75-A27E-445B-87B7-0DDC2FC3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7CC1-F330-477D-B169-550E5DA0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D31-EE00-4138-91E8-7AC5B697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4CF1-C95B-4570-BA57-3E112C97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066-C6D5-4766-83CD-EB4E76B3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483-C315-484F-8859-A1EFBC4A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6C50-BB94-4AD6-A772-3DE7D53D5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7160" y="387000"/>
            <a:ext cx="8688240" cy="2639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TRAITEMENT DE L’INSUFFISANCE CARDIAQUE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5240" y="3801960"/>
            <a:ext cx="8629560" cy="142416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 Olivier JABOURECK 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e de cardiologie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 DOUAI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7340040" y="655308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46080"/>
            <a:ext cx="4599000" cy="33732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Unicode MS"/>
              </a:rPr>
              <a:t>19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 Unicode MS"/>
              </a:rPr>
              <a:t>ème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</a:rPr>
              <a:t> journée de la SMD - 12 janvier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ahoma"/>
              </a:rPr>
              <a:t>BN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28680" y="1052640"/>
            <a:ext cx="3989160" cy="51274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594480" y="4714920"/>
            <a:ext cx="2114640" cy="140976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4359240" y="1279440"/>
            <a:ext cx="2759040" cy="4810320"/>
            <a:chOff x="4359240" y="1279440"/>
            <a:chExt cx="2759040" cy="4810320"/>
          </a:xfrm>
        </p:grpSpPr>
        <p:sp>
          <p:nvSpPr>
            <p:cNvPr id="310" name=""/>
            <p:cNvSpPr/>
            <p:nvPr/>
          </p:nvSpPr>
          <p:spPr>
            <a:xfrm>
              <a:off x="5740200" y="2193840"/>
              <a:ext cx="132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10040" y="3782880"/>
              <a:ext cx="130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ahoma"/>
                </a:rPr>
                <a:t>4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359240" y="1279440"/>
              <a:ext cx="1730160" cy="4810320"/>
              <a:chOff x="4359240" y="1279440"/>
              <a:chExt cx="1730160" cy="4810320"/>
            </a:xfrm>
          </p:grpSpPr>
          <p:sp>
            <p:nvSpPr>
              <p:cNvPr id="313" name=""/>
              <p:cNvSpPr/>
              <p:nvPr/>
            </p:nvSpPr>
            <p:spPr>
              <a:xfrm flipH="1">
                <a:off x="5190840" y="1279440"/>
                <a:ext cx="28800" cy="4810320"/>
              </a:xfrm>
              <a:prstGeom prst="line">
                <a:avLst/>
              </a:prstGeom>
              <a:ln w="12708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4359240" y="2377800"/>
                <a:ext cx="1730160" cy="1617840"/>
                <a:chOff x="4359240" y="2377800"/>
                <a:chExt cx="1730160" cy="1617840"/>
              </a:xfrm>
            </p:grpSpPr>
            <p:sp>
              <p:nvSpPr>
                <p:cNvPr id="315" name=""/>
                <p:cNvSpPr/>
                <p:nvPr/>
              </p:nvSpPr>
              <p:spPr>
                <a:xfrm flipV="1">
                  <a:off x="4881600" y="2377800"/>
                  <a:ext cx="633240" cy="14040"/>
                </a:xfrm>
                <a:prstGeom prst="line">
                  <a:avLst/>
                </a:prstGeom>
                <a:ln w="381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965480" y="3995640"/>
                  <a:ext cx="549360" cy="0"/>
                </a:xfrm>
                <a:prstGeom prst="line">
                  <a:avLst/>
                </a:prstGeom>
                <a:ln w="381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359240" y="2847240"/>
                  <a:ext cx="1730160" cy="6426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cap="rnd" w="38160">
                  <a:solidFill>
                    <a:srgbClr val="8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Tahoma"/>
                    </a:rPr>
                    <a:t>ZONE D’OMBR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7005600" y="892080"/>
            <a:ext cx="1457280" cy="1981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325640" y="655308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85960" y="615636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Attention nt-pro BN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830240" y="1270080"/>
            <a:ext cx="6164280" cy="47736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96880" y="378000"/>
            <a:ext cx="79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Valeurs BNP pour la pr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27440" y="655308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87560" y="460440"/>
            <a:ext cx="6968880" cy="73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Hypotension dans l ’I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1098720" y="2052720"/>
            <a:ext cx="694656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Hypotension Asymptomati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105920" y="2631960"/>
            <a:ext cx="6303960" cy="2180160"/>
            <a:chOff x="1105920" y="2631960"/>
            <a:chExt cx="6303960" cy="2180160"/>
          </a:xfrm>
        </p:grpSpPr>
        <p:sp>
          <p:nvSpPr>
            <p:cNvPr id="327" name=""/>
            <p:cNvSpPr/>
            <p:nvPr/>
          </p:nvSpPr>
          <p:spPr>
            <a:xfrm>
              <a:off x="1105920" y="3743280"/>
              <a:ext cx="6303960" cy="1068840"/>
            </a:xfrm>
            <a:prstGeom prst="rect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7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200" spc="-1" strike="noStrike">
                  <a:solidFill>
                    <a:srgbClr val="000000"/>
                  </a:solidFill>
                  <a:latin typeface="Tahoma"/>
                </a:rPr>
                <a:t>PAS DE REDUCTION des IE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3200" spc="-1" strike="noStrike">
                  <a:solidFill>
                    <a:srgbClr val="000000"/>
                  </a:solidFill>
                  <a:latin typeface="Tahoma"/>
                </a:rPr>
                <a:t>pas de traitement spécif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8" name=""/>
            <p:cNvCxnSpPr>
              <a:stCxn id="325" idx="2"/>
              <a:endCxn id="327" idx="0"/>
            </p:cNvCxnSpPr>
            <p:nvPr/>
          </p:nvCxnSpPr>
          <p:spPr>
            <a:xfrm flipV="1" rot="10800000">
              <a:off x="4571280" y="2631600"/>
              <a:ext cx="1080" cy="1092960"/>
            </a:xfrm>
            <a:prstGeom prst="bentConnector2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</p:cxnSp>
      </p:grpSp>
      <p:sp>
        <p:nvSpPr>
          <p:cNvPr id="329" name=""/>
          <p:cNvSpPr/>
          <p:nvPr/>
        </p:nvSpPr>
        <p:spPr>
          <a:xfrm>
            <a:off x="1963080" y="5540400"/>
            <a:ext cx="52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0000"/>
                </a:solidFill>
                <a:uFillTx/>
                <a:latin typeface="Tahoma"/>
              </a:rPr>
              <a:t>si symptomatique et persista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27440" y="655308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9145440" cy="49536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-152280" y="0"/>
            <a:ext cx="9296280" cy="6858000"/>
            <a:chOff x="-152280" y="0"/>
            <a:chExt cx="9296280" cy="6858000"/>
          </a:xfrm>
        </p:grpSpPr>
        <p:sp>
          <p:nvSpPr>
            <p:cNvPr id="33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821680" y="103320"/>
              <a:ext cx="362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Arial"/>
                </a:rPr>
                <a:t>HFSA 2006 Practice Guideline (9.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00920" y="482760"/>
              <a:ext cx="6181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ff00"/>
                  </a:solidFill>
                  <a:latin typeface="Arial"/>
                </a:rPr>
                <a:t>Traitement non pharmacologique 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02880" y="1092240"/>
              <a:ext cx="5784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ffff00"/>
                  </a:solidFill>
                  <a:latin typeface="Arial"/>
                </a:rPr>
                <a:t>Stimulation biventriculai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51280" y="19400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26160" y="194004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68560" y="226836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19520" y="2268360"/>
              <a:ext cx="1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46920" y="226836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15920" y="2825640"/>
              <a:ext cx="124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ffff00"/>
                  </a:solidFill>
                  <a:latin typeface="Wingdings"/>
                  <a:ea typeface="Wingdings"/>
                </a:rPr>
                <a:t>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55680" y="282420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15920" y="3341520"/>
              <a:ext cx="124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ffff00"/>
                  </a:solidFill>
                  <a:latin typeface="Wingdings"/>
                  <a:ea typeface="Wingdings"/>
                </a:rPr>
                <a:t>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79640" y="334008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59400" y="331308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11640" y="334008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15920" y="3854520"/>
              <a:ext cx="124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ffff00"/>
                  </a:solidFill>
                  <a:latin typeface="Wingdings"/>
                  <a:ea typeface="Wingdings"/>
                </a:rPr>
                <a:t>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26000" y="385272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46720" y="3825720"/>
              <a:ext cx="1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91360" y="385272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79600" y="413856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15920" y="4653000"/>
              <a:ext cx="124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ffff00"/>
                  </a:solidFill>
                  <a:latin typeface="Wingdings"/>
                  <a:ea typeface="Wingdings"/>
                </a:rPr>
                <a:t>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14680" y="465120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75120" y="465120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45040" y="465120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16400" y="465120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91280" y="465120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59120" y="494028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78600" y="5487840"/>
              <a:ext cx="2169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ffff"/>
                  </a:solidFill>
                  <a:latin typeface="Arial"/>
                </a:rPr>
                <a:t>Niveau d’Evidence =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27200" y="653112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Adams KF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89240" y="6531120"/>
              <a:ext cx="58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Lindenfe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08800" y="6531120"/>
              <a:ext cx="205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J, et al. HFSA 2006 Comprehensiv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36200" y="6683400"/>
              <a:ext cx="264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Heart Failure Guideline. J Card Fail 2006;12:e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71040" y="6683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16040" y="6683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e122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3"/>
            <a:stretch/>
          </p:blipFill>
          <p:spPr>
            <a:xfrm>
              <a:off x="-152280" y="0"/>
              <a:ext cx="126720" cy="12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426960" y="1782720"/>
            <a:ext cx="808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Un stimulation biventriculaire </a:t>
            </a:r>
            <a:r>
              <a:rPr b="0" lang="fr-FR" sz="2400" spc="-1" strike="noStrike">
                <a:solidFill>
                  <a:srgbClr val="ffff00"/>
                </a:solidFill>
                <a:latin typeface="Tahoma"/>
              </a:rPr>
              <a:t>doit être envisagé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chez les patients qui présentent </a:t>
            </a:r>
            <a:r>
              <a:rPr b="1" i="1" lang="fr-FR" sz="2400" spc="-1" strike="noStrike">
                <a:solidFill>
                  <a:srgbClr val="ffffff"/>
                </a:solidFill>
                <a:latin typeface="Tahoma"/>
              </a:rPr>
              <a:t>tous les critères suivants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82600" y="2720880"/>
            <a:ext cx="70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IC restant symptomatique (NYHA III) malgré un traitement médical 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25160" y="327960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QRS larges &gt; 120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87440" y="3797280"/>
            <a:ext cx="686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ysfonction VG sévère (FEVG ≤ 35% et dilatation VG &gt; 55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55760" y="4610160"/>
            <a:ext cx="70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Rythme sinu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3168720" y="5330880"/>
            <a:ext cx="706320" cy="15271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0" y="5543640"/>
            <a:ext cx="2720880" cy="10332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4322880" y="5645160"/>
            <a:ext cx="903240" cy="9032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755440" y="5835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7520" y="5835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6560" y="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ahoma"/>
              </a:rPr>
              <a:t>Le tueur dans l’omb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693800" y="1978200"/>
            <a:ext cx="5881680" cy="45543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2590920" y="3833640"/>
            <a:ext cx="4098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a Mort Subite ryth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41480" y="655308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9145440" cy="495360"/>
          </a:xfrm>
          <a:prstGeom prst="rect">
            <a:avLst/>
          </a:prstGeom>
          <a:ln w="0">
            <a:noFill/>
          </a:ln>
        </p:spPr>
      </p:pic>
      <p:grpSp>
        <p:nvGrpSpPr>
          <p:cNvPr id="385" name=""/>
          <p:cNvGrpSpPr/>
          <p:nvPr/>
        </p:nvGrpSpPr>
        <p:grpSpPr>
          <a:xfrm>
            <a:off x="-152280" y="0"/>
            <a:ext cx="9296280" cy="6858000"/>
            <a:chOff x="-152280" y="0"/>
            <a:chExt cx="9296280" cy="6858000"/>
          </a:xfrm>
        </p:grpSpPr>
        <p:sp>
          <p:nvSpPr>
            <p:cNvPr id="3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2597400" y="73080"/>
              <a:ext cx="407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Arial"/>
                </a:rPr>
                <a:t>HFSA 2006 Practice Guideline (9.1, 9.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59600" y="455760"/>
              <a:ext cx="6069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ff00"/>
                  </a:solidFill>
                  <a:latin typeface="Arial"/>
                </a:rPr>
                <a:t>Traitement non pharmacologiqu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43040" y="1122480"/>
              <a:ext cx="4289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ffff00"/>
                  </a:solidFill>
                  <a:latin typeface="Arial"/>
                </a:rPr>
                <a:t>DAI prophylactiqu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86200" y="20685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70680" y="206856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89960" y="20685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41840" y="23241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47840" y="258300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10160" y="3057480"/>
              <a:ext cx="11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Wingdings"/>
                  <a:ea typeface="Wingdings"/>
                </a:rPr>
                <a:t>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27320" y="305748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51680" y="305748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88160" y="305748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43040" y="330372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13040" y="330372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00720" y="33037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35560" y="32767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54600" y="330372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10160" y="3759120"/>
              <a:ext cx="11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Wingdings"/>
                  <a:ea typeface="Wingdings"/>
                </a:rPr>
                <a:t>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127320" y="375912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91120" y="375912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34240" y="375912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70080" y="4003560"/>
              <a:ext cx="1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65320" y="4003560"/>
              <a:ext cx="1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94120" y="400356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26160" y="400356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11560" y="4003560"/>
              <a:ext cx="1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05320" y="4003560"/>
              <a:ext cx="1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54440" y="4460760"/>
              <a:ext cx="2722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ffffff"/>
                  </a:solidFill>
                  <a:latin typeface="Arial"/>
                </a:rPr>
                <a:t>Niveau d’Evidence =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95440" y="515304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21160" y="515304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58120" y="51530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186760" y="51530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65640" y="54086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58960" y="566748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65880" y="5680080"/>
              <a:ext cx="279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ffffff"/>
                  </a:solidFill>
                  <a:latin typeface="Arial"/>
                </a:rPr>
                <a:t>Niveau d’Evidence = 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28640" y="6531120"/>
              <a:ext cx="79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Adapted from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27200" y="653112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Adams KF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89240" y="6531120"/>
              <a:ext cx="58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Lindenfe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08800" y="6531120"/>
              <a:ext cx="205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J, et al. HFSA 2006 Comprehensiv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36200" y="6683400"/>
              <a:ext cx="264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Heart Failure Guideline. J Card Fail 2006;12:e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71040" y="6683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16040" y="6683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e122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" descr=""/>
            <p:cNvPicPr/>
            <p:nvPr/>
          </p:nvPicPr>
          <p:blipFill>
            <a:blip r:embed="rId3"/>
            <a:stretch/>
          </p:blipFill>
          <p:spPr>
            <a:xfrm>
              <a:off x="-152280" y="0"/>
              <a:ext cx="126720" cy="12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1" name=""/>
          <p:cNvSpPr/>
          <p:nvPr/>
        </p:nvSpPr>
        <p:spPr>
          <a:xfrm>
            <a:off x="630360" y="1712880"/>
            <a:ext cx="764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Unicode MS"/>
              </a:rPr>
              <a:t>Chez les patients sous traitement médical optimal (depuis plus de 3 à 6 mois) porteurs d’une IC d’origine ischémique (IDM de plus de 1 mois) ou n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22200" y="3008160"/>
            <a:ext cx="715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L’implantation prophylactique d’un DAI </a:t>
            </a:r>
            <a:r>
              <a:rPr b="0" lang="fr-FR" sz="2000" spc="-1" strike="noStrike">
                <a:solidFill>
                  <a:srgbClr val="ffff00"/>
                </a:solidFill>
                <a:latin typeface="Arial Unicode MS"/>
              </a:rPr>
              <a:t>doit être envisagée</a:t>
            </a: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si classe </a:t>
            </a:r>
            <a:r>
              <a:rPr b="1" lang="fr-FR" sz="2000" spc="-1" strike="noStrike">
                <a:solidFill>
                  <a:srgbClr val="ffffff"/>
                </a:solidFill>
                <a:latin typeface="Arial Unicode MS"/>
              </a:rPr>
              <a:t>II ou III</a:t>
            </a: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de la NYHA et </a:t>
            </a:r>
            <a:r>
              <a:rPr b="1" lang="fr-FR" sz="2000" spc="-1" strike="noStrike">
                <a:solidFill>
                  <a:srgbClr val="ffffff"/>
                </a:solidFill>
                <a:latin typeface="Arial Unicode MS"/>
              </a:rPr>
              <a:t>FEVG </a:t>
            </a:r>
            <a:r>
              <a:rPr b="1" lang="fr-FR" sz="2000" spc="-1" strike="noStrike">
                <a:solidFill>
                  <a:srgbClr val="ffffff"/>
                </a:solidFill>
                <a:latin typeface="Microsoft Sans Serif"/>
              </a:rPr>
              <a:t>≤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63600" y="3681360"/>
            <a:ext cx="71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L’implantation prophylactique d’un DAI </a:t>
            </a:r>
            <a:r>
              <a:rPr b="0" lang="fr-FR" sz="2000" spc="-1" strike="noStrike">
                <a:solidFill>
                  <a:srgbClr val="ffff00"/>
                </a:solidFill>
                <a:latin typeface="Arial Unicode MS"/>
              </a:rPr>
              <a:t>peut être envisagée</a:t>
            </a: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si classe </a:t>
            </a:r>
            <a:r>
              <a:rPr b="1" lang="fr-FR" sz="2000" spc="-1" strike="noStrike">
                <a:solidFill>
                  <a:srgbClr val="ffffff"/>
                </a:solidFill>
                <a:latin typeface="Arial Unicode MS"/>
              </a:rPr>
              <a:t>II ou III</a:t>
            </a: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de la NYHA et </a:t>
            </a:r>
            <a:r>
              <a:rPr b="1" lang="fr-FR" sz="2000" spc="-1" strike="noStrike">
                <a:solidFill>
                  <a:srgbClr val="ffffff"/>
                </a:solidFill>
                <a:latin typeface="Arial Unicode MS"/>
              </a:rPr>
              <a:t>FEVG 31-3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00320" y="4726080"/>
            <a:ext cx="715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L’implantation concomitante d’un DAI </a:t>
            </a:r>
            <a:r>
              <a:rPr b="0" lang="fr-FR" sz="2000" spc="-1" strike="noStrike">
                <a:solidFill>
                  <a:srgbClr val="ffff00"/>
                </a:solidFill>
                <a:latin typeface="Arial Unicode MS"/>
              </a:rPr>
              <a:t>doit être envisagée</a:t>
            </a: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si appareillage avec un système de resynchronisation chez un patient en classe </a:t>
            </a:r>
            <a:r>
              <a:rPr b="1" lang="fr-FR" sz="2000" spc="-1" strike="noStrike">
                <a:solidFill>
                  <a:srgbClr val="ffffff"/>
                </a:solidFill>
                <a:latin typeface="Arial Unicode MS"/>
              </a:rPr>
              <a:t>III ou IV</a:t>
            </a: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de la NY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58680" y="4716360"/>
            <a:ext cx="3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7920" y="5735520"/>
            <a:ext cx="1751040" cy="11224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306560" y="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ahoma"/>
              </a:rPr>
              <a:t>TRAITEMENT NON PHARMACOLOGIQU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867120" y="1916280"/>
          <a:ext cx="4979880" cy="46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7120" y="1916280"/>
                    <a:ext cx="49798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128560" y="3807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onde 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433280" y="609300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onde 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24640" y="193356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onde V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974840" y="4148280"/>
            <a:ext cx="787320" cy="420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flipV="1">
            <a:off x="6222960" y="5355720"/>
            <a:ext cx="1092240" cy="816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7540200" y="2278080"/>
            <a:ext cx="677880" cy="134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0" y="1801800"/>
            <a:ext cx="3857760" cy="48229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7327440" y="655308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979640" y="1074600"/>
            <a:ext cx="1687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I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59080" y="1074600"/>
            <a:ext cx="22017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Diuré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81560" y="846000"/>
            <a:ext cx="18655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-bloqu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110360" y="682560"/>
            <a:ext cx="1763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imes New Roman"/>
              </a:rPr>
              <a:t>Aldactone ou éplerenone (post ID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5240" y="1911240"/>
            <a:ext cx="22129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Asympto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5240" y="3092400"/>
            <a:ext cx="22129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NYH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5240" y="4227480"/>
            <a:ext cx="22129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NYH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5240" y="5356080"/>
            <a:ext cx="221292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NYHA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7960" y="228600"/>
            <a:ext cx="86695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Traitement de l ’IC (dysfonction systolique): Résum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94320" y="61596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ahoma"/>
              </a:rPr>
              <a:t>Eur Heart J 2001; 22: 1527-15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92360" y="1909800"/>
            <a:ext cx="61768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O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  </a:t>
            </a:r>
            <a:r>
              <a:rPr b="1" lang="fr-BE" sz="2400" spc="-1" strike="noStrike">
                <a:solidFill>
                  <a:srgbClr val="800000"/>
                </a:solidFill>
                <a:latin typeface="Tahoma"/>
                <a:ea typeface="Times New Roman"/>
              </a:rPr>
              <a:t>N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      Post – IDM        </a:t>
            </a:r>
            <a:r>
              <a:rPr b="1" lang="fr-BE" sz="2400" spc="-1" strike="noStrike">
                <a:solidFill>
                  <a:srgbClr val="800000"/>
                </a:solidFill>
                <a:latin typeface="Tahoma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92360" y="3083040"/>
            <a:ext cx="617688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O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        O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      O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fr-BE" sz="2400" spc="-1" strike="noStrike">
                <a:solidFill>
                  <a:srgbClr val="8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(réten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92360" y="4206960"/>
            <a:ext cx="61768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O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        O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      O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     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(atten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90920" y="5316480"/>
            <a:ext cx="61768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O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        O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      O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     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(atten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25600" y="1050840"/>
            <a:ext cx="0" cy="54118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6280" y="1793880"/>
            <a:ext cx="876168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6280" y="2962440"/>
            <a:ext cx="8761680" cy="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6280" y="5249880"/>
            <a:ext cx="8761680" cy="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6280" y="4118040"/>
            <a:ext cx="8761680" cy="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327440" y="655308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475000" y="1004760"/>
            <a:ext cx="1687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Candesar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64080" y="1004760"/>
            <a:ext cx="1687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Digox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5240" y="1911240"/>
            <a:ext cx="22701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Asympto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5240" y="3092400"/>
            <a:ext cx="22129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NYH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5240" y="4227480"/>
            <a:ext cx="22129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NYH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5240" y="5356080"/>
            <a:ext cx="221292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NYHA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47040" y="61596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ahoma"/>
              </a:rPr>
              <a:t>Eur Heart J 2001; 22: 1527-15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87720" y="1909800"/>
            <a:ext cx="5497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800000"/>
                </a:solidFill>
                <a:latin typeface="Tahoma"/>
                <a:ea typeface="Times New Roman"/>
              </a:rPr>
              <a:t>N</a:t>
            </a:r>
            <a:r>
              <a:rPr b="1" lang="fr-BE" sz="2400" spc="-1" strike="noStrike">
                <a:solidFill>
                  <a:srgbClr val="800000"/>
                </a:solidFill>
                <a:latin typeface="Tahoma"/>
                <a:ea typeface="Times New Roman"/>
              </a:rPr>
              <a:t>	</a:t>
            </a:r>
            <a:r>
              <a:rPr b="1" lang="fr-BE" sz="2400" spc="-1" strike="noStrike">
                <a:solidFill>
                  <a:srgbClr val="800000"/>
                </a:solidFill>
                <a:latin typeface="Tahoma"/>
                <a:ea typeface="Times New Roman"/>
              </a:rPr>
              <a:t>          FA seulement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503440" y="2860560"/>
            <a:ext cx="1803600" cy="3198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FE&lt;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Intolé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IEC ou en addition au ttt par I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06280" y="1793880"/>
            <a:ext cx="6993000" cy="126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6280" y="2962440"/>
            <a:ext cx="6981840" cy="2376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593800" y="5225760"/>
            <a:ext cx="4789800" cy="1260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36920" y="4118040"/>
            <a:ext cx="2959200" cy="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166840" y="3013200"/>
            <a:ext cx="335160" cy="3260520"/>
          </a:xfrm>
          <a:custGeom>
            <a:avLst/>
            <a:gdLst>
              <a:gd name="textAreaLeft" fmla="*/ 0 w 335160"/>
              <a:gd name="textAreaRight" fmla="*/ 120960 w 335160"/>
              <a:gd name="textAreaTop" fmla="*/ 84960 h 3260520"/>
              <a:gd name="textAreaBottom" fmla="*/ 3175560 h 326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675320" y="3103560"/>
            <a:ext cx="44686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   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75320" y="4233960"/>
            <a:ext cx="42894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     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O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(hospit)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75320" y="5389560"/>
            <a:ext cx="42894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     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O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(hospit)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7960" y="228600"/>
            <a:ext cx="86695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Traitement de l ’IC (dysfonction systolique): Résum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27440" y="655308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450720" y="404640"/>
            <a:ext cx="8299440" cy="2837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Tahoma"/>
              </a:rPr>
              <a:t>« …La véritable esse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Tahoma"/>
              </a:rPr>
              <a:t>de la cardiologi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Tahoma"/>
              </a:rPr>
              <a:t>est de reconnaître l’ 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Tahoma"/>
              </a:rPr>
              <a:t>et de distingu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Tahoma"/>
              </a:rPr>
              <a:t>les différents stades de l ’ IC… 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2160" y="4307040"/>
            <a:ext cx="8955000" cy="173988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Copperplate Gothic Bold"/>
              </a:rPr>
              <a:t>Sir Thomas Lew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 u="sng">
                <a:solidFill>
                  <a:srgbClr val="000000"/>
                </a:solidFill>
                <a:uFillTx/>
                <a:latin typeface="Copperplate Gothic Bold"/>
              </a:rPr>
              <a:t>dans</a:t>
            </a:r>
            <a:r>
              <a:rPr b="1" lang="fr-BE" sz="3600" spc="-1" strike="noStrike">
                <a:solidFill>
                  <a:srgbClr val="000000"/>
                </a:solidFill>
                <a:latin typeface="Copperplate Gothic Bold"/>
              </a:rPr>
              <a:t>: Diseases of the heart </a:t>
            </a:r>
            <a:br>
              <a:rPr sz="3600"/>
            </a:br>
            <a:r>
              <a:rPr b="1" lang="fr-BE" sz="3600" spc="-1" strike="noStrike">
                <a:solidFill>
                  <a:srgbClr val="000000"/>
                </a:solidFill>
                <a:latin typeface="Copperplate Gothic Bold"/>
              </a:rPr>
              <a:t>19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327440" y="655308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9145440" cy="4953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-152280" y="0"/>
            <a:ext cx="9296280" cy="6858000"/>
            <a:chOff x="-152280" y="0"/>
            <a:chExt cx="9296280" cy="685800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591200" y="630360"/>
              <a:ext cx="6177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00"/>
                  </a:solidFill>
                  <a:latin typeface="Arial"/>
                </a:rPr>
                <a:t>Traiter l’HTA pour prévenir l’I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0600" y="1670040"/>
              <a:ext cx="29376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ffffff"/>
                  </a:solidFill>
                  <a:latin typeface="Arial"/>
                </a:rPr>
                <a:t>Traitement agressif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ffffff"/>
                  </a:solidFill>
                  <a:latin typeface="Arial"/>
                </a:rPr>
                <a:t>de l’HT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8680" y="208116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78040" y="1670040"/>
              <a:ext cx="41536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ffffff"/>
                  </a:solidFill>
                  <a:latin typeface="Arial"/>
                </a:rPr>
                <a:t>Traitement agressif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ffffff"/>
                  </a:solidFill>
                  <a:latin typeface="Arial"/>
                </a:rPr>
                <a:t>de l’HTA avec ATCD d’IDM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43720" y="20811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05560" y="208116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97560" y="2425680"/>
              <a:ext cx="186696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8360" y="20811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0560" y="2817720"/>
              <a:ext cx="3811320" cy="335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819520"/>
              <a:ext cx="3809880" cy="3352680"/>
            </a:xfrm>
            <a:custGeom>
              <a:avLst/>
              <a:gdLst/>
              <a:ahLst/>
              <a:rect l="l" t="t" r="r" b="b"/>
              <a:pathLst>
                <a:path w="7200" h="6336">
                  <a:moveTo>
                    <a:pt x="0" y="4752"/>
                  </a:moveTo>
                  <a:lnTo>
                    <a:pt x="1800" y="4752"/>
                  </a:lnTo>
                  <a:lnTo>
                    <a:pt x="1800" y="0"/>
                  </a:lnTo>
                  <a:lnTo>
                    <a:pt x="5400" y="0"/>
                  </a:lnTo>
                  <a:lnTo>
                    <a:pt x="5400" y="4752"/>
                  </a:lnTo>
                  <a:lnTo>
                    <a:pt x="7200" y="4752"/>
                  </a:lnTo>
                  <a:lnTo>
                    <a:pt x="3600" y="6336"/>
                  </a:lnTo>
                  <a:lnTo>
                    <a:pt x="0" y="475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0560" y="2817720"/>
              <a:ext cx="3811320" cy="335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4240" y="2741760"/>
              <a:ext cx="3811680" cy="347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94240" y="3089160"/>
              <a:ext cx="3811680" cy="26208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94240" y="3351240"/>
              <a:ext cx="3811680" cy="196920"/>
            </a:xfrm>
            <a:prstGeom prst="rect">
              <a:avLst/>
            </a:prstGeom>
            <a:solidFill>
              <a:srgbClr val="fff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94240" y="3548160"/>
              <a:ext cx="3811680" cy="156960"/>
            </a:xfrm>
            <a:prstGeom prst="rect">
              <a:avLst/>
            </a:prstGeom>
            <a:solidFill>
              <a:srgbClr val="f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4240" y="3705120"/>
              <a:ext cx="3811680" cy="131760"/>
            </a:xfrm>
            <a:prstGeom prst="rect">
              <a:avLst/>
            </a:prstGeom>
            <a:solidFill>
              <a:srgbClr val="fff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4240" y="3836880"/>
              <a:ext cx="3811680" cy="115920"/>
            </a:xfrm>
            <a:prstGeom prst="rect">
              <a:avLst/>
            </a:prstGeom>
            <a:solidFill>
              <a:srgbClr val="ff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94240" y="3952800"/>
              <a:ext cx="3811680" cy="131760"/>
            </a:xfrm>
            <a:prstGeom prst="rect">
              <a:avLst/>
            </a:prstGeom>
            <a:solidFill>
              <a:srgbClr val="ff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94240" y="4084560"/>
              <a:ext cx="3811680" cy="104760"/>
            </a:xfrm>
            <a:prstGeom prst="rect">
              <a:avLst/>
            </a:prstGeom>
            <a:solidFill>
              <a:srgbClr val="ff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94240" y="4189320"/>
              <a:ext cx="3811680" cy="104760"/>
            </a:xfrm>
            <a:prstGeom prst="rect">
              <a:avLst/>
            </a:prstGeom>
            <a:solidFill>
              <a:srgbClr val="ff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94240" y="4294080"/>
              <a:ext cx="3811680" cy="104760"/>
            </a:xfrm>
            <a:prstGeom prst="rect">
              <a:avLst/>
            </a:prstGeom>
            <a:solidFill>
              <a:srgbClr val="ff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4240" y="4398840"/>
              <a:ext cx="3811680" cy="117720"/>
            </a:xfrm>
            <a:prstGeom prst="rect">
              <a:avLst/>
            </a:pr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94240" y="4516560"/>
              <a:ext cx="3811680" cy="118800"/>
            </a:xfrm>
            <a:prstGeom prst="rect">
              <a:avLst/>
            </a:pr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94240" y="4635360"/>
              <a:ext cx="3811680" cy="117720"/>
            </a:xfrm>
            <a:prstGeom prst="rect">
              <a:avLst/>
            </a:prstGeom>
            <a:solidFill>
              <a:srgbClr val="fff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94240" y="4753080"/>
              <a:ext cx="3811680" cy="129960"/>
            </a:xfrm>
            <a:prstGeom prst="rect">
              <a:avLst/>
            </a:pr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94240" y="4883040"/>
              <a:ext cx="3811680" cy="144720"/>
            </a:xfrm>
            <a:prstGeom prst="rect">
              <a:avLst/>
            </a:pr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4240" y="5027760"/>
              <a:ext cx="3811680" cy="144360"/>
            </a:xfrm>
            <a:prstGeom prst="rect">
              <a:avLst/>
            </a:pr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94240" y="5172120"/>
              <a:ext cx="3811680" cy="222120"/>
            </a:xfrm>
            <a:prstGeom prst="rect">
              <a:avLst/>
            </a:prstGeom>
            <a:solidFill>
              <a:srgbClr val="fff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94240" y="5394240"/>
              <a:ext cx="3811680" cy="287280"/>
            </a:xfrm>
            <a:prstGeom prst="rect">
              <a:avLst/>
            </a:prstGeom>
            <a:solidFill>
              <a:srgbClr val="fff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4240" y="5681520"/>
              <a:ext cx="3811680" cy="414360"/>
            </a:xfrm>
            <a:prstGeom prst="rect">
              <a:avLst/>
            </a:prstGeom>
            <a:solidFill>
              <a:srgbClr val="fff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5680" y="2743200"/>
              <a:ext cx="3810240" cy="3352680"/>
            </a:xfrm>
            <a:custGeom>
              <a:avLst/>
              <a:gdLst/>
              <a:ahLst/>
              <a:rect l="l" t="t" r="r" b="b"/>
              <a:pathLst>
                <a:path w="7200" h="6336">
                  <a:moveTo>
                    <a:pt x="0" y="4752"/>
                  </a:moveTo>
                  <a:lnTo>
                    <a:pt x="1800" y="4752"/>
                  </a:lnTo>
                  <a:lnTo>
                    <a:pt x="1800" y="0"/>
                  </a:lnTo>
                  <a:lnTo>
                    <a:pt x="5400" y="0"/>
                  </a:lnTo>
                  <a:lnTo>
                    <a:pt x="5400" y="4752"/>
                  </a:lnTo>
                  <a:lnTo>
                    <a:pt x="7200" y="4752"/>
                  </a:lnTo>
                  <a:lnTo>
                    <a:pt x="3600" y="6336"/>
                  </a:lnTo>
                  <a:lnTo>
                    <a:pt x="0" y="47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95680" y="2743200"/>
              <a:ext cx="3810240" cy="3352680"/>
            </a:xfrm>
            <a:custGeom>
              <a:avLst/>
              <a:gdLst/>
              <a:ahLst/>
              <a:rect l="l" t="t" r="r" b="b"/>
              <a:pathLst>
                <a:path w="7200" h="6336">
                  <a:moveTo>
                    <a:pt x="0" y="4752"/>
                  </a:moveTo>
                  <a:lnTo>
                    <a:pt x="1800" y="4752"/>
                  </a:lnTo>
                  <a:lnTo>
                    <a:pt x="1800" y="0"/>
                  </a:lnTo>
                  <a:lnTo>
                    <a:pt x="5400" y="0"/>
                  </a:lnTo>
                  <a:lnTo>
                    <a:pt x="5400" y="4752"/>
                  </a:lnTo>
                  <a:lnTo>
                    <a:pt x="7200" y="4752"/>
                  </a:lnTo>
                  <a:lnTo>
                    <a:pt x="3600" y="6336"/>
                  </a:lnTo>
                  <a:lnTo>
                    <a:pt x="0" y="47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4240" y="2741760"/>
              <a:ext cx="3811680" cy="347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4240" y="3089160"/>
              <a:ext cx="3811680" cy="26208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94240" y="3351240"/>
              <a:ext cx="3811680" cy="196920"/>
            </a:xfrm>
            <a:prstGeom prst="rect">
              <a:avLst/>
            </a:prstGeom>
            <a:solidFill>
              <a:srgbClr val="fff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94240" y="3548160"/>
              <a:ext cx="3811680" cy="156960"/>
            </a:xfrm>
            <a:prstGeom prst="rect">
              <a:avLst/>
            </a:prstGeom>
            <a:solidFill>
              <a:srgbClr val="f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94240" y="3705120"/>
              <a:ext cx="3811680" cy="131760"/>
            </a:xfrm>
            <a:prstGeom prst="rect">
              <a:avLst/>
            </a:prstGeom>
            <a:solidFill>
              <a:srgbClr val="fff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4240" y="3836880"/>
              <a:ext cx="3811680" cy="115920"/>
            </a:xfrm>
            <a:prstGeom prst="rect">
              <a:avLst/>
            </a:prstGeom>
            <a:solidFill>
              <a:srgbClr val="ff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4240" y="3952800"/>
              <a:ext cx="3811680" cy="131760"/>
            </a:xfrm>
            <a:prstGeom prst="rect">
              <a:avLst/>
            </a:prstGeom>
            <a:solidFill>
              <a:srgbClr val="ff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94240" y="4084560"/>
              <a:ext cx="3811680" cy="104760"/>
            </a:xfrm>
            <a:prstGeom prst="rect">
              <a:avLst/>
            </a:prstGeom>
            <a:solidFill>
              <a:srgbClr val="ff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4240" y="4189320"/>
              <a:ext cx="3811680" cy="104760"/>
            </a:xfrm>
            <a:prstGeom prst="rect">
              <a:avLst/>
            </a:prstGeom>
            <a:solidFill>
              <a:srgbClr val="ff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94240" y="4294080"/>
              <a:ext cx="3811680" cy="104760"/>
            </a:xfrm>
            <a:prstGeom prst="rect">
              <a:avLst/>
            </a:prstGeom>
            <a:solidFill>
              <a:srgbClr val="ff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4240" y="4398840"/>
              <a:ext cx="3811680" cy="117720"/>
            </a:xfrm>
            <a:prstGeom prst="rect">
              <a:avLst/>
            </a:pr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4240" y="4516560"/>
              <a:ext cx="3811680" cy="118800"/>
            </a:xfrm>
            <a:prstGeom prst="rect">
              <a:avLst/>
            </a:pr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4240" y="4635360"/>
              <a:ext cx="3811680" cy="117720"/>
            </a:xfrm>
            <a:prstGeom prst="rect">
              <a:avLst/>
            </a:prstGeom>
            <a:solidFill>
              <a:srgbClr val="fff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4240" y="4753080"/>
              <a:ext cx="3811680" cy="129960"/>
            </a:xfrm>
            <a:prstGeom prst="rect">
              <a:avLst/>
            </a:pr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4240" y="4883040"/>
              <a:ext cx="3811680" cy="144720"/>
            </a:xfrm>
            <a:prstGeom prst="rect">
              <a:avLst/>
            </a:pr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94240" y="5027760"/>
              <a:ext cx="3811680" cy="144360"/>
            </a:xfrm>
            <a:prstGeom prst="rect">
              <a:avLst/>
            </a:pr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4240" y="5172120"/>
              <a:ext cx="3811680" cy="222120"/>
            </a:xfrm>
            <a:prstGeom prst="rect">
              <a:avLst/>
            </a:prstGeom>
            <a:solidFill>
              <a:srgbClr val="fff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94240" y="5394240"/>
              <a:ext cx="3811680" cy="287280"/>
            </a:xfrm>
            <a:prstGeom prst="rect">
              <a:avLst/>
            </a:prstGeom>
            <a:solidFill>
              <a:srgbClr val="fff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94240" y="5681520"/>
              <a:ext cx="3811680" cy="414360"/>
            </a:xfrm>
            <a:prstGeom prst="rect">
              <a:avLst/>
            </a:prstGeom>
            <a:solidFill>
              <a:srgbClr val="fff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95680" y="2743200"/>
              <a:ext cx="3810240" cy="3352680"/>
            </a:xfrm>
            <a:custGeom>
              <a:avLst/>
              <a:gdLst/>
              <a:ahLst/>
              <a:rect l="l" t="t" r="r" b="b"/>
              <a:pathLst>
                <a:path w="7200" h="6336">
                  <a:moveTo>
                    <a:pt x="0" y="4752"/>
                  </a:moveTo>
                  <a:lnTo>
                    <a:pt x="1800" y="4752"/>
                  </a:lnTo>
                  <a:lnTo>
                    <a:pt x="1800" y="0"/>
                  </a:lnTo>
                  <a:lnTo>
                    <a:pt x="5400" y="0"/>
                  </a:lnTo>
                  <a:lnTo>
                    <a:pt x="5400" y="4752"/>
                  </a:lnTo>
                  <a:lnTo>
                    <a:pt x="7200" y="4752"/>
                  </a:lnTo>
                  <a:lnTo>
                    <a:pt x="3600" y="6336"/>
                  </a:lnTo>
                  <a:lnTo>
                    <a:pt x="0" y="475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14360" y="2932200"/>
              <a:ext cx="133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Baisse d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75480" y="3295800"/>
              <a:ext cx="1424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risque de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45040" y="3660840"/>
              <a:ext cx="287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développement d’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32000" y="4027320"/>
              <a:ext cx="1297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de ~ 8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52920" y="2998800"/>
              <a:ext cx="145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808080"/>
                  </a:solidFill>
                  <a:latin typeface="Arial"/>
                </a:rPr>
                <a:t>Decre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2640" y="3363840"/>
              <a:ext cx="90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808080"/>
                  </a:solidFill>
                  <a:latin typeface="Arial"/>
                </a:rPr>
                <a:t>risk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6320" y="3728880"/>
              <a:ext cx="1049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808080"/>
                  </a:solidFill>
                  <a:latin typeface="Arial"/>
                </a:rPr>
                <a:t>new H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40760" y="4092480"/>
              <a:ext cx="1280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808080"/>
                  </a:solidFill>
                  <a:latin typeface="Arial"/>
                </a:rPr>
                <a:t>by ~ 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51040" y="4457880"/>
              <a:ext cx="166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808080"/>
                  </a:solidFill>
                  <a:latin typeface="Arial"/>
                </a:rPr>
                <a:t>56% in DM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8040" y="2817720"/>
              <a:ext cx="3811680" cy="2440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2819520"/>
              <a:ext cx="3810240" cy="2438280"/>
            </a:xfrm>
            <a:custGeom>
              <a:avLst/>
              <a:gdLst/>
              <a:ahLst/>
              <a:rect l="l" t="t" r="r" b="b"/>
              <a:pathLst>
                <a:path w="7199" h="4608">
                  <a:moveTo>
                    <a:pt x="0" y="3456"/>
                  </a:moveTo>
                  <a:lnTo>
                    <a:pt x="1800" y="3456"/>
                  </a:lnTo>
                  <a:lnTo>
                    <a:pt x="1800" y="0"/>
                  </a:lnTo>
                  <a:lnTo>
                    <a:pt x="5399" y="0"/>
                  </a:lnTo>
                  <a:lnTo>
                    <a:pt x="5399" y="3456"/>
                  </a:lnTo>
                  <a:lnTo>
                    <a:pt x="7199" y="3456"/>
                  </a:lnTo>
                  <a:lnTo>
                    <a:pt x="3600" y="4608"/>
                  </a:lnTo>
                  <a:lnTo>
                    <a:pt x="0" y="3456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8040" y="2817720"/>
              <a:ext cx="3811680" cy="2440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1720" y="2741760"/>
              <a:ext cx="3811680" cy="261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1720" y="3003480"/>
              <a:ext cx="3811680" cy="20952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1720" y="3213000"/>
              <a:ext cx="3811680" cy="144720"/>
            </a:xfrm>
            <a:prstGeom prst="rect">
              <a:avLst/>
            </a:prstGeom>
            <a:solidFill>
              <a:srgbClr val="fff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1720" y="3357720"/>
              <a:ext cx="3811680" cy="122040"/>
            </a:xfrm>
            <a:prstGeom prst="rect">
              <a:avLst/>
            </a:prstGeom>
            <a:solidFill>
              <a:srgbClr val="f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1720" y="3479760"/>
              <a:ext cx="3811680" cy="95400"/>
            </a:xfrm>
            <a:prstGeom prst="rect">
              <a:avLst/>
            </a:prstGeom>
            <a:solidFill>
              <a:srgbClr val="fff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1720" y="3575160"/>
              <a:ext cx="3811680" cy="95040"/>
            </a:xfrm>
            <a:prstGeom prst="rect">
              <a:avLst/>
            </a:prstGeom>
            <a:solidFill>
              <a:srgbClr val="ff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1720" y="3670200"/>
              <a:ext cx="3811680" cy="95400"/>
            </a:xfrm>
            <a:prstGeom prst="rect">
              <a:avLst/>
            </a:prstGeom>
            <a:solidFill>
              <a:srgbClr val="ff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1720" y="3765600"/>
              <a:ext cx="3811680" cy="87120"/>
            </a:xfrm>
            <a:prstGeom prst="rect">
              <a:avLst/>
            </a:prstGeom>
            <a:solidFill>
              <a:srgbClr val="ff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1720" y="3852720"/>
              <a:ext cx="3811680" cy="84240"/>
            </a:xfrm>
            <a:prstGeom prst="rect">
              <a:avLst/>
            </a:prstGeom>
            <a:solidFill>
              <a:srgbClr val="ff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1720" y="3936960"/>
              <a:ext cx="3811680" cy="87480"/>
            </a:xfrm>
            <a:prstGeom prst="rect">
              <a:avLst/>
            </a:prstGeom>
            <a:solidFill>
              <a:srgbClr val="ff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1720" y="4024440"/>
              <a:ext cx="3811680" cy="95040"/>
            </a:xfrm>
            <a:prstGeom prst="rect">
              <a:avLst/>
            </a:pr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1720" y="4119480"/>
              <a:ext cx="3811680" cy="95400"/>
            </a:xfrm>
            <a:prstGeom prst="rect">
              <a:avLst/>
            </a:pr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720" y="4214880"/>
              <a:ext cx="3811680" cy="95040"/>
            </a:xfrm>
            <a:prstGeom prst="rect">
              <a:avLst/>
            </a:prstGeom>
            <a:solidFill>
              <a:srgbClr val="fff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1720" y="4309920"/>
              <a:ext cx="3811680" cy="114480"/>
            </a:xfrm>
            <a:prstGeom prst="rect">
              <a:avLst/>
            </a:pr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1720" y="4424400"/>
              <a:ext cx="3811680" cy="141120"/>
            </a:xfrm>
            <a:prstGeom prst="rect">
              <a:avLst/>
            </a:pr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1720" y="4565520"/>
              <a:ext cx="3811680" cy="163800"/>
            </a:xfrm>
            <a:prstGeom prst="rect">
              <a:avLst/>
            </a:pr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1720" y="4729320"/>
              <a:ext cx="3811680" cy="331560"/>
            </a:xfrm>
            <a:prstGeom prst="rect">
              <a:avLst/>
            </a:prstGeom>
            <a:solidFill>
              <a:srgbClr val="fff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1720" y="5060880"/>
              <a:ext cx="3811680" cy="120600"/>
            </a:xfrm>
            <a:prstGeom prst="rect">
              <a:avLst/>
            </a:prstGeom>
            <a:solidFill>
              <a:srgbClr val="fff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520" y="2743200"/>
              <a:ext cx="3809880" cy="2438280"/>
            </a:xfrm>
            <a:custGeom>
              <a:avLst/>
              <a:gdLst/>
              <a:ahLst/>
              <a:rect l="l" t="t" r="r" b="b"/>
              <a:pathLst>
                <a:path w="7199" h="4608">
                  <a:moveTo>
                    <a:pt x="0" y="3456"/>
                  </a:moveTo>
                  <a:lnTo>
                    <a:pt x="1800" y="3456"/>
                  </a:lnTo>
                  <a:lnTo>
                    <a:pt x="1800" y="0"/>
                  </a:lnTo>
                  <a:lnTo>
                    <a:pt x="5399" y="0"/>
                  </a:lnTo>
                  <a:lnTo>
                    <a:pt x="5399" y="3456"/>
                  </a:lnTo>
                  <a:lnTo>
                    <a:pt x="7199" y="3456"/>
                  </a:lnTo>
                  <a:lnTo>
                    <a:pt x="3600" y="4608"/>
                  </a:lnTo>
                  <a:lnTo>
                    <a:pt x="0" y="34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520" y="2743200"/>
              <a:ext cx="3809880" cy="2438280"/>
            </a:xfrm>
            <a:custGeom>
              <a:avLst/>
              <a:gdLst/>
              <a:ahLst/>
              <a:rect l="l" t="t" r="r" b="b"/>
              <a:pathLst>
                <a:path w="7199" h="4608">
                  <a:moveTo>
                    <a:pt x="0" y="3456"/>
                  </a:moveTo>
                  <a:lnTo>
                    <a:pt x="1800" y="3456"/>
                  </a:lnTo>
                  <a:lnTo>
                    <a:pt x="1800" y="0"/>
                  </a:lnTo>
                  <a:lnTo>
                    <a:pt x="5399" y="0"/>
                  </a:lnTo>
                  <a:lnTo>
                    <a:pt x="5399" y="3456"/>
                  </a:lnTo>
                  <a:lnTo>
                    <a:pt x="7199" y="3456"/>
                  </a:lnTo>
                  <a:lnTo>
                    <a:pt x="3600" y="4608"/>
                  </a:lnTo>
                  <a:lnTo>
                    <a:pt x="0" y="3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1720" y="2741760"/>
              <a:ext cx="3811680" cy="261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1720" y="3003480"/>
              <a:ext cx="3811680" cy="20952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1720" y="3213000"/>
              <a:ext cx="3811680" cy="144720"/>
            </a:xfrm>
            <a:prstGeom prst="rect">
              <a:avLst/>
            </a:prstGeom>
            <a:solidFill>
              <a:srgbClr val="fff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1720" y="3357720"/>
              <a:ext cx="3811680" cy="122040"/>
            </a:xfrm>
            <a:prstGeom prst="rect">
              <a:avLst/>
            </a:prstGeom>
            <a:solidFill>
              <a:srgbClr val="f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1720" y="3479760"/>
              <a:ext cx="3811680" cy="95400"/>
            </a:xfrm>
            <a:prstGeom prst="rect">
              <a:avLst/>
            </a:prstGeom>
            <a:solidFill>
              <a:srgbClr val="fff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1720" y="3575160"/>
              <a:ext cx="3811680" cy="95040"/>
            </a:xfrm>
            <a:prstGeom prst="rect">
              <a:avLst/>
            </a:prstGeom>
            <a:solidFill>
              <a:srgbClr val="ff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1720" y="3670200"/>
              <a:ext cx="3811680" cy="95400"/>
            </a:xfrm>
            <a:prstGeom prst="rect">
              <a:avLst/>
            </a:prstGeom>
            <a:solidFill>
              <a:srgbClr val="ff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1720" y="3765600"/>
              <a:ext cx="3811680" cy="87120"/>
            </a:xfrm>
            <a:prstGeom prst="rect">
              <a:avLst/>
            </a:prstGeom>
            <a:solidFill>
              <a:srgbClr val="ff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1720" y="3852720"/>
              <a:ext cx="3811680" cy="84240"/>
            </a:xfrm>
            <a:prstGeom prst="rect">
              <a:avLst/>
            </a:prstGeom>
            <a:solidFill>
              <a:srgbClr val="ff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1720" y="3936960"/>
              <a:ext cx="3811680" cy="87480"/>
            </a:xfrm>
            <a:prstGeom prst="rect">
              <a:avLst/>
            </a:prstGeom>
            <a:solidFill>
              <a:srgbClr val="ff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1720" y="4024440"/>
              <a:ext cx="3811680" cy="95040"/>
            </a:xfrm>
            <a:prstGeom prst="rect">
              <a:avLst/>
            </a:pr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1720" y="4119480"/>
              <a:ext cx="3811680" cy="95400"/>
            </a:xfrm>
            <a:prstGeom prst="rect">
              <a:avLst/>
            </a:pr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1720" y="4214880"/>
              <a:ext cx="3811680" cy="95040"/>
            </a:xfrm>
            <a:prstGeom prst="rect">
              <a:avLst/>
            </a:prstGeom>
            <a:solidFill>
              <a:srgbClr val="fff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1720" y="4309920"/>
              <a:ext cx="3811680" cy="114480"/>
            </a:xfrm>
            <a:prstGeom prst="rect">
              <a:avLst/>
            </a:pr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1720" y="4424400"/>
              <a:ext cx="3811680" cy="141120"/>
            </a:xfrm>
            <a:prstGeom prst="rect">
              <a:avLst/>
            </a:pr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1720" y="4565520"/>
              <a:ext cx="3811680" cy="163800"/>
            </a:xfrm>
            <a:prstGeom prst="rect">
              <a:avLst/>
            </a:pr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1720" y="4729320"/>
              <a:ext cx="3811680" cy="331560"/>
            </a:xfrm>
            <a:prstGeom prst="rect">
              <a:avLst/>
            </a:prstGeom>
            <a:solidFill>
              <a:srgbClr val="fff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1720" y="5060880"/>
              <a:ext cx="3811680" cy="120600"/>
            </a:xfrm>
            <a:prstGeom prst="rect">
              <a:avLst/>
            </a:prstGeom>
            <a:solidFill>
              <a:srgbClr val="fff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520" y="2743200"/>
              <a:ext cx="3809880" cy="2438280"/>
            </a:xfrm>
            <a:custGeom>
              <a:avLst/>
              <a:gdLst/>
              <a:ahLst/>
              <a:rect l="l" t="t" r="r" b="b"/>
              <a:pathLst>
                <a:path w="7199" h="4608">
                  <a:moveTo>
                    <a:pt x="0" y="3456"/>
                  </a:moveTo>
                  <a:lnTo>
                    <a:pt x="1800" y="3456"/>
                  </a:lnTo>
                  <a:lnTo>
                    <a:pt x="1800" y="0"/>
                  </a:lnTo>
                  <a:lnTo>
                    <a:pt x="5399" y="0"/>
                  </a:lnTo>
                  <a:lnTo>
                    <a:pt x="5399" y="3456"/>
                  </a:lnTo>
                  <a:lnTo>
                    <a:pt x="7199" y="3456"/>
                  </a:lnTo>
                  <a:lnTo>
                    <a:pt x="3600" y="4608"/>
                  </a:lnTo>
                  <a:lnTo>
                    <a:pt x="0" y="345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39240" y="2922480"/>
              <a:ext cx="133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Baisse d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83880" y="3287880"/>
              <a:ext cx="125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risque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61720" y="3652920"/>
              <a:ext cx="270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développement d’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56880" y="4016520"/>
              <a:ext cx="1297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de ~ 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36200" y="4381560"/>
              <a:ext cx="1744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56% si DN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7400" y="5538960"/>
              <a:ext cx="19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Lancet 1991;338:1281:128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95320" y="5538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43920" y="5538960"/>
              <a:ext cx="5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5 (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38280" y="5538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87240" y="5538960"/>
              <a:ext cx="99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Hypertension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9920" y="5719680"/>
              <a:ext cx="138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JAMA 1997;278:2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80880" y="57196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30920" y="571968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6 (SHEP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7040" y="5904000"/>
              <a:ext cx="319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UKPDS Group. UKPDS 38. BMJ 1998;317:7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76560" y="5904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24440" y="59040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713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5"/>
            <a:stretch/>
          </p:blipFill>
          <p:spPr>
            <a:xfrm>
              <a:off x="-152280" y="0"/>
              <a:ext cx="126720" cy="12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>
            <a:off x="7355880" y="655308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086920" y="1395360"/>
            <a:ext cx="4987440" cy="581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NCTION SYSTO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7240" y="2894040"/>
            <a:ext cx="22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 u="sng">
                <a:solidFill>
                  <a:srgbClr val="000066"/>
                </a:solidFill>
                <a:uFillTx/>
                <a:latin typeface="Tahoma"/>
              </a:rPr>
              <a:t>Préserv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33480" y="2894040"/>
            <a:ext cx="32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66"/>
                </a:solidFill>
                <a:uFillTx/>
                <a:latin typeface="Tahoma"/>
              </a:rPr>
              <a:t>Dysfonction V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  <a:endCxn id="182" idx="0"/>
          </p:cNvCxnSpPr>
          <p:nvPr/>
        </p:nvCxnSpPr>
        <p:spPr>
          <a:xfrm flipH="1" rot="16200000">
            <a:off x="5368680" y="1186920"/>
            <a:ext cx="919800" cy="2494800"/>
          </a:xfrm>
          <a:prstGeom prst="bentConnector3">
            <a:avLst>
              <a:gd name="adj1" fmla="val 49882"/>
            </a:avLst>
          </a:prstGeom>
          <a:ln w="2844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0" idx="2"/>
            <a:endCxn id="181" idx="0"/>
          </p:cNvCxnSpPr>
          <p:nvPr/>
        </p:nvCxnSpPr>
        <p:spPr>
          <a:xfrm rot="5400000">
            <a:off x="2725200" y="1038240"/>
            <a:ext cx="919800" cy="2792880"/>
          </a:xfrm>
          <a:prstGeom prst="bentConnector3">
            <a:avLst>
              <a:gd name="adj1" fmla="val 49882"/>
            </a:avLst>
          </a:prstGeom>
          <a:ln w="2844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685800" y="189000"/>
            <a:ext cx="7772400" cy="1042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Traitement 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DE QUOI PARLE-T-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64400" y="3438000"/>
            <a:ext cx="4087800" cy="2516400"/>
            <a:chOff x="4964400" y="3438000"/>
            <a:chExt cx="4087800" cy="2516400"/>
          </a:xfrm>
        </p:grpSpPr>
        <p:grpSp>
          <p:nvGrpSpPr>
            <p:cNvPr id="187" name=""/>
            <p:cNvGrpSpPr/>
            <p:nvPr/>
          </p:nvGrpSpPr>
          <p:grpSpPr>
            <a:xfrm>
              <a:off x="4964400" y="3438000"/>
              <a:ext cx="4087800" cy="1466280"/>
              <a:chOff x="4964400" y="3438000"/>
              <a:chExt cx="4087800" cy="1466280"/>
            </a:xfrm>
          </p:grpSpPr>
          <p:sp>
            <p:nvSpPr>
              <p:cNvPr id="188" name=""/>
              <p:cNvSpPr/>
              <p:nvPr/>
            </p:nvSpPr>
            <p:spPr>
              <a:xfrm>
                <a:off x="4964400" y="3835440"/>
                <a:ext cx="40878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87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32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fr-BE" sz="3200" spc="-1" strike="noStrike">
                    <a:solidFill>
                      <a:srgbClr val="000000"/>
                    </a:solidFill>
                    <a:latin typeface="Tahoma"/>
                  </a:rPr>
                  <a:t>Asymptomatiqu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SzPct val="10287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32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fr-BE" sz="3200" spc="-1" strike="noStrike">
                    <a:solidFill>
                      <a:srgbClr val="000000"/>
                    </a:solidFill>
                    <a:latin typeface="Tahoma"/>
                  </a:rPr>
                  <a:t>Symptomatiqu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9" name=""/>
              <p:cNvCxnSpPr>
                <a:stCxn id="182" idx="2"/>
                <a:endCxn id="188" idx="0"/>
              </p:cNvCxnSpPr>
              <p:nvPr/>
            </p:nvCxnSpPr>
            <p:spPr>
              <a:xfrm flipV="1" rot="10800000">
                <a:off x="6736680" y="3438000"/>
                <a:ext cx="1080" cy="397800"/>
              </a:xfrm>
              <a:prstGeom prst="bentConnector2">
                <a:avLst/>
              </a:prstGeom>
              <a:ln w="28440">
                <a:solidFill>
                  <a:srgbClr val="800000"/>
                </a:solidFill>
                <a:miter/>
              </a:ln>
            </p:spPr>
          </p:cxnSp>
        </p:grpSp>
        <p:sp>
          <p:nvSpPr>
            <p:cNvPr id="190" name=""/>
            <p:cNvSpPr/>
            <p:nvPr/>
          </p:nvSpPr>
          <p:spPr>
            <a:xfrm>
              <a:off x="5696640" y="5433840"/>
              <a:ext cx="2084040" cy="520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Tahoma"/>
                </a:rPr>
                <a:t>Bien établ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88" idx="2"/>
              <a:endCxn id="190" idx="0"/>
            </p:cNvCxnSpPr>
            <p:nvPr/>
          </p:nvCxnSpPr>
          <p:spPr>
            <a:xfrm flipV="1" rot="10800000">
              <a:off x="6736680" y="4901760"/>
              <a:ext cx="1080" cy="532440"/>
            </a:xfrm>
            <a:prstGeom prst="bentConnector2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</p:cxnSp>
      </p:grpSp>
      <p:grpSp>
        <p:nvGrpSpPr>
          <p:cNvPr id="192" name=""/>
          <p:cNvGrpSpPr/>
          <p:nvPr/>
        </p:nvGrpSpPr>
        <p:grpSpPr>
          <a:xfrm>
            <a:off x="385920" y="3472920"/>
            <a:ext cx="4686120" cy="2919960"/>
            <a:chOff x="385920" y="3472920"/>
            <a:chExt cx="4686120" cy="2919960"/>
          </a:xfrm>
        </p:grpSpPr>
        <p:grpSp>
          <p:nvGrpSpPr>
            <p:cNvPr id="193" name=""/>
            <p:cNvGrpSpPr/>
            <p:nvPr/>
          </p:nvGrpSpPr>
          <p:grpSpPr>
            <a:xfrm>
              <a:off x="1046160" y="3472920"/>
              <a:ext cx="4025880" cy="2919960"/>
              <a:chOff x="1046160" y="3472920"/>
              <a:chExt cx="4025880" cy="2919960"/>
            </a:xfrm>
          </p:grpSpPr>
          <p:sp>
            <p:nvSpPr>
              <p:cNvPr id="194" name=""/>
              <p:cNvSpPr/>
              <p:nvPr/>
            </p:nvSpPr>
            <p:spPr>
              <a:xfrm>
                <a:off x="1046160" y="5468760"/>
                <a:ext cx="1508040" cy="5205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ahoma"/>
                  </a:rPr>
                  <a:t>ETUD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43080" y="5548320"/>
                <a:ext cx="2028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2400" spc="-1" strike="noStrike">
                    <a:solidFill>
                      <a:srgbClr val="000066"/>
                    </a:solidFill>
                    <a:latin typeface="Tahoma"/>
                  </a:rPr>
                  <a:t> </a:t>
                </a:r>
                <a:r>
                  <a:rPr b="1" lang="fr-BE" sz="2400" spc="-1" strike="noStrike">
                    <a:solidFill>
                      <a:srgbClr val="000066"/>
                    </a:solidFill>
                    <a:latin typeface="Tahoma"/>
                  </a:rPr>
                  <a:t>CHAR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2400" spc="-1" strike="noStrike">
                    <a:solidFill>
                      <a:srgbClr val="000066"/>
                    </a:solidFill>
                    <a:latin typeface="Tahoma"/>
                  </a:rPr>
                  <a:t> </a:t>
                </a:r>
                <a:r>
                  <a:rPr b="1" lang="fr-BE" sz="2400" spc="-1" strike="noStrike">
                    <a:solidFill>
                      <a:srgbClr val="000066"/>
                    </a:solidFill>
                    <a:latin typeface="Tahoma"/>
                  </a:rPr>
                  <a:t>I-Preserv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01960" y="5527800"/>
                <a:ext cx="209520" cy="865080"/>
              </a:xfrm>
              <a:custGeom>
                <a:avLst/>
                <a:gdLst>
                  <a:gd name="textAreaLeft" fmla="*/ 133920 w 209520"/>
                  <a:gd name="textAreaRight" fmla="*/ 209880 w 209520"/>
                  <a:gd name="textAreaTop" fmla="*/ 22320 h 865080"/>
                  <a:gd name="textAreaBottom" fmla="*/ 842760 h 86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7" name=""/>
              <p:cNvCxnSpPr>
                <a:stCxn id="181" idx="2"/>
                <a:endCxn id="194" idx="0"/>
              </p:cNvCxnSpPr>
              <p:nvPr/>
            </p:nvCxnSpPr>
            <p:spPr>
              <a:xfrm flipV="1" rot="10800000">
                <a:off x="1796400" y="3472920"/>
                <a:ext cx="1080" cy="1996200"/>
              </a:xfrm>
              <a:prstGeom prst="bentConnector2">
                <a:avLst/>
              </a:prstGeom>
              <a:ln w="38160">
                <a:solidFill>
                  <a:srgbClr val="800000"/>
                </a:solidFill>
                <a:miter/>
                <a:tailEnd len="med" type="triangle" w="med"/>
              </a:ln>
            </p:spPr>
          </p:cxnSp>
        </p:grpSp>
        <p:sp>
          <p:nvSpPr>
            <p:cNvPr id="198" name=""/>
            <p:cNvSpPr/>
            <p:nvPr/>
          </p:nvSpPr>
          <p:spPr>
            <a:xfrm>
              <a:off x="385920" y="4089240"/>
              <a:ext cx="2815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000000"/>
                  </a:solidFill>
                  <a:latin typeface="Tahoma"/>
                </a:rPr>
                <a:t>Pas de guidel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341480" y="655308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0400"/>
            <a:ext cx="7772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IEC (1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397240" y="1228680"/>
            <a:ext cx="4346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Quand et com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9520" y="2604960"/>
            <a:ext cx="37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Tous les 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ff0000"/>
                </a:solidFill>
                <a:latin typeface="Tahoma"/>
              </a:rPr>
              <a:t>TTT de première l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30800" y="26049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57920" y="2604960"/>
            <a:ext cx="12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K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65280" y="1882800"/>
            <a:ext cx="7859160" cy="506520"/>
            <a:chOff x="665280" y="1882800"/>
            <a:chExt cx="7859160" cy="506520"/>
          </a:xfrm>
        </p:grpSpPr>
        <p:sp>
          <p:nvSpPr>
            <p:cNvPr id="206" name=""/>
            <p:cNvSpPr/>
            <p:nvPr/>
          </p:nvSpPr>
          <p:spPr>
            <a:xfrm>
              <a:off x="720720" y="1882800"/>
              <a:ext cx="189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000000"/>
                  </a:solidFill>
                  <a:latin typeface="Tahoma"/>
                </a:rPr>
                <a:t>Ind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18280" y="1882800"/>
              <a:ext cx="49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27160" y="1882800"/>
              <a:ext cx="199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ahoma"/>
                </a:rPr>
                <a:t>Précau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5280" y="2389320"/>
              <a:ext cx="77547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211480" y="3670200"/>
            <a:ext cx="47588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Quel traitement, à quel do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2320" y="4805280"/>
            <a:ext cx="235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Captop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Enalap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Lisinop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Ramip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Trandolap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73200" y="4257720"/>
            <a:ext cx="7754760" cy="506520"/>
            <a:chOff x="673200" y="4257720"/>
            <a:chExt cx="7754760" cy="506520"/>
          </a:xfrm>
        </p:grpSpPr>
        <p:sp>
          <p:nvSpPr>
            <p:cNvPr id="213" name=""/>
            <p:cNvSpPr/>
            <p:nvPr/>
          </p:nvSpPr>
          <p:spPr>
            <a:xfrm>
              <a:off x="1028160" y="4257720"/>
              <a:ext cx="7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ahoma"/>
                </a:rPr>
                <a:t>D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87240" y="4257720"/>
              <a:ext cx="24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ahoma"/>
                </a:rPr>
                <a:t>Dose de dép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47760" y="4257720"/>
              <a:ext cx="25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1" lang="fr-FR" sz="2400" spc="-1" strike="noStrike">
                  <a:solidFill>
                    <a:srgbClr val="000000"/>
                  </a:solidFill>
                  <a:latin typeface="Tahoma"/>
                </a:rPr>
                <a:t>Dose c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3200" y="4764240"/>
              <a:ext cx="77547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350880" y="4805280"/>
            <a:ext cx="527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6,25 mg x3  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     25-50 mg x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2,5 mg x1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               10 mg 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2,5 mg x1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               5 à 20 mg 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1,25 à 2,5 mg x1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     2,5 à 5 mgx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1 mg x1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400" spc="-1" strike="noStrike">
                <a:solidFill>
                  <a:srgbClr val="000066"/>
                </a:solidFill>
                <a:latin typeface="Tahoma"/>
              </a:rPr>
              <a:t>      4 mg 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41480" y="655308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9145440" cy="49536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-152280" y="0"/>
            <a:ext cx="9296280" cy="6858000"/>
            <a:chOff x="-152280" y="0"/>
            <a:chExt cx="9296280" cy="6858000"/>
          </a:xfrm>
        </p:grpSpPr>
        <p:sp>
          <p:nvSpPr>
            <p:cNvPr id="22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127240" y="285840"/>
              <a:ext cx="5011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00"/>
                  </a:solidFill>
                  <a:latin typeface="Arial"/>
                </a:rPr>
                <a:t>HFSA 2006 Practice Guideline (7.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70120" y="711360"/>
              <a:ext cx="6076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00"/>
                  </a:solidFill>
                  <a:latin typeface="Arial"/>
                </a:rPr>
                <a:t>Traitement pharmacologique: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1000" y="1271520"/>
              <a:ext cx="8286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ff00"/>
                  </a:solidFill>
                  <a:latin typeface="Arial"/>
                </a:rPr>
                <a:t>Antagonistes des Récepteurs à l’Angiotensi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28880" y="23558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99040" y="23558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37200" y="235584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18080" y="28130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62520" y="32702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87840" y="3733920"/>
              <a:ext cx="10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11440" y="369576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30680" y="373392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1360" y="418464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94400" y="464184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78240" y="5353200"/>
              <a:ext cx="2722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ffffff"/>
                  </a:solidFill>
                  <a:latin typeface="Arial"/>
                </a:rPr>
                <a:t>Niveau d’Evidence =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27560" y="653112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Adams KF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89600" y="6531120"/>
              <a:ext cx="58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Lindenfe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08440" y="6531120"/>
              <a:ext cx="205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J, et al. HFSA 2006 Comprehensiv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36200" y="6683400"/>
              <a:ext cx="264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Heart Failure Guideline. J Card Fail 2006;12:e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70320" y="6683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16040" y="66834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ffff"/>
                  </a:solidFill>
                  <a:latin typeface="Arial"/>
                </a:rPr>
                <a:t>e122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-152280" y="0"/>
              <a:ext cx="126720" cy="12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320760" y="2214720"/>
            <a:ext cx="847548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ffff"/>
                </a:solidFill>
                <a:latin typeface="Tahoma"/>
              </a:rPr>
              <a:t>Les ARA2 (candesartan= kenzen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®</a:t>
            </a:r>
            <a:r>
              <a:rPr b="0" lang="fr-FR" sz="2700" spc="-1" strike="noStrike">
                <a:solidFill>
                  <a:srgbClr val="ffffff"/>
                </a:solidFill>
                <a:latin typeface="Tahoma"/>
              </a:rPr>
              <a:t> ou ataca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®</a:t>
            </a:r>
            <a:r>
              <a:rPr b="0" lang="fr-FR" sz="27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fr-FR" sz="2700" spc="-1" strike="noStrike">
                <a:solidFill>
                  <a:srgbClr val="ffff00"/>
                </a:solidFill>
                <a:latin typeface="Tahoma"/>
              </a:rPr>
              <a:t>sont recommandés</a:t>
            </a:r>
            <a:r>
              <a:rPr b="0" lang="fr-FR" sz="2700" spc="-1" strike="noStrike">
                <a:solidFill>
                  <a:srgbClr val="ffffff"/>
                </a:solidFill>
                <a:latin typeface="Tahoma"/>
              </a:rPr>
              <a:t> dans la pratique courante chez les patients symptomatiques ou n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ffff"/>
                </a:solidFill>
                <a:latin typeface="Tahoma"/>
              </a:rPr>
              <a:t>si la FEVG &lt; 40% et que les IEC sont mal tolér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ffff"/>
                </a:solidFill>
                <a:latin typeface="Tahoma"/>
              </a:rPr>
              <a:t>(hors mis pour hyperkaliémie ou insuffisance réna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06560" y="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6095880"/>
            <a:ext cx="9145440" cy="495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779480" y="484200"/>
            <a:ext cx="4909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HFSA 2006 Practice Guideline (7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97080" y="48420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99320" y="484200"/>
            <a:ext cx="69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7.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640" y="866880"/>
            <a:ext cx="80521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ffff00"/>
                </a:solidFill>
                <a:latin typeface="Arial"/>
              </a:rPr>
              <a:t>Antagonistes de l’aldostérone et Fonction Réna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7920" y="1508040"/>
            <a:ext cx="8876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ahoma"/>
              </a:rPr>
              <a:t>Les anti-aldostérones (aldactone ou éplerenone (Inspra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®</a:t>
            </a:r>
            <a:r>
              <a:rPr b="1" lang="fr-FR" sz="2400" spc="-1" strike="noStrike">
                <a:solidFill>
                  <a:srgbClr val="ffff00"/>
                </a:solidFill>
                <a:latin typeface="Tahoma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ahoma"/>
              </a:rPr>
              <a:t>ne sont pas recommandés quan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10160" y="2325600"/>
            <a:ext cx="11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98240" y="2325600"/>
            <a:ext cx="472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reatinine &gt; 25 mg/L (or clairance &lt; 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25840" y="2325600"/>
            <a:ext cx="38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04560" y="2325600"/>
            <a:ext cx="607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/m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10160" y="2782800"/>
            <a:ext cx="11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1800" y="2782800"/>
            <a:ext cx="175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Kaliémie &gt; 5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61880" y="2782800"/>
            <a:ext cx="677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38320" y="278280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75440" y="3354480"/>
            <a:ext cx="21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Strength of Evidence =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6800" y="3935520"/>
            <a:ext cx="713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Il est recommandé que la kaliémie soit dosée 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40240" y="4302000"/>
            <a:ext cx="754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l’initiation, 1 semaine, 1 mois puis tous les 3 mo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65720" y="4659480"/>
            <a:ext cx="21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Strength of Evidence =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43280" y="5121360"/>
            <a:ext cx="7165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a supplémentation potassique n’est pas recommand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sauf si la kaliémie est inférieure à 4 mmol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15040" y="5794200"/>
            <a:ext cx="21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ffff"/>
                </a:solidFill>
                <a:latin typeface="Arial"/>
              </a:rPr>
              <a:t>Strength of Evidence =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28640" y="6531120"/>
            <a:ext cx="79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Adapted from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27560" y="6531120"/>
            <a:ext cx="66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Adams KF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89600" y="6531120"/>
            <a:ext cx="58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Lindenf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08440" y="6531120"/>
            <a:ext cx="205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J, et al. HFSA 2006 Comprehensiv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36200" y="6683400"/>
            <a:ext cx="264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eart Failure Guideline. J Card Fail 2006;12: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70320" y="66834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16040" y="66834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e12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-152280" y="0"/>
            <a:ext cx="126720" cy="1270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306560" y="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20400"/>
            <a:ext cx="7772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IC et </a:t>
            </a:r>
            <a:r>
              <a:rPr b="1" lang="fr-BE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-bloqueurs (1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397240" y="1228680"/>
            <a:ext cx="4346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Quand et com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6440" y="2862360"/>
            <a:ext cx="3001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IC II-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ff0000"/>
                </a:solidFill>
                <a:latin typeface="Tahoma"/>
              </a:rPr>
              <a:t>TTT de 1ère l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55960" y="2925720"/>
            <a:ext cx="20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Malad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asthm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68040" y="2425680"/>
            <a:ext cx="286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NYHA 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IC ré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FC b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ahoma"/>
              </a:rPr>
              <a:t>Troubles conduc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0720" y="18828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Ind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188280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46000" y="188280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Préca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5280" y="2389320"/>
            <a:ext cx="775476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70360" y="4046400"/>
            <a:ext cx="4984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Quel traitement et à quel d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800" y="4621320"/>
            <a:ext cx="9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D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42800" y="462132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Dose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93320" y="462132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Dose 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5127480"/>
            <a:ext cx="9144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2640" y="5243400"/>
            <a:ext cx="446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Carvedilol              KRE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Metoprolol            SELOZ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Bisoprolol           CARDENS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Nebivolol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TEMERIT / NEBIL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61760" y="5243400"/>
            <a:ext cx="390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3,125 mg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50 mg /100m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12,5-25 mg 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200 m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1,25 mg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10 m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1,25 mg       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fr-BE" sz="2000" spc="-1" strike="noStrike">
                <a:solidFill>
                  <a:srgbClr val="000066"/>
                </a:solidFill>
                <a:latin typeface="Tahoma"/>
              </a:rPr>
              <a:t>10 m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27440" y="655308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12880" y="459252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Nom com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398680" y="1219320"/>
            <a:ext cx="4346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Tahoma"/>
              </a:rPr>
              <a:t>Prin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3960" y="1981080"/>
            <a:ext cx="715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START LOW, GO 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Atteindre dose cible (ou plus élevée toléré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Titration &gt; 2 semaines (3 dans IC sévè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Poids, symptomes, FC et 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30400" y="3571920"/>
            <a:ext cx="749124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ahoma"/>
              </a:rPr>
              <a:t>Education du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7800" y="4589640"/>
            <a:ext cx="70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Objectif global du trai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besoin du temps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Tahoma"/>
              </a:rPr>
              <a:t>Information des effets secondaires des t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IC et </a:t>
            </a:r>
            <a:r>
              <a:rPr b="1" lang="fr-BE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-bloqueurs (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7341480" y="655308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84080" y="0"/>
            <a:ext cx="7772400" cy="861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ahoma"/>
              </a:rPr>
              <a:t>BN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127160" y="923760"/>
            <a:ext cx="7051680" cy="5427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325640" y="655308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ahoma"/>
              </a:rPr>
              <a:t>Dr OJ  - 12.01.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6:13:19Z</dcterms:created>
  <dc:creator>JLV</dc:creator>
  <dc:description/>
  <dc:language>en-US</dc:language>
  <cp:lastModifiedBy>mpretori</cp:lastModifiedBy>
  <dcterms:modified xsi:type="dcterms:W3CDTF">2008-01-11T16:28:15Z</dcterms:modified>
  <cp:revision>113</cp:revision>
  <dc:subject/>
  <dc:title>Présentation PowerPoint</dc:title>
</cp:coreProperties>
</file>