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3670-44AD-49E0-A4CE-25059A47E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aj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ercaler Csq sur enfant Diapo suivante+++mère(conflit,dépendance,abando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s de plaisir à d'occuper du 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ins méca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 un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453-7549-4FAA-B554-C030FD70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B93-E8CD-43EF-A1DB-9B78D1F5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5EA-EA21-4091-B567-6D6BB906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283-ABF3-4B89-AC1C-681571D8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ADF7-0AA8-4219-86A3-6E5C7349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1FA-5163-49E6-8EB9-D98AFE2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BDB-9644-4D2F-B84C-D2F64D9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EFC4-6963-47E3-B726-C9CBDD3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4B3-601C-4A82-B41E-C3A65EDD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729A-936A-49E2-9E18-3E711D6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871C-12BD-43ED-B45C-4ADFFA7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556-181B-4B5E-835C-BE67BCD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5C6-8684-45E5-807F-72DABA0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EB0D-6F4E-4782-8D77-72E23A7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EFEB-650D-42DF-873D-F784D01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69E-FFB5-4F7D-BD6D-147D825E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90D8-9F94-4570-8507-8FA3A7DF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1A82-A3AD-495C-929A-38C18B7A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A21B-EF3C-49AB-B915-B39AE4B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DE2D-778F-4EFE-B289-F4B96DF7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F16F-71C7-49C3-B33C-5EF3C668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570A-C44A-448A-9C7C-F8A19C2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470-6406-4492-B194-7BE6046B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A9F8-9384-4FA4-B7BA-CDF45B42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CAC8-2E21-4D7A-9B35-FDEF6C8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7C27-8D01-45BB-B0F0-BFEBC32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BC74-DD6C-49C4-8333-FA6AB70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AD4C-574F-4E49-A2DA-AB9A2F9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FCC4-3C24-4690-BF25-C380ABB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77EF-0B54-461F-A847-1D478D47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FE8-5A2B-4C1B-9924-14FDE13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A53-1995-4ADC-9CDD-357E484B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104-5FB5-4F3D-A669-7C5A5F8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F0C-D5EE-4CF9-B766-22E6DC3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9B5-37B9-40A0-BBB3-EC2E1C7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180-2D85-4E1B-9CF3-55F08F2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76B-C1F8-4F51-B7A6-C2ED4FF26F4B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50A5-567D-4D06-A53A-1643B2038109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4079-ADF0-4BFC-9665-97A3D9A6A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2120760" cy="2781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1050840"/>
            <a:ext cx="61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cc"/>
                </a:solidFill>
                <a:latin typeface="Arial"/>
              </a:rPr>
              <a:t>La Dépression Post-Natale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1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puis les  années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uffisamment diagnostiquée et tra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séquence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Expression de la DPN à travers les signes de souffrance du BB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 du sommeil,hyper vigi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ébés qui pleurent bcp, difficiles à conso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 du to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O,vomissements, co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 alimentaires (jusqu’à l’anorex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e de poids insuffi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ions dermat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s répétées, sans raison ap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Effets de la DPN sur le développement du nourrisson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roubles de l’attach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ttachement est cet ensemble de réactions psychologiques et physiologiques sensorielles qui font que la mère est unique pour l’enfant et l’enfant unique pour sa m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est de bonne qualité,l’enfant à 12 mois supportera de brèves absences de sa mère et pourra être confié faci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st donc dans un cas d’attachement «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utre effet:sur les interactions     mères – bébés marquées par l’absence de plaisir                             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interactions visuelles: contact « œil à œil », plus tard: 2 mois,le sourire en répon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ques faciales…(still 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interactions verbales: façon dont la mère s’adresse au bébé,intonation,paus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interactions corporelles: moins de caresses,gestes d’affection accompagnant les soins , plutôt soins méca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s dysharmonies interacti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Mères déprimées désengagé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lenties,inadéquates,silencieuses,non réactives aux demandes de leur bébé qui arrête de demander et s’enferme dans le silence ou des pleurs incompréhen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Mères déprimées intrusives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euses,agitées,sollicitant leur bébé de façon inappropriée auxquelles l’enfant va aussi répondre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Dysharmonie en spira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ce chez le nouveau-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une chance que la situation s’arrange spontané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le l’intervention d’un tiers peut « limiter les dégâts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nséquences à plus long terme pour l’enfant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ématique de sé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difficile à gé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s cogni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indres à 18 mois et 5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ns d’activités cré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çons plutôt hyperactifs/filles plutôt hyper vigi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ération de la capacité à entrer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avec les autres enfants à 5 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a qualité de la relation avec le père semble protéger efficacement des difficultés d’adaptation à l’éc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cc"/>
                </a:solidFill>
                <a:latin typeface="Arial"/>
              </a:rPr>
              <a:t>Facteurs de risque gynéco-obstétriques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és aux circonstances de l’accouch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-césarienne en urgence, hémorragie de la délivrance(SSP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-angoisse de mort et craintes pour la vie de l’enfant (passage en réa, infections, pathologies lourdes, malformations…séparation précoce d’avec l’enf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esse non désirée, idée d’IV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de préparation à l’accouch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pares et grandes multi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Facteurs de risque socio-économiques  et psychologiques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ement,peu de soutie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oignement de la famille,dérac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és écono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és conjugales,familiales de tou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nces ou abus subis dans l’enfance; Relation difficile à sa propre mère (conflit, dépendance, aband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ils, pertes (mort d’un parent,d’un enfant,BB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CD de dépression, Dépression Pré N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mportance du dépistage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l’échelle EPDS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DS , traduite par N Guede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4 et 6 sem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items à coter de 0 à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sup à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r g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5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rois types de troubles à différencier en Post Partum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by blues ou syndrome du 3ème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sychose puerpé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épression Post Na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01080" cy="81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3280" y="774720"/>
            <a:ext cx="77803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AT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 sup à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 en évidence l’existence d’une D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écessité d’u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 pluridisciplin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ciale,si pbs socio-écono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édicale et/ou paramédicale:  SF,Généraliste, Kiné, puéricultrice, pédiatre,Gynéco, PMI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ce du travail en réseau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é sur notre secteur par l’existence de «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en naître en Arto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» et «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ître dans le Douai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» et une bonne connaissance des professionnels entre 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ofessionnel pourra grâce à la relation de confiance qu’il a établie adresser à des spécialistes du rés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Unité fonctionnelle de périnatalité du Service de psycho pathologie enfant adolescent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les coordonnées du service de psycho-patho de l’enfant et de l’adolescent (201 rue d’Arras, Douai Tel:03270801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r aux patients de prendre contact eux-mêmes , en précisant brièvement le motif de leur appel: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érinat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V avec Dr Hélène Virnot ou l’é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raitemen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e la relation par un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thérapie conjointe mère- bébé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re père-mère-béb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un mode d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nsultations thérapeu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ffectuées en général par le pédopsychiatre )visant à désamorcer la relation négative avec l’enfant,en travaillant sur les conflits passés,son histoire,les répétitions,les projections sur l’e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ppoint chimiothérapeut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a parfois nécessaire durant 3 à 6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re un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hospitalisation en milieu spécialisé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s de psy à Dechy,bébé dans la famille ou en néonat,lits mères-bébés à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Méthodes thérapeutiques (suite)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yage psy à domic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nécessaire si dépression sévère ou si famille « inaccessible » ,réalisé par une inf psy du service de façon hebdo ou bihebdomadaire,Il vise à proposer un support identificatoire aux mères désorganisées dans les soins primaires de puéri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res aides à domic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très  précieuses(SF,puéricultrices,AFA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392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 Post Partum Blu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équent et bénin,2/3 des fe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 émotionnels légers(irritabilité,crise de larm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le 3ème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e de 12 à 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boulement 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a Psychose puerpéra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et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 2 naissances pour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 la première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, incohérence, inadaptation, déconnection de la réalité, hallucinations, dél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cessite une prise en charge psy lourde associant les secteurs de psy adu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a Dépression Post Nata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ent dans l’année qui suit l’accouch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ics de fréquence: 4 à 6 semaines et 6 m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des f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ait:~2 à 5% si pas d’ATC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~25% si ATCD dépressifs ou histoire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le compliq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33% si Dépression Pré N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0% si ATCD de Dépression Po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Aspects sémiologiqu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vent niée par les mères elles-mêmes (évoquent une simple fatigue,craignent d’être blâmées, pression sociétal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installe souvent de façon insidieuse, prolonge un PPB très mar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Symptômes d’une dépression réactionnelle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s fréquents,incompréhen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ilité émotionnelle ou humeur franchement triste (surtout le s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pabilité, h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omnie d’endormissement, cauchema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intes so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énie,épuisement, perte d’é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ilité et agressivité dirigée vers le conjoint, les autres enfants ou le nouveau-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ignes plus caractéristiqu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entiment d’incompétenc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é à assurer son rôle de parent, baisse de l’estime de s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entiment d’incapacité physique à répondre aux besoins du B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 difficulté à établir une relation affective satisfaisante avec le BB(soins mécaniques,rob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ésorgan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s la vie quotid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ent de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olitud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ne pas être com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hobies d’impul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ur de porter le BB, de le laisser tomber, de lui donner son bain, de le noyer, de le casser…) impressionnantes mais rarement agies si les femmes sont sout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isque suicidair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ntiment d’être nécessaire au nourrisson = facteur prote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 disparition doit alerter le profess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re pendant la grossesse et le post partum immédiat,mais ex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éations suicidaires ne sont souvent   révélées que lors de psychothé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3:50:31Z</dcterms:created>
  <dc:creator>*</dc:creator>
  <dc:description/>
  <dc:language>en-US</dc:language>
  <cp:lastModifiedBy>*</cp:lastModifiedBy>
  <dcterms:modified xsi:type="dcterms:W3CDTF">2006-01-19T16:45:58Z</dcterms:modified>
  <cp:revision>73</cp:revision>
  <dc:subject/>
  <dc:title>La dépression Post(péri?)natale</dc:title>
</cp:coreProperties>
</file>