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ADAA-C319-4EA5-AC8E-FB62CB236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DA98-C5F5-42C8-8CC7-838B176E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6497-A073-4D56-81A4-5987CECC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CB21-B500-46A2-84C3-474F54080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A9C94-FC45-4BA9-83E7-4728CF0C4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251C7-3FB4-4DAA-BAB7-A93ED8E7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BA3B3-D781-4B2F-9FD6-85213DCF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554F7-F1B2-431A-8762-0EB1FAD0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2174B-9D73-4A97-B553-50CD63C5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A3F75-2BA2-4721-930E-7189D798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0FB57-27F5-4078-A2D7-03A74CC5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116B-F4A8-4EDE-B21E-DC4DDA4E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DA1FD-60DE-4828-8480-E2B83689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702C3-DFA2-41A0-8129-D097545A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B5E65-B448-4406-8FFD-C412D162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B5940-5A54-4DCB-850A-2A61C79E9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6C928-BA66-43B8-850F-9CE138F72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0F13-B517-474A-A801-5DDE6D7C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1C31-602C-4695-87B3-5A7A6424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5406-A5C0-4587-B736-36F2F1A3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0ED1-1034-4E15-A7D4-D1B1EAEE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E10B-477C-41E7-AF40-AC5BDFF3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CBA4-679C-4343-A370-9E23246B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9F99-D725-4A46-84ED-C0881D25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D32A-2030-46DA-BEE8-BD85FFEB96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6FC7-0202-4A0C-812C-68F22BF031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LE SYNDROME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PREMENSTRUE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6237360"/>
            <a:ext cx="25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00"/>
                </a:solidFill>
                <a:latin typeface="Times New Roman"/>
              </a:rPr>
              <a:t>Docteur Christine ROS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(W1)"/>
              </a:rPr>
              <a:t>MOYENS DIAGNOSTIQU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2421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(W1)"/>
              </a:rPr>
              <a:t>Interrogatoire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(W1)"/>
              </a:rPr>
              <a:t>Autoévaluation sur deux cycle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(W1)"/>
              </a:rPr>
              <a:t>Signes objectif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(W1)"/>
              </a:rPr>
              <a:t>Éliminer les diagnostics différentiel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(W1)"/>
              </a:rPr>
              <a:t>DIAGNOSTICS DIFFERENTIEL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81728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(W1)"/>
              </a:rPr>
              <a:t>Exacerbation cyclique d’un autre trouble.  (dépression, anxiété, endométriose, colopathie, céphalées, migraines, hypothyroïdie…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(W1)"/>
              </a:rPr>
              <a:t>Association du SPM avec un autre troubl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(W1)"/>
              </a:rPr>
              <a:t>Autre trouble non cycliqu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(W1)"/>
              </a:rPr>
              <a:t>PHYSIOPATHOLOG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38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(W1)"/>
              </a:rPr>
              <a:t>Facteurs culturels et sociaux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(W1)"/>
              </a:rPr>
              <a:t>Facteurs psychologique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(W1)"/>
              </a:rPr>
              <a:t>Facteurs hormonaux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(W1)"/>
              </a:rPr>
              <a:t>Troubles hydro électrolytique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(W1)"/>
              </a:rPr>
              <a:t>Perturbations des neurotransmetteur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(W1)"/>
              </a:rPr>
              <a:t>Prostaglandine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(W1)"/>
              </a:rPr>
              <a:t>Facteurs nutritionnel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Facteurs culturels et sociaux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Notion d’impureté des menstruations dans toutes les religions et société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Appréhension de la période des règles vécue comme négativ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Rôle de l’éducatio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Facteurs psychologiqu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Histoire psychologique personnel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PM sévère plus fréquent chez les femmes présentant des troubles psychiatriqu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ffet placebo dans le traitement en faveur d’une participation psychologiqu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Facteurs hormonaux :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        excès d’oestrogènes ou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 déficit en progestéro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Différence de sensibilité aux oestrogènes des femmes souffrant de SPM(origine génétique?)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Insuffisance de progestérone ou de son métabolite l’allopregnanolone qui a un effet anxiolytique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1844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Troubles hydro-électrolytique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86868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Dérégulation de la rétroaction sur le système  rénine-angiotensine qui favorise la rétention de sodium et l’élimination de potassiu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conduisant à la prise de poids et aux oedèmes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Perturbations des neurotransmetteur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érotonin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neurotransmetteur impliqué dans le contrôle de l’humeur, serait diminué,  interdépendance avec les stéroïdes ovarie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ndorphin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eraient diminuées  quand SP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Les prostaglandin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PgE1 a un effet bénéfique, relaxa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Effet positif de son précurseur l’acide gammalinolénique (huile d’onagre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PgE2 et les thromboxanes ont un effet vasoconstricteu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Un métabolisme dévié vers ces dernières formes pourrait être la cause de certains troubles du SP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Facteurs nutritionne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Vitamine B6:cofacteur de la synthèse de neurotransmetteurs (sérotonine,dopamin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Magnésium (effet sur l’humeur), Calcium, Manganèse (corrigent la fuite capillaire): effet évoqu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Ensemble de symptômes physiques et psychologiques gênants , survenant électivement et régulièrement avant les règles et cédant avec celles-ci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(W1)"/>
              </a:rPr>
              <a:t>APPROCHE THERAPEUTIQU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38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(W1)"/>
              </a:rPr>
              <a:t>Relation médecin/patien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(W1)"/>
              </a:rPr>
              <a:t>Prise en compte des symptômes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(W1)"/>
              </a:rPr>
              <a:t>les rattacher ou non  à la période  prémenstruel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(W1)"/>
              </a:rPr>
              <a:t>Rassurer la pati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(W1)"/>
              </a:rPr>
              <a:t>Expliquer le caractère fonctionnel et transitoi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(W1)"/>
              </a:rPr>
              <a:t>Prendre en compte le contexte psychologique, familial et professionne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MOYENS THERAPEUTIQUE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8064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Règles hygiéno-diététiqu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Traitement hormon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Traitements antirétention,antioedémateu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Antiprostaglandi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Association phytominérales,vitami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Psychotrop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900000" y="1473840"/>
            <a:ext cx="4967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9405360" y="3078000"/>
            <a:ext cx="183960" cy="165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ègles hygiéno-diététiqu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Règles hygiéno-diététiqu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147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Durant cette pério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Restreindre l’usage du sel, des hydrates de carbone, des sucres rapides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Éviter les excitants: alcool, café, thé, boissons au col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ugmenter les apports alimentaires en calcium, magnésium et vitamine 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imiter la tension nerveuse,  la fatigue physique, s’organiser une vie calm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ratiquer une activité physique régulière (effet bénéfique des endorphines sur l’humeur), voire relaxante (yoga, stretching, relaxation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LES HORMON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Times New Roman"/>
              </a:rPr>
              <a:t>PROGESTERONE naturelle micronisée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Times New Roman"/>
              </a:rPr>
              <a:t>Capsules à 100;200 m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Times New Roman"/>
              </a:rPr>
              <a:t>PROGESTATIFS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fr-FR" sz="2800" spc="-1" strike="noStrike">
                <a:solidFill>
                  <a:srgbClr val="ffffff"/>
                </a:solidFill>
                <a:latin typeface="Times New Roman"/>
              </a:rPr>
              <a:t>-dydrogestérone (Duphaston)20 mg par jou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fr-FR" sz="2800" spc="-1" strike="noStrike">
                <a:solidFill>
                  <a:srgbClr val="ffffff"/>
                </a:solidFill>
                <a:latin typeface="Times New Roman"/>
              </a:rPr>
              <a:t>-acétate de chlormadinone (Lutéran 5 ou 10 m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fr-FR" sz="2800" spc="-1" strike="noStrike">
                <a:solidFill>
                  <a:srgbClr val="ffffff"/>
                </a:solidFill>
                <a:latin typeface="Times New Roman"/>
              </a:rPr>
              <a:t>-Médrogestone(Colprone 5 m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fr-FR" sz="2800" spc="-1" strike="noStrike">
                <a:solidFill>
                  <a:srgbClr val="ffffff"/>
                </a:solidFill>
                <a:latin typeface="Times New Roman"/>
              </a:rPr>
              <a:t>-Promegestone (Surgestone 0,250 ;0,500 m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fr-FR" sz="2800" spc="-1" strike="noStrike">
                <a:solidFill>
                  <a:srgbClr val="ffffff"/>
                </a:solidFill>
                <a:latin typeface="Times New Roman"/>
              </a:rPr>
              <a:t>-Acétate de nomégestrol (Lutenyl 5m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Times New Roman"/>
              </a:rPr>
              <a:t>Prescrit du 5,10,16 eme au 25 eme jour du cycle selon les symptômes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LES HORMON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OESTROPROGESTATIF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-préférer OP nouvelle génération, éviter P à effet androgéni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-préférer OP monophasique à bi ou triphasi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-intérêt d’un P à effet antiminèralocortico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(drospirénon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-Avenir : schémas continus, actuellement hors AM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ANTI -RETENTION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             ANTI-OEDEMATEUX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VEINOTONIQUES: effet sur les troubles congestif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OP à la Drospirénone (Jasmine) activité antiminéralocorticoi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DIURETIQUES: à EVIT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Cercle vicieux iatrogèn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Spironolactone (Aldacton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UTRES TRAITEM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AINS </a:t>
            </a:r>
            <a:r>
              <a:rPr b="1" i="1" lang="fr-FR" sz="2400" spc="-1" strike="noStrike">
                <a:solidFill>
                  <a:srgbClr val="ffffff"/>
                </a:solidFill>
                <a:latin typeface="Times New Roman"/>
              </a:rPr>
              <a:t>    :     </a:t>
            </a:r>
            <a:r>
              <a:rPr b="1" i="1" lang="fr-FR" sz="2800" spc="-1" strike="noStrike">
                <a:solidFill>
                  <a:srgbClr val="ffffff"/>
                </a:solidFill>
                <a:latin typeface="Times New Roman"/>
              </a:rPr>
              <a:t>dans les formes douloureu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fr-FR" sz="2800" spc="-1" strike="noStrike">
                <a:solidFill>
                  <a:srgbClr val="ffffff"/>
                </a:solidFill>
                <a:latin typeface="Times New Roman"/>
              </a:rPr>
              <a:t>(baisse de PGE2 vasoconstrictrice) acide méfénamique (Ponstyl) ,flubiprofène (Antadys),ibuprofène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Times New Roman"/>
              </a:rPr>
              <a:t>Vitamine E (bénéfice sur les mastodynies),Vitamine B6( à dose faible car neurotoxicité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Times New Roman"/>
              </a:rPr>
              <a:t>Suppléments minéraux: Calcium, Magnésium, Manganèse  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Times New Roman"/>
              </a:rPr>
              <a:t>HUILE D’ONAGRE</a:t>
            </a:r>
            <a:r>
              <a:rPr b="1" i="1" lang="fr-FR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fr-FR" sz="2400" spc="-1" strike="noStrike">
                <a:solidFill>
                  <a:srgbClr val="ffffff"/>
                </a:solidFill>
                <a:latin typeface="Times New Roman"/>
              </a:rPr>
              <a:t>(augmentation de PGE1 relaxante).</a:t>
            </a:r>
            <a:r>
              <a:rPr b="1" i="1" lang="fr-FR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Homéopathie, Acupuncture,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PSYCHOTROP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1844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NHIBITEURS SELECTIFS DE LA RECAPTURE DE LA SEROTONIN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NXIOLYTIQUES: risques de dépend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39640" y="0"/>
            <a:ext cx="8964000" cy="6478920"/>
            <a:chOff x="539640" y="0"/>
            <a:chExt cx="8964000" cy="6478920"/>
          </a:xfrm>
        </p:grpSpPr>
        <p:cxnSp>
          <p:nvCxnSpPr>
            <p:cNvPr id="141" name="_s114718"/>
            <p:cNvCxnSpPr>
              <a:stCxn id="142" idx="1"/>
              <a:endCxn id="143" idx="2"/>
            </p:cNvCxnSpPr>
            <p:nvPr/>
          </p:nvCxnSpPr>
          <p:spPr>
            <a:xfrm rot="10800000">
              <a:off x="6017040" y="4711320"/>
              <a:ext cx="498600" cy="1178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4" name="_s114706"/>
            <p:cNvCxnSpPr>
              <a:stCxn id="145" idx="1"/>
              <a:endCxn id="146" idx="2"/>
            </p:cNvCxnSpPr>
            <p:nvPr/>
          </p:nvCxnSpPr>
          <p:spPr>
            <a:xfrm rot="10800000">
              <a:off x="2032920" y="4711320"/>
              <a:ext cx="498600" cy="1178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7" name="_s114704"/>
            <p:cNvCxnSpPr>
              <a:stCxn id="146" idx="0"/>
              <a:endCxn id="148" idx="2"/>
            </p:cNvCxnSpPr>
            <p:nvPr/>
          </p:nvCxnSpPr>
          <p:spPr>
            <a:xfrm flipV="1">
              <a:off x="2033640" y="2944800"/>
              <a:ext cx="3960" cy="589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9" name="_s114702"/>
            <p:cNvCxnSpPr>
              <a:stCxn id="143" idx="0"/>
              <a:endCxn id="150" idx="2"/>
            </p:cNvCxnSpPr>
            <p:nvPr/>
          </p:nvCxnSpPr>
          <p:spPr>
            <a:xfrm flipV="1">
              <a:off x="6017760" y="2944800"/>
              <a:ext cx="3960" cy="589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1" name="_s114700"/>
            <p:cNvCxnSpPr>
              <a:stCxn id="150" idx="0"/>
              <a:endCxn id="152" idx="2"/>
            </p:cNvCxnSpPr>
            <p:nvPr/>
          </p:nvCxnSpPr>
          <p:spPr>
            <a:xfrm flipV="1" rot="16200000">
              <a:off x="4726440" y="475920"/>
              <a:ext cx="589680" cy="1992600"/>
            </a:xfrm>
            <a:prstGeom prst="bentConnector3">
              <a:avLst>
                <a:gd name="adj1" fmla="val 1936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3" name="_s114698"/>
            <p:cNvCxnSpPr>
              <a:stCxn id="148" idx="0"/>
              <a:endCxn id="152" idx="2"/>
            </p:cNvCxnSpPr>
            <p:nvPr/>
          </p:nvCxnSpPr>
          <p:spPr>
            <a:xfrm flipH="1" flipV="1" rot="5400000">
              <a:off x="2734560" y="475920"/>
              <a:ext cx="589680" cy="1992600"/>
            </a:xfrm>
            <a:prstGeom prst="bentConnector3">
              <a:avLst>
                <a:gd name="adj1" fmla="val 1936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52" name="_s114694"/>
            <p:cNvSpPr/>
            <p:nvPr/>
          </p:nvSpPr>
          <p:spPr>
            <a:xfrm>
              <a:off x="2531520" y="0"/>
              <a:ext cx="2988000" cy="117792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</a:rPr>
                <a:t>SPM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_s114695"/>
            <p:cNvSpPr/>
            <p:nvPr/>
          </p:nvSpPr>
          <p:spPr>
            <a:xfrm>
              <a:off x="539640" y="1766880"/>
              <a:ext cx="2988000" cy="117792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ffff"/>
                  </a:solidFill>
                  <a:latin typeface="Times New Roman"/>
                </a:rPr>
                <a:t>SPM gênant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_s114697"/>
            <p:cNvSpPr/>
            <p:nvPr/>
          </p:nvSpPr>
          <p:spPr>
            <a:xfrm>
              <a:off x="4523760" y="1766880"/>
              <a:ext cx="2988000" cy="117792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ffff"/>
                  </a:solidFill>
                  <a:latin typeface="Times New Roman"/>
                </a:rPr>
                <a:t>SPM modéré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114701"/>
            <p:cNvSpPr/>
            <p:nvPr/>
          </p:nvSpPr>
          <p:spPr>
            <a:xfrm>
              <a:off x="4523760" y="3534120"/>
              <a:ext cx="2988000" cy="117792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Inform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Conseils hygiéno-diététiqu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Bilan à 3 moi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_s114703"/>
            <p:cNvSpPr/>
            <p:nvPr/>
          </p:nvSpPr>
          <p:spPr>
            <a:xfrm>
              <a:off x="539640" y="3534120"/>
              <a:ext cx="2988000" cy="117792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Information,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conseils hygiéno-diététiqu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Traitement médicamenteu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Bilan à 3 moi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_s114705"/>
            <p:cNvSpPr/>
            <p:nvPr/>
          </p:nvSpPr>
          <p:spPr>
            <a:xfrm>
              <a:off x="2531520" y="5301000"/>
              <a:ext cx="2988000" cy="117792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Si efficace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essai d’arrêt après 6 moi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Sinon changer de produi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ou de dos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114717"/>
            <p:cNvSpPr/>
            <p:nvPr/>
          </p:nvSpPr>
          <p:spPr>
            <a:xfrm>
              <a:off x="6515640" y="5301000"/>
              <a:ext cx="2988000" cy="117792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Rémission des troubl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Sin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Traiteme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médicamenteu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La multiplicité des symptômes et leur variabilité d’une femme à l’autre , d’un cycle à l’autre, nécessite une prise en charge individuelle qui commence par l’écoute, l’information, le conseil et s’accompagne  d’une médication personnalisée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HISTORIQU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fr-FR" sz="2400" spc="-1" strike="noStrike">
                <a:solidFill>
                  <a:srgbClr val="ffffff"/>
                </a:solidFill>
                <a:latin typeface="Times New Roman"/>
              </a:rPr>
              <a:t>1999: Les psychiatres parlent de trouble dysphorique prémenstruel (PMDD) qui comporte uniquement des symptômes psychiques. DSMI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Times New Roman"/>
              </a:rPr>
              <a:t>2000: l’American Collége of Obstetricians Gynecologists: le SPM comporte un symptôme affectif et un symptôme somatique. AGOG 2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Times New Roman"/>
              </a:rPr>
              <a:t>La dernière classification internationale des maladies ne considère que la chronologie des troubles qui peuvent être de nature psychiques et /ou physiques. ICD 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EPIDEMIOLOG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2205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70 à 90% des femmes en période d’activité génitale présentent des symptômes prémenstrue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20 à 40% éprouvent une gêne psychologique et/ou physiqu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2 à 15% sont concernées par des syndromes prémenstruels sévè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EVOLUTIO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ELON L’AG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20-25 ans : r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30-40-45 ans : fréquent, manifestations oedémateuses croissantes , souvent désir contraceptif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40-45-50 ans : aggravation des troubles, mastodynies, prise de poids, étape physique et psychiqu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(W1)"/>
              </a:rPr>
              <a:t>SYMPTOMATOLOG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Times New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(W1)"/>
              </a:rPr>
              <a:t>Signes physiqu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Times New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(W1)"/>
              </a:rPr>
              <a:t>Signes psychologiqu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(W1)"/>
              </a:rPr>
              <a:t>SIGNES PHYSIQU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(W1)"/>
              </a:rPr>
              <a:t>Seins douloureux et/ou tendu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(W1)"/>
              </a:rPr>
              <a:t>Gêne ou douleurs abdominale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(W1)"/>
              </a:rPr>
              <a:t>Signe de rétention: troubles veineux, oedèmes, prise de poid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(W1)"/>
              </a:rPr>
              <a:t>Troubles digestifs, urinair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(W1)"/>
              </a:rPr>
              <a:t>Troubles cutané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(W1)"/>
              </a:rPr>
              <a:t> </a:t>
            </a:r>
            <a:r>
              <a:rPr b="1" i="1" lang="fr-FR" sz="3200" spc="-1" strike="noStrike">
                <a:solidFill>
                  <a:srgbClr val="ffffff"/>
                </a:solidFill>
                <a:latin typeface="Times New (W1)"/>
              </a:rPr>
              <a:t>Douleurs articulaires ou musculaires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IGNE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PSYCHOLOGIQU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nstabilité de l’humeu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rritabilité,agressivité,colè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Humeur dépressi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Fatigue,manque d’énergi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Retrait soc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ifficulté de concentr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éphalées de tens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ugmentation de l’appétit et envie impérieuse de certains alim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(W1)"/>
              </a:rPr>
              <a:t>DIAGNOSTIC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(W1)"/>
              </a:rPr>
              <a:t>Survenue prémenstruelle des symptômes qui disparaissent dés l’arrivée des règles avec notion d’intervalle libre d’au moins sept jou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(W1)"/>
              </a:rPr>
              <a:t>Répétitivité des troubles lors de chaque cyc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(W1)"/>
              </a:rPr>
              <a:t>Retentissement sur la qualité de vie (physique,psychique,fonctionnelle,santé sociale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20:07:29Z</dcterms:created>
  <dc:creator>ROSSIJ</dc:creator>
  <dc:description/>
  <dc:language>en-US</dc:language>
  <cp:lastModifiedBy>ROSSIJ</cp:lastModifiedBy>
  <dcterms:modified xsi:type="dcterms:W3CDTF">2006-01-20T22:05:24Z</dcterms:modified>
  <cp:revision>22</cp:revision>
  <dc:subject/>
  <dc:title>Diapositive 1</dc:title>
</cp:coreProperties>
</file>