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CCF2-A86B-4EC5-B9D5-987D4A16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841068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72800" y="3869640"/>
            <a:ext cx="841068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6010-0862-4B45-B5B5-7FF3B20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280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272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2F3A-A01B-4DB6-8128-E93BA36C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6440" y="168552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60080" y="168552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72800" y="386964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6440" y="386964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60080" y="386964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974A-132A-4D4D-995E-B70491CD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A298-0046-481B-A1F1-98BFDEB7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72800" y="1685520"/>
            <a:ext cx="8410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0AF-CA87-44C6-90C8-D2153CB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84106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6BB5-B439-49BA-9B03-F82D213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B02-16A9-4C4F-9468-B6BAE0E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C23-876D-4DB7-A217-038AA677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73160" y="271440"/>
            <a:ext cx="842328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2852-9482-42FB-9384-5352635C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7280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5F9-D416-4E0D-B30F-395E240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72800" y="1685520"/>
            <a:ext cx="8410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9BF8-C321-4129-AD06-B298F1C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8272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E58F-E680-4D5D-BBC6-0856139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72800" y="3869640"/>
            <a:ext cx="841068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E4D2-E6B5-4421-974D-4F0F1087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841068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72800" y="3869640"/>
            <a:ext cx="841068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534-37F2-4D3F-A071-33DF414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7280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8272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B84-3054-4F6A-968B-FDF34645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16440" y="168552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60080" y="168552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72800" y="386964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16440" y="386964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60080" y="3869640"/>
            <a:ext cx="270792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368B-20E0-4979-8E27-284192E0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84106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E75F-DE1E-42E0-8BD3-F709F69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7DA6-ADB3-4E44-B2DD-DC7D3CF7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EA61-D714-4DFE-9F92-C973DD5E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73160" y="271440"/>
            <a:ext cx="842328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35B5-D074-4182-8523-2455F4F9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7280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62C8-3080-4F1E-B100-E3C680E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2720" y="386964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C257-00F5-4972-9753-D12899D8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280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2720" y="1685520"/>
            <a:ext cx="41043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72800" y="3869640"/>
            <a:ext cx="841068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3C76-F772-4CC0-8F91-1E04587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2800" y="1685520"/>
            <a:ext cx="84106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e9b0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2800" y="6474960"/>
            <a:ext cx="206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29680" y="6474960"/>
            <a:ext cx="20635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5DFB-3382-49F4-9299-E11BEA1A108B}" type="slidenum">
              <a:rPr b="0" lang="fr-FR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714480" y="6474960"/>
            <a:ext cx="31366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6700680" y="2908080"/>
            <a:ext cx="609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385920"/>
            <a:ext cx="1047240" cy="457200"/>
            <a:chOff x="0" y="385920"/>
            <a:chExt cx="1047240" cy="457200"/>
          </a:xfrm>
        </p:grpSpPr>
        <p:sp>
          <p:nvSpPr>
            <p:cNvPr id="43" name=""/>
            <p:cNvSpPr/>
            <p:nvPr/>
          </p:nvSpPr>
          <p:spPr>
            <a:xfrm>
              <a:off x="0" y="385920"/>
              <a:ext cx="347400" cy="457200"/>
            </a:xfrm>
            <a:custGeom>
              <a:avLst/>
              <a:gdLst/>
              <a:ahLst/>
              <a:rect l="l" t="t" r="r" b="b"/>
              <a:pathLst>
                <a:path w="202" h="288">
                  <a:moveTo>
                    <a:pt x="0" y="0"/>
                  </a:moveTo>
                  <a:lnTo>
                    <a:pt x="201" y="0"/>
                  </a:lnTo>
                  <a:lnTo>
                    <a:pt x="165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1480" y="385920"/>
              <a:ext cx="286920" cy="457200"/>
            </a:xfrm>
            <a:custGeom>
              <a:avLst/>
              <a:gdLst/>
              <a:ahLst/>
              <a:rect l="l" t="t" r="r" b="b"/>
              <a:pathLst>
                <a:path w="167" h="288">
                  <a:moveTo>
                    <a:pt x="34" y="0"/>
                  </a:moveTo>
                  <a:lnTo>
                    <a:pt x="0" y="287"/>
                  </a:lnTo>
                  <a:lnTo>
                    <a:pt x="132" y="287"/>
                  </a:lnTo>
                  <a:lnTo>
                    <a:pt x="16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240" y="385920"/>
              <a:ext cx="239040" cy="457200"/>
            </a:xfrm>
            <a:custGeom>
              <a:avLst/>
              <a:gdLst/>
              <a:ahLst/>
              <a:rect l="l" t="t" r="r" b="b"/>
              <a:pathLst>
                <a:path w="139" h="288">
                  <a:moveTo>
                    <a:pt x="35" y="0"/>
                  </a:moveTo>
                  <a:lnTo>
                    <a:pt x="0" y="287"/>
                  </a:lnTo>
                  <a:lnTo>
                    <a:pt x="104" y="287"/>
                  </a:lnTo>
                  <a:lnTo>
                    <a:pt x="138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5520" y="385920"/>
              <a:ext cx="176760" cy="457200"/>
            </a:xfrm>
            <a:custGeom>
              <a:avLst/>
              <a:gdLst/>
              <a:ahLst/>
              <a:rect l="l" t="t" r="r" b="b"/>
              <a:pathLst>
                <a:path w="103" h="288">
                  <a:moveTo>
                    <a:pt x="34" y="0"/>
                  </a:moveTo>
                  <a:lnTo>
                    <a:pt x="0" y="287"/>
                  </a:lnTo>
                  <a:lnTo>
                    <a:pt x="68" y="287"/>
                  </a:lnTo>
                  <a:lnTo>
                    <a:pt x="102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7000" y="385920"/>
              <a:ext cx="120240" cy="457200"/>
            </a:xfrm>
            <a:custGeom>
              <a:avLst/>
              <a:gdLst/>
              <a:ahLst/>
              <a:rect l="l" t="t" r="r" b="b"/>
              <a:pathLst>
                <a:path w="70" h="288">
                  <a:moveTo>
                    <a:pt x="33" y="0"/>
                  </a:moveTo>
                  <a:lnTo>
                    <a:pt x="0" y="287"/>
                  </a:lnTo>
                  <a:lnTo>
                    <a:pt x="35" y="287"/>
                  </a:lnTo>
                  <a:lnTo>
                    <a:pt x="69" y="0"/>
                  </a:lnTo>
                  <a:lnTo>
                    <a:pt x="3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07920" y="6029280"/>
            <a:ext cx="8988120" cy="316080"/>
            <a:chOff x="907920" y="6029280"/>
            <a:chExt cx="8988120" cy="316080"/>
          </a:xfrm>
        </p:grpSpPr>
        <p:sp>
          <p:nvSpPr>
            <p:cNvPr id="49" name=""/>
            <p:cNvSpPr/>
            <p:nvPr/>
          </p:nvSpPr>
          <p:spPr>
            <a:xfrm>
              <a:off x="907920" y="6267600"/>
              <a:ext cx="8988120" cy="77760"/>
            </a:xfrm>
            <a:custGeom>
              <a:avLst/>
              <a:gdLst/>
              <a:ahLst/>
              <a:rect l="l" t="t" r="r" b="b"/>
              <a:pathLst>
                <a:path w="5226" h="49">
                  <a:moveTo>
                    <a:pt x="0" y="48"/>
                  </a:moveTo>
                  <a:lnTo>
                    <a:pt x="5225" y="48"/>
                  </a:lnTo>
                  <a:lnTo>
                    <a:pt x="522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7080" y="6148440"/>
              <a:ext cx="8958960" cy="77760"/>
            </a:xfrm>
            <a:custGeom>
              <a:avLst/>
              <a:gdLst/>
              <a:ahLst/>
              <a:rect l="l" t="t" r="r" b="b"/>
              <a:pathLst>
                <a:path w="5209" h="49">
                  <a:moveTo>
                    <a:pt x="0" y="48"/>
                  </a:moveTo>
                  <a:lnTo>
                    <a:pt x="5208" y="48"/>
                  </a:lnTo>
                  <a:lnTo>
                    <a:pt x="5208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66240" y="6029280"/>
              <a:ext cx="8929800" cy="81000"/>
            </a:xfrm>
            <a:custGeom>
              <a:avLst/>
              <a:gdLst/>
              <a:ahLst/>
              <a:rect l="l" t="t" r="r" b="b"/>
              <a:pathLst>
                <a:path w="5192" h="51">
                  <a:moveTo>
                    <a:pt x="0" y="50"/>
                  </a:moveTo>
                  <a:lnTo>
                    <a:pt x="5191" y="48"/>
                  </a:lnTo>
                  <a:lnTo>
                    <a:pt x="5191" y="0"/>
                  </a:lnTo>
                  <a:lnTo>
                    <a:pt x="12" y="0"/>
                  </a:lnTo>
                  <a:lnTo>
                    <a:pt x="0" y="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743040" y="6474960"/>
            <a:ext cx="20635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84360" y="6474960"/>
            <a:ext cx="31366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098840" y="6474960"/>
            <a:ext cx="206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CC50-D3AA-41B5-B805-7A56B752C472}" type="slidenum">
              <a:rPr b="0" lang="fr-FR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997840" y="6324480"/>
            <a:ext cx="82548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440" y="6324480"/>
            <a:ext cx="908280" cy="46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6701400" y="2907000"/>
            <a:ext cx="60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Document réservé à l’usage des visiteurs médicaux Eisai Pfi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42004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500" spc="-1" strike="noStrike">
                <a:solidFill>
                  <a:srgbClr val="fafd00"/>
                </a:solidFill>
                <a:latin typeface="Comic Sans MS"/>
              </a:rPr>
              <a:t>EHPAD, </a:t>
            </a:r>
            <a:br>
              <a:rPr sz="5500"/>
            </a:br>
            <a:r>
              <a:rPr b="1" i="1" lang="fr-FR" sz="5500" spc="-1" strike="noStrike">
                <a:solidFill>
                  <a:srgbClr val="fafd00"/>
                </a:solidFill>
                <a:latin typeface="Comic Sans MS"/>
              </a:rPr>
              <a:t>Médecin Coordonnateur, Médecin Traitant.</a:t>
            </a:r>
            <a:endParaRPr b="0" i="1" lang="en-US" sz="55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631800" y="5950080"/>
            <a:ext cx="88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21/01/2006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Dr Gérard DOHE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26080" y="4653000"/>
            <a:ext cx="38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écret n°2005-560 du 27 mai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3160" y="2714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afd00"/>
                </a:solidFill>
                <a:latin typeface="Book Antiqua"/>
              </a:rPr>
              <a:t>Le Dossier Médical</a:t>
            </a:r>
            <a:r>
              <a:rPr b="0" i="1" lang="fr-FR" sz="4400" spc="-1" strike="noStrike">
                <a:solidFill>
                  <a:srgbClr val="fafd00"/>
                </a:solidFill>
                <a:latin typeface="Book Antiqua"/>
              </a:rPr>
              <a:t> </a:t>
            </a: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2160" y="3141720"/>
            <a:ext cx="2448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99ffcc"/>
                </a:solidFill>
                <a:uFillTx/>
                <a:latin typeface="Book Antiqua"/>
              </a:rPr>
              <a:t>Contena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6537240" y="31417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cc66"/>
                </a:solidFill>
                <a:uFillTx/>
                <a:latin typeface="Book Antiqua"/>
                <a:ea typeface="Arial"/>
              </a:rPr>
              <a:t>Cont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1800" y="1484280"/>
            <a:ext cx="2089080" cy="1440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29240" y="1484280"/>
            <a:ext cx="2232000" cy="1440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75880" y="5157720"/>
            <a:ext cx="289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Book Antiqua"/>
                <a:ea typeface="Arial"/>
              </a:rPr>
              <a:t>Médec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Book Antiqua"/>
                <a:ea typeface="Arial"/>
              </a:rPr>
              <a:t>Coordonna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7840" y="51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Book Antiqua"/>
                <a:ea typeface="Arial"/>
              </a:rPr>
              <a:t>Médec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Book Antiqua"/>
                <a:ea typeface="Arial"/>
              </a:rPr>
              <a:t>Trai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4005360"/>
            <a:ext cx="0" cy="100800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61240" y="4005360"/>
            <a:ext cx="0" cy="100800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26600" y="3645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= Dossier 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44520" y="549000"/>
            <a:ext cx="554508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Les Conventions</a:t>
            </a:r>
            <a:r>
              <a:rPr b="0" i="1" lang="fr-FR" sz="4000" spc="-1" strike="noStrike">
                <a:solidFill>
                  <a:srgbClr val="fafd00"/>
                </a:solidFill>
                <a:latin typeface="Book Antiqua"/>
              </a:rPr>
              <a:t> </a:t>
            </a:r>
            <a:br>
              <a:rPr sz="4000"/>
            </a:br>
            <a:r>
              <a:rPr b="0" i="1" lang="fr-FR" sz="4000" spc="-1" strike="noStrike">
                <a:solidFill>
                  <a:srgbClr val="fafd00"/>
                </a:solidFill>
                <a:latin typeface="Book Antiqua"/>
              </a:rPr>
              <a:t>vers </a:t>
            </a:r>
            <a:endParaRPr b="0" i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800" y="3645000"/>
            <a:ext cx="3456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9ffcc"/>
                </a:solidFill>
                <a:latin typeface="Book Antiqua"/>
              </a:rPr>
              <a:t>La Vil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cc"/>
                </a:solidFill>
                <a:latin typeface="Book Antiqua"/>
              </a:rPr>
              <a:t>(Radiologues, Biologie … 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5024520" y="3716280"/>
            <a:ext cx="4881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Book Antiqua"/>
                <a:ea typeface="Arial"/>
              </a:rPr>
              <a:t>L’Hôpi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Book Antiqua"/>
                <a:ea typeface="Arial"/>
              </a:rPr>
              <a:t>(Urgences, Accès direct Gériatrique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13240" y="1773360"/>
            <a:ext cx="2016360" cy="16556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04880" y="1773360"/>
            <a:ext cx="1942920" cy="158436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07800" y="404640"/>
            <a:ext cx="39610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99ffcc"/>
                </a:solidFill>
                <a:latin typeface="Book Antiqua"/>
              </a:rPr>
              <a:t>E.H.P.A.D</a:t>
            </a:r>
            <a:endParaRPr b="0" i="1" lang="en-US" sz="6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0" name=""/>
          <p:cNvSpPr/>
          <p:nvPr/>
        </p:nvSpPr>
        <p:spPr>
          <a:xfrm>
            <a:off x="272880" y="4292640"/>
            <a:ext cx="9296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ccff"/>
                </a:solidFill>
                <a:latin typeface="Times New Roman"/>
              </a:rPr>
              <a:t>Médecin</a:t>
            </a:r>
            <a:r>
              <a:rPr b="1" lang="fr-FR" sz="30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fr-FR" sz="4000" spc="-1" strike="noStrike">
                <a:solidFill>
                  <a:srgbClr val="ffff99"/>
                </a:solidFill>
                <a:latin typeface="Times New Roman"/>
              </a:rPr>
              <a:t>Médec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ccff"/>
                </a:solidFill>
                <a:latin typeface="Times New Roman"/>
              </a:rPr>
              <a:t>Coordonnateur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fr-FR" sz="4000" spc="-1" strike="noStrike">
                <a:solidFill>
                  <a:srgbClr val="ffff99"/>
                </a:solidFill>
                <a:latin typeface="Times New Roman"/>
              </a:rPr>
              <a:t>Traita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523880"/>
            <a:ext cx="1981080" cy="2133720"/>
          </a:xfrm>
          <a:prstGeom prst="leftRightArrow">
            <a:avLst>
              <a:gd name="adj1" fmla="val 50000"/>
              <a:gd name="adj2" fmla="val 19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437920" y="1828800"/>
            <a:ext cx="2133720" cy="2133720"/>
          </a:xfrm>
          <a:prstGeom prst="line">
            <a:avLst/>
          </a:prstGeom>
          <a:ln w="76320">
            <a:solidFill>
              <a:srgbClr val="fe9b0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05120"/>
            <a:ext cx="2133720" cy="2133360"/>
          </a:xfrm>
          <a:prstGeom prst="line">
            <a:avLst/>
          </a:prstGeom>
          <a:ln w="76320">
            <a:solidFill>
              <a:srgbClr val="fe9b0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124080" y="4495680"/>
            <a:ext cx="3733920" cy="0"/>
          </a:xfrm>
          <a:prstGeom prst="line">
            <a:avLst/>
          </a:prstGeom>
          <a:ln w="76320">
            <a:solidFill>
              <a:srgbClr val="fe9b0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40160" y="3141720"/>
            <a:ext cx="295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ff99ff"/>
                </a:solidFill>
                <a:latin typeface="Book Antiqua"/>
                <a:ea typeface="Arial"/>
              </a:rPr>
              <a:t>Résiden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fafd00"/>
                </a:solidFill>
                <a:latin typeface="Comic Sans MS"/>
              </a:rPr>
              <a:t>E.H.P.A.D.</a:t>
            </a:r>
            <a:endParaRPr b="0" i="1" lang="en-US" sz="5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07800" y="1483920"/>
            <a:ext cx="4496040" cy="41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99"/>
                </a:solidFill>
                <a:latin typeface="Comic Sans MS"/>
              </a:rPr>
              <a:t>E</a:t>
            </a:r>
            <a:r>
              <a:rPr b="0" lang="fr-FR" sz="3500" spc="-1" strike="noStrike">
                <a:solidFill>
                  <a:srgbClr val="ffffff"/>
                </a:solidFill>
                <a:latin typeface="Comic Sans MS"/>
              </a:rPr>
              <a:t>tablissement d’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99"/>
                </a:solidFill>
                <a:latin typeface="Comic Sans MS"/>
              </a:rPr>
              <a:t>H</a:t>
            </a:r>
            <a:r>
              <a:rPr b="0" lang="fr-FR" sz="3500" spc="-1" strike="noStrike">
                <a:solidFill>
                  <a:srgbClr val="ffffff"/>
                </a:solidFill>
                <a:latin typeface="Comic Sans MS"/>
              </a:rPr>
              <a:t>ébergement pour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99"/>
                </a:solidFill>
                <a:latin typeface="Comic Sans MS"/>
              </a:rPr>
              <a:t>P</a:t>
            </a:r>
            <a:r>
              <a:rPr b="0" lang="fr-FR" sz="3500" spc="-1" strike="noStrike">
                <a:solidFill>
                  <a:srgbClr val="ffffff"/>
                </a:solidFill>
                <a:latin typeface="Comic Sans MS"/>
              </a:rPr>
              <a:t>ersonnes 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99"/>
                </a:solidFill>
                <a:latin typeface="Comic Sans MS"/>
              </a:rPr>
              <a:t>A</a:t>
            </a:r>
            <a:r>
              <a:rPr b="0" lang="fr-FR" sz="3500" spc="-1" strike="noStrike">
                <a:solidFill>
                  <a:srgbClr val="ffffff"/>
                </a:solidFill>
                <a:latin typeface="Comic Sans MS"/>
              </a:rPr>
              <a:t>gées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99"/>
                </a:solidFill>
                <a:latin typeface="Comic Sans MS"/>
              </a:rPr>
              <a:t>D</a:t>
            </a:r>
            <a:r>
              <a:rPr b="0" lang="fr-FR" sz="3500" spc="-1" strike="noStrike">
                <a:solidFill>
                  <a:srgbClr val="ffffff"/>
                </a:solidFill>
                <a:latin typeface="Comic Sans MS"/>
              </a:rPr>
              <a:t>épendantes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" y="6124680"/>
            <a:ext cx="89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Les Logis Douaisiens, Sainte Marie, Jean Menu, Les Augustins, Pierre Wautriche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7680" y="1371600"/>
            <a:ext cx="941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05520" y="4076640"/>
            <a:ext cx="363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Comic Sans MS"/>
              </a:rPr>
              <a:t>E.H.P.A.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5480" y="1668600"/>
            <a:ext cx="8817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1760" y="162864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Héber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1760" y="62064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Dépend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07760" y="14130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So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895480"/>
            <a:ext cx="182880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895480"/>
            <a:ext cx="144792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4520" y="2060640"/>
            <a:ext cx="0" cy="15904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2160" y="3141720"/>
            <a:ext cx="1422360" cy="79200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536880" y="3068640"/>
            <a:ext cx="1295640" cy="7840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36520" y="57340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Times New Roman"/>
              </a:rPr>
              <a:t>Hébergement au Long Cours, Hébergement Temporaire, Accueil de Jo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2421000"/>
            <a:ext cx="21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De l’Etabliss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4240" y="14842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Conseil Géné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050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Sécurité Socia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et DD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5229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afd00"/>
                </a:solidFill>
                <a:latin typeface="Book Antiqua"/>
                <a:ea typeface="Arial"/>
              </a:rPr>
              <a:t>Accord Tripartite </a:t>
            </a:r>
            <a:r>
              <a:rPr b="1" lang="en-GB" sz="1800" spc="-1" strike="noStrike">
                <a:solidFill>
                  <a:srgbClr val="fe9b03"/>
                </a:solidFill>
                <a:latin typeface="Book Antiqua"/>
                <a:ea typeface="Arial"/>
              </a:rPr>
              <a:t>Arrêté du 26 Avril 1999 </a:t>
            </a:r>
            <a:r>
              <a:rPr b="1" lang="en-GB" sz="1800" spc="-1" strike="noStrike">
                <a:solidFill>
                  <a:srgbClr val="fafd00"/>
                </a:solidFill>
                <a:latin typeface="Book Antiqua"/>
                <a:ea typeface="Arial"/>
              </a:rPr>
              <a:t>signé pour 5 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fafd00"/>
                </a:solidFill>
                <a:latin typeface="Comic Sans MS"/>
              </a:rPr>
              <a:t>Accord Tripartite</a:t>
            </a:r>
            <a:br>
              <a:rPr sz="2500"/>
            </a:br>
            <a:r>
              <a:rPr b="1" i="1" lang="fr-FR" sz="2500" spc="-1" strike="noStrike">
                <a:solidFill>
                  <a:srgbClr val="fafd00"/>
                </a:solidFill>
                <a:latin typeface="Comic Sans MS"/>
              </a:rPr>
              <a:t>E.H.P.A.D</a:t>
            </a:r>
            <a:endParaRPr b="0" i="1" lang="en-US" sz="25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243828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rgothérapeu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040" y="35812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Infirmiè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5360" y="487692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Infirmière Coordonnatr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7640" y="236232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Psycholo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2840" y="358128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quipe d’Anim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5440" y="487692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Médecin Coordonn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905120" y="1371600"/>
            <a:ext cx="1295280" cy="9907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057400" y="1676520"/>
            <a:ext cx="1828800" cy="182880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00040" y="1752480"/>
            <a:ext cx="1219320" cy="297180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1752480"/>
            <a:ext cx="1219320" cy="297180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1600200"/>
            <a:ext cx="1600200" cy="19051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1371600"/>
            <a:ext cx="1523880" cy="8380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9240" y="6021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  <a:ea typeface="Arial"/>
              </a:rPr>
              <a:t>Médecin Libéral ==&gt; Il reste le Médecin Traitant du Rés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39440" y="1773000"/>
            <a:ext cx="726444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« Le Médecin Coordonnateur</a:t>
            </a:r>
            <a:r>
              <a:rPr b="0" i="1" lang="fr-FR" sz="4000" spc="-1" strike="noStrike">
                <a:solidFill>
                  <a:srgbClr val="fafd00"/>
                </a:solidFill>
                <a:latin typeface="Book Antiqua"/>
              </a:rPr>
              <a:t> </a:t>
            </a:r>
            <a:endParaRPr b="0" i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1800" y="3141720"/>
            <a:ext cx="8410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de l’offre de Soins »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4880" y="1773000"/>
            <a:ext cx="532764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 </a:t>
            </a: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Le Médecin Traitant</a:t>
            </a:r>
            <a:endParaRPr b="0" i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4880" y="3284640"/>
            <a:ext cx="84106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reste le Médecin Prescripteur 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899640" y="5445000"/>
            <a:ext cx="82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Médecin Coordonnateur</a:t>
            </a:r>
            <a:r>
              <a:rPr b="0" lang="fr-FR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: </a:t>
            </a:r>
            <a:r>
              <a:rPr b="0" lang="fr-FR" sz="1800" spc="-1" strike="noStrike">
                <a:solidFill>
                  <a:srgbClr val="ffff99"/>
                </a:solidFill>
                <a:latin typeface="Book Antiqua"/>
                <a:ea typeface="Arial"/>
              </a:rPr>
              <a:t>uniquement les Urgences quand il est sur place</a:t>
            </a:r>
            <a:r>
              <a:rPr b="0" lang="fr-FR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92520" y="404640"/>
            <a:ext cx="374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Projet de Vie </a:t>
            </a:r>
            <a:br>
              <a:rPr sz="4000"/>
            </a:br>
            <a:r>
              <a:rPr b="1" i="1" lang="fr-FR" sz="2000" spc="-1" strike="noStrike">
                <a:solidFill>
                  <a:srgbClr val="fafd00"/>
                </a:solidFill>
                <a:latin typeface="Book Antiqua"/>
              </a:rPr>
              <a:t>=</a:t>
            </a: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i="1" lang="fr-FR" sz="2000" spc="-1" strike="noStrike">
                <a:solidFill>
                  <a:srgbClr val="fafd00"/>
                </a:solidFill>
                <a:latin typeface="Book Antiqua"/>
              </a:rPr>
              <a:t>Droits de la Personne âgée</a:t>
            </a:r>
            <a:endParaRPr b="0" i="1" lang="en-US" sz="2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0880" y="2060280"/>
            <a:ext cx="1800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</a:rPr>
              <a:t>Proj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</a:rPr>
              <a:t>d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</a:rPr>
              <a:t>Soi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"/>
          <p:cNvSpPr/>
          <p:nvPr/>
        </p:nvSpPr>
        <p:spPr>
          <a:xfrm>
            <a:off x="6176880" y="1916280"/>
            <a:ext cx="20163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  <a:ea typeface="Arial"/>
              </a:rPr>
              <a:t>Proj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  <a:ea typeface="Arial"/>
              </a:rPr>
              <a:t>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  <a:ea typeface="Arial"/>
              </a:rPr>
              <a:t>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080" y="448308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otoc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08480" y="40053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firm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ordonnat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860640"/>
            <a:ext cx="0" cy="648000"/>
          </a:xfrm>
          <a:prstGeom prst="line">
            <a:avLst/>
          </a:prstGeom>
          <a:ln w="3816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65600" y="4724280"/>
            <a:ext cx="1223640" cy="0"/>
          </a:xfrm>
          <a:prstGeom prst="line">
            <a:avLst/>
          </a:prstGeom>
          <a:ln w="38160">
            <a:solidFill>
              <a:srgbClr val="ff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5240" y="3357720"/>
            <a:ext cx="1871640" cy="863280"/>
          </a:xfrm>
          <a:prstGeom prst="line">
            <a:avLst/>
          </a:prstGeom>
          <a:ln w="38160">
            <a:solidFill>
              <a:srgbClr val="ff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"/>
          <p:cNvCxnSpPr/>
          <p:nvPr/>
        </p:nvCxnSpPr>
        <p:spPr>
          <a:xfrm flipH="1">
            <a:off x="2431440" y="1844640"/>
            <a:ext cx="1656360" cy="937440"/>
          </a:xfrm>
          <a:prstGeom prst="straightConnector1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>
            <a:off x="4808520" y="1844280"/>
            <a:ext cx="1512000" cy="980280"/>
          </a:xfrm>
          <a:prstGeom prst="straightConnector1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312560" y="5734080"/>
            <a:ext cx="75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ffcc"/>
                </a:solidFill>
                <a:latin typeface="Book Antiqua"/>
                <a:ea typeface="Arial"/>
              </a:rPr>
              <a:t>Infirmière Coordonnatrice</a:t>
            </a:r>
            <a:r>
              <a:rPr b="0" lang="fr-FR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: </a:t>
            </a:r>
            <a:r>
              <a:rPr b="0" lang="fr-FR" sz="1800" spc="-1" strike="noStrike">
                <a:solidFill>
                  <a:srgbClr val="ffff99"/>
                </a:solidFill>
                <a:latin typeface="Book Antiqua"/>
                <a:ea typeface="Arial"/>
              </a:rPr>
              <a:t>Vérifie la continuité de la Prise en Ch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5240" y="47628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afd00"/>
                </a:solidFill>
                <a:latin typeface="Book Antiqua"/>
              </a:rPr>
              <a:t>Evaluation</a:t>
            </a:r>
            <a:r>
              <a:rPr b="0" i="1" lang="fr-FR" sz="4000" spc="-1" strike="noStrike">
                <a:solidFill>
                  <a:srgbClr val="fafd00"/>
                </a:solidFill>
                <a:latin typeface="Book Antiqua"/>
              </a:rPr>
              <a:t> </a:t>
            </a:r>
            <a:br>
              <a:rPr sz="4000"/>
            </a:br>
            <a:r>
              <a:rPr b="0" i="1" lang="fr-FR" sz="4000" spc="-1" strike="noStrike">
                <a:solidFill>
                  <a:srgbClr val="fafd00"/>
                </a:solidFill>
                <a:latin typeface="Book Antiqua"/>
              </a:rPr>
              <a:t>(</a:t>
            </a:r>
            <a:r>
              <a:rPr b="1" i="1" lang="fr-FR" sz="2000" spc="-1" strike="noStrike">
                <a:solidFill>
                  <a:srgbClr val="fafd00"/>
                </a:solidFill>
                <a:latin typeface="Book Antiqua"/>
              </a:rPr>
              <a:t>MMS – GDS – Get up and Go Test – Nutrition …</a:t>
            </a:r>
            <a:r>
              <a:rPr b="0" i="1" lang="fr-FR" sz="4000" spc="-1" strike="noStrike">
                <a:solidFill>
                  <a:srgbClr val="fafd00"/>
                </a:solidFill>
                <a:latin typeface="Book Antiqua"/>
              </a:rPr>
              <a:t>) </a:t>
            </a:r>
            <a:endParaRPr b="0" i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5240" y="3357720"/>
            <a:ext cx="2448000" cy="183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ffcc"/>
                </a:solidFill>
                <a:latin typeface="Book Antiqua"/>
              </a:rPr>
              <a:t>Projet d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ffcc"/>
                </a:solidFill>
                <a:latin typeface="Book Antiqua"/>
              </a:rPr>
              <a:t> </a:t>
            </a:r>
            <a:r>
              <a:rPr b="0" lang="fr-FR" sz="3200" spc="-1" strike="noStrike">
                <a:solidFill>
                  <a:srgbClr val="99ffcc"/>
                </a:solidFill>
                <a:latin typeface="Book Antiqua"/>
              </a:rPr>
              <a:t>Soins Individu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14172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  <a:ea typeface="Arial"/>
              </a:rPr>
              <a:t>Transmission a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  <a:ea typeface="Arial"/>
              </a:rPr>
              <a:t>Médec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Book Antiqua"/>
                <a:ea typeface="Arial"/>
              </a:rPr>
              <a:t>Trai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76520" y="1700280"/>
            <a:ext cx="2448000" cy="15127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40160" y="1700280"/>
            <a:ext cx="2449800" cy="14414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34e"/>
            </a:gs>
            <a:gs pos="50000">
              <a:srgbClr val="00279f"/>
            </a:gs>
            <a:gs pos="100000">
              <a:srgbClr val="0013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5240" y="836640"/>
            <a:ext cx="842328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afd00"/>
                </a:solidFill>
                <a:latin typeface="Book Antiqua"/>
              </a:rPr>
              <a:t>Les Admissions</a:t>
            </a:r>
            <a:endParaRPr b="0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1800" y="2276280"/>
            <a:ext cx="8410680" cy="26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ook Antiqua"/>
              </a:rPr>
              <a:t>Le Médecin Coordonnateur donne un avis à la demande du Directeur sur l’adéquation Etablissement – Résid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1:43:55Z</dcterms:created>
  <dc:creator>SAccart</dc:creator>
  <dc:description/>
  <dc:language>en-US</dc:language>
  <cp:lastModifiedBy>Dohein Magali</cp:lastModifiedBy>
  <dcterms:modified xsi:type="dcterms:W3CDTF">2006-01-20T18:10:19Z</dcterms:modified>
  <cp:revision>428</cp:revision>
  <dc:subject/>
  <dc:title>La maladie d’Alzheimer</dc:title>
</cp:coreProperties>
</file>