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42D6-5326-4934-8C4E-826CFEC63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28.xml"/><Relationship Id="rId3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la clientèle  25% des consultants et 10 % des consultantes ont une consommation à risque :tous prodits confon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vec plus ou moins de tole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92280" y="44276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itaires :soma,psychique,psychiatrique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ux :retentissement :familial, scolaire, professionnel ,marginalisation, problèmes avec la  jus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la dependance phy n’est pas démontrée en 2006, on recommande dans certains cas de recourrir à l’hospit , pour le sev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ulm:bronchite,emphysème,cancer,pour les fumeurs de résine  4joints=20 cigaret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SY:altération mémoire, de l’attention , le syndrome amotivationnel , états délirants ; paranoiaques chez sujets prédispo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AL:baisse des performances puis désincertion sociale et scolaire , problémes de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fume pour me calmer,pour oser, pour ne plus pen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méfier de celui qui fume toujours en solitaire  : c’est souvent le signe d’une souffrance psych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25360" y="19796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20280" y="684360"/>
            <a:ext cx="5559480" cy="76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pratique on peut se servir de questionnaires valid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age cannabis est validé aux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 réponses positives à ces questions sont évocatrices d’un usage à risque ; il existe d’autres questionnaires… vous les aurez ds do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07920" y="42116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20640" y="5396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MG , c’est la répétition des rencontres dans le temps et  la prise de conscience des capacités qu’on a à faire changer nos patients qui sont nos principaux out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81000" y="11872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04640" y="395280"/>
            <a:ext cx="5702400" cy="83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umez vous? Vous fumez quo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ite sytématiquement par tous les praticiens ;à tous les patients , l’intervention brève a une efficacité prouvée en santé publique .pour le tabac ,moins pour le cannab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usieurs études nt prouvés que ce type d’intervention a des effets sur réduction des comsomations ,surtout pour alcoo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ins d’étude pour cannab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557360" y="250920"/>
            <a:ext cx="3600360" cy="2327040"/>
          </a:xfrm>
          <a:prstGeom prst="rect">
            <a:avLst/>
          </a:prstGeom>
          <a:ln w="0">
            <a:noFill/>
          </a:ln>
        </p:spPr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557360" y="250920"/>
            <a:ext cx="3600360" cy="232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0" name=""/>
          <p:cNvSpPr/>
          <p:nvPr/>
        </p:nvSpPr>
        <p:spPr>
          <a:xfrm>
            <a:off x="260280" y="2700360"/>
            <a:ext cx="6597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lliance basée sur l’empathie, la comprehension.elle va demander du temps et de la disponibilit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On définit ensemble les causes de la consommation les conséquences de la consom, les modalités ,on aidera le patient à reperer les liens entre les modalités de conso et ses conséquences .(les entretiens motivationn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La décision de consommer ,de modifier sa consommation relève de son propre choix ,école de Bruges.(les thérapies par les solutions redonner le choix au patie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enforcement positif ; le valoriser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oursuivre les entretiens,l’orienter; vers consultations cannabis ; Le médecin généraliste comme  lors d toute prise en charge de problématique addictive ne travaillera pas seul   Il sera se faire aider ,  Aidé par psychologue ,assistante sociale, centre de soins spécialisés si polyconsommation,alcoologu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549000" y="8458200"/>
            <a:ext cx="136440" cy="9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81000" y="50036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20640" y="395280"/>
            <a:ext cx="548640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peut avoir confiance dans nos capacité à amener des changements chez nos patients en dépit du ressentit géné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améliorera notre éfficacité par l’appropriation d’outils spécifiques à  accompagner le chan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e les entretients motivationnels ou la spirale de PROCHAS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ric ,va nous présenter cet outil qu’est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pirale de Prochas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92280" y="4788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 CONTEMPL/ PAS DE CONSCIENCE DU PB: je bois comme tout le mo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EMPL / conscience du pb mais attribué à l’exterieur: ambivalence : il faudrait que j’arrete de fumer pour me sentir mieux mais j’ai peur de grossir et d’être énerv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ISE DE DECISION :j’arrete la  coke j’espère toujours que ça va me stimuler mais en fait c’est un enfer,je ne veux plus continuer comme cela; je sais que j’y arriverais mais pas seul ; comment pouvez vous m’ai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ION ; moment des changements: j’ai arreté ça va mieux  ;mais parfois j’ai des envies de boire et j’ai du mal à refuser un ver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OLIDATION :nouvelles habitudes,nouvelle vie , parfois un faux p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chute =repri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èse du Dr Dervaux psychiatre à Saint- An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e Choquet ,epidemiolgiste responsable de l’équipe santé de l’adolescent à l’INSERM .  L’étude concerne une population d’élève de 12à18 ans scolarisés, tout ven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c pas forcement en démarche de soins; les chiffres avancés sont sans doute sous estimés puisque les ado déscolarisés,souvent plus consommateurs ne sont pas représent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2064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appelle abstinents les élèves qui n’ont jamais ESSAYE ni tabac ,ni alcool,  ni cannabis.entre 12 et 18 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entaire aprs premier point, animationICI on parle de L’expérimentation de substances illicites  ; tabac et alcool sont des substances licites: en terme d’expérimentation elles arrivent avant le cannab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 régulière :alcool et canabis ;10 fois/mo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ac :à partir d’une cigarette /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3D32-BA1D-43CE-93A1-101DFE04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9BDD-578C-4174-BC8F-68B45183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AFC2-032E-4967-8B0F-CA32CCCD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8695-C849-4304-A0BF-4AE73EBA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2A95-2330-47D5-A368-93C5BC8D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CC16-5E35-4F0E-9271-D56DC925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979E-5D99-427D-B1E1-98094F4E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E552-5CC6-4C6F-8F61-4334672D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AE4F-3925-478A-BB57-F4F6BB27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089E-C8B4-4E84-A493-DEE87FBE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B98A-EA68-4DDF-9068-7B4158C0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F485C-CCA1-42FF-B751-420B715B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9408-0639-477B-B572-F96F11E6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CBE5-4C24-4A6E-B56D-9FA5BB24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A43A-7B52-4E13-AA1C-D6028D7F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34CC-6D91-45D0-92AD-CD70155F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6904-AC47-4193-8AD3-D9C1175B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7749-A686-4903-965B-ED809823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0644-06B2-4FD6-9C9F-066C025C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2231-5199-4054-AF13-F4F3737D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7C4D-F9E8-413F-B1B9-16E5CCA8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81F4-D349-4264-80B8-3847DFAF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6C91-7FE1-4B1E-80A7-EBFB6D59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8D90-9D8F-4405-91E8-1E098955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B21E-4143-4A59-9DA0-1F29CD0D46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8A70-B5D6-4BC7-A491-D68D075FDB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136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33cc33"/>
                </a:solidFill>
                <a:uFillTx/>
                <a:latin typeface="Arial"/>
              </a:rPr>
              <a:t>LES PROBLEMES LIES AU CANNABIS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 rot="10800000">
            <a:off x="2268360" y="7100280"/>
            <a:ext cx="64008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Évolution sur 10a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bac et cannabis :l’expérimentation a augmenté en 10 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consommation régulière a connu des évolutions contrasté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ur le tabac consommation régulière en baisse entre 1999 et 200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ur le cannabis ,quelque soit tranche d’age ,quelque soit le sexe ,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a consomm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égulière et l’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expérimen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t doublés en 10 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Évolution sur 10 a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9200" y="2658960"/>
            <a:ext cx="79884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France avec 35 % d’expérimentateur  se situe en tête des pays europé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nsommation de substances psycho activ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Usage si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Usage noci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u ab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se ultime :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dépen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age sim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ge simple , non patholog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puni par la lo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age nocif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ériode caractérisée par l’apparition des dommages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anitai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u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ociau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épend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es de tolér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sevrag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rtement de consommation compulsi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ant la dépendance psycholog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mment reconnaître usage problématiqu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aître les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domma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és à une consommation aigue ,ou à des consommations réguliè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aître les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risq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és à certaines situations, certaines modalités d’usage, à la quantité et à la duré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ommages  consommation aigu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idents:circulation,travail ,domest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ubles comportement: ivresse, délire, anxiété, agressivit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sommations régulièr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ques sanitaires :pulmonaires, cardio-vasculaires, immunita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que psychologique et psychiatriqu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que so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que de dépendance concerne 5 à 10% des consommateurs régul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ertaines situation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ite automob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sse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app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és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240360" cy="291312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5003640" y="4653000"/>
            <a:ext cx="32418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ertaines modalité d’us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te consommation avant 15 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 consom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herche de « défonce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ge auto thérapeut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GE Cannab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z-vous ressenti le besoin de diminuer votre consommation de cannab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re entourage vous a-t-il déjà fait des remarques au sujet de votre consomm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z-vous déjà eu l’impression que vous fumiez trop de cannab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z-vous déjà eu besoin de fumer du cannabis dés le matin pour vous sentir en for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jectifs de prise en char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mener à modifier les comportements de consom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minuer les problèmes médico psycho sociau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duire les risques liés à la consom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Que Peux faire le Médecin Généraliste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 pour toute consommation de substances psycho actives légales ou pas,on définit des seuil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uil d’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inform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uil d’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interven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Que Peux faire le Médecin Généraliste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 le cannab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uil d’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inform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 pour toute consom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uil d’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interven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 consommation  quotidienne, ivresse cannabique (plus de 4 joints),consommation solitaire, consommation avant 15 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Que peut faire le Médecin généraliste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endant la consultation</a:t>
            </a:r>
            <a:r>
              <a:rPr b="0" lang="fr-FR" sz="32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ntervention bréve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00ff00"/>
                </a:solidFill>
                <a:latin typeface="Arial"/>
              </a:rPr>
              <a:t>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n peut proposer: 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e consultation simple</a:t>
            </a:r>
            <a:r>
              <a:rPr b="0" lang="fr-FR" sz="3200" spc="-1" strike="noStrike">
                <a:solidFill>
                  <a:srgbClr val="00ff00"/>
                </a:solidFill>
                <a:latin typeface="Arial"/>
              </a:rPr>
              <a:t> limite entre information et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ider nos patients à changer</a:t>
            </a:r>
            <a:r>
              <a:rPr b="0" lang="fr-FR" sz="3200" spc="-1" strike="noStrike">
                <a:solidFill>
                  <a:srgbClr val="00ff00"/>
                </a:solidFill>
                <a:latin typeface="Arial"/>
              </a:rPr>
              <a:t> :</a:t>
            </a:r>
            <a:r>
              <a:rPr b="1" lang="fr-FR" sz="3200" spc="-1" strike="noStrike">
                <a:solidFill>
                  <a:srgbClr val="00ff00"/>
                </a:solidFill>
                <a:latin typeface="Arial"/>
              </a:rPr>
              <a:t>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vention brèv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dant une consultation tout venan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interroge un patient sur sa consom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Être systématique, sans porter de jug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er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seil sim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ltation courte dédié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qu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ques encour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r une diminution de consom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vention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Processus qui s’inscrit dans le te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établi une Alliance thérapeut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fait parler le patient de sa consom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responsabilise le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l’encou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lui propose un éventail de straté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fdef6"/>
                </a:solidFill>
                <a:latin typeface="Arial"/>
              </a:rPr>
              <a:t>Spirale de Prochask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éorisation des interventions qui permettent le changemen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ès utilisé par les psychothérape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ès utile en médecine génér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mension temporelle de la médecine génér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’applique à tous les domaines de la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app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e actif :TH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écepteurs spécifiques isolés en 19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e n’est pas un opiac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; il n’existe pas de médicament de substitution pour le cannab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2997360"/>
            <a:ext cx="3492360" cy="1655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TEMP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visage de changer de comport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79280" y="0"/>
            <a:ext cx="2232000" cy="13906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E CONTEMP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sommateur satisfa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43280" y="1413000"/>
            <a:ext cx="2808360" cy="1871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PRI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comm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39640" y="5157720"/>
            <a:ext cx="4392720" cy="1511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SE DE DEC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écide de chan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932360" y="4581360"/>
            <a:ext cx="3600360" cy="1511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EPARATION A L’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saie de chan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292720" y="2637000"/>
            <a:ext cx="3851280" cy="1657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ange son comportement de consom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12000" y="620640"/>
            <a:ext cx="2808000" cy="1368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SOLID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 recommence p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76360" y="1268280"/>
            <a:ext cx="71280" cy="16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195640" y="2852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195640" y="2997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348000" y="234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124000" y="2349360"/>
            <a:ext cx="1368360" cy="1150920"/>
          </a:xfrm>
          <a:custGeom>
            <a:avLst/>
            <a:gdLst/>
            <a:ahLst/>
            <a:rect l="l" t="t" r="r" b="b"/>
            <a:pathLst>
              <a:path w="643" h="581">
                <a:moveTo>
                  <a:pt x="643" y="0"/>
                </a:moveTo>
                <a:lnTo>
                  <a:pt x="0" y="581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835280" y="4076640"/>
            <a:ext cx="936360" cy="15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780000" y="5373360"/>
            <a:ext cx="1728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164360" y="378936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4932000" y="2349360"/>
            <a:ext cx="158436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451640" y="184464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50920" y="4724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16720" y="476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16720" y="54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380360" y="188640"/>
            <a:ext cx="0" cy="60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51640" y="2133720"/>
            <a:ext cx="16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T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198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FLEX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nnabis et psychos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débat encore en c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onsommation de cannabis va raccourcir la phase prodromique d’une schizophrén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se qui peut durer 5 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 ne provoque pas la schizophrén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app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consomme fumé ,mélangé au taba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éré : c’est plus r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LES PROBLEMES DU CANNABI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mmation de masse : épidém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oir repérer :Usage simple ,usage nocif ,dépen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naître  et accompagner un usage problématique en médecine général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relation cannabis psych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e consommation de mass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ude Marie Choquet ,et coll.: Les substances psycho actives chez les collégiens et lycéens :consommations en 2003 et évolutions depuis 10 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s chiffr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 abstinents peu nombreu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% des fi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% des garç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s chiffr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expériment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 cannabis ,première substance illicite consommée progresse rapidement entre 12 et 18 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ès faible 12 ans                        augmente rapidement vers 14an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/2 des filles et 2/3 garçons à 18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substances illicites autres que le cannabis sont peu représenté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s chiffr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onsommation réguliè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 cannabis :1% des élèves à 15 a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 passe de 1 à 21% de 15 à 18 ans pour les garçons  et de 1 à 7% pour les fil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és 16 ans ;la consommation régulière de cannabis atteint le niveau de la consommation régulière d’alc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01:05:08Z</dcterms:created>
  <dc:creator>delannoy</dc:creator>
  <dc:description/>
  <dc:language>en-US</dc:language>
  <cp:lastModifiedBy> Dr DELANNOY</cp:lastModifiedBy>
  <dcterms:modified xsi:type="dcterms:W3CDTF">2006-01-19T15:32:35Z</dcterms:modified>
  <cp:revision>29</cp:revision>
  <dc:subject/>
  <dc:title>Diapositive 1</dc:title>
</cp:coreProperties>
</file>