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DD55-C731-4F8A-9BE6-50A62E6F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0343-8694-41D0-99B5-CECD0CFE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ACBF-8E15-4B81-9A96-6F2508B41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4953-AB2F-4B09-A29C-BA30F696E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9F97-2660-45D5-B5AB-AF042E5A2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45EE-D822-40FE-9E29-3C9945BC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C6F1-BA82-4954-9B84-020E9336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DDEE-7B85-4184-A0C0-B7BAD300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8840-9512-49B9-8DA2-D24D9F3D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4BB5-1F22-479D-93F6-77E490E5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40FD-33CA-4431-B47C-7A7A4081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699B-6F64-4E44-AF63-4E107ECC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0EBA-432E-4F85-B2EF-806424E0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32F2-A0AB-49B8-9EDA-B5B1CE04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B72C-6A6D-4B5B-9804-2773C6D0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8146-0499-4457-AB03-AE8A10E59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2BE7-0C15-4355-BAE8-F3CDF5899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77C7-8FF1-4F76-8DB4-E5E7524F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D6BC-4B2B-4953-A5AB-E87AC0C0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41F7-661C-4163-A80E-6DEC10A6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3775-B10B-465C-939B-A05D5A63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F846-E786-4001-8834-6F190BCC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C605-B44A-4EA2-8D14-C2DAEE5C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3078-A781-48CB-9604-5F062197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3F37-705E-48E2-9C6C-5F396407184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FE12-20AE-4249-9E6E-13CBD4020E7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fr-FR" sz="3600" spc="-1" strike="noStrike" u="sng">
                <a:solidFill>
                  <a:srgbClr val="ffffff"/>
                </a:solidFill>
                <a:uFillTx/>
                <a:latin typeface="Verdana"/>
              </a:rPr>
              <a:t>Enquête sur le stress des Médecins Généralistes dans le Douaisi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Verdana"/>
              </a:rPr>
              <a:t>Avec le concours d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Verdana"/>
              </a:rPr>
              <a:t>la société de Médecine de Doua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Samedi 15 Janvier 200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Docteur Philippe REINHARDT, médecin généralist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es résultats se rapprochent de l’enquête de l’académie de médecine publiée dans « Le Généraliste » en mars 2004 et selon laquelle les quatre principales causes de stress des généralistes sont 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. Les charges administrativ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. Un temps de travail excessif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. Les difficultés de remplacement ou de success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. Les difficultés à assurer gardes et astreintes.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1" i="1" lang="en-US" sz="2900" spc="-1" strike="noStrike" u="sng">
                <a:solidFill>
                  <a:srgbClr val="ffffff"/>
                </a:solidFill>
                <a:uFillTx/>
                <a:latin typeface="Verdana"/>
              </a:rPr>
              <a:t>Les manifestations du stres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Verdana"/>
              </a:rPr>
              <a:t>Dans les manifestations psychologiques :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72% d’entre nous souffrent d’irritabilité 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32% d’anxiété. 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31% de lassitude 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17% d’agressivité.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Verdana"/>
              </a:rPr>
              <a:t>Dans les manifestations physiques :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45% des médecins se plaignent            d’insomnie.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28% souffrent de troubles digestifs 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21% de palpitations                                                           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11% d’oppression.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68360" y="333000"/>
            <a:ext cx="8229600" cy="70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 conséquences du stress 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44% estiment que le stress est à l’origine de tensions familiales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30% ont besoin d’une pause dans leur travail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4% auront besoin d’un arrêt de travail d’au moins une journé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Verdana"/>
              </a:rPr>
              <a:t>Les remèdes au stress 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Verdana"/>
              </a:rPr>
              <a:t>Par le dialogue et par l’écoute :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56% parleront avec un proche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34% avec un confrère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21% avec un patient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7% parleront avec un thérapeute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Verdana"/>
              </a:rPr>
              <a:t>L’action est investie comme remède 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63% des médecins pratiquent un sport et y trouvent un anti-stres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50% prennent du repo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33% ont un passe-temps favori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21% ont un engagement associatif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8% ont un engagement religieux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8229600" cy="57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Les recours à des substances 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2% le café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6% les anxiolytique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4% le tabac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0% la phytothérapie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% les anti-dépresseurs 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% l’alcoo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07552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Une autre organisation du travail 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5% travaillent sur rendez-vo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1% s’arrêtent une journée par sema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5% ont un secrétariat tenu par une secrétaire présente au cabinet ou un secrétariat téléphoniqu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3% souhaitent l’arrêt des gard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1% sont en associ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6.L’estimation personnelle du stress 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Verdana"/>
              </a:rPr>
              <a:t>Dans leur vie professionnelle :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74% s’estiment peu ou moyennement stressés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        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26% s’estiment très stressé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2600" spc="-1" strike="noStrike">
                <a:solidFill>
                  <a:srgbClr val="ffffff"/>
                </a:solidFill>
                <a:latin typeface="Verdana"/>
              </a:rPr>
              <a:t>Dans leur vie personnelle 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93% s’estiment peu ou moyennement stressé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7% s’estiment très stressé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aroles de médecins 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69800" y="1130400"/>
          <a:ext cx="7859880" cy="910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130400"/>
                    <a:ext cx="7859880" cy="910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372960" y="406440"/>
          <a:ext cx="8802720" cy="861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406440"/>
                    <a:ext cx="8802720" cy="86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Introduction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56944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 motivation de cette enquê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s remerciements à la société de médecine de Douai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s objectifs de cette enquêt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Identifier les causes de stress chez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les médecins généralist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Les conséquences du stres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Les solutions au stres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473040" y="977760"/>
          <a:ext cx="8299440" cy="906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77760"/>
                    <a:ext cx="8299440" cy="906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-31644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Conclu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1000"/>
          </a:bodyPr>
          <a:p>
            <a:pPr marL="106200" indent="-106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ur une meilleure gestion du stres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06200" indent="-1062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 problématique du temps 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354240" indent="-705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Temps de travail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Temps personnel et de loisir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54240" indent="-705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Qualité des soins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Niveau de vi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54240" indent="-705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a nécessité de faire des choix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106200" indent="-1062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 réorganisation du travail 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354240" indent="-70560">
              <a:spcBef>
                <a:spcPts val="451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s rendez-vous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La priorité des demand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54240" indent="-70560">
              <a:spcBef>
                <a:spcPts val="451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 secrétariat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L’audit professionnel (EPP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106200" indent="-1062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 vie personnelle 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354240" indent="-70560">
              <a:spcBef>
                <a:spcPts val="451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ssociation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Sport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54240" indent="-70560">
              <a:spcBef>
                <a:spcPts val="451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oisir créatif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106200" indent="-1062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 dialogue 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354240" indent="-70560">
              <a:spcBef>
                <a:spcPts val="451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artage des problèmes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Groupe de parol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54240" indent="-70560">
              <a:spcBef>
                <a:spcPts val="451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hilosophie : mort, maladi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54240" indent="-705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54240" indent="-70560">
              <a:spcBef>
                <a:spcPts val="451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54240" indent="-70560">
              <a:spcBef>
                <a:spcPts val="451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54240" indent="-70560">
              <a:spcBef>
                <a:spcPts val="451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54240" indent="-70560">
              <a:spcBef>
                <a:spcPts val="451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54240" indent="-70560">
              <a:spcBef>
                <a:spcPts val="451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54240" indent="-70560">
              <a:spcBef>
                <a:spcPts val="451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54240" indent="-70560">
              <a:spcBef>
                <a:spcPts val="451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54240" indent="-70560">
              <a:spcBef>
                <a:spcPts val="451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54240" indent="-70560">
              <a:spcBef>
                <a:spcPts val="451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54240" indent="-70560">
              <a:spcBef>
                <a:spcPts val="451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54240" indent="-70560">
              <a:spcBef>
                <a:spcPts val="451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54240" indent="-70560">
              <a:spcBef>
                <a:spcPts val="451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54240" indent="-70560">
              <a:spcBef>
                <a:spcPts val="451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54240" indent="-70560">
              <a:spcBef>
                <a:spcPts val="451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54240" indent="-70560">
              <a:spcBef>
                <a:spcPts val="451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54240" indent="-70560">
              <a:spcBef>
                <a:spcPts val="451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54240" indent="-70560">
              <a:spcBef>
                <a:spcPts val="451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54240" indent="-70560">
              <a:spcBef>
                <a:spcPts val="451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54240" indent="-70560">
              <a:spcBef>
                <a:spcPts val="451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54240" indent="-70560">
              <a:spcBef>
                <a:spcPts val="451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54240" indent="-70560">
              <a:spcBef>
                <a:spcPts val="451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54240" indent="-70560">
              <a:spcBef>
                <a:spcPts val="451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54240" indent="-70560">
              <a:spcBef>
                <a:spcPts val="451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54240" indent="-70560">
              <a:spcBef>
                <a:spcPts val="451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54240" indent="-70560">
              <a:spcBef>
                <a:spcPts val="451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54240" indent="-70560">
              <a:spcBef>
                <a:spcPts val="451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54240" indent="-70560">
              <a:spcBef>
                <a:spcPts val="451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54240" indent="-70560">
              <a:spcBef>
                <a:spcPts val="451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54240" indent="-70560">
              <a:spcBef>
                <a:spcPts val="451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54240" indent="-70560">
              <a:spcBef>
                <a:spcPts val="451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54240" indent="-70560">
              <a:spcBef>
                <a:spcPts val="451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54240" indent="-70560">
              <a:spcBef>
                <a:spcPts val="451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54240" indent="-70560">
              <a:spcBef>
                <a:spcPts val="451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54240" indent="-70560">
              <a:spcBef>
                <a:spcPts val="451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54240" indent="-70560">
              <a:spcBef>
                <a:spcPts val="451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54240" indent="-70560">
              <a:spcBef>
                <a:spcPts val="451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54240" indent="-70560">
              <a:spcBef>
                <a:spcPts val="451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54240" indent="-70560">
              <a:spcBef>
                <a:spcPts val="451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54240" indent="-705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54240" indent="-70560">
              <a:spcBef>
                <a:spcPts val="451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54240" indent="-705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Bibliographie 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69800" y="2057400"/>
          <a:ext cx="8229600" cy="467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2057400"/>
                    <a:ext cx="822960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ecff"/>
                </a:solidFill>
                <a:uFillTx/>
                <a:latin typeface="Arial"/>
              </a:rPr>
              <a:t>Définition du stress 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« Transaction entre un individu et son environnement.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</a:t>
            </a:r>
            <a:r>
              <a:rPr b="0" i="1" lang="fr-FR" sz="2000" spc="-1" strike="noStrike">
                <a:solidFill>
                  <a:srgbClr val="ffffff"/>
                </a:solidFill>
                <a:latin typeface="Verdana"/>
              </a:rPr>
              <a:t>Lazaru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Verdana"/>
              </a:rPr>
              <a:t>Le stress désigne souvent la cause et la conséquenc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Verdana"/>
              </a:rPr>
              <a:t>Le stress est à l’ origine de manifestation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Verdana"/>
              </a:rPr>
              <a:t>Physique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Verdana"/>
              </a:rPr>
              <a:t>Psychologique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Verdana"/>
              </a:rPr>
              <a:t>Comportemental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Verdana"/>
              </a:rPr>
              <a:t>L’exposition chronique au stress peut être a l’origine de pathologie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Verdana"/>
              </a:rPr>
              <a:t>Physiques: HTA, ulcère, asthme, eczéma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Verdana"/>
              </a:rPr>
              <a:t>Psychologiques: dépression, anxiété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Times New Roman"/>
              </a:rPr>
              <a:t>Questionnaire 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77720" y="914400"/>
          <a:ext cx="811224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914400"/>
                    <a:ext cx="81122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611280" y="3720960"/>
          <a:ext cx="7273800" cy="3137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3720960"/>
                    <a:ext cx="7273800" cy="31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403200" y="866880"/>
          <a:ext cx="8480520" cy="474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866880"/>
                    <a:ext cx="848052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412920" y="266760"/>
          <a:ext cx="7414920" cy="351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266760"/>
                    <a:ext cx="7414920" cy="35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558720" y="3517920"/>
          <a:ext cx="7556760" cy="2400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720" y="3517920"/>
                    <a:ext cx="7556760" cy="24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77760" y="343080"/>
          <a:ext cx="6337440" cy="831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343080"/>
                    <a:ext cx="6337440" cy="83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 </a:t>
            </a: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Réponses et commentaires des résultats de l’enquête.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                                                                                           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764532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1.Profil 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83% des médecins qui ont répondu à l’enquête ont entre 40 et 60 an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5% sont des femm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75% sont des homm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86% sont mariés dont 77% avec enfan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2.Les causes de stress identifiées dans le travai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ur 72% des médecins, l’excès de travail est reconnu      comme le facteur de stress prédominant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62% les exigences des pati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61% la participation aux gardes de nui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53% la participation aux gardes de week-e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5% la difficulté à trouver un remplaçant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5% les relations parfois difficiles avec la CPAM 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19:10:50Z</dcterms:created>
  <dc:creator>Reinhardt</dc:creator>
  <dc:description/>
  <dc:language>en-US</dc:language>
  <cp:lastModifiedBy>Reinhardt</cp:lastModifiedBy>
  <dcterms:modified xsi:type="dcterms:W3CDTF">2005-01-13T16:52:05Z</dcterms:modified>
  <cp:revision>86</cp:revision>
  <dc:subject/>
  <dc:title>Diapositive 1</dc:title>
</cp:coreProperties>
</file>