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lap.wav" ContentType="audio/x-wav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camera.wav" ContentType="audio/x-wav"/>
  <Override PartName="/ppt/media/image8.jpeg" ContentType="image/jpeg"/>
  <Override PartName="/ppt/media/image9.png" ContentType="image/png"/>
  <Override PartName="/ppt/media/glas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F6C-C373-47DE-A27B-23F22F71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9F85-E87B-4F97-8C04-04484546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268-8762-4F87-A9B9-1C10FCE1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8C8-2E4A-4222-B6AC-FBBA0131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0234-DADA-4790-AC8E-C5008449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383E-C644-456B-A4AE-9C843556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0572-3D6B-40D5-8E03-8726988D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04C0-36E6-47FA-9147-8B6D1E94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085E-579C-41D0-92F0-94EC4274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B509-98F8-46C2-815A-E3144677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A9C5-679E-4C1A-A33F-361C679A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9B54-46B5-458A-A199-017BC995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A0B6-39EC-4F87-A18D-5A783F4E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5A31-22FF-4A65-A105-DE4DCABE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8AF4-26EC-43DC-9E33-287672DD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2E0B-C6B2-4766-B3CC-30887524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E469-82B7-42A0-BAA5-4699BA3C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92A-8875-45C7-9C03-26CA3F3A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9C7-8405-4C9F-A45D-07A78521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FE2-A05F-4AA5-AE1D-FA75ECF2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3EBE-E6C4-4582-956D-57CB7F93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733F-217A-4C6D-B856-256329EB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D941-D53D-4A1D-8603-93310E82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FE8E-3ECF-45B8-A1FB-2EDE3595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Century Gothic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Century Gothic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8774-000B-4DE8-8DD8-C907C1E600A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Century Gothic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Century Gothic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7099-40F0-4A69-A481-30EA41E23CB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Century Gothic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glass.wav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glass.wav"/><Relationship Id="rId6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glas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clap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glass.wav"/><Relationship Id="rId6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glas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glass.wav"/><Relationship Id="rId6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400" spc="-1" strike="noStrike">
                <a:solidFill>
                  <a:srgbClr val="ffcc66"/>
                </a:solidFill>
                <a:latin typeface="Century Gothic"/>
              </a:rPr>
              <a:t>Utilisation Moderne </a:t>
            </a:r>
            <a:br>
              <a:rPr sz="5400"/>
            </a:br>
            <a:r>
              <a:rPr b="1" i="1" lang="fr-FR" sz="5400" spc="-1" strike="noStrike">
                <a:solidFill>
                  <a:srgbClr val="ffcc66"/>
                </a:solidFill>
                <a:latin typeface="Century Gothic"/>
              </a:rPr>
              <a:t>des Opioïdes.</a:t>
            </a:r>
            <a:endParaRPr b="0" lang="en-US" sz="5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91" name=""/>
          <p:cNvSpPr/>
          <p:nvPr/>
        </p:nvSpPr>
        <p:spPr>
          <a:xfrm>
            <a:off x="3806280" y="5410080"/>
            <a:ext cx="3702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r Carlos DORADO</a:t>
            </a:r>
            <a:r>
              <a:rPr b="1" lang="fr-FR" sz="20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esthésiste</a:t>
            </a:r>
            <a:r>
              <a:rPr b="1" lang="fr-FR" sz="20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ff66"/>
                </a:solidFill>
                <a:latin typeface="Arial"/>
              </a:rPr>
              <a:t>Consultation Douleur</a:t>
            </a:r>
            <a:r>
              <a:rPr b="1" lang="fr-FR" sz="20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ffff"/>
                </a:solidFill>
                <a:latin typeface="Arial"/>
              </a:rPr>
              <a:t>Centre Hospitalier de 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DOUAI</a:t>
            </a:r>
            <a:r>
              <a:rPr b="1" lang="fr-FR" sz="20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124080" y="5638680"/>
          <a:ext cx="7239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5638680"/>
                    <a:ext cx="7239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184788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Élise 86 a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Administration initiale d’opioïdes LP (per os ou patch) :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       </a:t>
            </a: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- en relais d’une titration par morphine à libération normale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          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          </a:t>
            </a: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- directement aux plus petites doses (Morphine LP 30x2 ou Durogésic</a:t>
            </a:r>
            <a:r>
              <a:rPr b="0" lang="fr-FR" sz="26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® 25) avec interdoses si nécessaire.</a:t>
            </a:r>
            <a:endParaRPr b="0" lang="en-US" sz="26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CONCLUSION 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Les Opioïdes peuvent être utilisés dans les douleurs intenses d’origines rhumatologiques.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Pierre 24 a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Douleurs aux 2 pieds :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                </a:t>
            </a: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- Élancements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                </a:t>
            </a: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- Brûlure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                </a:t>
            </a: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- Fourmillement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                </a:t>
            </a: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- Décharges électriques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Ancien toxicomane sevré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HIV +   /   Tri thérapie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Traitement proposé ???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10280" y="4708440"/>
            <a:ext cx="1600200" cy="154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Pierre 24 a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Douleur Neuropathique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Peu d’effet des morphiniques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Traitement de choix :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                 </a:t>
            </a: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- Antidépresseurs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                 </a:t>
            </a: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- Antiépileptiques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10280" y="4708440"/>
            <a:ext cx="1600200" cy="154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Pierre 24 a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Pancréatite 3 mois après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EVA  9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Epigastralgies ,Dorsalgies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Traitement ???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10280" y="4708440"/>
            <a:ext cx="1600200" cy="154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Pierre 24 a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Titration Opioïde rapide :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          </a:t>
            </a: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- SC ou IV ou per os d’abord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Passage à Opioïde LP :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        </a:t>
            </a: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- Patchs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        </a:t>
            </a: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- Per os (Attention aux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                                      </a:t>
            </a: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vomissements)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CONCLUSION 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Démystification de l’utilisation des opioïdes chez le toxicomane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       </a:t>
            </a: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- non sevré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       </a:t>
            </a: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- sous traitement substitutif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       </a:t>
            </a: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- sevré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Mélanie 10 a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Oligodendogliome cérébral avec HIC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Chirurgie d’exérèse (incomplète)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Dérivation ventriculo-péritonéale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Chimiothérapie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Mélanie 10 a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Douleurs sacrococcygiennes non soulagées par AINS + palier II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EVA 9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Douleurs Sensitives des membres inférieurs (Neurogènes) avec troubles moteurs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Métastase du fourreau épidural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Traitement ???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Mélanie 10 a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Douleurs Mixtes :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Rivotril, Laroxyl, Neurontin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Opioïde LP (per os ou patch)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66"/>
                </a:solidFill>
                <a:latin typeface="Century Gothic"/>
              </a:rPr>
              <a:t>Quelques dates --- :</a:t>
            </a:r>
            <a:endParaRPr b="0" lang="en-US" sz="32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05120" y="1752120"/>
            <a:ext cx="7238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aeaea"/>
                </a:solidFill>
                <a:latin typeface="Century Gothic"/>
              </a:rPr>
              <a:t>Effets connus depuis – 4000 ans avant JC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aeaea"/>
                </a:solidFill>
                <a:latin typeface="Century Gothic"/>
              </a:rPr>
              <a:t>1817 : extraction du principe actif (par Serturner)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aeaea"/>
                </a:solidFill>
                <a:latin typeface="Century Gothic"/>
              </a:rPr>
              <a:t>1850 : utilisation en chirurgie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aeaea"/>
                </a:solidFill>
                <a:latin typeface="Century Gothic"/>
              </a:rPr>
              <a:t>1950 : synthèse des opioïdes agonistes/antagonistes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aeaea"/>
                </a:solidFill>
                <a:latin typeface="Century Gothic"/>
              </a:rPr>
              <a:t>1970 : mise en évidence des récepteurs opioïdes (µ, delta, kappa) 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CONCLUSION 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Chez l’enfant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Utilisation possible des opioïdes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Vaincre les réticences parentales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Développement nécessaire des préparations pédiatriques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Arnaud 18 a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Luxation antéro interne épaule gauche (Rugby)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Palier I et II insuffisants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EVA 9 – 10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Examen clinique impossible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Conduite à tenir ???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315200" y="5257800"/>
            <a:ext cx="1550880" cy="124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Arnaud 18 a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Morphine Rapide IV 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  </a:t>
            </a: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=&gt; Soulagement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La morphine IV favorise l’examen aux urgences.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Century Gothic"/>
              </a:rPr>
              <a:t>Éviter la voie per os.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4038480"/>
            <a:ext cx="4876920" cy="7621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00b5b"/>
                </a:solidFill>
                <a:latin typeface="Century Gothic"/>
              </a:rPr>
              <a:t>EXAMEN POSSIBLE</a:t>
            </a:r>
            <a:endParaRPr b="0" lang="en-US" sz="2400" spc="-1" strike="noStrike">
              <a:solidFill>
                <a:srgbClr val="eaeaea"/>
              </a:solidFill>
              <a:latin typeface="Century Gothic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550880" cy="124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Gilbert 60 a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Douleur thoracique intense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ECG : nécrose myocardique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Dérivés nitrés insuffisants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EVA 6 à 9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Traitement ???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391520" y="5029200"/>
            <a:ext cx="1371600" cy="1363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Gilbert 60 a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Opioïde d’action rapide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     </a:t>
            </a: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- per os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     </a:t>
            </a: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- SC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     </a:t>
            </a: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- IV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391520" y="5029200"/>
            <a:ext cx="1371600" cy="1363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CONCLUSION 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L’administration de Morphine rapide dans un contexte d’Infarctus du Myocarde,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                                      </a:t>
            </a: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possible.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391520" y="5029200"/>
            <a:ext cx="1371600" cy="1363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CONCLUSION 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Toujours associer le traitement antalgique au traitement curatif dans les cancers.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Valérie 72 a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Antiépileptique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Antidépresseur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Stimulation trans-cutanée (TENS)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CONCLUSION 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Pas d’indication des opioïdes dans les douleurs neuropathiques.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CONCLUSION 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Century Gothic"/>
              </a:rPr>
              <a:t>Proposer traitement antalgique à tout stade de la maladie cancéreuse</a:t>
            </a: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Century Gothic"/>
              </a:rPr>
              <a:t>Adapter les posologies à l’état algique</a:t>
            </a: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Century Gothic"/>
              </a:rPr>
              <a:t>Choisir la molécule en fonction de l’état clinique</a:t>
            </a: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Century Gothic"/>
              </a:rPr>
              <a:t>Privilégier le confort du patient</a:t>
            </a: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66"/>
                </a:solidFill>
                <a:latin typeface="Century Gothic"/>
              </a:rPr>
              <a:t>Quelques idées  ---  fausses :</a:t>
            </a:r>
            <a:endParaRPr b="0" lang="en-US" sz="32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05120" y="1752120"/>
            <a:ext cx="7238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aeaea"/>
                </a:solidFill>
                <a:latin typeface="Century Gothic"/>
              </a:rPr>
              <a:t>Les opioïdes sont réservés aux patients en fin de vie…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aeaea"/>
                </a:solidFill>
                <a:latin typeface="Century Gothic"/>
              </a:rPr>
              <a:t>Les opioïdes provoquent dépression respiratoire…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aeaea"/>
                </a:solidFill>
                <a:latin typeface="Century Gothic"/>
              </a:rPr>
              <a:t>Les opioïdes ne peuvent être associés aux autres antalgiques…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aeaea"/>
                </a:solidFill>
                <a:latin typeface="Century Gothic"/>
              </a:rPr>
              <a:t>Les opioïdes contre-indiqués chez l’enfant…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aeaea"/>
                </a:solidFill>
                <a:latin typeface="Century Gothic"/>
              </a:rPr>
              <a:t>La « Mort Fine » …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cc66"/>
                </a:solidFill>
                <a:latin typeface="Century Gothic"/>
              </a:rPr>
              <a:t>CONCLUSIONS</a:t>
            </a:r>
            <a:r>
              <a:rPr b="1" lang="en-US" sz="6600" spc="-1" strike="noStrike">
                <a:solidFill>
                  <a:srgbClr val="ffcc66"/>
                </a:solidFill>
                <a:latin typeface="Century Gothic"/>
              </a:rPr>
              <a:t> </a:t>
            </a:r>
            <a:r>
              <a:rPr b="1" lang="fr-FR" sz="6600" spc="-1" strike="noStrike">
                <a:solidFill>
                  <a:srgbClr val="ffcc66"/>
                </a:solidFill>
                <a:latin typeface="Century Gothic"/>
              </a:rPr>
              <a:t> :</a:t>
            </a:r>
            <a:endParaRPr b="0" lang="en-US" sz="66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66"/>
                </a:solidFill>
                <a:latin typeface="Century Gothic"/>
              </a:rPr>
              <a:t>CONCLUSIONS  (1) :</a:t>
            </a:r>
            <a:endParaRPr b="0" lang="en-US" sz="32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905120" y="1752120"/>
            <a:ext cx="7238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aeaea"/>
                </a:solidFill>
                <a:latin typeface="Century Gothic"/>
              </a:rPr>
              <a:t>Les opioïdes sont largement utilisés en Douleurs aiguës et chroniques.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aeaea"/>
                </a:solidFill>
                <a:latin typeface="Century Gothic"/>
              </a:rPr>
              <a:t>Différentes substances existent.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aeaea"/>
                </a:solidFill>
                <a:latin typeface="Century Gothic"/>
              </a:rPr>
              <a:t>Plusieurs voies d’administrations disponibles. 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66"/>
                </a:solidFill>
                <a:latin typeface="Century Gothic"/>
              </a:rPr>
              <a:t>CONCLUSIONS  (2) :</a:t>
            </a:r>
            <a:endParaRPr b="0" lang="en-US" sz="32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905120" y="20574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Century Gothic"/>
              </a:rPr>
              <a:t>Élargissement des indications.</a:t>
            </a: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Century Gothic"/>
              </a:rPr>
              <a:t>Les Opioïdes ne résolvent pas tous les problèmes de Douleur …</a:t>
            </a:r>
            <a:r>
              <a:rPr b="1" lang="fr-FR" sz="3000" spc="-1" strike="noStrike">
                <a:solidFill>
                  <a:srgbClr val="eaeaea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cc66"/>
                </a:solidFill>
                <a:latin typeface="Century Gothic"/>
              </a:rPr>
              <a:t>QUIZZ</a:t>
            </a:r>
            <a:r>
              <a:rPr b="1" lang="en-US" sz="8000" spc="-1" strike="noStrike">
                <a:solidFill>
                  <a:srgbClr val="ffcc66"/>
                </a:solidFill>
                <a:latin typeface="Century Gothic"/>
              </a:rPr>
              <a:t> </a:t>
            </a:r>
            <a:r>
              <a:rPr b="1" lang="fr-FR" sz="8000" spc="-1" strike="noStrike">
                <a:solidFill>
                  <a:srgbClr val="ffcc66"/>
                </a:solidFill>
                <a:latin typeface="Century Gothic"/>
              </a:rPr>
              <a:t> :</a:t>
            </a:r>
            <a:endParaRPr b="0" lang="en-US" sz="80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Le Traitement Opioïde LP doit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être réalisé à la demande du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patient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OUI          NON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343400" y="5486400"/>
            <a:ext cx="1523880" cy="91440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200b5b"/>
                </a:solidFill>
                <a:latin typeface="Century Gothic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Le Traitement Opioïde LP doit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être réalisé à la demande du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patient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886200" y="4724280"/>
            <a:ext cx="2516040" cy="144648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entury Gothic"/>
              </a:rPr>
              <a:t>NON</a:t>
            </a:r>
            <a:endParaRPr b="0" lang="en-US" sz="66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En matière de douleur, le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patient a toujours raison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OUI          NON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343400" y="5486400"/>
            <a:ext cx="1523880" cy="91440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200b5b"/>
                </a:solidFill>
                <a:latin typeface="Century Gothic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En matière de douleur, le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patient a toujours raison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886200" y="4724280"/>
            <a:ext cx="2514600" cy="144792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entury Gothic"/>
              </a:rPr>
              <a:t>OUI</a:t>
            </a:r>
            <a:endParaRPr b="0" lang="en-US" sz="66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Les opioïdes peuvent être utilisés dans les douleurs non cancéreuses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OUI          NON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4343400" y="5486400"/>
            <a:ext cx="1523880" cy="91440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200b5b"/>
                </a:solidFill>
                <a:latin typeface="Century Gothic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Les opioïdes peuvent être utilisés dans les douleurs non cancéreuses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886200" y="4724280"/>
            <a:ext cx="2514600" cy="144792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entury Gothic"/>
              </a:rPr>
              <a:t>OUI</a:t>
            </a:r>
            <a:endParaRPr b="0" lang="en-US" sz="66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66"/>
                </a:solidFill>
                <a:latin typeface="Century Gothic"/>
              </a:rPr>
              <a:t>Quelques chiffres :</a:t>
            </a:r>
            <a:endParaRPr b="0" lang="en-US" sz="32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905120" y="20574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aeaea"/>
                </a:solidFill>
                <a:latin typeface="Century Gothic"/>
              </a:rPr>
              <a:t>Entre 1990 et 2000, la consommation d’opioïde a été multipliée par 10 !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aeaea"/>
                </a:solidFill>
                <a:latin typeface="Century Gothic"/>
              </a:rPr>
              <a:t>A partir de 2000 : augmentation linéaire, constante.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Faut il laisser associer de la morphine LI au patch de Durogésic</a:t>
            </a:r>
            <a:r>
              <a:rPr b="1" lang="fr-FR" sz="40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®</a:t>
            </a: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OUI          NON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4343400" y="5486400"/>
            <a:ext cx="1523880" cy="91440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200b5b"/>
                </a:solidFill>
                <a:latin typeface="Century Gothic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Faut il laisser associer de la morphine LI au patch de Durogésic</a:t>
            </a:r>
            <a:r>
              <a:rPr b="1" lang="fr-FR" sz="40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®</a:t>
            </a: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3886200" y="4724280"/>
            <a:ext cx="2514600" cy="144792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entury Gothic"/>
              </a:rPr>
              <a:t>OUI</a:t>
            </a:r>
            <a:endParaRPr b="0" lang="en-US" sz="66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Century Gothic"/>
              </a:rPr>
              <a:t>Chez un sujet, 2 voies d’administration orale et transdermique peuvent avoir une efficacité variable :</a:t>
            </a: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r>
              <a:rPr b="1" lang="fr-FR" sz="3600" spc="-1" strike="noStrike">
                <a:solidFill>
                  <a:srgbClr val="eaeaea"/>
                </a:solidFill>
                <a:latin typeface="Century Gothic"/>
              </a:rPr>
              <a:t>OUI          NON</a:t>
            </a: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3962520" y="5791320"/>
            <a:ext cx="1523880" cy="91440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200b5b"/>
                </a:solidFill>
                <a:latin typeface="Century Gothic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Century Gothic"/>
              </a:rPr>
              <a:t>Chez un sujet, 2 voies d’administration orale et transdermique peuvent avoir une efficacité variable :</a:t>
            </a: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3886200" y="4724280"/>
            <a:ext cx="2514600" cy="144792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entury Gothic"/>
              </a:rPr>
              <a:t>OUI</a:t>
            </a:r>
            <a:endParaRPr b="0" lang="en-US" sz="66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Century Gothic"/>
              </a:rPr>
              <a:t>La dose limite de Durogésic</a:t>
            </a:r>
            <a:r>
              <a:rPr b="1" lang="fr-FR" sz="36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®</a:t>
            </a:r>
            <a:r>
              <a:rPr b="0" lang="fr-FR" sz="3600" spc="-1" strike="noStrike">
                <a:solidFill>
                  <a:srgbClr val="eaeaea"/>
                </a:solidFill>
                <a:latin typeface="Century Gothic"/>
              </a:rPr>
              <a:t> est</a:t>
            </a: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Century Gothic"/>
              </a:rPr>
              <a:t>             </a:t>
            </a:r>
            <a:r>
              <a:rPr b="0" lang="fr-FR" sz="3600" spc="-1" strike="noStrike">
                <a:solidFill>
                  <a:srgbClr val="eaeaea"/>
                </a:solidFill>
                <a:latin typeface="Century Gothic"/>
              </a:rPr>
              <a:t>- 200µg</a:t>
            </a: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Century Gothic"/>
              </a:rPr>
              <a:t>             </a:t>
            </a:r>
            <a:r>
              <a:rPr b="0" lang="fr-FR" sz="3600" spc="-1" strike="noStrike">
                <a:solidFill>
                  <a:srgbClr val="eaeaea"/>
                </a:solidFill>
                <a:latin typeface="Century Gothic"/>
              </a:rPr>
              <a:t>- 300µg</a:t>
            </a: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Century Gothic"/>
              </a:rPr>
              <a:t>             </a:t>
            </a:r>
            <a:r>
              <a:rPr b="0" lang="fr-FR" sz="3600" spc="-1" strike="noStrike">
                <a:solidFill>
                  <a:srgbClr val="eaeaea"/>
                </a:solidFill>
                <a:latin typeface="Century Gothic"/>
              </a:rPr>
              <a:t>- Pas de Limite</a:t>
            </a: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267080" y="5105520"/>
            <a:ext cx="1524240" cy="91440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200b5b"/>
                </a:solidFill>
                <a:latin typeface="Century Gothic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La dose limite de Durogésic</a:t>
            </a:r>
            <a:r>
              <a:rPr b="1" lang="fr-FR" sz="40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®</a:t>
            </a: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 est :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            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2133720" y="4191120"/>
            <a:ext cx="5943600" cy="17524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entury Gothic"/>
              </a:rPr>
              <a:t>Pas de Limite</a:t>
            </a:r>
            <a:endParaRPr b="0" lang="en-US" sz="66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Les Opioïdes sont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contre-indiqués chez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         </a:t>
            </a: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l’insuffisant respiratoire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OUI          NON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4343400" y="5181480"/>
            <a:ext cx="1523880" cy="91440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200b5b"/>
                </a:solidFill>
                <a:latin typeface="Century Gothic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Les Opioïdes sont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contre-indiqués chez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         </a:t>
            </a: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l’insuffisant respiratoire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3886200" y="4724280"/>
            <a:ext cx="2516040" cy="144648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entury Gothic"/>
              </a:rPr>
              <a:t>NON</a:t>
            </a:r>
            <a:endParaRPr b="0" lang="en-US" sz="66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Les Opioïdes sont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contre-indiqués chez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         </a:t>
            </a: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l’insuffisant rénal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OUI          NON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4343400" y="5181480"/>
            <a:ext cx="1523880" cy="91440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200b5b"/>
                </a:solidFill>
                <a:latin typeface="Century Gothic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Les Opioïdes sont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contre-indiqués chez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         </a:t>
            </a: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l’insuffisant rénal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447920" y="4648320"/>
            <a:ext cx="2516040" cy="14461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entury Gothic"/>
              </a:rPr>
              <a:t>NON</a:t>
            </a:r>
            <a:endParaRPr b="0" lang="en-US" sz="66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279" name=""/>
          <p:cNvSpPr/>
          <p:nvPr/>
        </p:nvSpPr>
        <p:spPr>
          <a:xfrm>
            <a:off x="4800600" y="4876920"/>
            <a:ext cx="4114800" cy="1600200"/>
          </a:xfrm>
          <a:prstGeom prst="ellipse">
            <a:avLst/>
          </a:prstGeom>
          <a:solidFill>
            <a:srgbClr val="66ff33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entury Gothic"/>
              </a:rPr>
              <a:t>Avantage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entury Gothic"/>
              </a:rPr>
              <a:t>Durogésic </a:t>
            </a:r>
            <a:r>
              <a:rPr b="1" lang="fr-FR" sz="4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®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66"/>
                </a:solidFill>
                <a:latin typeface="Century Gothic"/>
              </a:rPr>
              <a:t>Mode d’action des opioïdes :</a:t>
            </a:r>
            <a:endParaRPr b="0" lang="en-US" sz="32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05120" y="20574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aeaea"/>
                </a:solidFill>
                <a:latin typeface="Century Gothic"/>
              </a:rPr>
              <a:t>Par l’intermédiaire de récepteurs spécifiques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aeaea"/>
                </a:solidFill>
                <a:latin typeface="Century Gothic"/>
              </a:rPr>
              <a:t>Notion d’affinité au récepteur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aeaea"/>
                </a:solidFill>
                <a:latin typeface="Century Gothic"/>
              </a:rPr>
              <a:t>La liaison provoque :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Century Gothic"/>
              </a:rPr>
              <a:t>        </a:t>
            </a:r>
            <a:r>
              <a:rPr b="1" lang="en-US" sz="3000" spc="-1" strike="noStrike">
                <a:solidFill>
                  <a:srgbClr val="eaeaea"/>
                </a:solidFill>
                <a:latin typeface="Century Gothic"/>
              </a:rPr>
              <a:t>- </a:t>
            </a:r>
            <a:r>
              <a:rPr b="1" lang="fr-FR" sz="3000" spc="-1" strike="noStrike">
                <a:solidFill>
                  <a:srgbClr val="eaeaea"/>
                </a:solidFill>
                <a:latin typeface="Wingdings 3"/>
                <a:ea typeface="Wingdings 3"/>
              </a:rPr>
              <a:t></a:t>
            </a:r>
            <a:r>
              <a:rPr b="1" lang="en-US" sz="3000" spc="-1" strike="noStrike">
                <a:solidFill>
                  <a:srgbClr val="eaeaea"/>
                </a:solidFill>
                <a:latin typeface="Century Gothic"/>
              </a:rPr>
              <a:t> des neurotransmetteurs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Century Gothic"/>
              </a:rPr>
              <a:t>        </a:t>
            </a:r>
            <a:r>
              <a:rPr b="1" lang="en-US" sz="3000" spc="-1" strike="noStrike">
                <a:solidFill>
                  <a:srgbClr val="eaeaea"/>
                </a:solidFill>
                <a:latin typeface="Century Gothic"/>
              </a:rPr>
              <a:t>- blocage des récepteurs postsynaptiques.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aeaea"/>
                </a:solidFill>
                <a:latin typeface="Century Gothic"/>
              </a:rPr>
              <a:t>Agonistes / Antagonistes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La Naloxone est l’antidote des opioïdes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OUI          NON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4343400" y="5181480"/>
            <a:ext cx="1523880" cy="91440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200b5b"/>
                </a:solidFill>
                <a:latin typeface="Century Gothic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La Naloxone est l’antidote des opioïdes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3886200" y="4724280"/>
            <a:ext cx="2514600" cy="144792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entury Gothic"/>
              </a:rPr>
              <a:t>OUI</a:t>
            </a:r>
            <a:endParaRPr b="0" lang="en-US" sz="66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En cas d’intolérance à la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morphine per os, les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alternatives peuvent être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Durogésic</a:t>
            </a:r>
            <a:r>
              <a:rPr b="1" lang="fr-FR" sz="40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®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Hydromorphone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Morphine IV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6477120" y="4343400"/>
            <a:ext cx="1523880" cy="91440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200b5b"/>
                </a:solidFill>
                <a:latin typeface="Century Gothic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En cas d’intolérance à la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morphine per os, les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alternatives peuvent être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1066680" y="3962520"/>
            <a:ext cx="4343400" cy="259056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buClr>
                <a:srgbClr val="ffcc66"/>
              </a:buClr>
              <a:buSzPct val="9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entury Gothic"/>
              </a:rPr>
              <a:t>Durogésic</a:t>
            </a:r>
            <a:r>
              <a:rPr b="1" lang="fr-FR" sz="4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®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buClr>
                <a:srgbClr val="ffcc66"/>
              </a:buClr>
              <a:buSzPct val="9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entury Gothic"/>
              </a:rPr>
              <a:t>Hydromorphone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buClr>
                <a:srgbClr val="ffcc66"/>
              </a:buClr>
              <a:buSzPct val="9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entury Gothic"/>
              </a:rPr>
              <a:t>Morphine IV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308" name=""/>
          <p:cNvSpPr/>
          <p:nvPr/>
        </p:nvSpPr>
        <p:spPr>
          <a:xfrm>
            <a:off x="6019920" y="4648320"/>
            <a:ext cx="2514600" cy="144756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entury Gothic"/>
              </a:rPr>
              <a:t>Privilégier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entury Gothic"/>
              </a:rPr>
              <a:t>Le Confort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entury Gothic"/>
              </a:rPr>
              <a:t>Patient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Chez la personne âgée, les opioïdes sont efficaces à des doses plus faibles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OUI          NON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4343400" y="5181480"/>
            <a:ext cx="1523880" cy="91440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200b5b"/>
                </a:solidFill>
                <a:latin typeface="Century Gothic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Chez la personne âgée, les opioïdes sont efficaces à des doses plus faibles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3886200" y="4724280"/>
            <a:ext cx="2514600" cy="144792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entury Gothic"/>
              </a:rPr>
              <a:t>OUI</a:t>
            </a:r>
            <a:endParaRPr b="0" lang="en-US" sz="66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Si l’on double ou triple la posologie, on va doubler ou tripler les effets secondaires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OUI          NON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4343400" y="5181480"/>
            <a:ext cx="1523880" cy="91440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200b5b"/>
                </a:solidFill>
                <a:latin typeface="Century Gothic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Si l’on double ou triple la posologie, on va doubler ou tripler les effets secondaires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3886200" y="4724280"/>
            <a:ext cx="2516040" cy="144648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entury Gothic"/>
              </a:rPr>
              <a:t>NON</a:t>
            </a:r>
            <a:endParaRPr b="0" lang="en-US" sz="66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La prescription d’un laxatif doit être systématique lors de la prescription d’un opioïde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OUI          NON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4343400" y="5410080"/>
            <a:ext cx="1523880" cy="91440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200b5b"/>
                </a:solidFill>
                <a:latin typeface="Century Gothic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La prescription d’un laxatif doit être systématique lors de la prescription d’un opioïde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3886200" y="4724280"/>
            <a:ext cx="2514600" cy="144792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entury Gothic"/>
              </a:rPr>
              <a:t>OUI</a:t>
            </a:r>
            <a:endParaRPr b="0" lang="en-US" sz="66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66"/>
                </a:solidFill>
                <a:latin typeface="Century Gothic"/>
              </a:rPr>
              <a:t>Les nouveautés  :</a:t>
            </a:r>
            <a:endParaRPr b="0" lang="en-US" sz="32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05120" y="20574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aeaea"/>
                </a:solidFill>
                <a:latin typeface="Century Gothic"/>
              </a:rPr>
              <a:t>Multiplication des molécules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aeaea"/>
                </a:solidFill>
                <a:latin typeface="Century Gothic"/>
              </a:rPr>
              <a:t>Nouvelles voies d’administration</a:t>
            </a:r>
            <a:endParaRPr b="0" lang="en-US" sz="30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La prescription d’un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anti-émétique doit être systématique lors de la prescription d’un opioïde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OUI          NON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4419720" y="5562720"/>
            <a:ext cx="1523880" cy="91440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200b5b"/>
                </a:solidFill>
                <a:latin typeface="Century Gothic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La prescription d’un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anti-émétique doit être systématique lors de la prescription d’un opioïde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             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1676520" y="5181480"/>
            <a:ext cx="2516040" cy="144648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entury Gothic"/>
              </a:rPr>
              <a:t>NON</a:t>
            </a:r>
            <a:endParaRPr b="0" lang="en-US" sz="66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365" name=""/>
          <p:cNvSpPr/>
          <p:nvPr/>
        </p:nvSpPr>
        <p:spPr>
          <a:xfrm>
            <a:off x="5715000" y="5029200"/>
            <a:ext cx="2514600" cy="144792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entury Gothic"/>
              </a:rPr>
              <a:t>Intérêt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entury Gothic"/>
              </a:rPr>
              <a:t>Galénique de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entury Gothic"/>
              </a:rPr>
              <a:t>Motylio</a:t>
            </a:r>
            <a:r>
              <a:rPr b="1" lang="fr-FR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®</a:t>
            </a:r>
            <a:endParaRPr b="0" lang="en-US" sz="28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On ne peut pas prescrire d’opioïde à un enfant de moins de 6 mois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OUI          NON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4343400" y="5029200"/>
            <a:ext cx="1523880" cy="91440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200b5b"/>
                </a:solidFill>
                <a:latin typeface="Century Gothic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Remue Méninges</a:t>
            </a:r>
            <a:r>
              <a:rPr b="0" lang="fr-FR" sz="4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entury Gothic"/>
              </a:rPr>
              <a:t>On ne peut pas prescrire d’opioïde à un enfant de moins de 6 mois :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aeaea"/>
                </a:solidFill>
                <a:latin typeface="Century Gothic"/>
              </a:rPr>
              <a:t>               </a:t>
            </a:r>
            <a:endParaRPr b="0" lang="en-US" sz="4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981080" y="533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7467480" y="533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33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3886200" y="4724280"/>
            <a:ext cx="2516040" cy="144648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entury Gothic"/>
              </a:rPr>
              <a:t>NON</a:t>
            </a:r>
            <a:endParaRPr b="0" lang="en-US" sz="66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400" spc="-1" strike="noStrike">
                <a:solidFill>
                  <a:srgbClr val="ffcc66"/>
                </a:solidFill>
                <a:latin typeface="Century Gothic"/>
              </a:rPr>
              <a:t>Utilisation Moderne </a:t>
            </a:r>
            <a:br>
              <a:rPr sz="5400"/>
            </a:br>
            <a:r>
              <a:rPr b="1" i="1" lang="fr-FR" sz="5400" spc="-1" strike="noStrike">
                <a:solidFill>
                  <a:srgbClr val="ffcc66"/>
                </a:solidFill>
                <a:latin typeface="Century Gothic"/>
              </a:rPr>
              <a:t>des Opioïdes.</a:t>
            </a:r>
            <a:endParaRPr b="0" lang="en-US" sz="5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81" name=""/>
          <p:cNvSpPr/>
          <p:nvPr/>
        </p:nvSpPr>
        <p:spPr>
          <a:xfrm>
            <a:off x="3806280" y="5410080"/>
            <a:ext cx="3702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r Carlos DORADO</a:t>
            </a:r>
            <a:r>
              <a:rPr b="1" lang="fr-FR" sz="20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esthésiste</a:t>
            </a:r>
            <a:r>
              <a:rPr b="1" lang="fr-FR" sz="20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ff66"/>
                </a:solidFill>
                <a:latin typeface="Arial"/>
              </a:rPr>
              <a:t>Consultation Douleur</a:t>
            </a:r>
            <a:r>
              <a:rPr b="1" lang="fr-FR" sz="20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ffff"/>
                </a:solidFill>
                <a:latin typeface="Arial"/>
              </a:rPr>
              <a:t>Centre Hospitalier de 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DOUAI</a:t>
            </a:r>
            <a:r>
              <a:rPr b="1" lang="fr-FR" sz="20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Century Gothic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124080" y="5638680"/>
          <a:ext cx="7239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5638680"/>
                    <a:ext cx="7239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1847880" cy="27432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336080" y="4495680"/>
            <a:ext cx="159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ffff"/>
                </a:solidFill>
                <a:latin typeface="Century Gothic"/>
              </a:rPr>
              <a:t>Fin …</a:t>
            </a:r>
            <a:endParaRPr b="0" lang="en-US" sz="44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cc66"/>
                </a:solidFill>
                <a:latin typeface="Century Gothic"/>
              </a:rPr>
              <a:t>Cas Cliniques</a:t>
            </a:r>
            <a:br>
              <a:rPr sz="6000"/>
            </a:br>
            <a:r>
              <a:rPr b="1" lang="fr-FR" sz="6000" spc="-1" strike="noStrike">
                <a:solidFill>
                  <a:srgbClr val="ffcc66"/>
                </a:solidFill>
                <a:latin typeface="Century Gothic"/>
              </a:rPr>
              <a:t>Interactifs</a:t>
            </a:r>
            <a:r>
              <a:rPr b="1" lang="en-US" sz="6000" spc="-1" strike="noStrike">
                <a:solidFill>
                  <a:srgbClr val="ffcc66"/>
                </a:solidFill>
                <a:latin typeface="Century Gothic"/>
              </a:rPr>
              <a:t> </a:t>
            </a:r>
            <a:r>
              <a:rPr b="1" lang="fr-FR" sz="6000" spc="-1" strike="noStrike">
                <a:solidFill>
                  <a:srgbClr val="ffcc66"/>
                </a:solidFill>
                <a:latin typeface="Century Gothic"/>
              </a:rPr>
              <a:t> :</a:t>
            </a:r>
            <a:endParaRPr b="0" lang="en-US" sz="60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Élise 86 a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Coxarthrose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Refuse l’intervention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Palier I et II peu de succès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Handicap majeur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Traitement ???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72200" y="4505400"/>
            <a:ext cx="2463840" cy="188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Century Gothic"/>
              </a:rPr>
              <a:t>Élise 86 a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Infiltration de l’articulation 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AINS ?       Anti-Coxx2 ?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Opioïde LP :  - per os ?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                          </a:t>
            </a:r>
            <a:r>
              <a:rPr b="0" lang="fr-FR" sz="3200" spc="-1" strike="noStrike">
                <a:solidFill>
                  <a:srgbClr val="eaeaea"/>
                </a:solidFill>
                <a:latin typeface="Century Gothic"/>
              </a:rPr>
              <a:t>- patch ?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172200" y="4505400"/>
            <a:ext cx="2463840" cy="188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15:41:33Z</dcterms:created>
  <dc:creator>rcarpen3</dc:creator>
  <dc:description/>
  <dc:language>en-US</dc:language>
  <cp:lastModifiedBy> </cp:lastModifiedBy>
  <dcterms:modified xsi:type="dcterms:W3CDTF">2005-01-11T20:57:40Z</dcterms:modified>
  <cp:revision>38</cp:revision>
  <dc:subject/>
  <dc:title>Utilisation Actuelle  des Opioïdes.</dc:title>
</cp:coreProperties>
</file>