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9DC-D0EA-4FA4-9069-B1FCCED5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AE6-8DB8-4F44-A1FD-B48361E7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D80-64F0-415D-89A7-120388FB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4319-EDE0-4E17-8B49-2C1FFE78A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385D-A48D-4B6E-B3A4-96A061CE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BE6-BC9A-4730-8A5D-3060566E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CB73-6A80-4BA0-97C2-00D66D421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DA9D-212A-42BB-B375-3D82E6E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09D-5BF0-4D11-AA0B-AB93AE6D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DE4-A886-414D-A2D6-205E7121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CFE-0B77-4AC0-B527-49D7E63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36A-629C-4DF5-A101-D9904CF1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0D15-2869-4A40-91D5-440B2DFCA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858" r="2173" b="0"/>
          <a:stretch/>
        </p:blipFill>
        <p:spPr>
          <a:xfrm>
            <a:off x="2514600" y="0"/>
            <a:ext cx="5672160" cy="8827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49800" y="0"/>
            <a:ext cx="5753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UNE RELATION CÔTE A CÔTE (1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5977" t="5190" r="0" b="0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56520" y="152280"/>
            <a:ext cx="8417880" cy="72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VENTION DE LA CARENCE EN FER 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SIFICATION “PRECOCE”: ~ 500 G DE VIANDE/J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154520" y="66600"/>
            <a:ext cx="8043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ERSIFICATION ET PREVENTION DE L’ALL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676520" y="1523880"/>
          <a:ext cx="784836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78483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8381880" cy="10666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La diversification avant 4 mois 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avorise la survenue d’allergie</a:t>
            </a:r>
            <a:br>
              <a:rPr sz="2800"/>
            </a:b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(1067 enfants « standard » suivis pendant 10 ans, Fergusson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et al.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fr-FR" sz="1600" spc="-1" strike="noStrike">
                <a:solidFill>
                  <a:srgbClr val="ffffff"/>
                </a:solidFill>
                <a:latin typeface="Times New Roman"/>
              </a:rPr>
              <a:t>Pediatrics</a:t>
            </a:r>
            <a:r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 1990)</a:t>
            </a:r>
            <a:r>
              <a:rPr b="1" lang="fr-F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195800">
            <a:off x="160560" y="3190680"/>
            <a:ext cx="324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RR Eczém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9220320" cy="13716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A DIVERSIFICATION :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QUELQUES MESSAGES « SIMPLES » (1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362320"/>
            <a:ext cx="9296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 d’argument d’ordre nutritionnel pour diversifier le nourrisson avant 4 à 6 mo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diversification trop précoce chez l’enfant au sein peut conduire à l’arrêt prématuré de l’allaite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tarder la diversification en cas de risque d’all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 de lait de vache avant 1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y a des petits et des gros mange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variété: oui !  Le snobisme et l’exotisme: quel intérê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744040" cy="8384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00"/>
                </a:solidFill>
                <a:latin typeface="Arial"/>
                <a:ea typeface="Arial"/>
              </a:rPr>
              <a:t>QUELQUES MESSAGES « SIMPLES » (2)</a:t>
            </a:r>
            <a:endParaRPr b="1" lang="en-US" sz="31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90680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 repas nécessite du calme et du tem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ntroduction des aliments un par un, par proposition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ccessives, en souplesse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 précoce des jus de fruits sans aucun intérêt nutritionnel +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s de justification nutritionnelle à l’introduction précoce des farines. Introduire le gluten &gt; 6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triction de l’apport en graisses injustifiée &lt; 3 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915400" cy="15238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E SOIGNANT PROPOSE,                                                    LA MERE ET L’ENFANT DISPOSENT...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9296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5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ce de l’enfant dans la fratr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ids des générations précédentes dans la fami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ditions socio-culturelles et économ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bitudes alimentaires famil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8744040" cy="8384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OURRISSON  “STANDARD”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9448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imentation lactée exclusive pendant les 4 à 6 premiers m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oduction progressive des fruits et des légumes pendant  le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er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is de la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roduction de la viande, du poisson, et de l’œuf   &gt; 6 mois révolus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05200" y="6019920"/>
            <a:ext cx="766044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N-SFP et AFPA     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Arch Pédiatr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2003; 10: 76-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743680" cy="8384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NOURRISSON A RISQUE D’ATOPI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66688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versification retardée après 6 mois révo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isson, œuf &gt; 1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achide, noix, noisette &gt; 3 ans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30840" y="5943600"/>
            <a:ext cx="77490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CN-SFP et AFPA     </a:t>
            </a:r>
            <a:r>
              <a:rPr b="1" i="1" lang="fr-FR" sz="2800" spc="-1" strike="noStrike">
                <a:solidFill>
                  <a:srgbClr val="ffffff"/>
                </a:solidFill>
                <a:latin typeface="Times New Roman"/>
              </a:rPr>
              <a:t>Arch Pédiatr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2003 ; 10 : 76-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9515520" cy="16765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TUDE PROSPECTIVE DE L’ALIMENTATION DE 200 NOURRISSONS DANS LA METROPOLE LILLOIS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2514240"/>
            <a:ext cx="10058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Nourrissons de 4 mois révolus à 12 mois révo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Urgences pédiatriques de Lille et de Roubaix, remplacements de médecine générale, service de Pédiatrie de Seclin, consultations de P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Questionnaire semi-direc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bjectif: Evaluation de l’application des recommandations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u CN-SFP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t de l’AFPA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695680" y="549360"/>
            <a:ext cx="4867200" cy="96048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RESULTAT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71120" y="2057400"/>
            <a:ext cx="8753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e moyen de diversification: 3,7 mois               (3,4 mois pour l’aîné le + pr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4 % des nourrissons diversifiés avant 4 m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91 % des nourrissons diversifiés avant 6 mo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liments  inaugurant la diversific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rines: 3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arines: 29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ruit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égum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arines: 16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182" t="582" r="0" b="0"/>
          <a:stretch/>
        </p:blipFill>
        <p:spPr>
          <a:xfrm>
            <a:off x="2514600" y="0"/>
            <a:ext cx="5649840" cy="8780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36560" y="0"/>
            <a:ext cx="7375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T D’UNE AUTRE RELATION CÔTE A CÔTE (2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520" y="3352320"/>
            <a:ext cx="35049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veau d’études du père et de la m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SP de la m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19920" y="3352680"/>
            <a:ext cx="41241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de la mè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xe de l ’enf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CD personnels allergiques ou diges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7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CD allergiques familiau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28600"/>
            <a:ext cx="739116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FACTEURS INFLUENCANT L’AGE DE DIVERSIFICATIO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638360" y="1600200"/>
            <a:ext cx="6624720" cy="1404360"/>
            <a:chOff x="1638360" y="1600200"/>
            <a:chExt cx="6624720" cy="1404360"/>
          </a:xfrm>
        </p:grpSpPr>
        <p:sp>
          <p:nvSpPr>
            <p:cNvPr id="86" name=""/>
            <p:cNvSpPr/>
            <p:nvPr/>
          </p:nvSpPr>
          <p:spPr>
            <a:xfrm>
              <a:off x="1638360" y="2514600"/>
              <a:ext cx="1143000" cy="4899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OUI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20080" y="2514600"/>
              <a:ext cx="1143000" cy="48996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Times New Roman"/>
                </a:rPr>
                <a:t>NO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590920" y="1600200"/>
              <a:ext cx="1218960" cy="703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5880" y="1600200"/>
              <a:ext cx="1295640" cy="747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71120" y="228240"/>
            <a:ext cx="87440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OUR QUELLE(S) RAISON(S) LES PARENTS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VERSIFIENT-ILS LEURS ENFANTS ?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27880" y="2133720"/>
            <a:ext cx="9756000" cy="4190760"/>
            <a:chOff x="227880" y="2133720"/>
            <a:chExt cx="9756000" cy="4190760"/>
          </a:xfrm>
        </p:grpSpPr>
        <p:grpSp>
          <p:nvGrpSpPr>
            <p:cNvPr id="92" name=""/>
            <p:cNvGrpSpPr/>
            <p:nvPr/>
          </p:nvGrpSpPr>
          <p:grpSpPr>
            <a:xfrm>
              <a:off x="227880" y="2133720"/>
              <a:ext cx="9756000" cy="4190760"/>
              <a:chOff x="227880" y="2133720"/>
              <a:chExt cx="9756000" cy="4190760"/>
            </a:xfrm>
          </p:grpSpPr>
          <p:grpSp>
            <p:nvGrpSpPr>
              <p:cNvPr id="93" name=""/>
              <p:cNvGrpSpPr/>
              <p:nvPr/>
            </p:nvGrpSpPr>
            <p:grpSpPr>
              <a:xfrm>
                <a:off x="227880" y="2133720"/>
                <a:ext cx="5717520" cy="4190760"/>
                <a:chOff x="227880" y="2133720"/>
                <a:chExt cx="5717520" cy="4190760"/>
              </a:xfrm>
            </p:grpSpPr>
            <p:grpSp>
              <p:nvGrpSpPr>
                <p:cNvPr id="94" name=""/>
                <p:cNvGrpSpPr/>
                <p:nvPr/>
              </p:nvGrpSpPr>
              <p:grpSpPr>
                <a:xfrm>
                  <a:off x="227880" y="2133720"/>
                  <a:ext cx="509760" cy="4115160"/>
                  <a:chOff x="227880" y="2133720"/>
                  <a:chExt cx="509760" cy="4115160"/>
                </a:xfrm>
              </p:grpSpPr>
              <p:sp>
                <p:nvSpPr>
                  <p:cNvPr id="95" name=""/>
                  <p:cNvSpPr/>
                  <p:nvPr/>
                </p:nvSpPr>
                <p:spPr>
                  <a:xfrm>
                    <a:off x="369360" y="5943600"/>
                    <a:ext cx="36792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0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227880" y="495288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0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227880" y="403848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40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227880" y="312408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60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27880" y="2133720"/>
                    <a:ext cx="509760" cy="30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80%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852480" y="2155680"/>
                  <a:ext cx="5092920" cy="4168800"/>
                  <a:chOff x="852480" y="2155680"/>
                  <a:chExt cx="5092920" cy="416880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998640" y="5888160"/>
                    <a:ext cx="4946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7" h="83">
                        <a:moveTo>
                          <a:pt x="0" y="83"/>
                        </a:moveTo>
                        <a:lnTo>
                          <a:pt x="104" y="0"/>
                        </a:lnTo>
                        <a:lnTo>
                          <a:pt x="2107" y="0"/>
                        </a:lnTo>
                        <a:lnTo>
                          <a:pt x="2004" y="83"/>
                        </a:lnTo>
                        <a:lnTo>
                          <a:pt x="0" y="83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998640" y="2155680"/>
                    <a:ext cx="243000" cy="39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322">
                        <a:moveTo>
                          <a:pt x="0" y="1322"/>
                        </a:moveTo>
                        <a:lnTo>
                          <a:pt x="0" y="82"/>
                        </a:lnTo>
                        <a:lnTo>
                          <a:pt x="104" y="0"/>
                        </a:lnTo>
                        <a:lnTo>
                          <a:pt x="104" y="1239"/>
                        </a:lnTo>
                        <a:lnTo>
                          <a:pt x="0" y="1322"/>
                        </a:lnTo>
                        <a:close/>
                      </a:path>
                    </a:pathLst>
                  </a:cu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1241640" y="2155680"/>
                    <a:ext cx="4703760" cy="3732480"/>
                  </a:xfrm>
                  <a:prstGeom prst="rect">
                    <a:avLst/>
                  </a:prstGeom>
                  <a:solidFill>
                    <a:srgbClr val="00cc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998640" y="5888160"/>
                    <a:ext cx="4946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998640" y="4954680"/>
                    <a:ext cx="4946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998640" y="4019400"/>
                    <a:ext cx="49467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998640" y="3089160"/>
                    <a:ext cx="494676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998640" y="2155680"/>
                    <a:ext cx="4946760" cy="24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4">
                        <a:moveTo>
                          <a:pt x="0" y="4"/>
                        </a:moveTo>
                        <a:lnTo>
                          <a:pt x="5" y="0"/>
                        </a:lnTo>
                        <a:lnTo>
                          <a:pt x="102" y="0"/>
                        </a:ln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998640" y="5888160"/>
                    <a:ext cx="494676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07" h="83">
                        <a:moveTo>
                          <a:pt x="2107" y="0"/>
                        </a:moveTo>
                        <a:lnTo>
                          <a:pt x="2004" y="83"/>
                        </a:lnTo>
                        <a:lnTo>
                          <a:pt x="0" y="83"/>
                        </a:lnTo>
                        <a:lnTo>
                          <a:pt x="104" y="0"/>
                        </a:lnTo>
                        <a:lnTo>
                          <a:pt x="2107" y="0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998640" y="2155680"/>
                    <a:ext cx="243000" cy="398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322">
                        <a:moveTo>
                          <a:pt x="0" y="1322"/>
                        </a:moveTo>
                        <a:lnTo>
                          <a:pt x="0" y="82"/>
                        </a:lnTo>
                        <a:lnTo>
                          <a:pt x="104" y="0"/>
                        </a:lnTo>
                        <a:lnTo>
                          <a:pt x="104" y="1239"/>
                        </a:lnTo>
                        <a:lnTo>
                          <a:pt x="0" y="1322"/>
                        </a:lnTo>
                        <a:close/>
                      </a:path>
                    </a:pathLst>
                  </a:custGeom>
                  <a:noFill/>
                  <a:ln w="33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241640" y="2155680"/>
                    <a:ext cx="4703760" cy="3732480"/>
                  </a:xfrm>
                  <a:prstGeom prst="rect">
                    <a:avLst/>
                  </a:prstGeom>
                  <a:noFill/>
                  <a:ln w="3348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1629000" y="2774880"/>
                    <a:ext cx="96840" cy="32990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095">
                        <a:moveTo>
                          <a:pt x="0" y="1095"/>
                        </a:moveTo>
                        <a:lnTo>
                          <a:pt x="0" y="42"/>
                        </a:lnTo>
                        <a:lnTo>
                          <a:pt x="41" y="0"/>
                        </a:lnTo>
                        <a:lnTo>
                          <a:pt x="41" y="1074"/>
                        </a:lnTo>
                        <a:lnTo>
                          <a:pt x="0" y="1095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1289160" y="2901960"/>
                    <a:ext cx="339840" cy="3171960"/>
                  </a:xfrm>
                  <a:prstGeom prst="rect">
                    <a:avLst/>
                  </a:prstGeom>
                  <a:solidFill>
                    <a:srgbClr val="ffff00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1289160" y="2774880"/>
                    <a:ext cx="43668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2">
                        <a:moveTo>
                          <a:pt x="145" y="42"/>
                        </a:moveTo>
                        <a:lnTo>
                          <a:pt x="186" y="0"/>
                        </a:lnTo>
                        <a:lnTo>
                          <a:pt x="62" y="0"/>
                        </a:lnTo>
                        <a:lnTo>
                          <a:pt x="0" y="42"/>
                        </a:lnTo>
                        <a:lnTo>
                          <a:pt x="145" y="42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405160" y="3895560"/>
                    <a:ext cx="98280" cy="21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723">
                        <a:moveTo>
                          <a:pt x="0" y="723"/>
                        </a:moveTo>
                        <a:lnTo>
                          <a:pt x="0" y="41"/>
                        </a:lnTo>
                        <a:lnTo>
                          <a:pt x="42" y="0"/>
                        </a:lnTo>
                        <a:lnTo>
                          <a:pt x="42" y="702"/>
                        </a:lnTo>
                        <a:lnTo>
                          <a:pt x="0" y="723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116080" y="4019400"/>
                    <a:ext cx="289080" cy="2054520"/>
                  </a:xfrm>
                  <a:prstGeom prst="rect">
                    <a:avLst/>
                  </a:prstGeom>
                  <a:solidFill>
                    <a:srgbClr val="ff3300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116080" y="3895560"/>
                    <a:ext cx="3873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41">
                        <a:moveTo>
                          <a:pt x="123" y="41"/>
                        </a:moveTo>
                        <a:lnTo>
                          <a:pt x="165" y="0"/>
                        </a:lnTo>
                        <a:lnTo>
                          <a:pt x="41" y="0"/>
                        </a:lnTo>
                        <a:lnTo>
                          <a:pt x="0" y="41"/>
                        </a:lnTo>
                        <a:lnTo>
                          <a:pt x="123" y="41"/>
                        </a:lnTo>
                        <a:close/>
                      </a:path>
                    </a:pathLst>
                  </a:custGeom>
                  <a:solidFill>
                    <a:srgbClr val="ff33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181320" y="4206960"/>
                    <a:ext cx="96840" cy="18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620">
                        <a:moveTo>
                          <a:pt x="0" y="620"/>
                        </a:moveTo>
                        <a:lnTo>
                          <a:pt x="0" y="21"/>
                        </a:lnTo>
                        <a:lnTo>
                          <a:pt x="41" y="0"/>
                        </a:lnTo>
                        <a:lnTo>
                          <a:pt x="41" y="599"/>
                        </a:lnTo>
                        <a:lnTo>
                          <a:pt x="0" y="62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890800" y="4270320"/>
                    <a:ext cx="290520" cy="1803600"/>
                  </a:xfrm>
                  <a:prstGeom prst="rect">
                    <a:avLst/>
                  </a:prstGeom>
                  <a:solidFill>
                    <a:srgbClr val="ffffff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890800" y="4206960"/>
                    <a:ext cx="387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">
                        <a:moveTo>
                          <a:pt x="124" y="21"/>
                        </a:moveTo>
                        <a:lnTo>
                          <a:pt x="165" y="0"/>
                        </a:lnTo>
                        <a:lnTo>
                          <a:pt x="41" y="0"/>
                        </a:lnTo>
                        <a:lnTo>
                          <a:pt x="0" y="21"/>
                        </a:lnTo>
                        <a:lnTo>
                          <a:pt x="124" y="2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3956040" y="4519440"/>
                    <a:ext cx="98640" cy="155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516">
                        <a:moveTo>
                          <a:pt x="0" y="516"/>
                        </a:moveTo>
                        <a:lnTo>
                          <a:pt x="0" y="41"/>
                        </a:lnTo>
                        <a:lnTo>
                          <a:pt x="42" y="0"/>
                        </a:lnTo>
                        <a:lnTo>
                          <a:pt x="42" y="495"/>
                        </a:lnTo>
                        <a:lnTo>
                          <a:pt x="0" y="516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665520" y="4643280"/>
                    <a:ext cx="290520" cy="1430640"/>
                  </a:xfrm>
                  <a:prstGeom prst="rect">
                    <a:avLst/>
                  </a:prstGeom>
                  <a:solidFill>
                    <a:srgbClr val="ff9900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665520" y="4519440"/>
                    <a:ext cx="3891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41">
                        <a:moveTo>
                          <a:pt x="124" y="41"/>
                        </a:moveTo>
                        <a:lnTo>
                          <a:pt x="166" y="0"/>
                        </a:lnTo>
                        <a:lnTo>
                          <a:pt x="42" y="0"/>
                        </a:lnTo>
                        <a:lnTo>
                          <a:pt x="0" y="41"/>
                        </a:lnTo>
                        <a:lnTo>
                          <a:pt x="124" y="41"/>
                        </a:lnTo>
                        <a:close/>
                      </a:path>
                    </a:pathLst>
                  </a:custGeom>
                  <a:solidFill>
                    <a:srgbClr val="ff9900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4734000" y="5203800"/>
                    <a:ext cx="95400" cy="8701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89">
                        <a:moveTo>
                          <a:pt x="0" y="289"/>
                        </a:moveTo>
                        <a:lnTo>
                          <a:pt x="0" y="21"/>
                        </a:lnTo>
                        <a:lnTo>
                          <a:pt x="41" y="0"/>
                        </a:lnTo>
                        <a:lnTo>
                          <a:pt x="41" y="268"/>
                        </a:lnTo>
                        <a:lnTo>
                          <a:pt x="0" y="289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4442040" y="5267160"/>
                    <a:ext cx="291960" cy="806760"/>
                  </a:xfrm>
                  <a:prstGeom prst="rect">
                    <a:avLst/>
                  </a:prstGeom>
                  <a:solidFill>
                    <a:srgbClr val="0000ff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4442040" y="5203800"/>
                    <a:ext cx="3873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">
                        <a:moveTo>
                          <a:pt x="124" y="21"/>
                        </a:moveTo>
                        <a:lnTo>
                          <a:pt x="165" y="0"/>
                        </a:lnTo>
                        <a:lnTo>
                          <a:pt x="41" y="0"/>
                        </a:lnTo>
                        <a:lnTo>
                          <a:pt x="0" y="21"/>
                        </a:lnTo>
                        <a:lnTo>
                          <a:pt x="124" y="21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5508720" y="5514840"/>
                    <a:ext cx="146160" cy="55908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86">
                        <a:moveTo>
                          <a:pt x="0" y="186"/>
                        </a:moveTo>
                        <a:lnTo>
                          <a:pt x="0" y="41"/>
                        </a:lnTo>
                        <a:lnTo>
                          <a:pt x="62" y="0"/>
                        </a:lnTo>
                        <a:lnTo>
                          <a:pt x="62" y="165"/>
                        </a:lnTo>
                        <a:lnTo>
                          <a:pt x="0" y="186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5216760" y="5637240"/>
                    <a:ext cx="291960" cy="436680"/>
                  </a:xfrm>
                  <a:prstGeom prst="rect">
                    <a:avLst/>
                  </a:prstGeom>
                  <a:solidFill>
                    <a:srgbClr val="a50021"/>
                  </a:solidFill>
                  <a:ln w="33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5216760" y="5514840"/>
                    <a:ext cx="438120" cy="12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41">
                        <a:moveTo>
                          <a:pt x="124" y="41"/>
                        </a:moveTo>
                        <a:lnTo>
                          <a:pt x="186" y="0"/>
                        </a:lnTo>
                        <a:lnTo>
                          <a:pt x="42" y="0"/>
                        </a:lnTo>
                        <a:lnTo>
                          <a:pt x="0" y="41"/>
                        </a:lnTo>
                        <a:lnTo>
                          <a:pt x="124" y="41"/>
                        </a:lnTo>
                        <a:close/>
                      </a:path>
                    </a:pathLst>
                  </a:custGeom>
                  <a:solidFill>
                    <a:srgbClr val="a50021"/>
                  </a:solidFill>
                  <a:ln w="33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998640" y="2401920"/>
                    <a:ext cx="1440" cy="37353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flipH="1">
                    <a:off x="852480" y="6137280"/>
                    <a:ext cx="146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>
                    <a:off x="852480" y="5203800"/>
                    <a:ext cx="146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flipH="1">
                    <a:off x="852480" y="4270320"/>
                    <a:ext cx="146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H="1">
                    <a:off x="852480" y="3335400"/>
                    <a:ext cx="146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>
                    <a:off x="852480" y="2401920"/>
                    <a:ext cx="14616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998640" y="6137280"/>
                    <a:ext cx="4705200" cy="32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998640" y="6137280"/>
                    <a:ext cx="14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1774800" y="6137280"/>
                    <a:ext cx="32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2549520" y="6137280"/>
                    <a:ext cx="32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327480" y="6137280"/>
                    <a:ext cx="14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102200" y="6137280"/>
                    <a:ext cx="14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4878360" y="6137280"/>
                    <a:ext cx="324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703840" y="6137280"/>
                    <a:ext cx="1800" cy="187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" name=""/>
              <p:cNvGrpSpPr/>
              <p:nvPr/>
            </p:nvGrpSpPr>
            <p:grpSpPr>
              <a:xfrm>
                <a:off x="6097680" y="2133720"/>
                <a:ext cx="3886200" cy="3886200"/>
                <a:chOff x="6097680" y="2133720"/>
                <a:chExt cx="3886200" cy="38862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097680" y="2133720"/>
                  <a:ext cx="3809880" cy="3886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245280" y="2363760"/>
                  <a:ext cx="225360" cy="230040"/>
                </a:xfrm>
                <a:prstGeom prst="rect">
                  <a:avLst/>
                </a:prstGeom>
                <a:solidFill>
                  <a:srgbClr val="ffff00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245280" y="2909880"/>
                  <a:ext cx="225360" cy="230040"/>
                </a:xfrm>
                <a:prstGeom prst="rect">
                  <a:avLst/>
                </a:prstGeom>
                <a:solidFill>
                  <a:srgbClr val="ff3300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45280" y="3808440"/>
                  <a:ext cx="225360" cy="230040"/>
                </a:xfrm>
                <a:prstGeom prst="rect">
                  <a:avLst/>
                </a:prstGeom>
                <a:solidFill>
                  <a:srgbClr val="ffffff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45280" y="4494240"/>
                  <a:ext cx="225360" cy="230040"/>
                </a:xfrm>
                <a:prstGeom prst="rect">
                  <a:avLst/>
                </a:prstGeom>
                <a:solidFill>
                  <a:srgbClr val="ff9900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245280" y="5087880"/>
                  <a:ext cx="225360" cy="230400"/>
                </a:xfrm>
                <a:prstGeom prst="rect">
                  <a:avLst/>
                </a:prstGeom>
                <a:solidFill>
                  <a:srgbClr val="0000ff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45280" y="5589720"/>
                  <a:ext cx="225360" cy="230040"/>
                </a:xfrm>
                <a:prstGeom prst="rect">
                  <a:avLst/>
                </a:prstGeom>
                <a:solidFill>
                  <a:srgbClr val="a50021"/>
                </a:solidFill>
                <a:ln w="33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620040" y="2286000"/>
                  <a:ext cx="33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ugmentation de la satiét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620040" y="5470560"/>
                  <a:ext cx="33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Sommei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20040" y="4419720"/>
                  <a:ext cx="33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Autr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620040" y="4952880"/>
                  <a:ext cx="3363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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Régurgitation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620040" y="3657600"/>
                  <a:ext cx="33638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Lait seul insuffisant pour croissance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620040" y="2819520"/>
                  <a:ext cx="33638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Plaisir de voir bébé manger « comme un grand »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" name=""/>
            <p:cNvSpPr/>
            <p:nvPr/>
          </p:nvSpPr>
          <p:spPr>
            <a:xfrm>
              <a:off x="1143000" y="2346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8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34894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4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66880" y="3733920"/>
              <a:ext cx="83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8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29000" y="409896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1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91120" y="464832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7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29200" y="5089680"/>
              <a:ext cx="83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0 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bright="6000"/>
          </a:blip>
          <a:srcRect l="1737" t="2276" r="0" b="4551"/>
          <a:stretch/>
        </p:blipFill>
        <p:spPr>
          <a:xfrm>
            <a:off x="2438280" y="0"/>
            <a:ext cx="541656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76520" y="0"/>
            <a:ext cx="8617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E RELATION FACE A FACE, PUIS A L’AUTONOMI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42960" y="475920"/>
            <a:ext cx="4032360" cy="57636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ISTORIQU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28640"/>
            <a:ext cx="9296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923: Jundell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Diversification vers 6 mois dan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orphelinat améric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937: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Recommandation de l’Association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Médicale América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943: Steward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Sardine, thon ou crevette vers 4-6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          sema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953: Sackett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2ème - 3ème jour   </a:t>
            </a:r>
            <a:r>
              <a:rPr b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céré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0ème jour             </a:t>
            </a:r>
            <a:r>
              <a:rPr b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légu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4ème jour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viandes en pur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7ème jour             </a:t>
            </a:r>
            <a:r>
              <a:rPr b="1" lang="fr-FR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fr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1966: L. Pernoud   Diversification vers 3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447920"/>
            <a:ext cx="8913960" cy="4286160"/>
          </a:xfrm>
          <a:prstGeom prst="rect">
            <a:avLst/>
          </a:prstGeom>
          <a:solidFill>
            <a:srgbClr val="0000ff"/>
          </a:solidFill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Y A-T-IL  DES  LIMITATIONS  PHYSIOLOGIQUES,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GESTIVES, RENALES, OU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URO-SENSORIELLES A L’INTRODUC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 TEL OU TEL ALIMENT CHEZ LE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URRISSON ?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764640"/>
            <a:ext cx="8743680" cy="83844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LIMITATIONS PHYSIOLOGIQUE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2349360"/>
            <a:ext cx="937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1 -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Sur le plan ré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•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Faible capacité d’élimination des déchets azotés et 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d’épuration du sodium jusqu’à 2-3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2 -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Sur le plan neuro-senso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•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“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Extrusion” des aliments solides jusqu’à 3-4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•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Apparition de la mastication vers 6-7 m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4914" t="2706" r="4914" b="23001"/>
          <a:stretch/>
        </p:blipFill>
        <p:spPr>
          <a:xfrm>
            <a:off x="1600200" y="533520"/>
            <a:ext cx="7121520" cy="53308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2286000" y="6172200"/>
            <a:ext cx="5638680" cy="368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éveloppement des activités enzymatiques du pancréas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874368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AVANTAGES  DE LA DIVERSIFICATION ALIMENTAIR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8839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ompagnement de la diminution progressive d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soins hydriques du jeune nourris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minution de la fréquence et de l’intensité d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égurgi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roduction de nouvelles habitudes, de nouve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oûts, de nouvelles tex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1120" y="917280"/>
            <a:ext cx="8744040" cy="11430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INCONVENIENTS DE LA DIVERSIFICATION ALIMENTAIR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7680" y="2627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 - Carence en calc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- Carence en f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 - Carence en acides gras essentiel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 - Introduction des légu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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tion énergétique quotidien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•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oubles digestifs “mineu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9:10:29Z</dcterms:created>
  <dc:creator>D.I.T.</dc:creator>
  <dc:description/>
  <dc:language>en-US</dc:language>
  <cp:lastModifiedBy>burmed1</cp:lastModifiedBy>
  <cp:lastPrinted>2003-03-24T09:43:12Z</cp:lastPrinted>
  <dcterms:modified xsi:type="dcterms:W3CDTF">2005-12-13T18:33:04Z</dcterms:modified>
  <cp:revision>279</cp:revision>
  <dc:subject/>
  <dc:title>Aucun titre de diapositive</dc:title>
</cp:coreProperties>
</file>