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0A37-4801-47E0-89F8-3D61F59213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5ABD-9D9E-4B61-8E90-D0CA9BCA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835-0983-4396-BB8D-F21E3D7D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C7AB-442B-4363-AB5E-CF03512B5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9D0-BC63-4A3E-819C-37DDB982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EA5-3F9F-4A90-A3C8-C53E9311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3E9A-41A2-4FD7-85C5-E8A5390A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802-91E1-4113-8794-61D4EABB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66C3-E87B-4B37-A4CC-463D64B1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F3D5-EAE4-438C-BB3E-D5B93F9F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C49B-B0B8-4897-BE88-930E7BDC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7F1B-590F-433A-BD6D-11DD84D6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6D98-4972-4BDC-B38D-29AEEC06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6731-9D71-4F84-AAAE-6A0484393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719680" y="2060640"/>
            <a:ext cx="453708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ALLAITEMENT MATERNEL :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Les Bénéfices San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6240" y="763560"/>
            <a:ext cx="5402160" cy="54738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2800" t="2147" r="2800" b="2147"/>
          <a:stretch/>
        </p:blipFill>
        <p:spPr>
          <a:xfrm>
            <a:off x="0" y="-1440"/>
            <a:ext cx="10287000" cy="685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92000" y="44280"/>
            <a:ext cx="8744040" cy="11430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BREAST FEEDING MAY HELP PREVENT CHILDHOOD OVER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6195960"/>
            <a:ext cx="8534160" cy="581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William H. Dietz.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 JAMA 2001 ; 285 : 2506-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822240" y="260280"/>
            <a:ext cx="8763120" cy="6252840"/>
            <a:chOff x="822240" y="260280"/>
            <a:chExt cx="8763120" cy="6252840"/>
          </a:xfrm>
        </p:grpSpPr>
        <p:sp>
          <p:nvSpPr>
            <p:cNvPr id="91" name=""/>
            <p:cNvSpPr/>
            <p:nvPr/>
          </p:nvSpPr>
          <p:spPr>
            <a:xfrm>
              <a:off x="822240" y="260280"/>
              <a:ext cx="8763120" cy="11912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Arial"/>
                </a:rPr>
                <a:t>Durée de l’allaitement  et fréquence de surpoids (IMC &gt; 90ème centile) ou d’obésité (IMC &gt; 97ème centile) parmi  9206 enfants âgés de 5 et 6 ans et vivant en Bavière rura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5080" y="6114240"/>
              <a:ext cx="5181480" cy="398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von Kries </a:t>
              </a:r>
              <a:r>
                <a:rPr b="1" i="1" lang="fr-FR" sz="2000" spc="-1" strike="noStrike">
                  <a:solidFill>
                    <a:srgbClr val="ffffff"/>
                  </a:solidFill>
                  <a:latin typeface="Times New Roman"/>
                </a:rPr>
                <a:t>et al.         BMJ</a:t>
              </a:r>
              <a:r>
                <a:rPr b="1" lang="fr-FR" sz="2000" spc="-1" strike="noStrike">
                  <a:solidFill>
                    <a:srgbClr val="ffffff"/>
                  </a:solidFill>
                  <a:latin typeface="Times New Roman"/>
                </a:rPr>
                <a:t>  1999 ; 319 : 147-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682640" y="1738440"/>
              <a:ext cx="6769080" cy="3593160"/>
              <a:chOff x="1682640" y="1738440"/>
              <a:chExt cx="6769080" cy="3593160"/>
            </a:xfrm>
          </p:grpSpPr>
          <p:pic>
            <p:nvPicPr>
              <p:cNvPr id="94" name="" descr=""/>
              <p:cNvPicPr/>
              <p:nvPr/>
            </p:nvPicPr>
            <p:blipFill>
              <a:blip r:embed="rId1"/>
              <a:srcRect l="2492" t="31878" r="3738" b="4782"/>
              <a:stretch/>
            </p:blipFill>
            <p:spPr>
              <a:xfrm>
                <a:off x="1682640" y="1898280"/>
                <a:ext cx="6769080" cy="3433320"/>
              </a:xfrm>
              <a:prstGeom prst="rect">
                <a:avLst/>
              </a:prstGeom>
              <a:ln w="38160">
                <a:solidFill>
                  <a:srgbClr val="ff3300"/>
                </a:solidFill>
                <a:miter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1736640" y="1738440"/>
                <a:ext cx="6705720" cy="0"/>
              </a:xfrm>
              <a:prstGeom prst="line">
                <a:avLst/>
              </a:prstGeom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"/>
          <p:cNvSpPr/>
          <p:nvPr/>
        </p:nvSpPr>
        <p:spPr>
          <a:xfrm>
            <a:off x="1687680" y="2492280"/>
            <a:ext cx="143964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27680" y="2492280"/>
            <a:ext cx="576360" cy="360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99320" y="2492280"/>
            <a:ext cx="576360" cy="432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87680" y="4076640"/>
            <a:ext cx="1439640" cy="64764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56040" y="4076640"/>
            <a:ext cx="719280" cy="64764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99320" y="4076640"/>
            <a:ext cx="649080" cy="64764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c3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762120" y="152280"/>
            <a:ext cx="8686800" cy="6539760"/>
            <a:chOff x="762120" y="152280"/>
            <a:chExt cx="8686800" cy="6539760"/>
          </a:xfrm>
        </p:grpSpPr>
        <p:sp>
          <p:nvSpPr>
            <p:cNvPr id="103" name=""/>
            <p:cNvSpPr/>
            <p:nvPr/>
          </p:nvSpPr>
          <p:spPr>
            <a:xfrm>
              <a:off x="1828800" y="152280"/>
              <a:ext cx="6705720" cy="32220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EOMETRIC MEANS (SD) OF ADULT OUTCOMES BY INFANT FEE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62120" y="533520"/>
              <a:ext cx="8686800" cy="5785920"/>
              <a:chOff x="762120" y="533520"/>
              <a:chExt cx="8686800" cy="5785920"/>
            </a:xfrm>
          </p:grpSpPr>
          <p:pic>
            <p:nvPicPr>
              <p:cNvPr id="105" name="" descr=""/>
              <p:cNvPicPr/>
              <p:nvPr/>
            </p:nvPicPr>
            <p:blipFill>
              <a:blip r:embed="rId1"/>
              <a:srcRect l="3343" t="5418" r="3343" b="29710"/>
              <a:stretch/>
            </p:blipFill>
            <p:spPr>
              <a:xfrm>
                <a:off x="762120" y="533520"/>
                <a:ext cx="8686800" cy="5208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2"/>
              <a:srcRect l="3343" t="88439" r="3343" b="4369"/>
              <a:stretch/>
            </p:blipFill>
            <p:spPr>
              <a:xfrm>
                <a:off x="762120" y="5741640"/>
                <a:ext cx="868680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7" name=""/>
            <p:cNvSpPr/>
            <p:nvPr/>
          </p:nvSpPr>
          <p:spPr>
            <a:xfrm>
              <a:off x="2286000" y="6384960"/>
              <a:ext cx="5715000" cy="3070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velli </a:t>
              </a:r>
              <a:r>
                <a:rPr b="0" i="1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 al.         Arch Dis Child</a:t>
              </a:r>
              <a:r>
                <a:rPr b="0" lang="fr-FR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2000 ; 82 : 248-5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3703680" y="1557360"/>
            <a:ext cx="79200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88040" y="1557360"/>
            <a:ext cx="934920" cy="5032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03680" y="3429000"/>
            <a:ext cx="79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30960" y="3429000"/>
            <a:ext cx="720720" cy="2872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74960" y="4292640"/>
            <a:ext cx="647640" cy="865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30960" y="4292640"/>
            <a:ext cx="576000" cy="8650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3680" y="692280"/>
            <a:ext cx="1655640" cy="433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04040" y="692280"/>
            <a:ext cx="792000" cy="4330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rcRect l="3937" t="3678" r="2625" b="2452"/>
          <a:stretch/>
        </p:blipFill>
        <p:spPr>
          <a:xfrm>
            <a:off x="2205000" y="260280"/>
            <a:ext cx="5872320" cy="64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1419120" y="466560"/>
            <a:ext cx="7572600" cy="6168960"/>
            <a:chOff x="1419120" y="466560"/>
            <a:chExt cx="7572600" cy="6168960"/>
          </a:xfrm>
        </p:grpSpPr>
        <p:sp>
          <p:nvSpPr>
            <p:cNvPr id="118" name=""/>
            <p:cNvSpPr/>
            <p:nvPr/>
          </p:nvSpPr>
          <p:spPr>
            <a:xfrm>
              <a:off x="1447920" y="6014880"/>
              <a:ext cx="7391160" cy="620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AIN CORTEX DHA PLOTTED AGAINST AGE AT DEA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krides</a:t>
              </a: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et al.       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 J Clin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tr</a:t>
              </a: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1994 ; 60 : 189-9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9" name=""/>
            <p:cNvGraphicFramePr/>
            <p:nvPr/>
          </p:nvGraphicFramePr>
          <p:xfrm>
            <a:off x="1419120" y="466560"/>
            <a:ext cx="7572600" cy="524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19120" y="466560"/>
                      <a:ext cx="7572600" cy="524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228600" y="152280"/>
            <a:ext cx="9753480" cy="6629400"/>
            <a:chOff x="228600" y="152280"/>
            <a:chExt cx="9753480" cy="662940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rcRect l="3266" t="2008" r="2177" b="1506"/>
            <a:stretch/>
          </p:blipFill>
          <p:spPr>
            <a:xfrm>
              <a:off x="2344680" y="152280"/>
              <a:ext cx="5427720" cy="60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28600" y="6194520"/>
              <a:ext cx="9753480" cy="5871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ORE DE DEVELOPPEMENT COGNITIF EN FONCTION DU MODE D’ALI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erson</a:t>
              </a:r>
              <a:r>
                <a:rPr b="0" i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et al.         Am J Clin Nutr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 ; 70 : 525-3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701640"/>
            <a:ext cx="8743680" cy="11430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LLAITEMENT MATERNEL ET MALADIES SURVENANT PLUS TARD DANS LA V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3320" y="2743200"/>
            <a:ext cx="9372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Maladie coelia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Maladies inflammatoires du tube digest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Sclérose en pla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Canc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28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Diabète insulino-dépendant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>
            <a:lum bright="-6000"/>
          </a:blip>
          <a:srcRect l="4252" t="1426" r="2126" b="570"/>
          <a:stretch/>
        </p:blipFill>
        <p:spPr>
          <a:xfrm>
            <a:off x="7645320" y="2362320"/>
            <a:ext cx="2641680" cy="68580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22600" y="692280"/>
            <a:ext cx="4927680" cy="10080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TAMINE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2635200"/>
            <a:ext cx="8991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ible contenu en vitamine D du lait de femme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0-40 UI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s de rachitisme carentiel rar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rch Pédiatr 1994 ; 1 : 614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commandation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A : 400 UI/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rance : 1000 UI/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646360" y="677880"/>
            <a:ext cx="4441680" cy="73512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TAMINE 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2055960"/>
            <a:ext cx="8762760" cy="42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Risque + élevé de maladie hémorragique du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nouveau-né en cas d’allaitement maternel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transfert materno-fœtal de vitamine K diminu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faible contenu du LF en vitamine K (&lt; 5 µg/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faible synthèse endogène de vitamine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Recommandation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2 mg vitamine K per os chaque semaine tant que l’allaitement maternel est exclusi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cd"/>
            </a:gs>
            <a:gs pos="50000">
              <a:srgbClr val="ffff99"/>
            </a:gs>
            <a:gs pos="100000">
              <a:srgbClr val="fefec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066400" y="3092040"/>
            <a:ext cx="75344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fection par le VI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Galactosém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ares médicaments (+++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771120" y="845640"/>
            <a:ext cx="8744040" cy="114300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E-INDICATI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 L’ALLAITEMENT MATERNEL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1120" y="630000"/>
            <a:ext cx="8744040" cy="11430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 MEILLEUR LAIT POUR LE NOURRISSON EST CELUI DE SA MERE : BREAST IS BES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71320" y="2420640"/>
            <a:ext cx="8064360" cy="43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vantag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actions mère-enf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ation équilibrée, modèle nutritionnel      IL N’Y A PAS DE MAUVAIS LAIT (+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tection contre infection, aller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apté aux besoins physiolog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09480" y="304920"/>
            <a:ext cx="9144000" cy="6327360"/>
            <a:chOff x="609480" y="304920"/>
            <a:chExt cx="9144000" cy="6327360"/>
          </a:xfrm>
        </p:grpSpPr>
        <p:pic>
          <p:nvPicPr>
            <p:cNvPr id="53" name="" descr=""/>
            <p:cNvPicPr/>
            <p:nvPr/>
          </p:nvPicPr>
          <p:blipFill>
            <a:blip r:embed="rId1">
              <a:lum bright="6000"/>
            </a:blip>
            <a:srcRect l="1797" t="4491" r="1797" b="2694"/>
            <a:stretch/>
          </p:blipFill>
          <p:spPr>
            <a:xfrm>
              <a:off x="609480" y="304920"/>
              <a:ext cx="9144000" cy="58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990720" y="6264000"/>
              <a:ext cx="845820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EE D’ALLAITEMENT DANS PLUSIEURS PAYS INDUSTRIALI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066680" y="476280"/>
            <a:ext cx="8829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LE LAIT DE FEMME EST UN PRODUIT BIOLOGIQUE,                                   PAS UN « ENSEMBLE » DE NUTRIMENTS (+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1628640"/>
            <a:ext cx="51814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Acides gras polyinsaturé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I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Oligosaccharid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Lactoferri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5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Enzy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Facteurs de croiss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Hormon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Arial"/>
                <a:ea typeface="Arial"/>
              </a:rPr>
              <a:t>Cytokines 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866" t="0" r="0" b="0"/>
          <a:stretch/>
        </p:blipFill>
        <p:spPr>
          <a:xfrm>
            <a:off x="304920" y="1828800"/>
            <a:ext cx="4922640" cy="72025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2314440" y="31680"/>
            <a:ext cx="5133960" cy="581400"/>
          </a:xfrm>
          <a:prstGeom prst="rect">
            <a:avLst/>
          </a:prstGeom>
          <a:solidFill>
            <a:srgbClr val="0000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BREAST IS B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447920" y="228600"/>
            <a:ext cx="7362720" cy="6476760"/>
            <a:chOff x="1447920" y="228600"/>
            <a:chExt cx="7362720" cy="6476760"/>
          </a:xfrm>
        </p:grpSpPr>
        <p:sp>
          <p:nvSpPr>
            <p:cNvPr id="60" name=""/>
            <p:cNvSpPr/>
            <p:nvPr/>
          </p:nvSpPr>
          <p:spPr>
            <a:xfrm>
              <a:off x="2286000" y="6062760"/>
              <a:ext cx="5638680" cy="642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TEIN CONTENT OF PRETERM HUMAN MIL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chanler </a:t>
              </a:r>
              <a:r>
                <a:rPr b="0" i="1" lang="fr-FR" sz="1800" spc="-1" strike="noStrike">
                  <a:solidFill>
                    <a:srgbClr val="000000"/>
                  </a:solidFill>
                  <a:latin typeface="Times New Roman"/>
                </a:rPr>
                <a:t>et al.       J Pediatr </a:t>
              </a: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1980 ; 96 : 679-8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1" name=""/>
            <p:cNvGraphicFramePr/>
            <p:nvPr/>
          </p:nvGraphicFramePr>
          <p:xfrm>
            <a:off x="1447920" y="228600"/>
            <a:ext cx="7362720" cy="584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47920" y="228600"/>
                      <a:ext cx="7362720" cy="584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0600" y="1197000"/>
            <a:ext cx="9296280" cy="4294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362320" y="5715000"/>
            <a:ext cx="55623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cariati 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et al.    Pediatrics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997 ; 99 : e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66960" y="189000"/>
            <a:ext cx="7992720" cy="94716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fections ORL et diarrhées en fonction de l’alimentation le mois précé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6600" y="3429000"/>
            <a:ext cx="8137440" cy="504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6600" y="4797360"/>
            <a:ext cx="8353080" cy="5032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3680" y="4005360"/>
            <a:ext cx="1655640" cy="42912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  <a:ea typeface="Arial"/>
              </a:rPr>
              <a:t>Effet-do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76360" y="66600"/>
            <a:ext cx="7064640" cy="1374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THE INFLUENCE OF BREAST AND ARTIFI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FEEDING ON INFANTILE ECZ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Grulee GG, Sanford 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J Pediatr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1930 ; 90 : 223-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200" y="5891040"/>
            <a:ext cx="2797560" cy="88632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etites quantité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’allergènes prés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66840" y="5003640"/>
            <a:ext cx="2671200" cy="177588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IgA-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TGF-</a:t>
            </a:r>
            <a:r>
              <a:rPr b="1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IL-10, IL-4, IL-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Acide </a:t>
            </a:r>
            <a:r>
              <a:rPr b="1" lang="fr-FR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-linolé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96800" y="1366920"/>
          <a:ext cx="9401400" cy="46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366920"/>
                    <a:ext cx="9401400" cy="46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4680" y="221760"/>
            <a:ext cx="8991360" cy="685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Arial"/>
              </a:rPr>
              <a:t>Effets protecteurs du LM / Asthm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57960" y="6191280"/>
            <a:ext cx="5052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Gdalevich 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et al. 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fr-FR" sz="2000" spc="-1" strike="noStrike">
                <a:solidFill>
                  <a:srgbClr val="ffffff"/>
                </a:solidFill>
                <a:latin typeface="Times New Roman"/>
              </a:rPr>
              <a:t>J Pediatr</a:t>
            </a: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 2001 ; 139 : 261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2680" y="1366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38680" y="1027080"/>
            <a:ext cx="53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éta-analyse : 12 études 1966-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990720" y="380880"/>
            <a:ext cx="8305560" cy="6326640"/>
            <a:chOff x="990720" y="380880"/>
            <a:chExt cx="8305560" cy="6326640"/>
          </a:xfrm>
        </p:grpSpPr>
        <p:sp>
          <p:nvSpPr>
            <p:cNvPr id="80" name=""/>
            <p:cNvSpPr/>
            <p:nvPr/>
          </p:nvSpPr>
          <p:spPr>
            <a:xfrm>
              <a:off x="990720" y="6308640"/>
              <a:ext cx="8305560" cy="398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ndra</a:t>
              </a:r>
              <a:r>
                <a:rPr b="1" i="1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J Pediatr Gastroenterol Nutr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 ; 24 : 380-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362320" y="380880"/>
              <a:ext cx="5562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CUMULATIVE INCIDENCE OF ECZEM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1295280" y="1066680"/>
              <a:ext cx="7209000" cy="5029200"/>
              <a:chOff x="1295280" y="1066680"/>
              <a:chExt cx="7209000" cy="5029200"/>
            </a:xfrm>
          </p:grpSpPr>
          <p:pic>
            <p:nvPicPr>
              <p:cNvPr id="83" name="" descr=""/>
              <p:cNvPicPr/>
              <p:nvPr/>
            </p:nvPicPr>
            <p:blipFill>
              <a:blip r:embed="rId1"/>
              <a:srcRect l="0" t="0" r="0" b="2130"/>
              <a:stretch/>
            </p:blipFill>
            <p:spPr>
              <a:xfrm>
                <a:off x="1295280" y="1066680"/>
                <a:ext cx="7209000" cy="4956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4" name=""/>
              <p:cNvGrpSpPr/>
              <p:nvPr/>
            </p:nvGrpSpPr>
            <p:grpSpPr>
              <a:xfrm>
                <a:off x="5791320" y="5638680"/>
                <a:ext cx="2286000" cy="457200"/>
                <a:chOff x="5791320" y="5638680"/>
                <a:chExt cx="2286000" cy="4572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5791320" y="5715000"/>
                  <a:ext cx="1981080" cy="304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791320" y="5638680"/>
                  <a:ext cx="2286000" cy="457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09:10:29Z</dcterms:created>
  <dc:creator>D.I.T.</dc:creator>
  <dc:description/>
  <dc:language>en-US</dc:language>
  <cp:lastModifiedBy>burmed1</cp:lastModifiedBy>
  <dcterms:modified xsi:type="dcterms:W3CDTF">2005-12-13T18:23:24Z</dcterms:modified>
  <cp:revision>185</cp:revision>
  <dc:subject/>
  <dc:title>Aucun titre de diapositive</dc:title>
</cp:coreProperties>
</file>