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691D-9664-4BBA-8FD0-667687B03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898E-F490-448E-8B4D-099C4F7E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0465-73E1-450F-AD24-12FDAB59D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5A8E-A1BF-44A2-83AD-FB551B240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6440-A725-447E-8CFA-7739BE133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4F9B-95EB-4E72-9810-7E0F44C9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C379-5139-4A97-A0E7-D82D8A5A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B20E-729E-445C-A075-4F1BCDEF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ABD9-09F2-46C8-BEA7-D379F9CD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F213-BF6A-41C9-8B90-784F97AB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C833-8378-471B-A5CC-A7E69393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FEA4-0347-457E-87EB-21FE27A8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0E2F-2B9F-4BDD-BA33-162E9D55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0CCD-DAB6-4CB3-B340-6A4DDA0F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2BEF-8D51-43B7-ACE7-338030CD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7645-C21D-4FD5-B350-5FA8D8BBB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3D02-2275-4B5F-A935-6294C9A67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61A9-6C54-4E97-B345-831571D7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9A83-5299-4872-8C73-646AD746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D32D-0E26-4E0E-A6D5-099EDBDE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8A36-FAC2-4602-ACFA-92F8A0C5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5D82-D19A-4759-8525-D8B69B8E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D7A0-CC68-4A7A-8298-A8CB5BF8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4EF8-5A20-46CC-86EE-78997BD2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7240" y="119160"/>
            <a:ext cx="8456760" cy="6738480"/>
            <a:chOff x="687240" y="119160"/>
            <a:chExt cx="8456760" cy="6738480"/>
          </a:xfrm>
        </p:grpSpPr>
        <p:sp>
          <p:nvSpPr>
            <p:cNvPr id="1" name=""/>
            <p:cNvSpPr/>
            <p:nvPr/>
          </p:nvSpPr>
          <p:spPr>
            <a:xfrm>
              <a:off x="687240" y="6630840"/>
              <a:ext cx="3505320" cy="22680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9960" y="6748200"/>
              <a:ext cx="4332600" cy="64800"/>
              <a:chOff x="4539960" y="6748200"/>
              <a:chExt cx="4332600" cy="64800"/>
            </a:xfrm>
          </p:grpSpPr>
          <p:sp>
            <p:nvSpPr>
              <p:cNvPr id="3" name=""/>
              <p:cNvSpPr/>
              <p:nvPr/>
            </p:nvSpPr>
            <p:spPr>
              <a:xfrm>
                <a:off x="4539960" y="67482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9800" y="67482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9280" y="67482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8760" y="67482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8600" y="67482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8080" y="67482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7560" y="67482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7400" y="67482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3560" y="763560"/>
              <a:ext cx="8380440" cy="76140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6400" y="119160"/>
              <a:ext cx="66600" cy="666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6400" y="349200"/>
              <a:ext cx="6660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6400" y="576000"/>
              <a:ext cx="6660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FDD2-54B8-4CA5-8209-032F3E714317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FE7E-8141-4FDF-83B8-467E6A88E14C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2438280"/>
            <a:ext cx="8458200" cy="182880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228600"/>
            <a:ext cx="74678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Recherches de solutions de reclassemen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2666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ahoma"/>
              </a:rPr>
              <a:t>Dr DELZENNE  médecin du travail</a:t>
            </a:r>
            <a:br>
              <a:rPr sz="3600"/>
            </a:br>
            <a:r>
              <a:rPr b="0" lang="en-US" sz="3600" spc="-1" strike="noStrike">
                <a:solidFill>
                  <a:srgbClr val="cbcbcb"/>
                </a:solidFill>
                <a:latin typeface="Tahoma"/>
              </a:rPr>
              <a:t>Dr PICAVEZ médecin du travail </a:t>
            </a:r>
            <a:endParaRPr b="0" lang="en-US" sz="3600" spc="-1" strike="noStrike">
              <a:solidFill>
                <a:srgbClr val="cbcbcb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761760" y="19807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9933"/>
                </a:solidFill>
                <a:latin typeface="Arial"/>
              </a:rPr>
              <a:t>Bilan de compétences, d’orientation</a:t>
            </a:r>
            <a:r>
              <a:rPr b="1" lang="fr-FR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(Agefiph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330099"/>
                </a:solidFill>
                <a:uFillTx/>
                <a:latin typeface="Arial"/>
                <a:hlinkClick r:id="rId1" action="ppaction://hlinksldjump"/>
              </a:rPr>
              <a:t>Défin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9933"/>
                </a:solidFill>
                <a:latin typeface="Arial"/>
              </a:rPr>
              <a:t>Formation</a:t>
            </a:r>
            <a:r>
              <a:rPr b="1" lang="fr-FR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(OPCA, Fongecif, Agefiph..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330099"/>
                </a:solidFill>
                <a:uFillTx/>
                <a:latin typeface="Arial"/>
                <a:hlinkClick r:id="rId2" action="ppaction://hlinksldjump"/>
              </a:rPr>
              <a:t>Définition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9933"/>
                </a:solidFill>
                <a:latin typeface="Arial"/>
              </a:rPr>
              <a:t>Aménagement de poste</a:t>
            </a:r>
            <a:r>
              <a:rPr b="1" lang="fr-FR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(Agefiph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ahoma"/>
              </a:rPr>
              <a:t>Reclassement interne</a:t>
            </a:r>
            <a:endParaRPr b="0" lang="en-US" sz="4000" spc="-1" strike="noStrike">
              <a:solidFill>
                <a:srgbClr val="cbcbcb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cbcbcb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dentification de compétences et aptitudes afin d’étudier les possibilités de reclassement dans l’entrepri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763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FR" sz="4000" spc="-1" strike="noStrike">
                <a:solidFill>
                  <a:srgbClr val="cbcbcb"/>
                </a:solidFill>
                <a:latin typeface="Tahoma"/>
              </a:rPr>
              <a:t>Bilan de compétenc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cbcbcb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ermettre l’acquisition des compétences professionnelles requises pour un maintien dans l’emploi prévu dans le cadre d’un reclassement interne ou exter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763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FR" sz="4000" spc="-1" strike="noStrike">
                <a:solidFill>
                  <a:srgbClr val="cbcbcb"/>
                </a:solidFill>
                <a:latin typeface="Tahoma"/>
              </a:rPr>
              <a:t>Formation professionnel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ahoma"/>
              </a:rPr>
              <a:t>Synthèse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685800"/>
            <a:ext cx="8458200" cy="990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172200" y="228600"/>
            <a:ext cx="2590560" cy="1676520"/>
            <a:chOff x="6172200" y="228600"/>
            <a:chExt cx="2590560" cy="1676520"/>
          </a:xfrm>
        </p:grpSpPr>
        <p:sp>
          <p:nvSpPr>
            <p:cNvPr id="159" name=""/>
            <p:cNvSpPr/>
            <p:nvPr/>
          </p:nvSpPr>
          <p:spPr>
            <a:xfrm>
              <a:off x="6324480" y="304920"/>
              <a:ext cx="236232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Times New Roman"/>
                </a:rPr>
                <a:t>Recherche et/ou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Times New Roman"/>
                </a:rPr>
                <a:t>mise en plac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Times New Roman"/>
                </a:rPr>
                <a:t>de solutions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Times New Roman"/>
                </a:rPr>
                <a:t>dans l’entre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172200" y="228600"/>
              <a:ext cx="2590560" cy="1676520"/>
            </a:xfrm>
            <a:prstGeom prst="roundRect">
              <a:avLst>
                <a:gd name="adj" fmla="val 16667"/>
              </a:avLst>
            </a:prstGeom>
            <a:noFill/>
            <a:ln w="316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743200" y="0"/>
            <a:ext cx="3124080" cy="6858000"/>
            <a:chOff x="2743200" y="0"/>
            <a:chExt cx="3124080" cy="6858000"/>
          </a:xfrm>
        </p:grpSpPr>
        <p:grpSp>
          <p:nvGrpSpPr>
            <p:cNvPr id="162" name=""/>
            <p:cNvGrpSpPr/>
            <p:nvPr/>
          </p:nvGrpSpPr>
          <p:grpSpPr>
            <a:xfrm>
              <a:off x="3048120" y="228600"/>
              <a:ext cx="2590560" cy="1676520"/>
              <a:chOff x="3048120" y="228600"/>
              <a:chExt cx="2590560" cy="1676520"/>
            </a:xfrm>
          </p:grpSpPr>
          <p:sp>
            <p:nvSpPr>
              <p:cNvPr id="163" name=""/>
              <p:cNvSpPr/>
              <p:nvPr/>
            </p:nvSpPr>
            <p:spPr>
              <a:xfrm>
                <a:off x="3200400" y="304920"/>
                <a:ext cx="2362320" cy="152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ffffff"/>
                    </a:solidFill>
                    <a:latin typeface="Times New Roman"/>
                  </a:rPr>
                  <a:t>Recherch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ffffff"/>
                    </a:solidFill>
                    <a:latin typeface="Times New Roman"/>
                  </a:rPr>
                  <a:t>de solutions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ffffff"/>
                    </a:solidFill>
                    <a:latin typeface="Times New Roman"/>
                  </a:rPr>
                  <a:t>dans l’entrepris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048120" y="228600"/>
                <a:ext cx="2590560" cy="1676520"/>
              </a:xfrm>
              <a:prstGeom prst="roundRect">
                <a:avLst>
                  <a:gd name="adj" fmla="val 16667"/>
                </a:avLst>
              </a:prstGeom>
              <a:noFill/>
              <a:ln w="316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2743200" y="0"/>
              <a:ext cx="0" cy="6858000"/>
            </a:xfrm>
            <a:prstGeom prst="line">
              <a:avLst/>
            </a:prstGeom>
            <a:ln cap="rnd" w="25560">
              <a:solidFill>
                <a:srgbClr val="00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867280" y="0"/>
              <a:ext cx="0" cy="6858000"/>
            </a:xfrm>
            <a:prstGeom prst="line">
              <a:avLst/>
            </a:prstGeom>
            <a:ln cap="rnd" w="25560">
              <a:solidFill>
                <a:srgbClr val="00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362320" y="2286000"/>
            <a:ext cx="2819160" cy="914400"/>
            <a:chOff x="2362320" y="2286000"/>
            <a:chExt cx="2819160" cy="914400"/>
          </a:xfrm>
        </p:grpSpPr>
        <p:sp>
          <p:nvSpPr>
            <p:cNvPr id="168" name=""/>
            <p:cNvSpPr/>
            <p:nvPr/>
          </p:nvSpPr>
          <p:spPr>
            <a:xfrm>
              <a:off x="3276720" y="2286000"/>
              <a:ext cx="1904760" cy="914400"/>
            </a:xfrm>
            <a:prstGeom prst="rect">
              <a:avLst/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Times New Roman"/>
                </a:rPr>
                <a:t>Visit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Times New Roman"/>
                </a:rPr>
                <a:t>pré-re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62320" y="2514600"/>
              <a:ext cx="823680" cy="485640"/>
            </a:xfrm>
            <a:custGeom>
              <a:avLst/>
              <a:gdLst>
                <a:gd name="textAreaLeft" fmla="*/ 128520 w 823680"/>
                <a:gd name="textAreaRight" fmla="*/ 720720 w 823680"/>
                <a:gd name="textAreaTop" fmla="*/ 121320 h 485640"/>
                <a:gd name="textAreaBottom" fmla="*/ 36432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334120" y="2286000"/>
            <a:ext cx="3124080" cy="914400"/>
            <a:chOff x="5334120" y="2286000"/>
            <a:chExt cx="3124080" cy="914400"/>
          </a:xfrm>
        </p:grpSpPr>
        <p:sp>
          <p:nvSpPr>
            <p:cNvPr id="171" name=""/>
            <p:cNvSpPr/>
            <p:nvPr/>
          </p:nvSpPr>
          <p:spPr>
            <a:xfrm>
              <a:off x="6553080" y="2286000"/>
              <a:ext cx="1905120" cy="914400"/>
            </a:xfrm>
            <a:prstGeom prst="rect">
              <a:avLst/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Times New Roman"/>
                </a:rPr>
                <a:t>Visit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Times New Roman"/>
                </a:rPr>
                <a:t>re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34120" y="2514600"/>
              <a:ext cx="1143000" cy="485640"/>
            </a:xfrm>
            <a:prstGeom prst="rightArrow">
              <a:avLst>
                <a:gd name="adj1" fmla="val 50000"/>
                <a:gd name="adj2" fmla="val 58840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7238880" y="3276720"/>
            <a:ext cx="1600200" cy="1295280"/>
            <a:chOff x="7238880" y="3276720"/>
            <a:chExt cx="1600200" cy="1295280"/>
          </a:xfrm>
        </p:grpSpPr>
        <p:sp>
          <p:nvSpPr>
            <p:cNvPr id="174" name=""/>
            <p:cNvSpPr/>
            <p:nvPr/>
          </p:nvSpPr>
          <p:spPr>
            <a:xfrm>
              <a:off x="7696080" y="3352680"/>
              <a:ext cx="1143000" cy="83844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Times New Roman"/>
                </a:rPr>
                <a:t>INAP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5400000">
              <a:off x="6834240" y="3681360"/>
              <a:ext cx="1295280" cy="486000"/>
            </a:xfrm>
            <a:prstGeom prst="rightArrow">
              <a:avLst>
                <a:gd name="adj1" fmla="val 50000"/>
                <a:gd name="adj2" fmla="val 66630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57200" y="2057400"/>
            <a:ext cx="1905120" cy="2576520"/>
            <a:chOff x="457200" y="2057400"/>
            <a:chExt cx="1905120" cy="2576520"/>
          </a:xfrm>
        </p:grpSpPr>
        <p:sp>
          <p:nvSpPr>
            <p:cNvPr id="177" name=""/>
            <p:cNvSpPr/>
            <p:nvPr/>
          </p:nvSpPr>
          <p:spPr>
            <a:xfrm rot="16200000">
              <a:off x="859320" y="3864600"/>
              <a:ext cx="1052640" cy="485640"/>
            </a:xfrm>
            <a:custGeom>
              <a:avLst/>
              <a:gdLst>
                <a:gd name="textAreaLeft" fmla="*/ 164520 w 1052640"/>
                <a:gd name="textAreaRight" fmla="*/ 921240 w 1052640"/>
                <a:gd name="textAreaTop" fmla="*/ 121320 h 485640"/>
                <a:gd name="textAreaBottom" fmla="*/ 36432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57200" y="2057400"/>
              <a:ext cx="1905120" cy="1371600"/>
              <a:chOff x="457200" y="2057400"/>
              <a:chExt cx="1905120" cy="1371600"/>
            </a:xfrm>
          </p:grpSpPr>
          <p:sp>
            <p:nvSpPr>
              <p:cNvPr id="179" name=""/>
              <p:cNvSpPr/>
              <p:nvPr/>
            </p:nvSpPr>
            <p:spPr>
              <a:xfrm>
                <a:off x="457200" y="2209680"/>
                <a:ext cx="190512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ffffff"/>
                    </a:solidFill>
                    <a:latin typeface="Times New Roman"/>
                  </a:rPr>
                  <a:t>ARRE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ffffff"/>
                    </a:solidFill>
                    <a:latin typeface="Times New Roman"/>
                  </a:rPr>
                  <a:t>Maladi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ffffff"/>
                    </a:solidFill>
                    <a:latin typeface="Times New Roman"/>
                  </a:rPr>
                  <a:t>AT/M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57200" y="2057400"/>
                <a:ext cx="1828800" cy="1371600"/>
              </a:xfrm>
              <a:prstGeom prst="hexagon">
                <a:avLst>
                  <a:gd name="adj" fmla="val 33333"/>
                  <a:gd name="vf" fmla="val 115470"/>
                </a:avLst>
              </a:prstGeom>
              <a:noFill/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533520" y="3733920"/>
              <a:ext cx="761760" cy="609480"/>
            </a:xfrm>
            <a:prstGeom prst="lightningBolt">
              <a:avLst/>
            </a:prstGeom>
            <a:solidFill>
              <a:srgbClr val="ff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324480" y="4648320"/>
            <a:ext cx="2286000" cy="1904760"/>
            <a:chOff x="6324480" y="4648320"/>
            <a:chExt cx="2286000" cy="1904760"/>
          </a:xfrm>
        </p:grpSpPr>
        <p:grpSp>
          <p:nvGrpSpPr>
            <p:cNvPr id="183" name=""/>
            <p:cNvGrpSpPr/>
            <p:nvPr/>
          </p:nvGrpSpPr>
          <p:grpSpPr>
            <a:xfrm>
              <a:off x="6324480" y="4648320"/>
              <a:ext cx="2286000" cy="1523880"/>
              <a:chOff x="6324480" y="4648320"/>
              <a:chExt cx="2286000" cy="1523880"/>
            </a:xfrm>
          </p:grpSpPr>
          <p:sp>
            <p:nvSpPr>
              <p:cNvPr id="184" name=""/>
              <p:cNvSpPr/>
              <p:nvPr/>
            </p:nvSpPr>
            <p:spPr>
              <a:xfrm>
                <a:off x="6553080" y="4724280"/>
                <a:ext cx="1828800" cy="13716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ffffff"/>
                    </a:solidFill>
                    <a:latin typeface="Times New Roman"/>
                  </a:rPr>
                  <a:t>MAINTIE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324480" y="4648320"/>
                <a:ext cx="2286000" cy="1523880"/>
              </a:xfrm>
              <a:prstGeom prst="diamond">
                <a:avLst/>
              </a:prstGeom>
              <a:noFill/>
              <a:ln w="316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7010280" y="5715000"/>
              <a:ext cx="990720" cy="8380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Times New Roman"/>
                </a:rPr>
                <a:t>AP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28600" y="4724280"/>
            <a:ext cx="2286000" cy="1905120"/>
            <a:chOff x="228600" y="4724280"/>
            <a:chExt cx="2286000" cy="1905120"/>
          </a:xfrm>
        </p:grpSpPr>
        <p:grpSp>
          <p:nvGrpSpPr>
            <p:cNvPr id="188" name=""/>
            <p:cNvGrpSpPr/>
            <p:nvPr/>
          </p:nvGrpSpPr>
          <p:grpSpPr>
            <a:xfrm>
              <a:off x="228600" y="4724280"/>
              <a:ext cx="2286000" cy="1523880"/>
              <a:chOff x="228600" y="4724280"/>
              <a:chExt cx="2286000" cy="1523880"/>
            </a:xfrm>
          </p:grpSpPr>
          <p:sp>
            <p:nvSpPr>
              <p:cNvPr id="189" name=""/>
              <p:cNvSpPr/>
              <p:nvPr/>
            </p:nvSpPr>
            <p:spPr>
              <a:xfrm>
                <a:off x="457200" y="4800240"/>
                <a:ext cx="1828800" cy="13716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ffffff"/>
                    </a:solidFill>
                    <a:latin typeface="Times New Roman"/>
                  </a:rPr>
                  <a:t>EN POST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28600" y="4724280"/>
                <a:ext cx="2286000" cy="1523880"/>
              </a:xfrm>
              <a:prstGeom prst="diamond">
                <a:avLst/>
              </a:prstGeom>
              <a:noFill/>
              <a:ln w="316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914400" y="5791320"/>
              <a:ext cx="990720" cy="8380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Times New Roman"/>
                </a:rPr>
                <a:t>AP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85800"/>
            <a:ext cx="8458200" cy="990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28600" y="609480"/>
            <a:ext cx="8651880" cy="5514840"/>
            <a:chOff x="228600" y="609480"/>
            <a:chExt cx="8651880" cy="5514840"/>
          </a:xfrm>
        </p:grpSpPr>
        <p:grpSp>
          <p:nvGrpSpPr>
            <p:cNvPr id="194" name=""/>
            <p:cNvGrpSpPr/>
            <p:nvPr/>
          </p:nvGrpSpPr>
          <p:grpSpPr>
            <a:xfrm>
              <a:off x="3068640" y="609480"/>
              <a:ext cx="2805120" cy="657000"/>
              <a:chOff x="3068640" y="609480"/>
              <a:chExt cx="2805120" cy="657000"/>
            </a:xfrm>
          </p:grpSpPr>
          <p:sp>
            <p:nvSpPr>
              <p:cNvPr id="195" name=""/>
              <p:cNvSpPr/>
              <p:nvPr/>
            </p:nvSpPr>
            <p:spPr>
              <a:xfrm>
                <a:off x="3068640" y="609480"/>
                <a:ext cx="280512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85680" bIns="856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71560"/>
                    <a:tab algn="l" pos="1743120"/>
                    <a:tab algn="l" pos="2614680"/>
                    <a:tab algn="l" pos="3486240"/>
                    <a:tab algn="l" pos="4357800"/>
                    <a:tab algn="l" pos="5229360"/>
                    <a:tab algn="l" pos="6100920"/>
                    <a:tab algn="l" pos="6972480"/>
                    <a:tab algn="l" pos="7843680"/>
                    <a:tab algn="l" pos="8715240"/>
                    <a:tab algn="l" pos="9586800"/>
                    <a:tab algn="l" pos="10458360"/>
                  </a:tabLst>
                </a:pPr>
                <a:r>
                  <a:rPr b="1" lang="fr-FR" sz="1700" spc="-1" strike="noStrike">
                    <a:solidFill>
                      <a:srgbClr val="009999"/>
                    </a:solidFill>
                    <a:latin typeface="Comic Sans MS"/>
                  </a:rPr>
                  <a:t>Maintien dans l’entreprise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068640" y="609480"/>
                <a:ext cx="2805120" cy="0"/>
              </a:xfrm>
              <a:prstGeom prst="line">
                <a:avLst/>
              </a:prstGeom>
              <a:ln cap="sq" w="381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-85320" bIns="-85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068640" y="1266480"/>
                <a:ext cx="2805120" cy="0"/>
              </a:xfrm>
              <a:prstGeom prst="line">
                <a:avLst/>
              </a:prstGeom>
              <a:ln cap="sq" w="381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-85320" bIns="-85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068640" y="609480"/>
                <a:ext cx="0" cy="657000"/>
              </a:xfrm>
              <a:prstGeom prst="line">
                <a:avLst/>
              </a:prstGeom>
              <a:ln cap="sq" w="381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85320" bIns="85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873760" y="609480"/>
                <a:ext cx="0" cy="657000"/>
              </a:xfrm>
              <a:prstGeom prst="line">
                <a:avLst/>
              </a:prstGeom>
              <a:ln cap="sq" w="381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85320" bIns="85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792000" y="2238480"/>
              <a:ext cx="1909800" cy="345960"/>
              <a:chOff x="792000" y="2238480"/>
              <a:chExt cx="1909800" cy="345960"/>
            </a:xfrm>
          </p:grpSpPr>
          <p:sp>
            <p:nvSpPr>
              <p:cNvPr id="201" name=""/>
              <p:cNvSpPr/>
              <p:nvPr/>
            </p:nvSpPr>
            <p:spPr>
              <a:xfrm>
                <a:off x="792000" y="2238480"/>
                <a:ext cx="1909800" cy="345960"/>
              </a:xfrm>
              <a:prstGeom prst="rect">
                <a:avLst/>
              </a:prstGeom>
              <a:solidFill>
                <a:srgbClr val="ff505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71560"/>
                    <a:tab algn="l" pos="1743120"/>
                    <a:tab algn="l" pos="2614680"/>
                    <a:tab algn="l" pos="3486240"/>
                    <a:tab algn="l" pos="4357800"/>
                    <a:tab algn="l" pos="5229360"/>
                    <a:tab algn="l" pos="6100920"/>
                    <a:tab algn="l" pos="6972480"/>
                    <a:tab algn="l" pos="7843680"/>
                    <a:tab algn="l" pos="8715240"/>
                    <a:tab algn="l" pos="9586800"/>
                    <a:tab algn="l" pos="10458360"/>
                  </a:tabLst>
                </a:pPr>
                <a:r>
                  <a:rPr b="1" lang="fr-FR" sz="1500" spc="-1" strike="noStrike">
                    <a:solidFill>
                      <a:srgbClr val="ffffff"/>
                    </a:solidFill>
                    <a:latin typeface="Comic Sans MS"/>
                  </a:rPr>
                  <a:t>Maintien au poste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92000" y="2238480"/>
                <a:ext cx="1909800" cy="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92000" y="2584440"/>
                <a:ext cx="1909800" cy="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92000" y="2238480"/>
                <a:ext cx="0" cy="34596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701800" y="2238480"/>
                <a:ext cx="0" cy="34596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5583240" y="2238480"/>
              <a:ext cx="2867040" cy="360360"/>
              <a:chOff x="5583240" y="2238480"/>
              <a:chExt cx="2867040" cy="360360"/>
            </a:xfrm>
          </p:grpSpPr>
          <p:sp>
            <p:nvSpPr>
              <p:cNvPr id="207" name=""/>
              <p:cNvSpPr/>
              <p:nvPr/>
            </p:nvSpPr>
            <p:spPr>
              <a:xfrm>
                <a:off x="5583240" y="2238480"/>
                <a:ext cx="2867040" cy="360360"/>
              </a:xfrm>
              <a:prstGeom prst="rect">
                <a:avLst/>
              </a:prstGeom>
              <a:solidFill>
                <a:srgbClr val="ff505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71560"/>
                    <a:tab algn="l" pos="1743120"/>
                    <a:tab algn="l" pos="2614680"/>
                    <a:tab algn="l" pos="3486240"/>
                    <a:tab algn="l" pos="4357800"/>
                    <a:tab algn="l" pos="5229360"/>
                    <a:tab algn="l" pos="6100920"/>
                    <a:tab algn="l" pos="6972480"/>
                    <a:tab algn="l" pos="7843680"/>
                    <a:tab algn="l" pos="8715240"/>
                    <a:tab algn="l" pos="9586800"/>
                    <a:tab algn="l" pos="10458360"/>
                  </a:tabLst>
                </a:pPr>
                <a:r>
                  <a:rPr b="1" lang="fr-FR" sz="1500" spc="-1" strike="noStrike">
                    <a:solidFill>
                      <a:srgbClr val="ffffff"/>
                    </a:solidFill>
                    <a:latin typeface="Comic Sans MS"/>
                  </a:rPr>
                  <a:t>Reclassement interne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583240" y="2238480"/>
                <a:ext cx="2867040" cy="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583240" y="2598840"/>
                <a:ext cx="2867040" cy="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583240" y="2238480"/>
                <a:ext cx="0" cy="36036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450280" y="2238480"/>
                <a:ext cx="0" cy="36036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5430960" y="3048120"/>
              <a:ext cx="1584360" cy="722160"/>
              <a:chOff x="5430960" y="3048120"/>
              <a:chExt cx="1584360" cy="722160"/>
            </a:xfrm>
          </p:grpSpPr>
          <p:sp>
            <p:nvSpPr>
              <p:cNvPr id="213" name=""/>
              <p:cNvSpPr/>
              <p:nvPr/>
            </p:nvSpPr>
            <p:spPr>
              <a:xfrm>
                <a:off x="5430960" y="3048120"/>
                <a:ext cx="1584360" cy="722160"/>
              </a:xfrm>
              <a:prstGeom prst="rect">
                <a:avLst/>
              </a:prstGeom>
              <a:solidFill>
                <a:srgbClr val="ff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4200" rIns="34200" tIns="41040" bIns="41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71560"/>
                    <a:tab algn="l" pos="1743120"/>
                    <a:tab algn="l" pos="2614680"/>
                    <a:tab algn="l" pos="3486240"/>
                    <a:tab algn="l" pos="4357800"/>
                    <a:tab algn="l" pos="5229360"/>
                    <a:tab algn="l" pos="6100920"/>
                    <a:tab algn="l" pos="6972480"/>
                    <a:tab algn="l" pos="7843680"/>
                    <a:tab algn="l" pos="8715240"/>
                    <a:tab algn="l" pos="9586800"/>
                    <a:tab algn="l" pos="10458360"/>
                  </a:tabLst>
                </a:pPr>
                <a:r>
                  <a:rPr b="1" lang="fr-FR" sz="1200" spc="-1" strike="noStrike">
                    <a:solidFill>
                      <a:srgbClr val="ffffff"/>
                    </a:solidFill>
                    <a:latin typeface="Comic Sans MS"/>
                  </a:rPr>
                  <a:t>Bilan d’orientation ou de compétence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430960" y="3048120"/>
                <a:ext cx="1584360" cy="0"/>
              </a:xfrm>
              <a:prstGeom prst="line">
                <a:avLst/>
              </a:prstGeom>
              <a:ln cap="sq" w="38160">
                <a:solidFill>
                  <a:srgbClr val="009999"/>
                </a:solidFill>
                <a:custDash>
                  <a:ds d="8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4200" rIns="34200" tIns="-41040" bIns="-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430960" y="3770280"/>
                <a:ext cx="1584360" cy="0"/>
              </a:xfrm>
              <a:prstGeom prst="line">
                <a:avLst/>
              </a:prstGeom>
              <a:ln cap="sq" w="38160">
                <a:solidFill>
                  <a:srgbClr val="009999"/>
                </a:solidFill>
                <a:custDash>
                  <a:ds d="8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4200" rIns="34200" tIns="-41040" bIns="-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430960" y="3048120"/>
                <a:ext cx="0" cy="722160"/>
              </a:xfrm>
              <a:prstGeom prst="line">
                <a:avLst/>
              </a:prstGeom>
              <a:ln cap="sq" w="38160">
                <a:solidFill>
                  <a:srgbClr val="009999"/>
                </a:solidFill>
                <a:custDash>
                  <a:ds d="8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4200" rIns="34200" tIns="41040" bIns="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015320" y="3048120"/>
                <a:ext cx="0" cy="722160"/>
              </a:xfrm>
              <a:prstGeom prst="line">
                <a:avLst/>
              </a:prstGeom>
              <a:ln cap="sq" w="38160">
                <a:solidFill>
                  <a:srgbClr val="009999"/>
                </a:solidFill>
                <a:custDash>
                  <a:ds d="8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4200" rIns="34200" tIns="41040" bIns="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6172200" y="4648320"/>
              <a:ext cx="1469520" cy="1476000"/>
              <a:chOff x="6172200" y="4648320"/>
              <a:chExt cx="1469520" cy="1476000"/>
            </a:xfrm>
          </p:grpSpPr>
          <p:sp>
            <p:nvSpPr>
              <p:cNvPr id="219" name=""/>
              <p:cNvSpPr/>
              <p:nvPr/>
            </p:nvSpPr>
            <p:spPr>
              <a:xfrm>
                <a:off x="6172200" y="4648320"/>
                <a:ext cx="1469520" cy="1476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4200" rIns="34200" tIns="41040" bIns="4104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71560"/>
                    <a:tab algn="l" pos="1743120"/>
                    <a:tab algn="l" pos="2614680"/>
                    <a:tab algn="l" pos="3486240"/>
                    <a:tab algn="l" pos="4357800"/>
                    <a:tab algn="l" pos="5229360"/>
                    <a:tab algn="l" pos="6100920"/>
                    <a:tab algn="l" pos="6972480"/>
                    <a:tab algn="l" pos="7843680"/>
                    <a:tab algn="l" pos="8715240"/>
                    <a:tab algn="l" pos="9586800"/>
                    <a:tab algn="l" pos="10458360"/>
                  </a:tabLst>
                </a:pPr>
                <a:r>
                  <a:rPr b="1" lang="fr-FR" sz="1200" spc="-1" strike="noStrike">
                    <a:solidFill>
                      <a:srgbClr val="ffffff"/>
                    </a:solidFill>
                    <a:latin typeface="Comic Sans MS"/>
                  </a:rPr>
                  <a:t>Congé Individuel de Formation</a:t>
                </a:r>
                <a:r>
                  <a:rPr b="0" lang="fr-FR" sz="1200" spc="-1" strike="noStrike">
                    <a:solidFill>
                      <a:srgbClr val="ffffff"/>
                    </a:solidFill>
                    <a:latin typeface="Comic Sans MS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871560"/>
                    <a:tab algn="l" pos="1743120"/>
                    <a:tab algn="l" pos="2614680"/>
                    <a:tab algn="l" pos="3486240"/>
                    <a:tab algn="l" pos="4357800"/>
                    <a:tab algn="l" pos="5229360"/>
                    <a:tab algn="l" pos="6100920"/>
                    <a:tab algn="l" pos="6972480"/>
                    <a:tab algn="l" pos="7843680"/>
                    <a:tab algn="l" pos="8715240"/>
                    <a:tab algn="l" pos="9586800"/>
                    <a:tab algn="l" pos="10458360"/>
                  </a:tabLst>
                </a:pPr>
                <a:r>
                  <a:rPr b="0" lang="fr-FR" sz="1000" spc="-1" strike="noStrike">
                    <a:solidFill>
                      <a:srgbClr val="ffffff"/>
                    </a:solidFill>
                    <a:latin typeface="Comic Sans MS"/>
                  </a:rPr>
                  <a:t>(FONGECIF /OPCA…)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172200" y="4648320"/>
                <a:ext cx="1469520" cy="0"/>
              </a:xfrm>
              <a:prstGeom prst="line">
                <a:avLst/>
              </a:prstGeom>
              <a:ln cap="sq" w="3816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4200" rIns="34200" tIns="-41040" bIns="-41040" anchor="ctr" anchorCtr="1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172200" y="6124320"/>
                <a:ext cx="1469520" cy="0"/>
              </a:xfrm>
              <a:prstGeom prst="line">
                <a:avLst/>
              </a:prstGeom>
              <a:ln cap="sq" w="3816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4200" rIns="34200" tIns="-41040" bIns="-41040" anchor="ctr" anchorCtr="1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172200" y="4648320"/>
                <a:ext cx="0" cy="1476000"/>
              </a:xfrm>
              <a:prstGeom prst="line">
                <a:avLst/>
              </a:prstGeom>
              <a:ln cap="sq" w="3816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4200" rIns="34200" tIns="41040" bIns="41040" anchor="ctr" anchorCtr="1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1720" y="4648320"/>
                <a:ext cx="0" cy="1476000"/>
              </a:xfrm>
              <a:prstGeom prst="line">
                <a:avLst/>
              </a:prstGeom>
              <a:ln cap="sq" w="3816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4200" rIns="34200" tIns="41040" bIns="41040" anchor="ctr" anchorCtr="1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4363920" y="4648320"/>
              <a:ext cx="1607760" cy="1476000"/>
              <a:chOff x="4363920" y="4648320"/>
              <a:chExt cx="1607760" cy="1476000"/>
            </a:xfrm>
          </p:grpSpPr>
          <p:sp>
            <p:nvSpPr>
              <p:cNvPr id="225" name=""/>
              <p:cNvSpPr/>
              <p:nvPr/>
            </p:nvSpPr>
            <p:spPr>
              <a:xfrm>
                <a:off x="4363920" y="4648320"/>
                <a:ext cx="1607760" cy="1476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4200" rIns="34200" tIns="41040" bIns="4104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71560"/>
                    <a:tab algn="l" pos="1743120"/>
                    <a:tab algn="l" pos="2614680"/>
                    <a:tab algn="l" pos="3486240"/>
                    <a:tab algn="l" pos="4357800"/>
                    <a:tab algn="l" pos="5229360"/>
                    <a:tab algn="l" pos="6100920"/>
                    <a:tab algn="l" pos="6972480"/>
                    <a:tab algn="l" pos="7843680"/>
                    <a:tab algn="l" pos="8715240"/>
                    <a:tab algn="l" pos="9586800"/>
                    <a:tab algn="l" pos="10458360"/>
                  </a:tabLst>
                </a:pPr>
                <a:r>
                  <a:rPr b="1" lang="fr-FR" sz="1200" spc="-1" strike="noStrike">
                    <a:solidFill>
                      <a:srgbClr val="ffffff"/>
                    </a:solidFill>
                    <a:latin typeface="Comic Sans MS"/>
                  </a:rPr>
                  <a:t>Formation courte</a:t>
                </a:r>
                <a:r>
                  <a:rPr b="0" lang="fr-FR" sz="1200" spc="-1" strike="noStrike">
                    <a:solidFill>
                      <a:srgbClr val="ffffff"/>
                    </a:solidFill>
                    <a:latin typeface="Comic Sans MS"/>
                  </a:rPr>
                  <a:t> interne et/ou externe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871560"/>
                    <a:tab algn="l" pos="1743120"/>
                    <a:tab algn="l" pos="2614680"/>
                    <a:tab algn="l" pos="3486240"/>
                    <a:tab algn="l" pos="4357800"/>
                    <a:tab algn="l" pos="5229360"/>
                    <a:tab algn="l" pos="6100920"/>
                    <a:tab algn="l" pos="6972480"/>
                    <a:tab algn="l" pos="7843680"/>
                    <a:tab algn="l" pos="8715240"/>
                    <a:tab algn="l" pos="9586800"/>
                    <a:tab algn="l" pos="10458360"/>
                  </a:tabLst>
                </a:pPr>
                <a:r>
                  <a:rPr b="0" lang="fr-FR" sz="1200" spc="-1" strike="noStrike">
                    <a:solidFill>
                      <a:srgbClr val="ffffff"/>
                    </a:solidFill>
                    <a:latin typeface="Comic Sans MS"/>
                  </a:rPr>
                  <a:t>(Plan de formation entreprise et/ou AGEFIPH)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363920" y="4648320"/>
                <a:ext cx="1607760" cy="0"/>
              </a:xfrm>
              <a:prstGeom prst="line">
                <a:avLst/>
              </a:prstGeom>
              <a:ln cap="sq" w="3816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4200" rIns="34200" tIns="-41040" bIns="-41040" anchor="ctr" anchorCtr="1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363920" y="6124320"/>
                <a:ext cx="1607760" cy="0"/>
              </a:xfrm>
              <a:prstGeom prst="line">
                <a:avLst/>
              </a:prstGeom>
              <a:ln cap="sq" w="3816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4200" rIns="34200" tIns="-41040" bIns="-41040" anchor="ctr" anchorCtr="1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63920" y="4648320"/>
                <a:ext cx="0" cy="1476000"/>
              </a:xfrm>
              <a:prstGeom prst="line">
                <a:avLst/>
              </a:prstGeom>
              <a:ln cap="sq" w="3816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4200" rIns="34200" tIns="41040" bIns="41040" anchor="ctr" anchorCtr="1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971680" y="4648320"/>
                <a:ext cx="0" cy="1476000"/>
              </a:xfrm>
              <a:prstGeom prst="line">
                <a:avLst/>
              </a:prstGeom>
              <a:ln cap="sq" w="3816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4200" rIns="34200" tIns="41040" bIns="41040" anchor="ctr" anchorCtr="1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7394400" y="3022560"/>
              <a:ext cx="1486080" cy="973080"/>
              <a:chOff x="7394400" y="3022560"/>
              <a:chExt cx="1486080" cy="973080"/>
            </a:xfrm>
          </p:grpSpPr>
          <p:sp>
            <p:nvSpPr>
              <p:cNvPr id="231" name=""/>
              <p:cNvSpPr/>
              <p:nvPr/>
            </p:nvSpPr>
            <p:spPr>
              <a:xfrm>
                <a:off x="7394400" y="3022560"/>
                <a:ext cx="1486080" cy="973080"/>
              </a:xfrm>
              <a:prstGeom prst="rect">
                <a:avLst/>
              </a:prstGeom>
              <a:solidFill>
                <a:srgbClr val="99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4200" rIns="34200" tIns="41040" bIns="4104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71560"/>
                    <a:tab algn="l" pos="1743120"/>
                    <a:tab algn="l" pos="2614680"/>
                    <a:tab algn="l" pos="3486240"/>
                    <a:tab algn="l" pos="4357800"/>
                    <a:tab algn="l" pos="5229360"/>
                    <a:tab algn="l" pos="6100920"/>
                    <a:tab algn="l" pos="6972480"/>
                    <a:tab algn="l" pos="7843680"/>
                    <a:tab algn="l" pos="8715240"/>
                    <a:tab algn="l" pos="9586800"/>
                    <a:tab algn="l" pos="10458360"/>
                  </a:tabLst>
                </a:pPr>
                <a:r>
                  <a:rPr b="1" lang="fr-FR" sz="1200" spc="-1" strike="noStrike">
                    <a:solidFill>
                      <a:srgbClr val="ffffff"/>
                    </a:solidFill>
                    <a:latin typeface="Comic Sans MS"/>
                  </a:rPr>
                  <a:t>Aménagement du nouveau post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394400" y="3022560"/>
                <a:ext cx="1486080" cy="0"/>
              </a:xfrm>
              <a:prstGeom prst="line">
                <a:avLst/>
              </a:prstGeom>
              <a:ln cap="sq"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4200" rIns="34200" tIns="-41040" bIns="-41040" anchor="ctr" anchorCtr="1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394400" y="3995640"/>
                <a:ext cx="1486080" cy="0"/>
              </a:xfrm>
              <a:prstGeom prst="line">
                <a:avLst/>
              </a:prstGeom>
              <a:ln cap="sq"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4200" rIns="34200" tIns="-41040" bIns="-41040" anchor="ctr" anchorCtr="1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394400" y="3022560"/>
                <a:ext cx="0" cy="973080"/>
              </a:xfrm>
              <a:prstGeom prst="line">
                <a:avLst/>
              </a:prstGeom>
              <a:ln cap="sq"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4200" rIns="34200" tIns="41040" bIns="41040" anchor="ctr" anchorCtr="1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880480" y="3022560"/>
                <a:ext cx="0" cy="973080"/>
              </a:xfrm>
              <a:prstGeom prst="line">
                <a:avLst/>
              </a:prstGeom>
              <a:ln cap="sq"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4200" rIns="34200" tIns="41040" bIns="41040" anchor="ctr" anchorCtr="1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2133720" y="1981080"/>
              <a:ext cx="4357440" cy="18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33720" y="1981080"/>
              <a:ext cx="0" cy="2286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472080" y="1981080"/>
              <a:ext cx="5040" cy="2574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228600" y="3036960"/>
              <a:ext cx="1087560" cy="929880"/>
              <a:chOff x="228600" y="3036960"/>
              <a:chExt cx="1087560" cy="929880"/>
            </a:xfrm>
          </p:grpSpPr>
          <p:sp>
            <p:nvSpPr>
              <p:cNvPr id="240" name=""/>
              <p:cNvSpPr/>
              <p:nvPr/>
            </p:nvSpPr>
            <p:spPr>
              <a:xfrm>
                <a:off x="228600" y="3036960"/>
                <a:ext cx="1087560" cy="929880"/>
              </a:xfrm>
              <a:prstGeom prst="rect">
                <a:avLst/>
              </a:prstGeom>
              <a:solidFill>
                <a:srgbClr val="cc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1040" bIns="4104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71560"/>
                    <a:tab algn="l" pos="1743120"/>
                    <a:tab algn="l" pos="2614680"/>
                    <a:tab algn="l" pos="3486240"/>
                    <a:tab algn="l" pos="4357800"/>
                    <a:tab algn="l" pos="5229360"/>
                    <a:tab algn="l" pos="6100920"/>
                    <a:tab algn="l" pos="6972480"/>
                    <a:tab algn="l" pos="7843680"/>
                    <a:tab algn="l" pos="8715240"/>
                    <a:tab algn="l" pos="9586800"/>
                    <a:tab algn="l" pos="10458360"/>
                  </a:tabLst>
                </a:pPr>
                <a:r>
                  <a:rPr b="1" lang="fr-FR" sz="1200" spc="-1" strike="noStrike">
                    <a:solidFill>
                      <a:srgbClr val="ffffff"/>
                    </a:solidFill>
                    <a:latin typeface="Comic Sans MS"/>
                  </a:rPr>
                  <a:t>Aménagement de Post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28600" y="3036960"/>
                <a:ext cx="1087560" cy="0"/>
              </a:xfrm>
              <a:prstGeom prst="line">
                <a:avLst/>
              </a:prstGeom>
              <a:ln cap="sq" w="381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1040" bIns="-41040" anchor="ctr" anchorCtr="1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3966840"/>
                <a:ext cx="1087560" cy="0"/>
              </a:xfrm>
              <a:prstGeom prst="line">
                <a:avLst/>
              </a:prstGeom>
              <a:ln cap="sq" w="381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1040" bIns="-41040" anchor="ctr" anchorCtr="1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28600" y="3036960"/>
                <a:ext cx="0" cy="929880"/>
              </a:xfrm>
              <a:prstGeom prst="line">
                <a:avLst/>
              </a:prstGeom>
              <a:ln cap="sq" w="381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1040" bIns="41040" anchor="ctr" anchorCtr="1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316160" y="3036960"/>
                <a:ext cx="0" cy="929880"/>
              </a:xfrm>
              <a:prstGeom prst="line">
                <a:avLst/>
              </a:prstGeom>
              <a:ln cap="sq" w="381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1040" bIns="41040" anchor="ctr" anchorCtr="1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1392120" y="3036960"/>
              <a:ext cx="1741680" cy="929880"/>
              <a:chOff x="1392120" y="3036960"/>
              <a:chExt cx="1741680" cy="929880"/>
            </a:xfrm>
          </p:grpSpPr>
          <p:sp>
            <p:nvSpPr>
              <p:cNvPr id="246" name=""/>
              <p:cNvSpPr/>
              <p:nvPr/>
            </p:nvSpPr>
            <p:spPr>
              <a:xfrm>
                <a:off x="1392120" y="3036960"/>
                <a:ext cx="1741680" cy="929880"/>
              </a:xfrm>
              <a:prstGeom prst="rect">
                <a:avLst/>
              </a:prstGeom>
              <a:solidFill>
                <a:srgbClr val="cc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1040" bIns="4104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71560"/>
                    <a:tab algn="l" pos="1743120"/>
                    <a:tab algn="l" pos="2614680"/>
                    <a:tab algn="l" pos="3486240"/>
                    <a:tab algn="l" pos="4357800"/>
                    <a:tab algn="l" pos="5229360"/>
                    <a:tab algn="l" pos="6100920"/>
                    <a:tab algn="l" pos="6972480"/>
                    <a:tab algn="l" pos="7843680"/>
                    <a:tab algn="l" pos="8715240"/>
                    <a:tab algn="l" pos="9586800"/>
                    <a:tab algn="l" pos="10458360"/>
                  </a:tabLst>
                </a:pPr>
                <a:r>
                  <a:rPr b="1" lang="fr-FR" sz="1200" spc="-1" strike="noStrike">
                    <a:solidFill>
                      <a:srgbClr val="ffffff"/>
                    </a:solidFill>
                    <a:latin typeface="Comic Sans MS"/>
                  </a:rPr>
                  <a:t>-Temps partiel </a:t>
                </a:r>
                <a:r>
                  <a:rPr b="0" lang="fr-FR" sz="1200" spc="-1" strike="noStrike">
                    <a:solidFill>
                      <a:srgbClr val="ffffff"/>
                    </a:solidFill>
                    <a:latin typeface="Comic Sans MS"/>
                  </a:rPr>
                  <a:t>thérapeutiqu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871560"/>
                    <a:tab algn="l" pos="1743120"/>
                    <a:tab algn="l" pos="2614680"/>
                    <a:tab algn="l" pos="3486240"/>
                    <a:tab algn="l" pos="4357800"/>
                    <a:tab algn="l" pos="5229360"/>
                    <a:tab algn="l" pos="6100920"/>
                    <a:tab algn="l" pos="6972480"/>
                    <a:tab algn="l" pos="7843680"/>
                    <a:tab algn="l" pos="8715240"/>
                    <a:tab algn="l" pos="9586800"/>
                    <a:tab algn="l" pos="10458360"/>
                  </a:tabLst>
                </a:pPr>
                <a:r>
                  <a:rPr b="1" lang="fr-FR" sz="1200" spc="-1" strike="noStrike">
                    <a:solidFill>
                      <a:srgbClr val="ffffff"/>
                    </a:solidFill>
                    <a:latin typeface="Comic Sans MS"/>
                  </a:rPr>
                  <a:t>-Invalidité 1ère catégori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392120" y="3036960"/>
                <a:ext cx="1741680" cy="0"/>
              </a:xfrm>
              <a:prstGeom prst="line">
                <a:avLst/>
              </a:prstGeom>
              <a:ln cap="sq" w="381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1040" bIns="-41040" anchor="ctr" anchorCtr="1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392120" y="3966840"/>
                <a:ext cx="1741680" cy="0"/>
              </a:xfrm>
              <a:prstGeom prst="line">
                <a:avLst/>
              </a:prstGeom>
              <a:ln cap="sq" w="381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1040" bIns="-41040" anchor="ctr" anchorCtr="1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392120" y="3036960"/>
                <a:ext cx="0" cy="929880"/>
              </a:xfrm>
              <a:prstGeom prst="line">
                <a:avLst/>
              </a:prstGeom>
              <a:ln cap="sq" w="381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1040" bIns="41040" anchor="ctr" anchorCtr="1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133800" y="3036960"/>
                <a:ext cx="0" cy="929880"/>
              </a:xfrm>
              <a:prstGeom prst="line">
                <a:avLst/>
              </a:prstGeom>
              <a:ln cap="sq" w="381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1040" bIns="41040" anchor="ctr" anchorCtr="1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3200400" y="3036960"/>
              <a:ext cx="1315800" cy="930240"/>
              <a:chOff x="3200400" y="3036960"/>
              <a:chExt cx="1315800" cy="930240"/>
            </a:xfrm>
          </p:grpSpPr>
          <p:sp>
            <p:nvSpPr>
              <p:cNvPr id="252" name=""/>
              <p:cNvSpPr/>
              <p:nvPr/>
            </p:nvSpPr>
            <p:spPr>
              <a:xfrm>
                <a:off x="3200400" y="3036960"/>
                <a:ext cx="1315800" cy="930240"/>
              </a:xfrm>
              <a:prstGeom prst="rect">
                <a:avLst/>
              </a:prstGeom>
              <a:solidFill>
                <a:srgbClr val="cc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4200" rIns="34200" tIns="41040" bIns="4104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71560"/>
                    <a:tab algn="l" pos="1743120"/>
                    <a:tab algn="l" pos="2614680"/>
                    <a:tab algn="l" pos="3486240"/>
                    <a:tab algn="l" pos="4357800"/>
                    <a:tab algn="l" pos="5229360"/>
                    <a:tab algn="l" pos="6100920"/>
                    <a:tab algn="l" pos="6972480"/>
                    <a:tab algn="l" pos="7843680"/>
                    <a:tab algn="l" pos="8715240"/>
                    <a:tab algn="l" pos="9586800"/>
                    <a:tab algn="l" pos="10458360"/>
                  </a:tabLst>
                </a:pPr>
                <a:r>
                  <a:rPr b="1" lang="fr-FR" sz="1200" spc="-1" strike="noStrike">
                    <a:solidFill>
                      <a:srgbClr val="ffffff"/>
                    </a:solidFill>
                    <a:latin typeface="Comic Sans MS"/>
                  </a:rPr>
                  <a:t>Nouvelle organisation du travail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200400" y="3036960"/>
                <a:ext cx="1315800" cy="0"/>
              </a:xfrm>
              <a:prstGeom prst="line">
                <a:avLst/>
              </a:prstGeom>
              <a:ln cap="sq" w="381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4200" rIns="34200" tIns="-41040" bIns="-41040" anchor="ctr" anchorCtr="1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200400" y="3967200"/>
                <a:ext cx="1315800" cy="0"/>
              </a:xfrm>
              <a:prstGeom prst="line">
                <a:avLst/>
              </a:prstGeom>
              <a:ln cap="sq" w="381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4200" rIns="34200" tIns="-41040" bIns="-41040" anchor="ctr" anchorCtr="1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200400" y="3036960"/>
                <a:ext cx="0" cy="930240"/>
              </a:xfrm>
              <a:prstGeom prst="line">
                <a:avLst/>
              </a:prstGeom>
              <a:ln cap="sq" w="381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4200" rIns="34200" tIns="41040" bIns="41040" anchor="ctr" anchorCtr="1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516200" y="3036960"/>
                <a:ext cx="0" cy="930240"/>
              </a:xfrm>
              <a:prstGeom prst="line">
                <a:avLst/>
              </a:prstGeom>
              <a:ln cap="sq" w="381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4200" rIns="34200" tIns="41040" bIns="41040" anchor="ctr" anchorCtr="1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822240" y="2819520"/>
              <a:ext cx="283536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22240" y="2819520"/>
              <a:ext cx="1800" cy="217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133720" y="2819520"/>
              <a:ext cx="1440" cy="217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662280" y="2819520"/>
              <a:ext cx="1800" cy="217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62640" y="2598840"/>
              <a:ext cx="1800" cy="2156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6116760" y="2815920"/>
              <a:ext cx="1938240" cy="32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095880" y="2819520"/>
              <a:ext cx="0" cy="2286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055000" y="2814480"/>
              <a:ext cx="1440" cy="2178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19920" y="3809880"/>
              <a:ext cx="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5202000" y="4343400"/>
              <a:ext cx="173196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33720" y="259092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02360" y="43434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934320" y="43434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43400" y="1295280"/>
              <a:ext cx="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685800" y="2057400"/>
            <a:ext cx="8458200" cy="190512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bcbcb"/>
                </a:solidFill>
                <a:latin typeface="Tahoma"/>
              </a:rPr>
              <a:t>Témoignage</a:t>
            </a:r>
            <a:endParaRPr b="0" lang="en-US" sz="5400" spc="-1" strike="noStrike">
              <a:solidFill>
                <a:srgbClr val="cbcbcb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s pratiq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ahoma"/>
              </a:rPr>
              <a:t>Traitement de l’inaptitude</a:t>
            </a:r>
            <a:endParaRPr b="0" lang="en-US" sz="4400" spc="-1" strike="noStrike">
              <a:solidFill>
                <a:srgbClr val="cbcbcb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762120" y="762120"/>
            <a:ext cx="8381880" cy="137160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ahoma"/>
              </a:rPr>
              <a:t>Contexte avant l’aménagement de poste</a:t>
            </a:r>
            <a:endParaRPr b="0" lang="en-US" sz="4000" spc="-1" strike="noStrike">
              <a:solidFill>
                <a:srgbClr val="cbcbcb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2419200"/>
            <a:ext cx="8178840" cy="451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33"/>
                </a:solidFill>
                <a:latin typeface="Arial"/>
              </a:rPr>
              <a:t>L’activité de l’entrepr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ecteur d’activit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33"/>
                </a:solidFill>
                <a:latin typeface="Arial"/>
              </a:rPr>
              <a:t>Le poste de travail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pécificité du mét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xigences physiques et contrai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Moyens techniques employ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ahoma"/>
              </a:rPr>
              <a:t>Secteur d’activité: la logistique</a:t>
            </a:r>
            <a:endParaRPr b="0" lang="en-US" sz="4400" spc="-1" strike="noStrike">
              <a:solidFill>
                <a:srgbClr val="cbcbcb"/>
              </a:solidFill>
              <a:latin typeface="Tahoma"/>
            </a:endParaRPr>
          </a:p>
        </p:txBody>
      </p:sp>
      <p:pic>
        <p:nvPicPr>
          <p:cNvPr id="279" name="Semi-remorque%20retouché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78168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ahoma"/>
              </a:rPr>
              <a:t>Déclaration de l’inaptitude</a:t>
            </a:r>
            <a:endParaRPr b="0" lang="en-US" sz="4000" spc="-1" strike="noStrike">
              <a:solidFill>
                <a:srgbClr val="cbcbcb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ffffff"/>
                </a:solidFill>
                <a:uFillTx/>
                <a:latin typeface="Arial"/>
              </a:rPr>
              <a:t>Le médecin du travail s’assure de l ’aptitude physique du salari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9933"/>
                </a:solidFill>
                <a:latin typeface="Arial"/>
              </a:rPr>
              <a:t>à occuper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le poste de travail propos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=&gt; visite d ’embau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9933"/>
                </a:solidFill>
                <a:latin typeface="Arial"/>
              </a:rPr>
              <a:t>à se maintenir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à son pos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=&gt; visite annuel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9933"/>
                </a:solidFill>
                <a:latin typeface="Arial"/>
              </a:rPr>
              <a:t>à reprendre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son poste, après arrêt (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T, MP, Maladie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=&gt; visite de repri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ahoma"/>
              </a:rPr>
              <a:t>Secteur d’activité: la logistique</a:t>
            </a:r>
            <a:endParaRPr b="0" lang="en-US" sz="4400" spc="-1" strike="noStrike">
              <a:solidFill>
                <a:srgbClr val="cbcbcb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immodak2web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78168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ahoma"/>
              </a:rPr>
              <a:t>Secteur d’activité: la logistique</a:t>
            </a:r>
            <a:endParaRPr b="0" lang="en-US" sz="4400" spc="-1" strike="noStrike">
              <a:solidFill>
                <a:srgbClr val="cbcbcb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Photo de palet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Palettes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78168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762120" y="762120"/>
            <a:ext cx="8381880" cy="129528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ahoma"/>
              </a:rPr>
              <a:t>Contexte avant l’aménagement de poste</a:t>
            </a:r>
            <a:endParaRPr b="0" lang="en-US" sz="4000" spc="-1" strike="noStrike">
              <a:solidFill>
                <a:srgbClr val="cbcbcb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178840" cy="451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33"/>
                </a:solidFill>
                <a:latin typeface="Arial"/>
              </a:rPr>
              <a:t>L’activité de l’entrepr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ecteur d’activit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33"/>
                </a:solidFill>
                <a:latin typeface="Arial"/>
              </a:rPr>
              <a:t>Le poste de travail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pécificité du mét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xigences physiques et contrai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Moyens techniques employ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762120" y="609480"/>
            <a:ext cx="8381880" cy="121932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ahoma"/>
              </a:rPr>
              <a:t>Exigences physiques et</a:t>
            </a:r>
            <a:br>
              <a:rPr sz="4000"/>
            </a:br>
            <a:r>
              <a:rPr b="0" lang="fr-FR" sz="4000" spc="-1" strike="noStrike">
                <a:solidFill>
                  <a:srgbClr val="cbcbcb"/>
                </a:solidFill>
                <a:latin typeface="Tahoma"/>
              </a:rPr>
              <a:t>moyens techniques</a:t>
            </a:r>
            <a:endParaRPr b="0" lang="en-US" sz="4000" spc="-1" strike="noStrike">
              <a:solidFill>
                <a:srgbClr val="cbcbcb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Appuis%20au%20sol%20ac%20transpal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6781680" cy="44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ahoma"/>
              </a:rPr>
              <a:t>L’accident du travail</a:t>
            </a:r>
            <a:endParaRPr b="0" lang="en-US" sz="4000" spc="-1" strike="noStrike">
              <a:solidFill>
                <a:srgbClr val="cbcbcb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33"/>
                </a:solidFill>
                <a:latin typeface="Arial"/>
              </a:rPr>
              <a:t>Circonstances de l’accid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33"/>
                </a:solidFill>
                <a:latin typeface="Arial"/>
              </a:rPr>
              <a:t>Conséquences de l’accident du trav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33"/>
                </a:solidFill>
                <a:latin typeface="Arial"/>
              </a:rPr>
              <a:t>Intervention du CHSCT</a:t>
            </a:r>
            <a:r>
              <a:rPr b="0" lang="fr-FR" sz="24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Mesures mises en œuv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ahoma"/>
              </a:rPr>
              <a:t>Circonstance de l’accident</a:t>
            </a:r>
            <a:endParaRPr b="0" lang="en-US" sz="4400" spc="-1" strike="noStrike">
              <a:solidFill>
                <a:srgbClr val="cbcbcb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Photo%20pied%201ère%20opération%20copie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4191120" cy="3505320"/>
          </a:xfrm>
          <a:prstGeom prst="rect">
            <a:avLst/>
          </a:prstGeom>
          <a:ln w="0">
            <a:noFill/>
          </a:ln>
        </p:spPr>
      </p:pic>
      <p:pic>
        <p:nvPicPr>
          <p:cNvPr id="298" name="Photo%20pied%202ème%20opération" descr=""/>
          <p:cNvPicPr/>
          <p:nvPr/>
        </p:nvPicPr>
        <p:blipFill>
          <a:blip r:embed="rId2"/>
          <a:stretch/>
        </p:blipFill>
        <p:spPr>
          <a:xfrm>
            <a:off x="5029200" y="1828800"/>
            <a:ext cx="358128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ahoma"/>
              </a:rPr>
              <a:t>La visite de pré-reprise</a:t>
            </a:r>
            <a:endParaRPr b="0" lang="en-US" sz="4400" spc="-1" strike="noStrike">
              <a:solidFill>
                <a:srgbClr val="cbcbcb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33"/>
                </a:solidFill>
                <a:latin typeface="Arial"/>
              </a:rPr>
              <a:t>L’initiative de la démarc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 la demande du médecin Conse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33"/>
                </a:solidFill>
                <a:latin typeface="Arial"/>
              </a:rPr>
              <a:t>Bilan de santé et capacités resta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Réflexions sur solutions d’aménag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33"/>
                </a:solidFill>
                <a:latin typeface="Arial"/>
              </a:rPr>
              <a:t>Sollicitation de la Cellule maintien dans l’emplo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onstitution de la R.Q.T.H. en urg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Étude des possibilités d’amé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33"/>
                </a:solidFill>
                <a:latin typeface="Arial"/>
              </a:rPr>
              <a:t>Recherche de solutions avec l’entrepr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06440" y="53316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ahoma"/>
              </a:rPr>
              <a:t>La reprise</a:t>
            </a:r>
            <a:endParaRPr b="0" lang="en-US" sz="4400" spc="-1" strike="noStrike">
              <a:solidFill>
                <a:srgbClr val="cbcbcb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33"/>
                </a:solidFill>
                <a:latin typeface="Arial"/>
              </a:rPr>
              <a:t>La visite de reprise</a:t>
            </a: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(côté médecin du travai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vis de reprise avec aménagement du poste. Le salarié ne peut faire de manutentions, doit avoir des chaussures de sécurité adaptée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33"/>
                </a:solidFill>
                <a:latin typeface="Arial"/>
              </a:rPr>
              <a:t>La mise en place de solutions temporaires avant l’aménagement</a:t>
            </a: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(côté employeu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 salarié était potentiellement inapte, la mise à disposition de matériel et une organisation du travail adaptée ont permis d’éviter l’inaptitu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762120" y="762120"/>
            <a:ext cx="8381880" cy="129528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ahoma"/>
              </a:rPr>
              <a:t>Recherche de solution avec l’entreprise</a:t>
            </a:r>
            <a:endParaRPr b="0" lang="en-US" sz="4000" spc="-1" strike="noStrike">
              <a:solidFill>
                <a:srgbClr val="cbcbcb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2567160"/>
            <a:ext cx="84582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33"/>
                </a:solidFill>
                <a:latin typeface="Arial"/>
              </a:rPr>
              <a:t>1ère étude de post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Rencontre avec le responsable et le salarié concerné pour l’analyse de l’activité. Simulation avec matériel de prêt et validation, 1ère ébauche de l’aménag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33"/>
                </a:solidFill>
                <a:latin typeface="Arial"/>
              </a:rPr>
              <a:t>2ème étude de post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uvelle rencontre avec la participation de fournisseurs, finalisation de l’aménagement de pos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ahoma"/>
              </a:rPr>
              <a:t>Établissement du dossier AGEFIPH</a:t>
            </a:r>
            <a:endParaRPr b="0" lang="en-US" sz="4000" spc="-1" strike="noStrike">
              <a:solidFill>
                <a:srgbClr val="cbcbcb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33"/>
                </a:solidFill>
                <a:latin typeface="Arial"/>
              </a:rPr>
              <a:t>Aménagements nécessai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Transpalette électrique assis-debout (batteries et chargeu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limatisation du tract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haussures orthopédiques de sécurit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33"/>
                </a:solidFill>
                <a:latin typeface="Arial"/>
              </a:rPr>
              <a:t>Plan de financement avec prise en charge Agefip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ur l’ensemble de l’aménagement l’Agefiph à pris en charge les coûts à hauteur de 70% envir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ahoma"/>
              </a:rPr>
              <a:t>Anticipation de l’inaptitude</a:t>
            </a:r>
            <a:endParaRPr b="0" lang="en-US" sz="4000" spc="-1" strike="noStrike">
              <a:solidFill>
                <a:srgbClr val="cbcbcb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visite de Pré-Repr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xamen sollicité avant la reprise (pratiqué pendant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l ’arrêt de travail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à l ’initiative du salarié, du médecin traitant, ou du médecin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conse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xamen sollicité lorsqu ’une modification de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l ’aptitude au poste de travail est prévisi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ff9933"/>
                </a:solidFill>
                <a:uFillTx/>
                <a:latin typeface="Arial"/>
              </a:rPr>
              <a:t> </a:t>
            </a:r>
            <a:r>
              <a:rPr b="1" i="1" lang="fr-FR" sz="2400" spc="-1" strike="noStrike" u="sng">
                <a:solidFill>
                  <a:srgbClr val="ff9933"/>
                </a:solidFill>
                <a:uFillTx/>
                <a:latin typeface="Arial"/>
              </a:rPr>
              <a:t>Intérêt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faciliter la recherche de solutions de maintien dans l ’emploi permettant la reprise du travail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762120" y="762120"/>
            <a:ext cx="8381880" cy="152388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2280" y="837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ahoma"/>
              </a:rPr>
              <a:t>Le transpalette électrique</a:t>
            </a:r>
            <a:br>
              <a:rPr sz="4400"/>
            </a:br>
            <a:r>
              <a:rPr b="0" lang="fr-FR" sz="4400" spc="-1" strike="noStrike">
                <a:solidFill>
                  <a:srgbClr val="cbcbcb"/>
                </a:solidFill>
                <a:latin typeface="Tahoma"/>
              </a:rPr>
              <a:t>assis-debout</a:t>
            </a:r>
            <a:endParaRPr b="0" lang="en-US" sz="4400" spc="-1" strike="noStrike">
              <a:solidFill>
                <a:srgbClr val="cbcbcb"/>
              </a:solidFill>
              <a:latin typeface="Tahoma"/>
            </a:endParaRPr>
          </a:p>
        </p:txBody>
      </p:sp>
      <p:pic>
        <p:nvPicPr>
          <p:cNvPr id="310" name="Position%20assise" descr=""/>
          <p:cNvPicPr/>
          <p:nvPr/>
        </p:nvPicPr>
        <p:blipFill>
          <a:blip r:embed="rId1"/>
          <a:srcRect l="0" t="0" r="8745" b="0"/>
          <a:stretch/>
        </p:blipFill>
        <p:spPr>
          <a:xfrm>
            <a:off x="304920" y="2666880"/>
            <a:ext cx="4190760" cy="3581640"/>
          </a:xfrm>
          <a:prstGeom prst="rect">
            <a:avLst/>
          </a:prstGeom>
          <a:ln w="0">
            <a:noFill/>
          </a:ln>
        </p:spPr>
      </p:pic>
      <p:pic>
        <p:nvPicPr>
          <p:cNvPr id="311" name="Position%20debout" descr=""/>
          <p:cNvPicPr/>
          <p:nvPr/>
        </p:nvPicPr>
        <p:blipFill>
          <a:blip r:embed="rId2"/>
          <a:srcRect l="0" t="0" r="8745" b="0"/>
          <a:stretch/>
        </p:blipFill>
        <p:spPr>
          <a:xfrm>
            <a:off x="4648320" y="2666880"/>
            <a:ext cx="41907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ahoma"/>
              </a:rPr>
              <a:t>La climatisation du tracteur</a:t>
            </a:r>
            <a:endParaRPr b="0" lang="en-US" sz="4400" spc="-1" strike="noStrike">
              <a:solidFill>
                <a:srgbClr val="cbcbcb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4" name="57581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78168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762120" y="685800"/>
            <a:ext cx="8381880" cy="152388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ahoma"/>
              </a:rPr>
              <a:t>Les chaussures orthopédiques</a:t>
            </a:r>
            <a:br>
              <a:rPr sz="4400"/>
            </a:br>
            <a:r>
              <a:rPr b="0" lang="fr-FR" sz="4400" spc="-1" strike="noStrike">
                <a:solidFill>
                  <a:srgbClr val="cbcbcb"/>
                </a:solidFill>
                <a:latin typeface="Tahoma"/>
              </a:rPr>
              <a:t>de sécurité</a:t>
            </a:r>
            <a:endParaRPr b="0" lang="en-US" sz="4400" spc="-1" strike="noStrike">
              <a:solidFill>
                <a:srgbClr val="cbcbcb"/>
              </a:solidFill>
              <a:latin typeface="Tahoma"/>
            </a:endParaRPr>
          </a:p>
        </p:txBody>
      </p:sp>
      <p:pic>
        <p:nvPicPr>
          <p:cNvPr id="317" name="Photo%20chaussure" descr=""/>
          <p:cNvPicPr/>
          <p:nvPr/>
        </p:nvPicPr>
        <p:blipFill>
          <a:blip r:embed="rId1"/>
          <a:stretch/>
        </p:blipFill>
        <p:spPr>
          <a:xfrm>
            <a:off x="1917720" y="224784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62120" y="380880"/>
            <a:ext cx="8381880" cy="114300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ahoma"/>
              </a:rPr>
              <a:t>Entreprise alertée  </a:t>
            </a:r>
            <a:br>
              <a:rPr sz="4000"/>
            </a:br>
            <a:r>
              <a:rPr b="0" lang="fr-FR" sz="4000" spc="-1" strike="noStrike">
                <a:solidFill>
                  <a:srgbClr val="cbcbcb"/>
                </a:solidFill>
                <a:latin typeface="Tahoma"/>
              </a:rPr>
              <a:t>Identifications des solutions internes</a:t>
            </a:r>
            <a:endParaRPr b="0" lang="en-US" sz="4000" spc="-1" strike="noStrike">
              <a:solidFill>
                <a:srgbClr val="cbcbcb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2590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uite à la visite de pré-repr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22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9933"/>
                </a:solidFill>
                <a:uFillTx/>
                <a:latin typeface="Arial"/>
              </a:rPr>
              <a:t>Constitution de la demande de R.Q.T.H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22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9933"/>
                </a:solidFill>
                <a:uFillTx/>
                <a:latin typeface="Arial"/>
              </a:rPr>
              <a:t>Dialogue avec l’employeur</a:t>
            </a:r>
            <a:r>
              <a:rPr b="1" lang="fr-FR" sz="1800" spc="-1" strike="noStrike">
                <a:solidFill>
                  <a:srgbClr val="ff9933"/>
                </a:solidFill>
                <a:latin typeface="Arial"/>
              </a:rPr>
              <a:t> (étude de poste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22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9933"/>
                </a:solidFill>
                <a:uFillTx/>
                <a:latin typeface="Arial"/>
              </a:rPr>
              <a:t>Demande de temps partiel thérapeuti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2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2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2040" indent="0">
              <a:lnSpc>
                <a:spcPct val="22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62120" y="380880"/>
            <a:ext cx="8381880" cy="114300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6320" y="2301840"/>
            <a:ext cx="9069480" cy="4017240"/>
            <a:chOff x="76320" y="2301840"/>
            <a:chExt cx="9069480" cy="4017240"/>
          </a:xfrm>
        </p:grpSpPr>
        <p:sp>
          <p:nvSpPr>
            <p:cNvPr id="135" name=""/>
            <p:cNvSpPr/>
            <p:nvPr/>
          </p:nvSpPr>
          <p:spPr>
            <a:xfrm>
              <a:off x="1008360" y="2301840"/>
              <a:ext cx="8137440" cy="40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buClr>
                  <a:srgbClr val="ffffff"/>
                </a:buClr>
                <a:buFont typeface="Wingdings" charset="2"/>
                <a:buChar char="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2400" spc="-1" strike="noStrike">
                  <a:solidFill>
                    <a:srgbClr val="ffffff"/>
                  </a:solidFill>
                  <a:latin typeface="Arial"/>
                </a:rPr>
                <a:t>Suite à la visite de re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330099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190440">
                <a:lnSpc>
                  <a:spcPct val="115000"/>
                </a:lnSpc>
                <a:buClr>
                  <a:srgbClr val="ff9933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9933"/>
                  </a:solidFill>
                  <a:latin typeface="Arial"/>
                </a:rPr>
                <a:t>  </a:t>
              </a:r>
              <a:r>
                <a:rPr b="1" lang="fr-FR" sz="1600" spc="-1" strike="noStrike" u="sng">
                  <a:solidFill>
                    <a:srgbClr val="ff9933"/>
                  </a:solidFill>
                  <a:uFillTx/>
                  <a:latin typeface="Arial"/>
                </a:rPr>
                <a:t>Suite au 1er avis d ’inaptitu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3" marL="571680">
                <a:lnSpc>
                  <a:spcPct val="115000"/>
                </a:lnSpc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Etude de pos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3" marL="571680">
                <a:lnSpc>
                  <a:spcPct val="115000"/>
                </a:lnSpc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Préciser les tâches que le salarié ne peut plus effectu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3" marL="571680">
                <a:lnSpc>
                  <a:spcPct val="115000"/>
                </a:lnSpc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Préciser les capacités restan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3" marL="571680">
                <a:lnSpc>
                  <a:spcPct val="115000"/>
                </a:lnSpc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Identifier les possibilités de l’entrepris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3" marL="571680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3" marL="571680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190440">
                <a:lnSpc>
                  <a:spcPct val="115000"/>
                </a:lnSpc>
                <a:buClr>
                  <a:srgbClr val="ff9933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9933"/>
                  </a:solidFill>
                  <a:latin typeface="Arial"/>
                </a:rPr>
                <a:t> </a:t>
              </a:r>
              <a:r>
                <a:rPr b="1" lang="fr-FR" sz="1600" spc="-1" strike="noStrike" u="sng">
                  <a:solidFill>
                    <a:srgbClr val="ff9933"/>
                  </a:solidFill>
                  <a:uFillTx/>
                  <a:latin typeface="Arial"/>
                </a:rPr>
                <a:t>Suite au 2ème avis d ’inaptitu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3" marL="571680">
                <a:lnSpc>
                  <a:spcPct val="115000"/>
                </a:lnSpc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En recherche de solution =&gt; Subvention forfaitaire AGEFIP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3" marL="571680">
                <a:lnSpc>
                  <a:spcPct val="115000"/>
                </a:lnSpc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Solution identifiée =&gt; Mise en place avec cofinancement AGEFIP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76320" y="3520440"/>
              <a:ext cx="1375200" cy="1449360"/>
              <a:chOff x="76320" y="3520440"/>
              <a:chExt cx="1375200" cy="1449360"/>
            </a:xfrm>
          </p:grpSpPr>
          <p:sp>
            <p:nvSpPr>
              <p:cNvPr id="137" name=""/>
              <p:cNvSpPr/>
              <p:nvPr/>
            </p:nvSpPr>
            <p:spPr>
              <a:xfrm rot="5381400">
                <a:off x="570960" y="4092480"/>
                <a:ext cx="1447560" cy="304920"/>
              </a:xfrm>
              <a:custGeom>
                <a:avLst/>
                <a:gdLst>
                  <a:gd name="textAreaLeft" fmla="*/ 226080 w 1447560"/>
                  <a:gd name="textAreaRight" fmla="*/ 1266840 w 144756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6320" y="3749760"/>
                <a:ext cx="114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 u="sng">
                    <a:solidFill>
                      <a:srgbClr val="ffffff"/>
                    </a:solidFill>
                    <a:uFillTx/>
                    <a:latin typeface="Comic Sans MS"/>
                  </a:rPr>
                  <a:t>Délai de 15 jour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ahoma"/>
              </a:rPr>
              <a:t>Entreprise alertée  </a:t>
            </a:r>
            <a:br>
              <a:rPr sz="4000"/>
            </a:br>
            <a:r>
              <a:rPr b="0" lang="fr-FR" sz="4000" spc="-1" strike="noStrike">
                <a:solidFill>
                  <a:srgbClr val="cbcbcb"/>
                </a:solidFill>
                <a:latin typeface="Tahoma"/>
              </a:rPr>
              <a:t>Identifications des solutions internes</a:t>
            </a:r>
            <a:endParaRPr b="0" lang="en-US" sz="4000" spc="-1" strike="noStrike">
              <a:solidFill>
                <a:srgbClr val="cbcbcb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62120" y="762120"/>
            <a:ext cx="8381880" cy="121896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63640" y="76176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ahoma"/>
              </a:rPr>
              <a:t>Pour réussir un maintien dans l’emploi</a:t>
            </a:r>
            <a:endParaRPr b="0" lang="en-US" sz="4000" spc="-1" strike="noStrike">
              <a:solidFill>
                <a:srgbClr val="cbcbcb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ffffff"/>
                </a:solidFill>
                <a:uFillTx/>
                <a:latin typeface="Arial"/>
              </a:rPr>
              <a:t>Travail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 plus en </a:t>
            </a:r>
            <a:r>
              <a:rPr b="1" lang="fr-FR" sz="2400" spc="-1" strike="noStrike">
                <a:solidFill>
                  <a:srgbClr val="ff9933"/>
                </a:solidFill>
                <a:latin typeface="Arial"/>
              </a:rPr>
              <a:t>amont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possible de la reprise de travai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à la </a:t>
            </a:r>
            <a:r>
              <a:rPr b="1" lang="fr-FR" sz="2400" spc="-1" strike="noStrike">
                <a:solidFill>
                  <a:srgbClr val="ff9933"/>
                </a:solidFill>
                <a:latin typeface="Arial"/>
              </a:rPr>
              <a:t>visite de pré-reprise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t en construisant un </a:t>
            </a:r>
            <a:r>
              <a:rPr b="1" lang="fr-FR" sz="2400" spc="-1" strike="noStrike">
                <a:solidFill>
                  <a:srgbClr val="ff9933"/>
                </a:solidFill>
                <a:latin typeface="Arial"/>
              </a:rPr>
              <a:t>partenariat étroit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et concerté avec toutes les personnes concernées : salarié, employeur, institutions représentatives du personnel, médecin du travail, ergonome, médecin traitant,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Garamond"/>
              </a:rPr>
              <a:t>Mise en place d’un maintien</a:t>
            </a:r>
            <a:endParaRPr b="0" lang="en-US" sz="5400" spc="-1" strike="noStrike">
              <a:solidFill>
                <a:srgbClr val="cbcbcb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ahoma"/>
              </a:rPr>
              <a:t>Maintien au poste</a:t>
            </a:r>
            <a:endParaRPr b="0" lang="en-US" sz="4000" spc="-1" strike="noStrike">
              <a:solidFill>
                <a:srgbClr val="cbcbcb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Wingding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9933"/>
                </a:solidFill>
                <a:latin typeface="Arial"/>
              </a:rPr>
              <a:t>Aménagement du poste</a:t>
            </a:r>
            <a:r>
              <a:rPr b="1" lang="fr-FR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(Agefip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330099"/>
                </a:solidFill>
                <a:uFillTx/>
                <a:latin typeface="Arial"/>
                <a:hlinkClick r:id="rId1" action="ppaction://hlinksldjump"/>
              </a:rPr>
              <a:t> </a:t>
            </a:r>
            <a:r>
              <a:rPr b="0" lang="fr-FR" sz="2800" spc="-1" strike="noStrike" u="sng">
                <a:solidFill>
                  <a:srgbClr val="330099"/>
                </a:solidFill>
                <a:uFillTx/>
                <a:latin typeface="Arial"/>
                <a:hlinkClick r:id="rId2" action="ppaction://hlinksldjump"/>
              </a:rPr>
              <a:t>Défin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Wingding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9933"/>
                </a:solidFill>
                <a:latin typeface="Arial"/>
              </a:rPr>
              <a:t>Aménagement du temps de travail</a:t>
            </a:r>
            <a:r>
              <a:rPr b="1" lang="fr-FR" sz="2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Temps partiel thérapeutique (Sécurité Socia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Temps partiel avec invalidité (Sécurité Socia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Wingding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9933"/>
                </a:solidFill>
                <a:latin typeface="Arial"/>
              </a:rPr>
              <a:t>Nouvelle organisation du trav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533160" y="19807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 algn="just">
              <a:lnSpc>
                <a:spcPct val="120000"/>
              </a:lnSpc>
              <a:spcBef>
                <a:spcPts val="28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20000"/>
              </a:lnSpc>
              <a:spcBef>
                <a:spcPts val="28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daptation du poste et de l’organisation du travail aux aptitudes de la personne concerné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20000"/>
              </a:lnSpc>
              <a:spcBef>
                <a:spcPts val="28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s aménagements proposés doivent se faire au regard de la déficience, afin de compenser le handica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20000"/>
              </a:lnSpc>
              <a:spcBef>
                <a:spcPts val="28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20000"/>
              </a:lnSpc>
              <a:spcBef>
                <a:spcPts val="28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066680" y="76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FR" sz="4000" spc="-1" strike="noStrike">
                <a:solidFill>
                  <a:srgbClr val="cbcbcb"/>
                </a:solidFill>
                <a:latin typeface="Tahoma"/>
              </a:rPr>
              <a:t>Aménagement de poste de travail</a:t>
            </a:r>
            <a:endParaRPr b="0" lang="en-US" sz="4000" spc="-1" strike="noStrike">
              <a:solidFill>
                <a:srgbClr val="cbcbcb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08:58:51Z</dcterms:created>
  <dc:creator>kusper</dc:creator>
  <dc:description/>
  <dc:language>en-US</dc:language>
  <cp:lastModifiedBy> </cp:lastModifiedBy>
  <cp:lastPrinted>2004-08-23T12:40:23Z</cp:lastPrinted>
  <dcterms:modified xsi:type="dcterms:W3CDTF">2004-11-30T13:47:37Z</dcterms:modified>
  <cp:revision>66</cp:revision>
  <dc:subject/>
  <dc:title>Aucun titre de diapositive</dc:title>
</cp:coreProperties>
</file>