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5EC9-ECA0-4F2F-8406-40638A87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B5E-5CAE-4A83-96E9-A24E0AA8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AFC-D240-48C2-AA4D-F498C523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384-422C-42F3-A7C2-A4E937DE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99D3-A5D2-4197-9329-A1E3E612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BD8-1F2D-4267-A216-17B2D64E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458-0268-472C-A141-4A2E4839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C507-09CE-46B7-B54E-24E477C4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0C9E-3F8D-41A0-97AA-701C324A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DC47-1B41-4CB4-A638-4F26FDDE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0D9C-CE68-4DCA-B694-44DB4F66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0ACD-CAE4-4AF0-8DD1-AC265450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32E0-F342-4B5A-B6B0-8489D8BAA3C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 problè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émarche par étap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équence des mécanismes intriqu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émie ferripr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00"/>
                </a:solidFill>
                <a:uFillTx/>
                <a:latin typeface="Arial"/>
              </a:rPr>
              <a:t>Diagnostic 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icrocy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En principe arégé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erritin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↓↓ fer↓, CSS↓, CTF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Diagnostic e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Hémorragie distill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Diges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Gynéco: interrogato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Cas particuliers: grossesse, régime lactofarineux prolongé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rai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De la c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Sels ferreux, po 100 à 200 mg/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principe pas de transfusion, sauf si mal toléré, ag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Diagnostic différent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  <a:ea typeface="Arial"/>
              </a:rPr>
              <a:t>Microcytaire= manque de fer pour l’érythropoiè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(À part: thalassémi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Carence+inflammation →Pe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48320" y="1600200"/>
          <a:ext cx="4038480" cy="4714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lam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écanis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sme cherche du f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ckage anormal du fer dans les réser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rrit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↓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ladie de Hodgk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 Trai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imiothérapie (ABV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adiothérapie local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les formes localis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ans le cadre de protoc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façon à évaluer résultats &amp; séq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portance du suiv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outtiè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yro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e pas fumer, ni exposer au soleil les zones irradi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adie de Hodgk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Lymphome non Hodgkinien</a:t>
            </a:r>
            <a:br>
              <a:rPr sz="4000"/>
            </a:b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Définition, Cli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lifération maligne des cellules lymphoides des organes lymphoides second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out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ignes générau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f Hodgki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+ indice de performance 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ignes Cli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f Hodg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lus dissémi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lus de localisations extra nodales O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Lymphome non Hodgkinien</a:t>
            </a:r>
            <a:br>
              <a:rPr sz="4000"/>
            </a:b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Diagnos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nostic Histologique: biop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ess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o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5241960" y="1600200"/>
            <a:ext cx="2851200" cy="218592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5148360" y="4076640"/>
            <a:ext cx="3008160" cy="20494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 rot="19681200">
            <a:off x="3132000" y="2997360"/>
            <a:ext cx="1584360" cy="647640"/>
          </a:xfrm>
          <a:prstGeom prst="rightArrow">
            <a:avLst>
              <a:gd name="adj1" fmla="val 50000"/>
              <a:gd name="adj2" fmla="val 611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059280" y="4653000"/>
            <a:ext cx="1512720" cy="720720"/>
          </a:xfrm>
          <a:prstGeom prst="rightArrow">
            <a:avLst>
              <a:gd name="adj1" fmla="val 50000"/>
              <a:gd name="adj2" fmla="val 524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Lymphome non Hodgkinien</a:t>
            </a:r>
            <a:br>
              <a:rPr sz="4000"/>
            </a:b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Bilan, 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i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f Hodgki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allium ou 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DH b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no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PI Stade LDH age EC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PIFL Stade LDH age Hb Nbg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Lymphome non Hodgkinien</a:t>
            </a:r>
            <a:br>
              <a:rPr sz="4000"/>
            </a:b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Trai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gress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lon I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imio lo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togre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ituxim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phylaxie neu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do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bstention si faible masse tumo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cas de forte masse tumo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imiothérap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erfé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ituxim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ludara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émie macrocytaires carentiel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00"/>
                </a:solidFill>
                <a:uFillTx/>
                <a:latin typeface="Arial"/>
              </a:rPr>
              <a:t>Macrocytaires = arégénératives (en principe),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autres cytopén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égaloblastose au myél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osage de folates B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00"/>
                </a:solidFill>
                <a:uFillTx/>
                <a:latin typeface="Arial"/>
              </a:rPr>
              <a:t>Carence en fola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Ét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apport (éthyl, dénutrition, habitudes alimentai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alabsorption proximale: résection du grêl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des besoins grosse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Médicaments sulfamides, MT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Traitement étio: foldine, pfs acide folin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B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ét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arence apport=végétarien str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alabsorp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gastrectomie, Bier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Malabsorption dist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Trai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É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Hydroxy-cobalamine en principe po puis 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Arial"/>
              </a:rPr>
              <a:t>En principe pas de transfusion, sauf si mal toléré, ag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émies hémolyt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Diagnostic posit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Destruction des 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linique: ict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Biolog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Bili libre 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↑, hémoglobinuémie, urie 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Haptoglobine ↓ 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  <a:ea typeface="Arial"/>
              </a:rPr>
              <a:t>Régénération médul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cc00"/>
                </a:solidFill>
                <a:latin typeface="Arial Unicode MS"/>
                <a:ea typeface="Arial Unicode MS"/>
              </a:rPr>
              <a:t>Réticulocytes 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rythroblastose médullaire 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Diagnostic étiolog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Corpusc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Arial"/>
              </a:rPr>
              <a:t>Constitution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Mb=minkowski Chauff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Hb=drépanocytose, thalassém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nzymes=G6PD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Marchiafava-Mich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Arial"/>
              </a:rPr>
              <a:t>Extra-corpusculaire=acq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infectieus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Bactérien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arasiatires pal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Toxiq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Mécaniques: valves, C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Immunologiq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Iso: md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Allo: incompatibilité foetomaternelle, accident de trans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Auto: AHAI: Coombs direct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némie hémolytique autoimmune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é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émo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ombs direct positif= sensibilisation des GR par un auto-Ac anti-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nique: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güe ou chro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tra+++ ou intra-vascul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némie hémolytique autoimmune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mmuno=fonction de l’optimum thermique de l’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c cha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ombs IgG, IgG+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c f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gglutinines fr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onique, bien supportée + crises au fr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ésence d’AF dans le sérum: prélever à 3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ombs + c’ en géné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res exceptionnel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émolysine biphasique (fixe à froid, hémolyse à cha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émolyse paroxystique a frigore: aigüe à fr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némie hémolytique autoimmune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ti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iopathiques (chaud: ½, froid:&lt;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cond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igüe= virale, ac fro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 (LEAD..) cha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∑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ymphoprolifératif (LLC, MW) chaud ou fr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édicament: Aldomet, Fludarabine …: cha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némie hémolytique autoimmune 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i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rg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nsfusion, problématique en théorie (auto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nécess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ng compatibili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udente, petites quantités, en sang réchauffé si Ac fr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iologique: IgIV, corticoides, plasmaphérè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f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éthodes: corticoides, IS, splénect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ud=effic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oid=inefficace: EVICTION DU FR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yndrome hémorragique plaquett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Spont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Cutané = purp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étéch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cchymo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Muqu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Bulles endobuc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Gingivorra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pist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Hémorragies diges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Viscé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Hématu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Hémorragies intraocul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hémat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Hémorragies cérébro méning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Préven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Éviter les traumatis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cr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érature rec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édic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rombopé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&lt;150.000/m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sd hémorra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ausses thrombope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4052520" y="1127880"/>
            <a:ext cx="1037160" cy="1087560"/>
            <a:chOff x="4052520" y="1127880"/>
            <a:chExt cx="1037160" cy="1087560"/>
          </a:xfrm>
        </p:grpSpPr>
        <p:cxnSp>
          <p:nvCxnSpPr>
            <p:cNvPr id="152" name="_s51209"/>
            <p:cNvCxnSpPr>
              <a:stCxn id="153" idx="0"/>
              <a:endCxn id="154" idx="2"/>
            </p:cNvCxnSpPr>
            <p:nvPr/>
          </p:nvCxnSpPr>
          <p:spPr>
            <a:xfrm flipV="1">
              <a:off x="4572360" y="1562760"/>
              <a:ext cx="1800" cy="218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4" name="_s51211"/>
            <p:cNvSpPr/>
            <p:nvPr/>
          </p:nvSpPr>
          <p:spPr>
            <a:xfrm>
              <a:off x="4053960" y="1127880"/>
              <a:ext cx="103572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étiolo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51213"/>
            <p:cNvSpPr/>
            <p:nvPr/>
          </p:nvSpPr>
          <p:spPr>
            <a:xfrm>
              <a:off x="4052520" y="1780560"/>
              <a:ext cx="103716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qui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Arial"/>
              </a:rPr>
              <a:t>Syndrôme aném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cc00"/>
                </a:solidFill>
                <a:latin typeface="Arial"/>
              </a:rPr>
              <a:t>Les sig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tradui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hypoxie tissu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mécanismes cardi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vasculaires d’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Sont fonction de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intens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rapidité d’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terrain: âge, atcd cardiovacul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ompor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éphalées, vertiges acouphè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yspnée d’effort, de re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sthé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a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Tachycar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ffle systo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3111480" y="1127880"/>
            <a:ext cx="2919600" cy="2209320"/>
            <a:chOff x="3111480" y="1127880"/>
            <a:chExt cx="2919600" cy="2209320"/>
          </a:xfrm>
        </p:grpSpPr>
        <p:cxnSp>
          <p:nvCxnSpPr>
            <p:cNvPr id="156" name="_s57348"/>
            <p:cNvCxnSpPr>
              <a:stCxn id="157" idx="0"/>
              <a:endCxn id="158" idx="2"/>
            </p:cNvCxnSpPr>
            <p:nvPr/>
          </p:nvCxnSpPr>
          <p:spPr>
            <a:xfrm flipV="1">
              <a:off x="4572360" y="2215080"/>
              <a:ext cx="1800" cy="21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9" name="_s57349"/>
            <p:cNvCxnSpPr>
              <a:stCxn id="158" idx="0"/>
              <a:endCxn id="160" idx="2"/>
            </p:cNvCxnSpPr>
            <p:nvPr/>
          </p:nvCxnSpPr>
          <p:spPr>
            <a:xfrm flipV="1">
              <a:off x="4572360" y="1562760"/>
              <a:ext cx="1800" cy="218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0" name="_s57350"/>
            <p:cNvSpPr/>
            <p:nvPr/>
          </p:nvSpPr>
          <p:spPr>
            <a:xfrm>
              <a:off x="4053960" y="1127880"/>
              <a:ext cx="103572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étiolo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57351"/>
            <p:cNvSpPr/>
            <p:nvPr/>
          </p:nvSpPr>
          <p:spPr>
            <a:xfrm>
              <a:off x="4052520" y="1780560"/>
              <a:ext cx="103716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qui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57352"/>
            <p:cNvSpPr/>
            <p:nvPr/>
          </p:nvSpPr>
          <p:spPr>
            <a:xfrm>
              <a:off x="3111480" y="2432880"/>
              <a:ext cx="2919600" cy="904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2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EGA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ée de vie des plaquettes norm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 </a:t>
              </a:r>
              <a:r>
                <a:rPr b="1" lang="fr-FR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cf Pancytopé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1449000" y="1127880"/>
            <a:ext cx="6244560" cy="2858760"/>
            <a:chOff x="1449000" y="1127880"/>
            <a:chExt cx="6244560" cy="2858760"/>
          </a:xfrm>
        </p:grpSpPr>
        <p:cxnSp>
          <p:nvCxnSpPr>
            <p:cNvPr id="162" name="_s53252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178240" y="1608840"/>
              <a:ext cx="218160" cy="143028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5" name="_s53253"/>
            <p:cNvCxnSpPr>
              <a:stCxn id="166" idx="0"/>
              <a:endCxn id="164" idx="2"/>
            </p:cNvCxnSpPr>
            <p:nvPr/>
          </p:nvCxnSpPr>
          <p:spPr>
            <a:xfrm flipH="1" flipV="1" rot="5400000">
              <a:off x="3632040" y="1492560"/>
              <a:ext cx="218160" cy="166320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53254"/>
            <p:cNvCxnSpPr>
              <a:stCxn id="168" idx="1"/>
              <a:endCxn id="163" idx="2"/>
            </p:cNvCxnSpPr>
            <p:nvPr/>
          </p:nvCxnSpPr>
          <p:spPr>
            <a:xfrm rot="10800000">
              <a:off x="6001560" y="3336840"/>
              <a:ext cx="172080" cy="434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53255"/>
            <p:cNvCxnSpPr>
              <a:stCxn id="164" idx="0"/>
              <a:endCxn id="170" idx="2"/>
            </p:cNvCxnSpPr>
            <p:nvPr/>
          </p:nvCxnSpPr>
          <p:spPr>
            <a:xfrm flipV="1">
              <a:off x="4572360" y="1562760"/>
              <a:ext cx="1800" cy="218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0" name="_s53257"/>
            <p:cNvSpPr/>
            <p:nvPr/>
          </p:nvSpPr>
          <p:spPr>
            <a:xfrm>
              <a:off x="4053960" y="1127880"/>
              <a:ext cx="103572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étiolo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53259"/>
            <p:cNvSpPr/>
            <p:nvPr/>
          </p:nvSpPr>
          <p:spPr>
            <a:xfrm>
              <a:off x="4052520" y="1780560"/>
              <a:ext cx="103716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qui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53260"/>
            <p:cNvSpPr/>
            <p:nvPr/>
          </p:nvSpPr>
          <p:spPr>
            <a:xfrm>
              <a:off x="1449000" y="2432880"/>
              <a:ext cx="2919240" cy="904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GA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↑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ée de vie des plaquette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PHER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53261"/>
            <p:cNvSpPr/>
            <p:nvPr/>
          </p:nvSpPr>
          <p:spPr>
            <a:xfrm>
              <a:off x="4541400" y="2432880"/>
              <a:ext cx="2919600" cy="904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2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GA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ée de vie des plaquettes norm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53262"/>
            <p:cNvSpPr/>
            <p:nvPr/>
          </p:nvSpPr>
          <p:spPr>
            <a:xfrm>
              <a:off x="6174000" y="3555000"/>
              <a:ext cx="1519560" cy="43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248520" y="3657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cf Pancytopé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449000" y="1127880"/>
            <a:ext cx="6244560" cy="4172760"/>
            <a:chOff x="1449000" y="1127880"/>
            <a:chExt cx="6244560" cy="4172760"/>
          </a:xfrm>
        </p:grpSpPr>
        <p:cxnSp>
          <p:nvCxnSpPr>
            <p:cNvPr id="173" name="_s55300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178240" y="1608840"/>
              <a:ext cx="218160" cy="143028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6" name="_s55301"/>
            <p:cNvCxnSpPr>
              <a:stCxn id="177" idx="0"/>
              <a:endCxn id="175" idx="2"/>
            </p:cNvCxnSpPr>
            <p:nvPr/>
          </p:nvCxnSpPr>
          <p:spPr>
            <a:xfrm flipH="1" flipV="1" rot="5400000">
              <a:off x="3632040" y="1492560"/>
              <a:ext cx="218160" cy="166320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8" name="_s55302"/>
            <p:cNvCxnSpPr>
              <a:stCxn id="179" idx="1"/>
              <a:endCxn id="174" idx="2"/>
            </p:cNvCxnSpPr>
            <p:nvPr/>
          </p:nvCxnSpPr>
          <p:spPr>
            <a:xfrm rot="10800000">
              <a:off x="6001560" y="3336840"/>
              <a:ext cx="172080" cy="434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0" name="_s55303"/>
            <p:cNvCxnSpPr>
              <a:stCxn id="181" idx="1"/>
              <a:endCxn id="177" idx="2"/>
            </p:cNvCxnSpPr>
            <p:nvPr/>
          </p:nvCxnSpPr>
          <p:spPr>
            <a:xfrm rot="10800000">
              <a:off x="2909160" y="3337560"/>
              <a:ext cx="172440" cy="1083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2" name="_s55304"/>
            <p:cNvCxnSpPr>
              <a:stCxn id="183" idx="1"/>
              <a:endCxn id="177" idx="2"/>
            </p:cNvCxnSpPr>
            <p:nvPr/>
          </p:nvCxnSpPr>
          <p:spPr>
            <a:xfrm rot="10800000">
              <a:off x="2909160" y="3336840"/>
              <a:ext cx="172440" cy="434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4" name="_s55305"/>
            <p:cNvCxnSpPr>
              <a:stCxn id="175" idx="0"/>
              <a:endCxn id="185" idx="2"/>
            </p:cNvCxnSpPr>
            <p:nvPr/>
          </p:nvCxnSpPr>
          <p:spPr>
            <a:xfrm flipV="1">
              <a:off x="4572360" y="1562760"/>
              <a:ext cx="1800" cy="218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5" name="_s55307"/>
            <p:cNvSpPr/>
            <p:nvPr/>
          </p:nvSpPr>
          <p:spPr>
            <a:xfrm>
              <a:off x="4053960" y="1127880"/>
              <a:ext cx="103572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étiolo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55309"/>
            <p:cNvSpPr/>
            <p:nvPr/>
          </p:nvSpPr>
          <p:spPr>
            <a:xfrm>
              <a:off x="4052520" y="1780560"/>
              <a:ext cx="103716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qui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55310"/>
            <p:cNvSpPr/>
            <p:nvPr/>
          </p:nvSpPr>
          <p:spPr>
            <a:xfrm>
              <a:off x="1449000" y="2432880"/>
              <a:ext cx="2919240" cy="904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GA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↑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ée de vie des plaquette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PHER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55311"/>
            <p:cNvSpPr/>
            <p:nvPr/>
          </p:nvSpPr>
          <p:spPr>
            <a:xfrm>
              <a:off x="4541400" y="2432880"/>
              <a:ext cx="2919600" cy="904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2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GA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ée de vie des plaquettes norm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55312"/>
            <p:cNvSpPr/>
            <p:nvPr/>
          </p:nvSpPr>
          <p:spPr>
            <a:xfrm>
              <a:off x="3081600" y="3555000"/>
              <a:ext cx="1519560" cy="43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49680" bIns="49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imm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55313"/>
            <p:cNvSpPr/>
            <p:nvPr/>
          </p:nvSpPr>
          <p:spPr>
            <a:xfrm>
              <a:off x="3081600" y="4204440"/>
              <a:ext cx="1519560" cy="432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ectie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55314"/>
            <p:cNvSpPr/>
            <p:nvPr/>
          </p:nvSpPr>
          <p:spPr>
            <a:xfrm>
              <a:off x="6174000" y="3555000"/>
              <a:ext cx="1519560" cy="43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1041"/>
            <p:cNvSpPr/>
            <p:nvPr/>
          </p:nvSpPr>
          <p:spPr>
            <a:xfrm>
              <a:off x="3132000" y="4869000"/>
              <a:ext cx="1519560" cy="43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IV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7" name="_s1031"/>
            <p:cNvCxnSpPr/>
            <p:nvPr/>
          </p:nvCxnSpPr>
          <p:spPr>
            <a:xfrm rot="10800000">
              <a:off x="2914920" y="4075920"/>
              <a:ext cx="172440" cy="1083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sp>
        <p:nvSpPr>
          <p:cNvPr id="188" name=""/>
          <p:cNvSpPr/>
          <p:nvPr/>
        </p:nvSpPr>
        <p:spPr>
          <a:xfrm>
            <a:off x="3059280" y="5516640"/>
            <a:ext cx="15192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lénectom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_s1032"/>
          <p:cNvCxnSpPr/>
          <p:nvPr/>
        </p:nvCxnSpPr>
        <p:spPr>
          <a:xfrm rot="10800000">
            <a:off x="2915640" y="5157000"/>
            <a:ext cx="172080" cy="43416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6248520" y="36576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cf Pancytopé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1449000" y="1127880"/>
            <a:ext cx="6244560" cy="4172760"/>
            <a:chOff x="1449000" y="1127880"/>
            <a:chExt cx="6244560" cy="4172760"/>
          </a:xfrm>
        </p:grpSpPr>
        <p:cxnSp>
          <p:nvCxnSpPr>
            <p:cNvPr id="192" name="_s56324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5178240" y="1608840"/>
              <a:ext cx="218160" cy="143028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5" name="_s56325"/>
            <p:cNvCxnSpPr>
              <a:stCxn id="196" idx="0"/>
              <a:endCxn id="194" idx="2"/>
            </p:cNvCxnSpPr>
            <p:nvPr/>
          </p:nvCxnSpPr>
          <p:spPr>
            <a:xfrm flipH="1" flipV="1" rot="5400000">
              <a:off x="3632040" y="1492560"/>
              <a:ext cx="218160" cy="166320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7" name="_s56326"/>
            <p:cNvCxnSpPr>
              <a:stCxn id="198" idx="1"/>
              <a:endCxn id="193" idx="2"/>
            </p:cNvCxnSpPr>
            <p:nvPr/>
          </p:nvCxnSpPr>
          <p:spPr>
            <a:xfrm rot="10800000">
              <a:off x="6001560" y="3336840"/>
              <a:ext cx="172080" cy="434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9" name="_s56327"/>
            <p:cNvCxnSpPr>
              <a:stCxn id="200" idx="1"/>
              <a:endCxn id="196" idx="2"/>
            </p:cNvCxnSpPr>
            <p:nvPr/>
          </p:nvCxnSpPr>
          <p:spPr>
            <a:xfrm rot="10800000">
              <a:off x="2909160" y="3337560"/>
              <a:ext cx="172440" cy="1083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1" name="_s56328"/>
            <p:cNvCxnSpPr>
              <a:stCxn id="202" idx="1"/>
              <a:endCxn id="196" idx="2"/>
            </p:cNvCxnSpPr>
            <p:nvPr/>
          </p:nvCxnSpPr>
          <p:spPr>
            <a:xfrm rot="10800000">
              <a:off x="2909160" y="3336840"/>
              <a:ext cx="172440" cy="434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3" name="_s56329"/>
            <p:cNvCxnSpPr>
              <a:stCxn id="194" idx="0"/>
              <a:endCxn id="204" idx="2"/>
            </p:cNvCxnSpPr>
            <p:nvPr/>
          </p:nvCxnSpPr>
          <p:spPr>
            <a:xfrm flipV="1">
              <a:off x="4572360" y="1562760"/>
              <a:ext cx="1800" cy="218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_s56330"/>
            <p:cNvCxnSpPr>
              <a:stCxn id="206" idx="0"/>
              <a:endCxn id="204" idx="2"/>
            </p:cNvCxnSpPr>
            <p:nvPr/>
          </p:nvCxnSpPr>
          <p:spPr>
            <a:xfrm flipH="1" flipV="1" rot="5400000">
              <a:off x="3376080" y="584280"/>
              <a:ext cx="218160" cy="217476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04" name="_s56331"/>
            <p:cNvSpPr/>
            <p:nvPr/>
          </p:nvSpPr>
          <p:spPr>
            <a:xfrm>
              <a:off x="4053960" y="1127880"/>
              <a:ext cx="103572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étiolo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56332"/>
            <p:cNvSpPr/>
            <p:nvPr/>
          </p:nvSpPr>
          <p:spPr>
            <a:xfrm>
              <a:off x="1449000" y="1780560"/>
              <a:ext cx="189648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titutionnelles=r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56333"/>
            <p:cNvSpPr/>
            <p:nvPr/>
          </p:nvSpPr>
          <p:spPr>
            <a:xfrm>
              <a:off x="3623040" y="1780560"/>
              <a:ext cx="189648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qui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56334"/>
            <p:cNvSpPr/>
            <p:nvPr/>
          </p:nvSpPr>
          <p:spPr>
            <a:xfrm>
              <a:off x="1449000" y="2432880"/>
              <a:ext cx="2919240" cy="904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GA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↑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ée de vie des plaquette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PHER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56335"/>
            <p:cNvSpPr/>
            <p:nvPr/>
          </p:nvSpPr>
          <p:spPr>
            <a:xfrm>
              <a:off x="4541400" y="2432880"/>
              <a:ext cx="2919600" cy="904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2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GA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ée de vie des plaquettes norm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56336"/>
            <p:cNvSpPr/>
            <p:nvPr/>
          </p:nvSpPr>
          <p:spPr>
            <a:xfrm>
              <a:off x="3081600" y="3555000"/>
              <a:ext cx="1519560" cy="43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49680" bIns="49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imm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56337"/>
            <p:cNvSpPr/>
            <p:nvPr/>
          </p:nvSpPr>
          <p:spPr>
            <a:xfrm>
              <a:off x="3081600" y="4204440"/>
              <a:ext cx="1519560" cy="432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ectie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56338"/>
            <p:cNvSpPr/>
            <p:nvPr/>
          </p:nvSpPr>
          <p:spPr>
            <a:xfrm>
              <a:off x="6174000" y="3555000"/>
              <a:ext cx="1519560" cy="43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f Pancytopé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1"/>
            <p:cNvSpPr/>
            <p:nvPr/>
          </p:nvSpPr>
          <p:spPr>
            <a:xfrm>
              <a:off x="3132000" y="4869000"/>
              <a:ext cx="1519560" cy="43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IV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8" name="_s1031"/>
            <p:cNvCxnSpPr/>
            <p:nvPr/>
          </p:nvCxnSpPr>
          <p:spPr>
            <a:xfrm rot="10800000">
              <a:off x="2914920" y="4075920"/>
              <a:ext cx="172440" cy="1083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sp>
        <p:nvSpPr>
          <p:cNvPr id="209" name=""/>
          <p:cNvSpPr/>
          <p:nvPr/>
        </p:nvSpPr>
        <p:spPr>
          <a:xfrm>
            <a:off x="3059280" y="5516640"/>
            <a:ext cx="15192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lénectom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_s1032"/>
          <p:cNvCxnSpPr/>
          <p:nvPr/>
        </p:nvCxnSpPr>
        <p:spPr>
          <a:xfrm rot="10800000">
            <a:off x="2915640" y="5157000"/>
            <a:ext cx="172080" cy="43416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i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rmalement: un caillot colmate une brèche puis il est ly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CIVD est une diffusion anormale du processus de coagulation qui doit normalement rester local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agulopathie de consom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gnes clin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yndrome hémorrag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gnes thrombo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i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es biologiq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mbopén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 bas TCA allong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rinogène 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F augmen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es solubles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i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éoplas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M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191120" y="2819520"/>
            <a:ext cx="152388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362320" y="762120"/>
            <a:ext cx="304560" cy="152280"/>
          </a:xfrm>
          <a:prstGeom prst="ellipse">
            <a:avLst/>
          </a:prstGeom>
          <a:solidFill>
            <a:srgbClr val="f27e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57200"/>
            <a:ext cx="152280" cy="228600"/>
          </a:xfrm>
          <a:prstGeom prst="ellipse">
            <a:avLst/>
          </a:prstGeom>
          <a:solidFill>
            <a:srgbClr val="f27e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1066680"/>
            <a:ext cx="228600" cy="228600"/>
          </a:xfrm>
          <a:prstGeom prst="ellipse">
            <a:avLst/>
          </a:prstGeom>
          <a:solidFill>
            <a:srgbClr val="f27e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l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638680" y="685800"/>
            <a:ext cx="31528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facteur procoagula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221" name=""/>
          <p:cNvSpPr/>
          <p:nvPr/>
        </p:nvSpPr>
        <p:spPr>
          <a:xfrm>
            <a:off x="6324480" y="1752480"/>
            <a:ext cx="914400" cy="990720"/>
          </a:xfrm>
          <a:custGeom>
            <a:avLst/>
            <a:gdLst>
              <a:gd name="textAreaLeft" fmla="*/ 122400 w 914400"/>
              <a:gd name="textAreaRight" fmla="*/ 792000 w 91440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362320" y="2819520"/>
            <a:ext cx="311040" cy="495360"/>
          </a:xfrm>
          <a:custGeom>
            <a:avLst/>
            <a:gdLst/>
            <a:ahLst/>
            <a:rect l="l" t="t" r="r" b="b"/>
            <a:pathLst>
              <a:path w="388" h="456">
                <a:moveTo>
                  <a:pt x="21" y="258"/>
                </a:moveTo>
                <a:cubicBezTo>
                  <a:pt x="49" y="250"/>
                  <a:pt x="76" y="227"/>
                  <a:pt x="104" y="234"/>
                </a:cubicBezTo>
                <a:cubicBezTo>
                  <a:pt x="120" y="238"/>
                  <a:pt x="109" y="266"/>
                  <a:pt x="115" y="281"/>
                </a:cubicBezTo>
                <a:cubicBezTo>
                  <a:pt x="132" y="321"/>
                  <a:pt x="138" y="316"/>
                  <a:pt x="174" y="328"/>
                </a:cubicBezTo>
                <a:cubicBezTo>
                  <a:pt x="186" y="348"/>
                  <a:pt x="194" y="370"/>
                  <a:pt x="209" y="387"/>
                </a:cubicBezTo>
                <a:cubicBezTo>
                  <a:pt x="218" y="398"/>
                  <a:pt x="235" y="420"/>
                  <a:pt x="245" y="410"/>
                </a:cubicBezTo>
                <a:cubicBezTo>
                  <a:pt x="255" y="400"/>
                  <a:pt x="229" y="387"/>
                  <a:pt x="221" y="375"/>
                </a:cubicBezTo>
                <a:cubicBezTo>
                  <a:pt x="205" y="316"/>
                  <a:pt x="190" y="258"/>
                  <a:pt x="174" y="199"/>
                </a:cubicBezTo>
                <a:cubicBezTo>
                  <a:pt x="168" y="178"/>
                  <a:pt x="115" y="134"/>
                  <a:pt x="127" y="152"/>
                </a:cubicBezTo>
                <a:cubicBezTo>
                  <a:pt x="155" y="194"/>
                  <a:pt x="184" y="235"/>
                  <a:pt x="221" y="269"/>
                </a:cubicBezTo>
                <a:cubicBezTo>
                  <a:pt x="244" y="290"/>
                  <a:pt x="320" y="289"/>
                  <a:pt x="303" y="316"/>
                </a:cubicBezTo>
                <a:cubicBezTo>
                  <a:pt x="284" y="346"/>
                  <a:pt x="233" y="309"/>
                  <a:pt x="198" y="305"/>
                </a:cubicBezTo>
                <a:cubicBezTo>
                  <a:pt x="141" y="276"/>
                  <a:pt x="136" y="255"/>
                  <a:pt x="92" y="211"/>
                </a:cubicBezTo>
                <a:cubicBezTo>
                  <a:pt x="81" y="286"/>
                  <a:pt x="73" y="334"/>
                  <a:pt x="115" y="399"/>
                </a:cubicBezTo>
                <a:cubicBezTo>
                  <a:pt x="111" y="371"/>
                  <a:pt x="104" y="344"/>
                  <a:pt x="104" y="316"/>
                </a:cubicBezTo>
                <a:cubicBezTo>
                  <a:pt x="104" y="292"/>
                  <a:pt x="92" y="252"/>
                  <a:pt x="115" y="246"/>
                </a:cubicBezTo>
                <a:cubicBezTo>
                  <a:pt x="159" y="235"/>
                  <a:pt x="202" y="269"/>
                  <a:pt x="245" y="281"/>
                </a:cubicBezTo>
                <a:cubicBezTo>
                  <a:pt x="271" y="321"/>
                  <a:pt x="322" y="381"/>
                  <a:pt x="256" y="434"/>
                </a:cubicBezTo>
                <a:cubicBezTo>
                  <a:pt x="228" y="456"/>
                  <a:pt x="186" y="418"/>
                  <a:pt x="151" y="410"/>
                </a:cubicBezTo>
                <a:cubicBezTo>
                  <a:pt x="136" y="381"/>
                  <a:pt x="90" y="313"/>
                  <a:pt x="139" y="281"/>
                </a:cubicBezTo>
                <a:cubicBezTo>
                  <a:pt x="165" y="264"/>
                  <a:pt x="202" y="289"/>
                  <a:pt x="233" y="293"/>
                </a:cubicBezTo>
                <a:cubicBezTo>
                  <a:pt x="256" y="309"/>
                  <a:pt x="283" y="320"/>
                  <a:pt x="303" y="340"/>
                </a:cubicBezTo>
                <a:cubicBezTo>
                  <a:pt x="312" y="349"/>
                  <a:pt x="277" y="337"/>
                  <a:pt x="268" y="328"/>
                </a:cubicBezTo>
                <a:cubicBezTo>
                  <a:pt x="177" y="236"/>
                  <a:pt x="129" y="160"/>
                  <a:pt x="57" y="58"/>
                </a:cubicBezTo>
                <a:cubicBezTo>
                  <a:pt x="53" y="42"/>
                  <a:pt x="57" y="0"/>
                  <a:pt x="45" y="11"/>
                </a:cubicBezTo>
                <a:cubicBezTo>
                  <a:pt x="12" y="43"/>
                  <a:pt x="53" y="189"/>
                  <a:pt x="57" y="199"/>
                </a:cubicBezTo>
                <a:cubicBezTo>
                  <a:pt x="94" y="284"/>
                  <a:pt x="228" y="279"/>
                  <a:pt x="303" y="305"/>
                </a:cubicBezTo>
                <a:cubicBezTo>
                  <a:pt x="291" y="285"/>
                  <a:pt x="283" y="263"/>
                  <a:pt x="268" y="246"/>
                </a:cubicBezTo>
                <a:cubicBezTo>
                  <a:pt x="251" y="227"/>
                  <a:pt x="184" y="199"/>
                  <a:pt x="209" y="199"/>
                </a:cubicBezTo>
                <a:cubicBezTo>
                  <a:pt x="210" y="199"/>
                  <a:pt x="349" y="292"/>
                  <a:pt x="350" y="293"/>
                </a:cubicBezTo>
                <a:cubicBezTo>
                  <a:pt x="388" y="318"/>
                  <a:pt x="272" y="246"/>
                  <a:pt x="233" y="222"/>
                </a:cubicBezTo>
                <a:cubicBezTo>
                  <a:pt x="219" y="214"/>
                  <a:pt x="202" y="215"/>
                  <a:pt x="186" y="211"/>
                </a:cubicBezTo>
                <a:cubicBezTo>
                  <a:pt x="95" y="237"/>
                  <a:pt x="67" y="229"/>
                  <a:pt x="92" y="328"/>
                </a:cubicBezTo>
                <a:cubicBezTo>
                  <a:pt x="120" y="228"/>
                  <a:pt x="118" y="221"/>
                  <a:pt x="80" y="128"/>
                </a:cubicBezTo>
                <a:cubicBezTo>
                  <a:pt x="64" y="140"/>
                  <a:pt x="44" y="148"/>
                  <a:pt x="33" y="164"/>
                </a:cubicBezTo>
                <a:cubicBezTo>
                  <a:pt x="0" y="211"/>
                  <a:pt x="41" y="273"/>
                  <a:pt x="57" y="316"/>
                </a:cubicBezTo>
                <a:cubicBezTo>
                  <a:pt x="61" y="328"/>
                  <a:pt x="60" y="342"/>
                  <a:pt x="68" y="352"/>
                </a:cubicBezTo>
                <a:cubicBezTo>
                  <a:pt x="80" y="367"/>
                  <a:pt x="99" y="375"/>
                  <a:pt x="115" y="387"/>
                </a:cubicBezTo>
                <a:cubicBezTo>
                  <a:pt x="123" y="386"/>
                  <a:pt x="243" y="375"/>
                  <a:pt x="256" y="352"/>
                </a:cubicBezTo>
                <a:cubicBezTo>
                  <a:pt x="284" y="303"/>
                  <a:pt x="198" y="258"/>
                  <a:pt x="174" y="234"/>
                </a:cubicBezTo>
                <a:cubicBezTo>
                  <a:pt x="196" y="226"/>
                  <a:pt x="254" y="198"/>
                  <a:pt x="268" y="246"/>
                </a:cubicBezTo>
                <a:cubicBezTo>
                  <a:pt x="274" y="268"/>
                  <a:pt x="243" y="285"/>
                  <a:pt x="233" y="305"/>
                </a:cubicBezTo>
                <a:cubicBezTo>
                  <a:pt x="227" y="316"/>
                  <a:pt x="225" y="328"/>
                  <a:pt x="221" y="340"/>
                </a:cubicBezTo>
                <a:cubicBezTo>
                  <a:pt x="200" y="335"/>
                  <a:pt x="136" y="333"/>
                  <a:pt x="162" y="281"/>
                </a:cubicBezTo>
                <a:cubicBezTo>
                  <a:pt x="170" y="265"/>
                  <a:pt x="193" y="266"/>
                  <a:pt x="209" y="258"/>
                </a:cubicBezTo>
                <a:cubicBezTo>
                  <a:pt x="237" y="270"/>
                  <a:pt x="268" y="275"/>
                  <a:pt x="292" y="293"/>
                </a:cubicBezTo>
                <a:cubicBezTo>
                  <a:pt x="302" y="300"/>
                  <a:pt x="310" y="318"/>
                  <a:pt x="303" y="328"/>
                </a:cubicBezTo>
                <a:cubicBezTo>
                  <a:pt x="293" y="341"/>
                  <a:pt x="272" y="336"/>
                  <a:pt x="256" y="340"/>
                </a:cubicBezTo>
                <a:cubicBezTo>
                  <a:pt x="243" y="297"/>
                  <a:pt x="245" y="317"/>
                  <a:pt x="245" y="281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3276720"/>
            <a:ext cx="361800" cy="463320"/>
          </a:xfrm>
          <a:custGeom>
            <a:avLst/>
            <a:gdLst/>
            <a:ahLst/>
            <a:rect l="l" t="t" r="r" b="b"/>
            <a:pathLst>
              <a:path w="228" h="292">
                <a:moveTo>
                  <a:pt x="89" y="90"/>
                </a:moveTo>
                <a:cubicBezTo>
                  <a:pt x="93" y="125"/>
                  <a:pt x="74" y="172"/>
                  <a:pt x="100" y="196"/>
                </a:cubicBezTo>
                <a:cubicBezTo>
                  <a:pt x="187" y="274"/>
                  <a:pt x="198" y="168"/>
                  <a:pt x="206" y="137"/>
                </a:cubicBezTo>
                <a:cubicBezTo>
                  <a:pt x="183" y="121"/>
                  <a:pt x="160" y="104"/>
                  <a:pt x="136" y="90"/>
                </a:cubicBezTo>
                <a:cubicBezTo>
                  <a:pt x="121" y="81"/>
                  <a:pt x="106" y="64"/>
                  <a:pt x="89" y="67"/>
                </a:cubicBezTo>
                <a:cubicBezTo>
                  <a:pt x="77" y="69"/>
                  <a:pt x="81" y="90"/>
                  <a:pt x="77" y="102"/>
                </a:cubicBezTo>
                <a:cubicBezTo>
                  <a:pt x="97" y="110"/>
                  <a:pt x="116" y="131"/>
                  <a:pt x="136" y="125"/>
                </a:cubicBezTo>
                <a:cubicBezTo>
                  <a:pt x="179" y="113"/>
                  <a:pt x="143" y="0"/>
                  <a:pt x="171" y="137"/>
                </a:cubicBezTo>
                <a:cubicBezTo>
                  <a:pt x="179" y="125"/>
                  <a:pt x="200" y="114"/>
                  <a:pt x="194" y="102"/>
                </a:cubicBezTo>
                <a:cubicBezTo>
                  <a:pt x="187" y="88"/>
                  <a:pt x="160" y="80"/>
                  <a:pt x="147" y="90"/>
                </a:cubicBezTo>
                <a:cubicBezTo>
                  <a:pt x="131" y="103"/>
                  <a:pt x="140" y="129"/>
                  <a:pt x="136" y="149"/>
                </a:cubicBezTo>
                <a:cubicBezTo>
                  <a:pt x="148" y="153"/>
                  <a:pt x="161" y="168"/>
                  <a:pt x="171" y="161"/>
                </a:cubicBezTo>
                <a:cubicBezTo>
                  <a:pt x="184" y="151"/>
                  <a:pt x="198" y="119"/>
                  <a:pt x="183" y="114"/>
                </a:cubicBezTo>
                <a:cubicBezTo>
                  <a:pt x="165" y="108"/>
                  <a:pt x="152" y="137"/>
                  <a:pt x="136" y="149"/>
                </a:cubicBezTo>
                <a:cubicBezTo>
                  <a:pt x="150" y="192"/>
                  <a:pt x="162" y="214"/>
                  <a:pt x="136" y="267"/>
                </a:cubicBezTo>
                <a:cubicBezTo>
                  <a:pt x="130" y="278"/>
                  <a:pt x="128" y="243"/>
                  <a:pt x="124" y="231"/>
                </a:cubicBezTo>
                <a:cubicBezTo>
                  <a:pt x="120" y="215"/>
                  <a:pt x="99" y="194"/>
                  <a:pt x="112" y="184"/>
                </a:cubicBezTo>
                <a:cubicBezTo>
                  <a:pt x="128" y="172"/>
                  <a:pt x="191" y="199"/>
                  <a:pt x="171" y="196"/>
                </a:cubicBezTo>
                <a:cubicBezTo>
                  <a:pt x="124" y="190"/>
                  <a:pt x="77" y="181"/>
                  <a:pt x="30" y="173"/>
                </a:cubicBezTo>
                <a:cubicBezTo>
                  <a:pt x="22" y="161"/>
                  <a:pt x="0" y="150"/>
                  <a:pt x="6" y="137"/>
                </a:cubicBezTo>
                <a:cubicBezTo>
                  <a:pt x="12" y="126"/>
                  <a:pt x="33" y="140"/>
                  <a:pt x="42" y="149"/>
                </a:cubicBezTo>
                <a:cubicBezTo>
                  <a:pt x="150" y="257"/>
                  <a:pt x="26" y="195"/>
                  <a:pt x="147" y="243"/>
                </a:cubicBezTo>
                <a:cubicBezTo>
                  <a:pt x="159" y="239"/>
                  <a:pt x="181" y="243"/>
                  <a:pt x="183" y="231"/>
                </a:cubicBezTo>
                <a:cubicBezTo>
                  <a:pt x="186" y="211"/>
                  <a:pt x="148" y="156"/>
                  <a:pt x="136" y="137"/>
                </a:cubicBezTo>
                <a:cubicBezTo>
                  <a:pt x="132" y="153"/>
                  <a:pt x="118" y="169"/>
                  <a:pt x="124" y="184"/>
                </a:cubicBezTo>
                <a:cubicBezTo>
                  <a:pt x="147" y="239"/>
                  <a:pt x="173" y="219"/>
                  <a:pt x="206" y="208"/>
                </a:cubicBezTo>
                <a:cubicBezTo>
                  <a:pt x="202" y="197"/>
                  <a:pt x="186" y="140"/>
                  <a:pt x="171" y="137"/>
                </a:cubicBezTo>
                <a:cubicBezTo>
                  <a:pt x="157" y="134"/>
                  <a:pt x="148" y="153"/>
                  <a:pt x="136" y="161"/>
                </a:cubicBezTo>
                <a:cubicBezTo>
                  <a:pt x="140" y="149"/>
                  <a:pt x="158" y="119"/>
                  <a:pt x="147" y="125"/>
                </a:cubicBezTo>
                <a:cubicBezTo>
                  <a:pt x="129" y="134"/>
                  <a:pt x="112" y="153"/>
                  <a:pt x="112" y="173"/>
                </a:cubicBezTo>
                <a:cubicBezTo>
                  <a:pt x="112" y="185"/>
                  <a:pt x="135" y="165"/>
                  <a:pt x="147" y="161"/>
                </a:cubicBezTo>
                <a:cubicBezTo>
                  <a:pt x="143" y="141"/>
                  <a:pt x="152" y="114"/>
                  <a:pt x="136" y="102"/>
                </a:cubicBezTo>
                <a:cubicBezTo>
                  <a:pt x="125" y="93"/>
                  <a:pt x="102" y="111"/>
                  <a:pt x="100" y="125"/>
                </a:cubicBezTo>
                <a:cubicBezTo>
                  <a:pt x="97" y="150"/>
                  <a:pt x="108" y="177"/>
                  <a:pt x="124" y="196"/>
                </a:cubicBezTo>
                <a:cubicBezTo>
                  <a:pt x="138" y="212"/>
                  <a:pt x="163" y="212"/>
                  <a:pt x="183" y="220"/>
                </a:cubicBezTo>
                <a:cubicBezTo>
                  <a:pt x="190" y="198"/>
                  <a:pt x="213" y="143"/>
                  <a:pt x="183" y="125"/>
                </a:cubicBezTo>
                <a:cubicBezTo>
                  <a:pt x="168" y="116"/>
                  <a:pt x="152" y="141"/>
                  <a:pt x="136" y="149"/>
                </a:cubicBezTo>
                <a:cubicBezTo>
                  <a:pt x="132" y="161"/>
                  <a:pt x="135" y="178"/>
                  <a:pt x="124" y="184"/>
                </a:cubicBezTo>
                <a:cubicBezTo>
                  <a:pt x="113" y="190"/>
                  <a:pt x="100" y="167"/>
                  <a:pt x="89" y="173"/>
                </a:cubicBezTo>
                <a:cubicBezTo>
                  <a:pt x="78" y="179"/>
                  <a:pt x="81" y="196"/>
                  <a:pt x="77" y="208"/>
                </a:cubicBezTo>
                <a:cubicBezTo>
                  <a:pt x="83" y="218"/>
                  <a:pt x="116" y="292"/>
                  <a:pt x="147" y="231"/>
                </a:cubicBezTo>
                <a:cubicBezTo>
                  <a:pt x="153" y="219"/>
                  <a:pt x="132" y="208"/>
                  <a:pt x="124" y="196"/>
                </a:cubicBezTo>
                <a:cubicBezTo>
                  <a:pt x="112" y="208"/>
                  <a:pt x="89" y="215"/>
                  <a:pt x="89" y="231"/>
                </a:cubicBezTo>
                <a:cubicBezTo>
                  <a:pt x="89" y="243"/>
                  <a:pt x="115" y="252"/>
                  <a:pt x="124" y="243"/>
                </a:cubicBezTo>
                <a:cubicBezTo>
                  <a:pt x="141" y="226"/>
                  <a:pt x="139" y="196"/>
                  <a:pt x="147" y="173"/>
                </a:cubicBezTo>
                <a:cubicBezTo>
                  <a:pt x="181" y="223"/>
                  <a:pt x="228" y="288"/>
                  <a:pt x="124" y="184"/>
                </a:cubicBezTo>
                <a:cubicBezTo>
                  <a:pt x="120" y="172"/>
                  <a:pt x="100" y="153"/>
                  <a:pt x="112" y="149"/>
                </a:cubicBezTo>
                <a:cubicBezTo>
                  <a:pt x="129" y="144"/>
                  <a:pt x="169" y="158"/>
                  <a:pt x="159" y="173"/>
                </a:cubicBezTo>
                <a:cubicBezTo>
                  <a:pt x="146" y="193"/>
                  <a:pt x="112" y="180"/>
                  <a:pt x="89" y="184"/>
                </a:cubicBezTo>
                <a:cubicBezTo>
                  <a:pt x="93" y="168"/>
                  <a:pt x="84" y="139"/>
                  <a:pt x="100" y="137"/>
                </a:cubicBezTo>
                <a:cubicBezTo>
                  <a:pt x="123" y="133"/>
                  <a:pt x="150" y="152"/>
                  <a:pt x="159" y="173"/>
                </a:cubicBezTo>
                <a:cubicBezTo>
                  <a:pt x="164" y="186"/>
                  <a:pt x="136" y="188"/>
                  <a:pt x="124" y="196"/>
                </a:cubicBezTo>
                <a:cubicBezTo>
                  <a:pt x="116" y="184"/>
                  <a:pt x="102" y="175"/>
                  <a:pt x="100" y="161"/>
                </a:cubicBezTo>
                <a:cubicBezTo>
                  <a:pt x="98" y="145"/>
                  <a:pt x="96" y="114"/>
                  <a:pt x="112" y="114"/>
                </a:cubicBezTo>
                <a:cubicBezTo>
                  <a:pt x="134" y="114"/>
                  <a:pt x="143" y="145"/>
                  <a:pt x="159" y="161"/>
                </a:cubicBezTo>
                <a:cubicBezTo>
                  <a:pt x="164" y="175"/>
                  <a:pt x="186" y="217"/>
                  <a:pt x="159" y="231"/>
                </a:cubicBezTo>
                <a:cubicBezTo>
                  <a:pt x="148" y="237"/>
                  <a:pt x="136" y="224"/>
                  <a:pt x="124" y="220"/>
                </a:cubicBezTo>
                <a:cubicBezTo>
                  <a:pt x="116" y="200"/>
                  <a:pt x="109" y="180"/>
                  <a:pt x="100" y="161"/>
                </a:cubicBezTo>
                <a:cubicBezTo>
                  <a:pt x="94" y="150"/>
                  <a:pt x="100" y="196"/>
                  <a:pt x="112" y="196"/>
                </a:cubicBezTo>
                <a:cubicBezTo>
                  <a:pt x="124" y="196"/>
                  <a:pt x="124" y="161"/>
                  <a:pt x="124" y="161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33526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05520" y="4419720"/>
            <a:ext cx="22860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4572000"/>
            <a:ext cx="22860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10080" y="4343400"/>
            <a:ext cx="22860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00200" y="1447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7e14"/>
                </a:solidFill>
                <a:latin typeface="Arial"/>
              </a:rPr>
              <a:t>Plaquettes </a:t>
            </a:r>
            <a:r>
              <a:rPr b="1" lang="en-US" sz="1800" spc="-1" strike="noStrike">
                <a:solidFill>
                  <a:srgbClr val="f27e14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3429000"/>
            <a:ext cx="1160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P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CA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IBRINOG</a:t>
            </a:r>
            <a:r>
              <a:rPr b="1" lang="en-US" sz="1400" spc="-1" strike="noStrike">
                <a:solidFill>
                  <a:srgbClr val="ffff00"/>
                </a:solidFill>
                <a:latin typeface="Symbol"/>
                <a:ea typeface="Symbol"/>
              </a:rPr>
              <a:t>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63160" y="457200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PDF</a:t>
            </a:r>
            <a:r>
              <a:rPr b="1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61600" y="584208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HEMORRA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4343400"/>
            <a:ext cx="685800" cy="1676520"/>
          </a:xfrm>
          <a:custGeom>
            <a:avLst/>
            <a:gdLst>
              <a:gd name="textAreaLeft" fmla="*/ 91800 w 685800"/>
              <a:gd name="textAreaRight" fmla="*/ 594000 w 68580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905120"/>
            <a:ext cx="685800" cy="4419360"/>
          </a:xfrm>
          <a:custGeom>
            <a:avLst/>
            <a:gdLst>
              <a:gd name="textAreaLeft" fmla="*/ 91800 w 685800"/>
              <a:gd name="textAreaRight" fmla="*/ 594000 w 685800"/>
              <a:gd name="textAreaTop" fmla="*/ 773280 h 4419360"/>
              <a:gd name="textAreaBottom" fmla="*/ 3204000 h 441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27e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177200">
            <a:off x="3885840" y="39625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9570800">
            <a:off x="3733560" y="16765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27e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39480" y="487692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CS</a:t>
            </a:r>
            <a:r>
              <a:rPr b="1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191120" y="2819520"/>
            <a:ext cx="152388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362320" y="762120"/>
            <a:ext cx="304560" cy="152280"/>
          </a:xfrm>
          <a:prstGeom prst="ellipse">
            <a:avLst/>
          </a:prstGeom>
          <a:solidFill>
            <a:srgbClr val="f27e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457200"/>
            <a:ext cx="152280" cy="228600"/>
          </a:xfrm>
          <a:prstGeom prst="ellipse">
            <a:avLst/>
          </a:prstGeom>
          <a:solidFill>
            <a:srgbClr val="f27e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1066680"/>
            <a:ext cx="228600" cy="228600"/>
          </a:xfrm>
          <a:prstGeom prst="ellipse">
            <a:avLst/>
          </a:prstGeom>
          <a:solidFill>
            <a:srgbClr val="f27e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l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638680" y="685800"/>
            <a:ext cx="31528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facteur procoagula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243" name=""/>
          <p:cNvSpPr/>
          <p:nvPr/>
        </p:nvSpPr>
        <p:spPr>
          <a:xfrm>
            <a:off x="6324480" y="1752480"/>
            <a:ext cx="914400" cy="990720"/>
          </a:xfrm>
          <a:custGeom>
            <a:avLst/>
            <a:gdLst>
              <a:gd name="textAreaLeft" fmla="*/ 122400 w 914400"/>
              <a:gd name="textAreaRight" fmla="*/ 792000 w 91440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09680" y="2971800"/>
            <a:ext cx="311400" cy="495360"/>
          </a:xfrm>
          <a:custGeom>
            <a:avLst/>
            <a:gdLst/>
            <a:ahLst/>
            <a:rect l="l" t="t" r="r" b="b"/>
            <a:pathLst>
              <a:path w="388" h="456">
                <a:moveTo>
                  <a:pt x="21" y="258"/>
                </a:moveTo>
                <a:cubicBezTo>
                  <a:pt x="49" y="250"/>
                  <a:pt x="76" y="227"/>
                  <a:pt x="104" y="234"/>
                </a:cubicBezTo>
                <a:cubicBezTo>
                  <a:pt x="120" y="238"/>
                  <a:pt x="109" y="266"/>
                  <a:pt x="115" y="281"/>
                </a:cubicBezTo>
                <a:cubicBezTo>
                  <a:pt x="132" y="321"/>
                  <a:pt x="138" y="316"/>
                  <a:pt x="174" y="328"/>
                </a:cubicBezTo>
                <a:cubicBezTo>
                  <a:pt x="186" y="348"/>
                  <a:pt x="194" y="370"/>
                  <a:pt x="209" y="387"/>
                </a:cubicBezTo>
                <a:cubicBezTo>
                  <a:pt x="218" y="398"/>
                  <a:pt x="235" y="420"/>
                  <a:pt x="245" y="410"/>
                </a:cubicBezTo>
                <a:cubicBezTo>
                  <a:pt x="255" y="400"/>
                  <a:pt x="229" y="387"/>
                  <a:pt x="221" y="375"/>
                </a:cubicBezTo>
                <a:cubicBezTo>
                  <a:pt x="205" y="316"/>
                  <a:pt x="190" y="258"/>
                  <a:pt x="174" y="199"/>
                </a:cubicBezTo>
                <a:cubicBezTo>
                  <a:pt x="168" y="178"/>
                  <a:pt x="115" y="134"/>
                  <a:pt x="127" y="152"/>
                </a:cubicBezTo>
                <a:cubicBezTo>
                  <a:pt x="155" y="194"/>
                  <a:pt x="184" y="235"/>
                  <a:pt x="221" y="269"/>
                </a:cubicBezTo>
                <a:cubicBezTo>
                  <a:pt x="244" y="290"/>
                  <a:pt x="320" y="289"/>
                  <a:pt x="303" y="316"/>
                </a:cubicBezTo>
                <a:cubicBezTo>
                  <a:pt x="284" y="346"/>
                  <a:pt x="233" y="309"/>
                  <a:pt x="198" y="305"/>
                </a:cubicBezTo>
                <a:cubicBezTo>
                  <a:pt x="141" y="276"/>
                  <a:pt x="136" y="255"/>
                  <a:pt x="92" y="211"/>
                </a:cubicBezTo>
                <a:cubicBezTo>
                  <a:pt x="81" y="286"/>
                  <a:pt x="73" y="334"/>
                  <a:pt x="115" y="399"/>
                </a:cubicBezTo>
                <a:cubicBezTo>
                  <a:pt x="111" y="371"/>
                  <a:pt x="104" y="344"/>
                  <a:pt x="104" y="316"/>
                </a:cubicBezTo>
                <a:cubicBezTo>
                  <a:pt x="104" y="292"/>
                  <a:pt x="92" y="252"/>
                  <a:pt x="115" y="246"/>
                </a:cubicBezTo>
                <a:cubicBezTo>
                  <a:pt x="159" y="235"/>
                  <a:pt x="202" y="269"/>
                  <a:pt x="245" y="281"/>
                </a:cubicBezTo>
                <a:cubicBezTo>
                  <a:pt x="271" y="321"/>
                  <a:pt x="322" y="381"/>
                  <a:pt x="256" y="434"/>
                </a:cubicBezTo>
                <a:cubicBezTo>
                  <a:pt x="228" y="456"/>
                  <a:pt x="186" y="418"/>
                  <a:pt x="151" y="410"/>
                </a:cubicBezTo>
                <a:cubicBezTo>
                  <a:pt x="136" y="381"/>
                  <a:pt x="90" y="313"/>
                  <a:pt x="139" y="281"/>
                </a:cubicBezTo>
                <a:cubicBezTo>
                  <a:pt x="165" y="264"/>
                  <a:pt x="202" y="289"/>
                  <a:pt x="233" y="293"/>
                </a:cubicBezTo>
                <a:cubicBezTo>
                  <a:pt x="256" y="309"/>
                  <a:pt x="283" y="320"/>
                  <a:pt x="303" y="340"/>
                </a:cubicBezTo>
                <a:cubicBezTo>
                  <a:pt x="312" y="349"/>
                  <a:pt x="277" y="337"/>
                  <a:pt x="268" y="328"/>
                </a:cubicBezTo>
                <a:cubicBezTo>
                  <a:pt x="177" y="236"/>
                  <a:pt x="129" y="160"/>
                  <a:pt x="57" y="58"/>
                </a:cubicBezTo>
                <a:cubicBezTo>
                  <a:pt x="53" y="42"/>
                  <a:pt x="57" y="0"/>
                  <a:pt x="45" y="11"/>
                </a:cubicBezTo>
                <a:cubicBezTo>
                  <a:pt x="12" y="43"/>
                  <a:pt x="53" y="189"/>
                  <a:pt x="57" y="199"/>
                </a:cubicBezTo>
                <a:cubicBezTo>
                  <a:pt x="94" y="284"/>
                  <a:pt x="228" y="279"/>
                  <a:pt x="303" y="305"/>
                </a:cubicBezTo>
                <a:cubicBezTo>
                  <a:pt x="291" y="285"/>
                  <a:pt x="283" y="263"/>
                  <a:pt x="268" y="246"/>
                </a:cubicBezTo>
                <a:cubicBezTo>
                  <a:pt x="251" y="227"/>
                  <a:pt x="184" y="199"/>
                  <a:pt x="209" y="199"/>
                </a:cubicBezTo>
                <a:cubicBezTo>
                  <a:pt x="210" y="199"/>
                  <a:pt x="349" y="292"/>
                  <a:pt x="350" y="293"/>
                </a:cubicBezTo>
                <a:cubicBezTo>
                  <a:pt x="388" y="318"/>
                  <a:pt x="272" y="246"/>
                  <a:pt x="233" y="222"/>
                </a:cubicBezTo>
                <a:cubicBezTo>
                  <a:pt x="219" y="214"/>
                  <a:pt x="202" y="215"/>
                  <a:pt x="186" y="211"/>
                </a:cubicBezTo>
                <a:cubicBezTo>
                  <a:pt x="95" y="237"/>
                  <a:pt x="67" y="229"/>
                  <a:pt x="92" y="328"/>
                </a:cubicBezTo>
                <a:cubicBezTo>
                  <a:pt x="120" y="228"/>
                  <a:pt x="118" y="221"/>
                  <a:pt x="80" y="128"/>
                </a:cubicBezTo>
                <a:cubicBezTo>
                  <a:pt x="64" y="140"/>
                  <a:pt x="44" y="148"/>
                  <a:pt x="33" y="164"/>
                </a:cubicBezTo>
                <a:cubicBezTo>
                  <a:pt x="0" y="211"/>
                  <a:pt x="41" y="273"/>
                  <a:pt x="57" y="316"/>
                </a:cubicBezTo>
                <a:cubicBezTo>
                  <a:pt x="61" y="328"/>
                  <a:pt x="60" y="342"/>
                  <a:pt x="68" y="352"/>
                </a:cubicBezTo>
                <a:cubicBezTo>
                  <a:pt x="80" y="367"/>
                  <a:pt x="99" y="375"/>
                  <a:pt x="115" y="387"/>
                </a:cubicBezTo>
                <a:cubicBezTo>
                  <a:pt x="123" y="386"/>
                  <a:pt x="243" y="375"/>
                  <a:pt x="256" y="352"/>
                </a:cubicBezTo>
                <a:cubicBezTo>
                  <a:pt x="284" y="303"/>
                  <a:pt x="198" y="258"/>
                  <a:pt x="174" y="234"/>
                </a:cubicBezTo>
                <a:cubicBezTo>
                  <a:pt x="196" y="226"/>
                  <a:pt x="254" y="198"/>
                  <a:pt x="268" y="246"/>
                </a:cubicBezTo>
                <a:cubicBezTo>
                  <a:pt x="274" y="268"/>
                  <a:pt x="243" y="285"/>
                  <a:pt x="233" y="305"/>
                </a:cubicBezTo>
                <a:cubicBezTo>
                  <a:pt x="227" y="316"/>
                  <a:pt x="225" y="328"/>
                  <a:pt x="221" y="340"/>
                </a:cubicBezTo>
                <a:cubicBezTo>
                  <a:pt x="200" y="335"/>
                  <a:pt x="136" y="333"/>
                  <a:pt x="162" y="281"/>
                </a:cubicBezTo>
                <a:cubicBezTo>
                  <a:pt x="170" y="265"/>
                  <a:pt x="193" y="266"/>
                  <a:pt x="209" y="258"/>
                </a:cubicBezTo>
                <a:cubicBezTo>
                  <a:pt x="237" y="270"/>
                  <a:pt x="268" y="275"/>
                  <a:pt x="292" y="293"/>
                </a:cubicBezTo>
                <a:cubicBezTo>
                  <a:pt x="302" y="300"/>
                  <a:pt x="310" y="318"/>
                  <a:pt x="303" y="328"/>
                </a:cubicBezTo>
                <a:cubicBezTo>
                  <a:pt x="293" y="341"/>
                  <a:pt x="272" y="336"/>
                  <a:pt x="256" y="340"/>
                </a:cubicBezTo>
                <a:cubicBezTo>
                  <a:pt x="243" y="297"/>
                  <a:pt x="245" y="317"/>
                  <a:pt x="245" y="281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43200" y="3657600"/>
            <a:ext cx="361800" cy="463680"/>
          </a:xfrm>
          <a:custGeom>
            <a:avLst/>
            <a:gdLst/>
            <a:ahLst/>
            <a:rect l="l" t="t" r="r" b="b"/>
            <a:pathLst>
              <a:path w="228" h="292">
                <a:moveTo>
                  <a:pt x="89" y="90"/>
                </a:moveTo>
                <a:cubicBezTo>
                  <a:pt x="93" y="125"/>
                  <a:pt x="74" y="172"/>
                  <a:pt x="100" y="196"/>
                </a:cubicBezTo>
                <a:cubicBezTo>
                  <a:pt x="187" y="274"/>
                  <a:pt x="198" y="168"/>
                  <a:pt x="206" y="137"/>
                </a:cubicBezTo>
                <a:cubicBezTo>
                  <a:pt x="183" y="121"/>
                  <a:pt x="160" y="104"/>
                  <a:pt x="136" y="90"/>
                </a:cubicBezTo>
                <a:cubicBezTo>
                  <a:pt x="121" y="81"/>
                  <a:pt x="106" y="64"/>
                  <a:pt x="89" y="67"/>
                </a:cubicBezTo>
                <a:cubicBezTo>
                  <a:pt x="77" y="69"/>
                  <a:pt x="81" y="90"/>
                  <a:pt x="77" y="102"/>
                </a:cubicBezTo>
                <a:cubicBezTo>
                  <a:pt x="97" y="110"/>
                  <a:pt x="116" y="131"/>
                  <a:pt x="136" y="125"/>
                </a:cubicBezTo>
                <a:cubicBezTo>
                  <a:pt x="179" y="113"/>
                  <a:pt x="143" y="0"/>
                  <a:pt x="171" y="137"/>
                </a:cubicBezTo>
                <a:cubicBezTo>
                  <a:pt x="179" y="125"/>
                  <a:pt x="200" y="114"/>
                  <a:pt x="194" y="102"/>
                </a:cubicBezTo>
                <a:cubicBezTo>
                  <a:pt x="187" y="88"/>
                  <a:pt x="160" y="80"/>
                  <a:pt x="147" y="90"/>
                </a:cubicBezTo>
                <a:cubicBezTo>
                  <a:pt x="131" y="103"/>
                  <a:pt x="140" y="129"/>
                  <a:pt x="136" y="149"/>
                </a:cubicBezTo>
                <a:cubicBezTo>
                  <a:pt x="148" y="153"/>
                  <a:pt x="161" y="168"/>
                  <a:pt x="171" y="161"/>
                </a:cubicBezTo>
                <a:cubicBezTo>
                  <a:pt x="184" y="151"/>
                  <a:pt x="198" y="119"/>
                  <a:pt x="183" y="114"/>
                </a:cubicBezTo>
                <a:cubicBezTo>
                  <a:pt x="165" y="108"/>
                  <a:pt x="152" y="137"/>
                  <a:pt x="136" y="149"/>
                </a:cubicBezTo>
                <a:cubicBezTo>
                  <a:pt x="150" y="192"/>
                  <a:pt x="162" y="214"/>
                  <a:pt x="136" y="267"/>
                </a:cubicBezTo>
                <a:cubicBezTo>
                  <a:pt x="130" y="278"/>
                  <a:pt x="128" y="243"/>
                  <a:pt x="124" y="231"/>
                </a:cubicBezTo>
                <a:cubicBezTo>
                  <a:pt x="120" y="215"/>
                  <a:pt x="99" y="194"/>
                  <a:pt x="112" y="184"/>
                </a:cubicBezTo>
                <a:cubicBezTo>
                  <a:pt x="128" y="172"/>
                  <a:pt x="191" y="199"/>
                  <a:pt x="171" y="196"/>
                </a:cubicBezTo>
                <a:cubicBezTo>
                  <a:pt x="124" y="190"/>
                  <a:pt x="77" y="181"/>
                  <a:pt x="30" y="173"/>
                </a:cubicBezTo>
                <a:cubicBezTo>
                  <a:pt x="22" y="161"/>
                  <a:pt x="0" y="150"/>
                  <a:pt x="6" y="137"/>
                </a:cubicBezTo>
                <a:cubicBezTo>
                  <a:pt x="12" y="126"/>
                  <a:pt x="33" y="140"/>
                  <a:pt x="42" y="149"/>
                </a:cubicBezTo>
                <a:cubicBezTo>
                  <a:pt x="150" y="257"/>
                  <a:pt x="26" y="195"/>
                  <a:pt x="147" y="243"/>
                </a:cubicBezTo>
                <a:cubicBezTo>
                  <a:pt x="159" y="239"/>
                  <a:pt x="181" y="243"/>
                  <a:pt x="183" y="231"/>
                </a:cubicBezTo>
                <a:cubicBezTo>
                  <a:pt x="186" y="211"/>
                  <a:pt x="148" y="156"/>
                  <a:pt x="136" y="137"/>
                </a:cubicBezTo>
                <a:cubicBezTo>
                  <a:pt x="132" y="153"/>
                  <a:pt x="118" y="169"/>
                  <a:pt x="124" y="184"/>
                </a:cubicBezTo>
                <a:cubicBezTo>
                  <a:pt x="147" y="239"/>
                  <a:pt x="173" y="219"/>
                  <a:pt x="206" y="208"/>
                </a:cubicBezTo>
                <a:cubicBezTo>
                  <a:pt x="202" y="197"/>
                  <a:pt x="186" y="140"/>
                  <a:pt x="171" y="137"/>
                </a:cubicBezTo>
                <a:cubicBezTo>
                  <a:pt x="157" y="134"/>
                  <a:pt x="148" y="153"/>
                  <a:pt x="136" y="161"/>
                </a:cubicBezTo>
                <a:cubicBezTo>
                  <a:pt x="140" y="149"/>
                  <a:pt x="158" y="119"/>
                  <a:pt x="147" y="125"/>
                </a:cubicBezTo>
                <a:cubicBezTo>
                  <a:pt x="129" y="134"/>
                  <a:pt x="112" y="153"/>
                  <a:pt x="112" y="173"/>
                </a:cubicBezTo>
                <a:cubicBezTo>
                  <a:pt x="112" y="185"/>
                  <a:pt x="135" y="165"/>
                  <a:pt x="147" y="161"/>
                </a:cubicBezTo>
                <a:cubicBezTo>
                  <a:pt x="143" y="141"/>
                  <a:pt x="152" y="114"/>
                  <a:pt x="136" y="102"/>
                </a:cubicBezTo>
                <a:cubicBezTo>
                  <a:pt x="125" y="93"/>
                  <a:pt x="102" y="111"/>
                  <a:pt x="100" y="125"/>
                </a:cubicBezTo>
                <a:cubicBezTo>
                  <a:pt x="97" y="150"/>
                  <a:pt x="108" y="177"/>
                  <a:pt x="124" y="196"/>
                </a:cubicBezTo>
                <a:cubicBezTo>
                  <a:pt x="138" y="212"/>
                  <a:pt x="163" y="212"/>
                  <a:pt x="183" y="220"/>
                </a:cubicBezTo>
                <a:cubicBezTo>
                  <a:pt x="190" y="198"/>
                  <a:pt x="213" y="143"/>
                  <a:pt x="183" y="125"/>
                </a:cubicBezTo>
                <a:cubicBezTo>
                  <a:pt x="168" y="116"/>
                  <a:pt x="152" y="141"/>
                  <a:pt x="136" y="149"/>
                </a:cubicBezTo>
                <a:cubicBezTo>
                  <a:pt x="132" y="161"/>
                  <a:pt x="135" y="178"/>
                  <a:pt x="124" y="184"/>
                </a:cubicBezTo>
                <a:cubicBezTo>
                  <a:pt x="113" y="190"/>
                  <a:pt x="100" y="167"/>
                  <a:pt x="89" y="173"/>
                </a:cubicBezTo>
                <a:cubicBezTo>
                  <a:pt x="78" y="179"/>
                  <a:pt x="81" y="196"/>
                  <a:pt x="77" y="208"/>
                </a:cubicBezTo>
                <a:cubicBezTo>
                  <a:pt x="83" y="218"/>
                  <a:pt x="116" y="292"/>
                  <a:pt x="147" y="231"/>
                </a:cubicBezTo>
                <a:cubicBezTo>
                  <a:pt x="153" y="219"/>
                  <a:pt x="132" y="208"/>
                  <a:pt x="124" y="196"/>
                </a:cubicBezTo>
                <a:cubicBezTo>
                  <a:pt x="112" y="208"/>
                  <a:pt x="89" y="215"/>
                  <a:pt x="89" y="231"/>
                </a:cubicBezTo>
                <a:cubicBezTo>
                  <a:pt x="89" y="243"/>
                  <a:pt x="115" y="252"/>
                  <a:pt x="124" y="243"/>
                </a:cubicBezTo>
                <a:cubicBezTo>
                  <a:pt x="141" y="226"/>
                  <a:pt x="139" y="196"/>
                  <a:pt x="147" y="173"/>
                </a:cubicBezTo>
                <a:cubicBezTo>
                  <a:pt x="181" y="223"/>
                  <a:pt x="228" y="288"/>
                  <a:pt x="124" y="184"/>
                </a:cubicBezTo>
                <a:cubicBezTo>
                  <a:pt x="120" y="172"/>
                  <a:pt x="100" y="153"/>
                  <a:pt x="112" y="149"/>
                </a:cubicBezTo>
                <a:cubicBezTo>
                  <a:pt x="129" y="144"/>
                  <a:pt x="169" y="158"/>
                  <a:pt x="159" y="173"/>
                </a:cubicBezTo>
                <a:cubicBezTo>
                  <a:pt x="146" y="193"/>
                  <a:pt x="112" y="180"/>
                  <a:pt x="89" y="184"/>
                </a:cubicBezTo>
                <a:cubicBezTo>
                  <a:pt x="93" y="168"/>
                  <a:pt x="84" y="139"/>
                  <a:pt x="100" y="137"/>
                </a:cubicBezTo>
                <a:cubicBezTo>
                  <a:pt x="123" y="133"/>
                  <a:pt x="150" y="152"/>
                  <a:pt x="159" y="173"/>
                </a:cubicBezTo>
                <a:cubicBezTo>
                  <a:pt x="164" y="186"/>
                  <a:pt x="136" y="188"/>
                  <a:pt x="124" y="196"/>
                </a:cubicBezTo>
                <a:cubicBezTo>
                  <a:pt x="116" y="184"/>
                  <a:pt x="102" y="175"/>
                  <a:pt x="100" y="161"/>
                </a:cubicBezTo>
                <a:cubicBezTo>
                  <a:pt x="98" y="145"/>
                  <a:pt x="96" y="114"/>
                  <a:pt x="112" y="114"/>
                </a:cubicBezTo>
                <a:cubicBezTo>
                  <a:pt x="134" y="114"/>
                  <a:pt x="143" y="145"/>
                  <a:pt x="159" y="161"/>
                </a:cubicBezTo>
                <a:cubicBezTo>
                  <a:pt x="164" y="175"/>
                  <a:pt x="186" y="217"/>
                  <a:pt x="159" y="231"/>
                </a:cubicBezTo>
                <a:cubicBezTo>
                  <a:pt x="148" y="237"/>
                  <a:pt x="136" y="224"/>
                  <a:pt x="124" y="220"/>
                </a:cubicBezTo>
                <a:cubicBezTo>
                  <a:pt x="116" y="200"/>
                  <a:pt x="109" y="180"/>
                  <a:pt x="100" y="161"/>
                </a:cubicBezTo>
                <a:cubicBezTo>
                  <a:pt x="94" y="150"/>
                  <a:pt x="100" y="196"/>
                  <a:pt x="112" y="196"/>
                </a:cubicBezTo>
                <a:cubicBezTo>
                  <a:pt x="124" y="196"/>
                  <a:pt x="124" y="161"/>
                  <a:pt x="124" y="161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0400" y="33526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05520" y="4419720"/>
            <a:ext cx="22860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57800" y="4572000"/>
            <a:ext cx="22860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10080" y="4343400"/>
            <a:ext cx="22860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1447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7e14"/>
                </a:solidFill>
                <a:latin typeface="Arial"/>
              </a:rPr>
              <a:t>Plaquettes </a:t>
            </a:r>
            <a:r>
              <a:rPr b="1" lang="en-US" sz="1800" spc="-1" strike="noStrike">
                <a:solidFill>
                  <a:srgbClr val="f27e14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38680" y="4572000"/>
            <a:ext cx="77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PDF</a:t>
            </a:r>
            <a:r>
              <a:rPr b="1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61600" y="584208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HEMORRA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4343400"/>
            <a:ext cx="685800" cy="1676520"/>
          </a:xfrm>
          <a:custGeom>
            <a:avLst/>
            <a:gdLst>
              <a:gd name="textAreaLeft" fmla="*/ 91800 w 685800"/>
              <a:gd name="textAreaRight" fmla="*/ 594000 w 68580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1905120"/>
            <a:ext cx="685800" cy="4419360"/>
          </a:xfrm>
          <a:custGeom>
            <a:avLst/>
            <a:gdLst>
              <a:gd name="textAreaLeft" fmla="*/ 91800 w 685800"/>
              <a:gd name="textAreaRight" fmla="*/ 594000 w 685800"/>
              <a:gd name="textAreaTop" fmla="*/ 773280 h 4419360"/>
              <a:gd name="textAreaBottom" fmla="*/ 3204000 h 441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27e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177200">
            <a:off x="3885840" y="39625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9570800">
            <a:off x="3733560" y="16765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27e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39480" y="487692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CS</a:t>
            </a:r>
            <a:r>
              <a:rPr b="1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3124080"/>
            <a:ext cx="1219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P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CA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IBRINOG</a:t>
            </a:r>
            <a:r>
              <a:rPr b="1" lang="en-US" sz="1400" spc="-1" strike="noStrike">
                <a:solidFill>
                  <a:srgbClr val="ffff00"/>
                </a:solidFill>
                <a:latin typeface="Symbol"/>
                <a:ea typeface="Symbol"/>
              </a:rPr>
              <a:t>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i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nostic différent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uffisance hépatique +++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brinolyse: très 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T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gue ou chro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rombopénie isol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li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lors myélogramme inu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i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rtic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plénecto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munosuppress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g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é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Hb &lt; 13 g/dL chez l’ho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Hb &lt; 12 g/dL chez la fe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Hb &lt; 10,5 g/dL chez la femme encei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as le Nb de G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tropé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Cli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uc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és à la cause (mdcts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N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évérité: &lt;500 ou 500 à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solée ou n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faut de margination, et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édica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tres (congénitales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tres cytopénies pancytopé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nomalie form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anulocyt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iologie=md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ag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ucite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sol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É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versible arrêt du médic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rrêt du médic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évenir c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tb gc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uc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perleucocytose non leucém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P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flam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n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rtic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b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plénecto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Lymp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igües: viroses, coquel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roniques:LLC ou au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nonucléos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ncytopénie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vt cent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yndrôme hémorrag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pont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utané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= purpura pétéchial ou ecchymo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uqueux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= Bulles endobuccales, Gingivorragies, Epistaxis, Hémorragies diges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iscéral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Hématurie, Hémorragies intraoculaires, hémat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émorragies cérébro méning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Éviter les traumatismes, Proscrire IM,Température rectale,Médic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ncytopénie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utropén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uc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yndrôme aném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signes traduisent L’hypoxie tissulaire &amp; Les mécanismes cardio-vasculaires d’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nt fonction de L’intensité, la rapidité d’installation, Le terrain (âge, atcd cardiovaculai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1676520"/>
            <a:ext cx="41148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port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Sf (Céphalées, vertiges acouphènes, Dyspnée d’effort, de rep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Sg (asthé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Sph (Paleur, Tachycardie, Souffle systoliq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ncytopénies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vt cent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Rate = Hypersplén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 abs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lasie: toxique chimio ou au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 ineffic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yélodysplasie mégaloblas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 remplacée p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cellules anormales leucémies aigü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cellules anormales canc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fibr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ceptionnel= Ev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lasie médull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xique atb, benzènes, insectic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fections hépa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énétiques fanc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ssenti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li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HP-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émi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rombopéni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utropé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agnostic posi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munosuppress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reffe de mo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219320" y="1295280"/>
            <a:ext cx="685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ASSIFICATION DES HEMOPATHIES MALIG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629400" y="9144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228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elle oss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228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ngl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143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Cellules myéloï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4267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ellules lymphoï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4114800"/>
            <a:ext cx="845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34320" y="1219320"/>
            <a:ext cx="16761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858000" y="1295280"/>
            <a:ext cx="17524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57200" y="1905120"/>
          <a:ext cx="2209680" cy="174924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lifé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cc"/>
                          </a:solidFill>
                          <a:latin typeface="Arial"/>
                        </a:rPr>
                        <a:t>Dysplas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Les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533520" y="5008680"/>
          <a:ext cx="2057400" cy="16048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lifé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splas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Les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 flipH="1">
            <a:off x="609480" y="5867280"/>
            <a:ext cx="1524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2819520" y="2057400"/>
            <a:ext cx="1042920" cy="380880"/>
          </a:xfrm>
          <a:custGeom>
            <a:avLst/>
            <a:gdLst>
              <a:gd name="textAreaLeft" fmla="*/ 24480 w 1042920"/>
              <a:gd name="textAreaRight" fmla="*/ 1018440 w 1042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9109" h="21600">
                <a:moveTo>
                  <a:pt x="0" y="0"/>
                </a:moveTo>
                <a:lnTo>
                  <a:pt x="59109" y="0"/>
                </a:lnTo>
                <a:lnTo>
                  <a:pt x="59109" y="21600"/>
                </a:lnTo>
                <a:lnTo>
                  <a:pt x="0" y="21600"/>
                </a:lnTo>
                <a:close/>
              </a:path>
              <a:path fill="lightenLess" w="59109" h="21600">
                <a:moveTo>
                  <a:pt x="0" y="0"/>
                </a:moveTo>
                <a:lnTo>
                  <a:pt x="59109" y="0"/>
                </a:lnTo>
                <a:lnTo>
                  <a:pt x="57709" y="1400"/>
                </a:lnTo>
                <a:lnTo>
                  <a:pt x="1400" y="1400"/>
                </a:lnTo>
                <a:close/>
              </a:path>
              <a:path fill="darken" w="59109" h="21600">
                <a:moveTo>
                  <a:pt x="59109" y="0"/>
                </a:moveTo>
                <a:lnTo>
                  <a:pt x="59109" y="21600"/>
                </a:lnTo>
                <a:lnTo>
                  <a:pt x="57709" y="20200"/>
                </a:lnTo>
                <a:lnTo>
                  <a:pt x="57709" y="1400"/>
                </a:lnTo>
                <a:close/>
              </a:path>
              <a:path fill="darkenLess" w="59109" h="21600">
                <a:moveTo>
                  <a:pt x="59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09" y="20200"/>
                </a:lnTo>
                <a:close/>
              </a:path>
              <a:path fill="lighten" w="59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09" h="21600">
                <a:moveTo>
                  <a:pt x="22548" y="3794"/>
                </a:moveTo>
                <a:lnTo>
                  <a:pt x="36561" y="10800"/>
                </a:lnTo>
                <a:lnTo>
                  <a:pt x="2254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rId1" action="ppaction://hlinksldjump"/>
          </p:cNvPr>
          <p:cNvSpPr/>
          <p:nvPr/>
        </p:nvSpPr>
        <p:spPr>
          <a:xfrm>
            <a:off x="2819520" y="2590920"/>
            <a:ext cx="1042920" cy="380880"/>
          </a:xfrm>
          <a:custGeom>
            <a:avLst/>
            <a:gdLst>
              <a:gd name="textAreaLeft" fmla="*/ 24480 w 1042920"/>
              <a:gd name="textAreaRight" fmla="*/ 1018440 w 1042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9109" h="21600">
                <a:moveTo>
                  <a:pt x="0" y="0"/>
                </a:moveTo>
                <a:lnTo>
                  <a:pt x="59109" y="0"/>
                </a:lnTo>
                <a:lnTo>
                  <a:pt x="59109" y="21600"/>
                </a:lnTo>
                <a:lnTo>
                  <a:pt x="0" y="21600"/>
                </a:lnTo>
                <a:close/>
              </a:path>
              <a:path fill="lightenLess" w="59109" h="21600">
                <a:moveTo>
                  <a:pt x="0" y="0"/>
                </a:moveTo>
                <a:lnTo>
                  <a:pt x="59109" y="0"/>
                </a:lnTo>
                <a:lnTo>
                  <a:pt x="57709" y="1400"/>
                </a:lnTo>
                <a:lnTo>
                  <a:pt x="1400" y="1400"/>
                </a:lnTo>
                <a:close/>
              </a:path>
              <a:path fill="darken" w="59109" h="21600">
                <a:moveTo>
                  <a:pt x="59109" y="0"/>
                </a:moveTo>
                <a:lnTo>
                  <a:pt x="59109" y="21600"/>
                </a:lnTo>
                <a:lnTo>
                  <a:pt x="57709" y="20200"/>
                </a:lnTo>
                <a:lnTo>
                  <a:pt x="57709" y="1400"/>
                </a:lnTo>
                <a:close/>
              </a:path>
              <a:path fill="darkenLess" w="59109" h="21600">
                <a:moveTo>
                  <a:pt x="59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09" y="20200"/>
                </a:lnTo>
                <a:close/>
              </a:path>
              <a:path fill="lighten" w="59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09" h="21600">
                <a:moveTo>
                  <a:pt x="22548" y="3794"/>
                </a:moveTo>
                <a:lnTo>
                  <a:pt x="36561" y="10800"/>
                </a:lnTo>
                <a:lnTo>
                  <a:pt x="2254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rId2" action="ppaction://hlinksldjump"/>
          </p:cNvPr>
          <p:cNvSpPr/>
          <p:nvPr/>
        </p:nvSpPr>
        <p:spPr>
          <a:xfrm>
            <a:off x="2819520" y="3200400"/>
            <a:ext cx="1042920" cy="380880"/>
          </a:xfrm>
          <a:custGeom>
            <a:avLst/>
            <a:gdLst>
              <a:gd name="textAreaLeft" fmla="*/ 24480 w 1042920"/>
              <a:gd name="textAreaRight" fmla="*/ 1018440 w 1042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9109" h="21600">
                <a:moveTo>
                  <a:pt x="0" y="0"/>
                </a:moveTo>
                <a:lnTo>
                  <a:pt x="59109" y="0"/>
                </a:lnTo>
                <a:lnTo>
                  <a:pt x="59109" y="21600"/>
                </a:lnTo>
                <a:lnTo>
                  <a:pt x="0" y="21600"/>
                </a:lnTo>
                <a:close/>
              </a:path>
              <a:path fill="lightenLess" w="59109" h="21600">
                <a:moveTo>
                  <a:pt x="0" y="0"/>
                </a:moveTo>
                <a:lnTo>
                  <a:pt x="59109" y="0"/>
                </a:lnTo>
                <a:lnTo>
                  <a:pt x="57709" y="1400"/>
                </a:lnTo>
                <a:lnTo>
                  <a:pt x="1400" y="1400"/>
                </a:lnTo>
                <a:close/>
              </a:path>
              <a:path fill="darken" w="59109" h="21600">
                <a:moveTo>
                  <a:pt x="59109" y="0"/>
                </a:moveTo>
                <a:lnTo>
                  <a:pt x="59109" y="21600"/>
                </a:lnTo>
                <a:lnTo>
                  <a:pt x="57709" y="20200"/>
                </a:lnTo>
                <a:lnTo>
                  <a:pt x="57709" y="1400"/>
                </a:lnTo>
                <a:close/>
              </a:path>
              <a:path fill="darkenLess" w="59109" h="21600">
                <a:moveTo>
                  <a:pt x="59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09" y="20200"/>
                </a:lnTo>
                <a:close/>
              </a:path>
              <a:path fill="lighten" w="59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09" h="21600">
                <a:moveTo>
                  <a:pt x="22548" y="3794"/>
                </a:moveTo>
                <a:lnTo>
                  <a:pt x="36561" y="10800"/>
                </a:lnTo>
                <a:lnTo>
                  <a:pt x="2254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2743200" y="5105520"/>
            <a:ext cx="1219320" cy="30456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00" h="21600">
                <a:moveTo>
                  <a:pt x="36194" y="3794"/>
                </a:moveTo>
                <a:lnTo>
                  <a:pt x="50206" y="10800"/>
                </a:lnTo>
                <a:lnTo>
                  <a:pt x="361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2819520" y="61722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7467480" y="50292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22004" y="10800"/>
                </a:moveTo>
                <a:lnTo>
                  <a:pt x="11498" y="17806"/>
                </a:lnTo>
                <a:lnTo>
                  <a:pt x="11498" y="3794"/>
                </a:lnTo>
                <a:close/>
              </a:path>
              <a:path fill="darken" w="37010" h="21600">
                <a:moveTo>
                  <a:pt x="23849" y="3794"/>
                </a:moveTo>
                <a:lnTo>
                  <a:pt x="23849" y="17806"/>
                </a:lnTo>
                <a:lnTo>
                  <a:pt x="25511" y="17806"/>
                </a:lnTo>
                <a:lnTo>
                  <a:pt x="25511" y="37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523880" y="762120"/>
            <a:ext cx="5639040" cy="268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d </a:t>
            </a:r>
            <a:r>
              <a:rPr b="1" lang="fr-FR" sz="2400" spc="-1" strike="noStrike">
                <a:solidFill>
                  <a:srgbClr val="cc00ff"/>
                </a:solidFill>
                <a:latin typeface="Times New Roman"/>
              </a:rPr>
              <a:t>myélo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proliféra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R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Vaq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q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Thrombocyté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B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Leucémie Myéloide Ch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ibrose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myélofib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23880" y="3809880"/>
            <a:ext cx="55627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ni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lénomégalie (Hépatomégal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7620120" y="52578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12922" y="10800"/>
                </a:moveTo>
                <a:lnTo>
                  <a:pt x="23427" y="3794"/>
                </a:lnTo>
                <a:lnTo>
                  <a:pt x="23427" y="17806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11077" y="3794"/>
                </a:lnTo>
                <a:lnTo>
                  <a:pt x="11077" y="17806"/>
                </a:lnTo>
                <a:lnTo>
                  <a:pt x="9415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7620120" y="518148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12922" y="10800"/>
                </a:moveTo>
                <a:lnTo>
                  <a:pt x="23427" y="3794"/>
                </a:lnTo>
                <a:lnTo>
                  <a:pt x="23427" y="17806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11077" y="3794"/>
                </a:lnTo>
                <a:lnTo>
                  <a:pt x="11077" y="17806"/>
                </a:lnTo>
                <a:lnTo>
                  <a:pt x="9415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3880" y="5181480"/>
            <a:ext cx="5486400" cy="138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v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uvent </a:t>
            </a:r>
            <a:r>
              <a:rPr b="0" lang="fr-FR" sz="2400" spc="-1" strike="noStrike">
                <a:solidFill>
                  <a:srgbClr val="669900"/>
                </a:solidFill>
                <a:latin typeface="Times New Roman"/>
              </a:rPr>
              <a:t>acutise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dysplasie en +: Leucémie Myéloide Chronique+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lan devant une ané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li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ol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ignes d’orientation étio (alimentation, règles, atcd familiaux, personn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Biolog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némie isolée? Ou Autres cytopé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ellules anorm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(biologiq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Pré-transfusionnel (selon Hb &amp; symptomatolog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e Groupe + phéno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2e groupe + phén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AI + compati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Bilan hép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éro hépatite B, C, V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Étiolog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éticuloc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erritine ou CSS+CTF+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B12, fo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ombs 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600200" y="533520"/>
            <a:ext cx="5562720" cy="249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d </a:t>
            </a:r>
            <a:r>
              <a:rPr b="1" lang="fr-FR" sz="2400" spc="-1" strike="noStrike">
                <a:solidFill>
                  <a:srgbClr val="cc00ff"/>
                </a:solidFill>
                <a:latin typeface="Times New Roman"/>
              </a:rPr>
              <a:t>myélo</a:t>
            </a:r>
            <a:r>
              <a:rPr b="1" lang="fr-FR" sz="2400" spc="-1" strike="noStrike">
                <a:solidFill>
                  <a:srgbClr val="33cccc"/>
                </a:solidFill>
                <a:latin typeface="Times New Roman"/>
              </a:rPr>
              <a:t>dyspla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émie ou cytopénie réfract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émie réfractaire avec excès de bl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 Myélo Monocytaire Chronique (cas particul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7620120" y="518148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12922" y="10800"/>
                </a:moveTo>
                <a:lnTo>
                  <a:pt x="23427" y="3794"/>
                </a:lnTo>
                <a:lnTo>
                  <a:pt x="23427" y="17806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11077" y="3794"/>
                </a:lnTo>
                <a:lnTo>
                  <a:pt x="11077" y="17806"/>
                </a:lnTo>
                <a:lnTo>
                  <a:pt x="9415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00200" y="3200400"/>
            <a:ext cx="5562720" cy="19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ni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 de splénomégalie ni Hépatomégalie (sauf cas particul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Anémie, thrombopénie, leucopé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5257800"/>
            <a:ext cx="54864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v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uvent</a:t>
            </a:r>
            <a:r>
              <a:rPr b="0" lang="fr-FR" sz="2400" spc="-1" strike="noStrike">
                <a:solidFill>
                  <a:srgbClr val="669900"/>
                </a:solidFill>
                <a:latin typeface="Times New Roman"/>
              </a:rPr>
              <a:t> acutiser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prolifération en 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743200" y="7621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9900"/>
                </a:solidFill>
                <a:latin typeface="Times New Roman"/>
              </a:rPr>
              <a:t>Leucémie aigue Myélo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" action="ppaction://hlinksldjump"/>
          </p:cNvPr>
          <p:cNvSpPr/>
          <p:nvPr/>
        </p:nvSpPr>
        <p:spPr>
          <a:xfrm>
            <a:off x="7620120" y="518148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12922" y="10800"/>
                </a:moveTo>
                <a:lnTo>
                  <a:pt x="23427" y="3794"/>
                </a:lnTo>
                <a:lnTo>
                  <a:pt x="23427" y="17806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11077" y="3794"/>
                </a:lnTo>
                <a:lnTo>
                  <a:pt x="11077" y="17806"/>
                </a:lnTo>
                <a:lnTo>
                  <a:pt x="9415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00200" y="1905120"/>
            <a:ext cx="5638680" cy="302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Times New Roman"/>
              </a:rPr>
              <a:t>Dysplasie </a:t>
            </a:r>
            <a:r>
              <a:rPr b="1" lang="en-US" sz="2400" spc="-1" strike="noStrike">
                <a:solidFill>
                  <a:srgbClr val="33cccc"/>
                </a:solidFill>
                <a:latin typeface="Wingdings 3"/>
                <a:ea typeface="Wingdings 3"/>
              </a:rPr>
              <a:t>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</a:rPr>
              <a:t> insuffisance médul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Times New Roman"/>
              </a:rPr>
              <a:t>Thrombopé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Times New Roman"/>
              </a:rPr>
              <a:t>Ané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Times New Roman"/>
              </a:rPr>
              <a:t>Neutropé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lifération </a:t>
            </a:r>
            <a:r>
              <a:rPr b="1" lang="en-U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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syndrome tum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épatoméga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lénoméga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arfois :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blastes sangu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295280" y="609480"/>
            <a:ext cx="5943600" cy="2128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yndromes 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lympho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proliféra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c </a:t>
            </a:r>
            <a:r>
              <a:rPr b="0" lang="fr-F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PL </a:t>
            </a:r>
            <a:r>
              <a:rPr b="0" lang="fr-F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Waldenströ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c </a:t>
            </a:r>
            <a:r>
              <a:rPr b="0" lang="fr-F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myél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" action="ppaction://hlinksldjump"/>
          </p:cNvPr>
          <p:cNvSpPr/>
          <p:nvPr/>
        </p:nvSpPr>
        <p:spPr>
          <a:xfrm>
            <a:off x="7620120" y="518148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12922" y="10800"/>
                </a:moveTo>
                <a:lnTo>
                  <a:pt x="23427" y="3794"/>
                </a:lnTo>
                <a:lnTo>
                  <a:pt x="23427" y="17806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11077" y="3794"/>
                </a:lnTo>
                <a:lnTo>
                  <a:pt x="11077" y="17806"/>
                </a:lnTo>
                <a:lnTo>
                  <a:pt x="9415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71600" y="3124080"/>
            <a:ext cx="556272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ni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lénomégalie, Hépatoméga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Adénopat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5029200"/>
            <a:ext cx="548640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v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uvent se transfor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as d’acutisation +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209320" y="60948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9900"/>
                </a:solidFill>
                <a:latin typeface="Times New Roman"/>
              </a:rPr>
              <a:t>Leucémie aigue Lymphoblas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7620120" y="518148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12922" y="10800"/>
                </a:moveTo>
                <a:lnTo>
                  <a:pt x="23427" y="3794"/>
                </a:lnTo>
                <a:lnTo>
                  <a:pt x="23427" y="17806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11077" y="3794"/>
                </a:lnTo>
                <a:lnTo>
                  <a:pt x="11077" y="17806"/>
                </a:lnTo>
                <a:lnTo>
                  <a:pt x="9415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00200" y="1905120"/>
            <a:ext cx="563868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Dysplasie </a:t>
            </a:r>
            <a:r>
              <a:rPr b="0" lang="en-US" sz="2400" spc="-1" strike="noStrike">
                <a:solidFill>
                  <a:srgbClr val="33cccc"/>
                </a:solidFill>
                <a:latin typeface="Wingdings 3"/>
                <a:ea typeface="Wingdings 3"/>
              </a:rPr>
              <a:t></a:t>
            </a: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 insuffisance médul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Thrombopé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Ané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Neutropé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lifération </a:t>
            </a:r>
            <a:r>
              <a:rPr b="0" lang="en-U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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syndrome tum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épatoméga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lénoméga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Adénopat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fois :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blastes sangu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629400" y="685800"/>
            <a:ext cx="0" cy="6172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124080" y="228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elle oss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228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ngl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4920" y="1143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es myéloï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4267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es lymphoï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4114800"/>
            <a:ext cx="845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934320" y="1219320"/>
            <a:ext cx="16761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858000" y="1295280"/>
            <a:ext cx="17524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4267080"/>
            <a:ext cx="2209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ymp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dg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Hodg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57200" y="1828800"/>
          <a:ext cx="1981080" cy="213372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lifé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splas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457200" y="4876920"/>
          <a:ext cx="1981080" cy="189360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lifé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splas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"/>
          <p:cNvSpPr/>
          <p:nvPr/>
        </p:nvSpPr>
        <p:spPr>
          <a:xfrm>
            <a:off x="3124080" y="4191120"/>
            <a:ext cx="3200400" cy="2128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d lymphoproliféra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c </a:t>
            </a:r>
            <a:r>
              <a:rPr b="0" lang="fr-F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PL </a:t>
            </a:r>
            <a:r>
              <a:rPr b="0" lang="fr-F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Waldenströ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c </a:t>
            </a:r>
            <a:r>
              <a:rPr b="0" lang="fr-F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myél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8120" y="6400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ucémie aigue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8120" y="3429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ucémie aigue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685800"/>
            <a:ext cx="342900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d myéloproliféra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R </a:t>
            </a:r>
            <a:r>
              <a:rPr b="0" lang="fr-F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Vaq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q </a:t>
            </a:r>
            <a:r>
              <a:rPr b="0" lang="fr-F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Thrombocyté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B </a:t>
            </a:r>
            <a:r>
              <a:rPr b="0" lang="fr-F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L Myéloid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2895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d Myélodyspla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90920" y="175248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90920" y="289548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34290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4876920"/>
            <a:ext cx="3812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6400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00"/>
                </a:solidFill>
                <a:latin typeface="Arial"/>
              </a:rPr>
              <a:t>Leucémies aigues </a:t>
            </a:r>
            <a:r>
              <a:rPr b="0" lang="en-US" sz="4400" spc="-1" strike="noStrike">
                <a:solidFill>
                  <a:srgbClr val="6699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Prolifération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maligne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u tissu hématopoiétique avec présence dans la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moelle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récurseurs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immatures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s cellules myéloides ou lymphoides (blas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équenc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touffement des cellules médullaires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nsuffisance médul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lifération des cellules malignes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syndrome tumoral, N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réquence: à toute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fants: LAL=1e cause de décès par mala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ulte: après 50 ans: 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Arial"/>
              </a:rPr>
              <a:t>Leucémies aigues: </a:t>
            </a:r>
            <a:br>
              <a:rPr sz="4000"/>
            </a:br>
            <a:r>
              <a:rPr b="0" lang="en-US" sz="4000" spc="-1" strike="noStrike" u="sng">
                <a:solidFill>
                  <a:srgbClr val="669900"/>
                </a:solidFill>
                <a:uFillTx/>
                <a:latin typeface="Arial"/>
              </a:rPr>
              <a:t>I: clinique &amp; diagnos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gue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p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vent grave d’embl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Arial"/>
              </a:rPr>
              <a:t>Insuffisance médullaire (3 lignées </a:t>
            </a:r>
            <a:r>
              <a:rPr b="1" lang="en-US" sz="4400" spc="-1" strike="noStrike" u="sng">
                <a:solidFill>
                  <a:srgbClr val="33cccc"/>
                </a:solidFill>
                <a:uFillTx/>
                <a:latin typeface="Arial"/>
              </a:rPr>
              <a:t>+</a:t>
            </a:r>
            <a:r>
              <a:rPr b="1" lang="en-US" sz="4400" spc="-1" strike="noStrike">
                <a:solidFill>
                  <a:srgbClr val="33cccc"/>
                </a:solidFill>
                <a:latin typeface="Arial"/>
              </a:rPr>
              <a:t> complèt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d ané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d infectieux, muc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d hémorrag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Prolifération de cellules malig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d tum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dénopath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plénomégal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épatomégal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tres localisations: neuroméningées, os, peau, genciv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Arial"/>
              </a:rPr>
              <a:t>Leucémies aigues </a:t>
            </a:r>
            <a:br>
              <a:rPr sz="4000"/>
            </a:br>
            <a:r>
              <a:rPr b="0" lang="en-US" sz="4000" spc="-1" strike="noStrike" u="sng">
                <a:solidFill>
                  <a:srgbClr val="669900"/>
                </a:solidFill>
                <a:uFillTx/>
                <a:latin typeface="Arial"/>
              </a:rPr>
              <a:t>I: clinique &amp; diagnostic (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F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nsuffisance myéloide </a:t>
            </a:r>
            <a:r>
              <a:rPr b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con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némie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constante, normocytaire arégéné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rombopénie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utropénie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eucocytose: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ucopénie ou grande hyperleucocytose par présence de cellules leucém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lastose: possible non obligatoire 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Arial"/>
              </a:rPr>
              <a:t>Leucémies aigues</a:t>
            </a:r>
            <a:br>
              <a:rPr sz="4000"/>
            </a:br>
            <a:r>
              <a:rPr b="0" lang="en-US" sz="4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669900"/>
                </a:solidFill>
                <a:uFillTx/>
                <a:latin typeface="Arial"/>
              </a:rPr>
              <a:t>I: clinique &amp; diagnostic (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yélogram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Moelle osseuse envahie par des blast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OMS: &gt;20%, FAB: &gt;30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isparition des lignées norm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dispensable au diagno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Surtout si pas ou peu de blaste circula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rphologique: MGG cyt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ytochimies: PAS, myélopéroxydases, estér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mmunocytométrie de 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ytogéné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iologie moléc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écanismes 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fréquence des mécanismes intriqu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entral = Arégénéra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Défaut de production de la MO (au niveau des GR ou de l’H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Quantita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lusieurs lignées= Aplasie (globale ou non), mo pa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Arial"/>
              </a:rPr>
              <a:t>Anémie par manque de F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(fréquence des mécanismes intriqués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Hème (fer, inflamm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glob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Qualitatif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= défaut de formation, « avortement intramédullaire »=dysérythropoièse (dont carence B12, fol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Périphérique = Régénéra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Hémorragie aigü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Hémo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rpusc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xtra-corpusc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Arial"/>
              </a:rPr>
              <a:t>Leucémies aigues</a:t>
            </a:r>
            <a:br>
              <a:rPr sz="4000"/>
            </a:br>
            <a:r>
              <a:rPr b="0" lang="en-US" sz="4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669900"/>
                </a:solidFill>
                <a:uFillTx/>
                <a:latin typeface="Arial"/>
              </a:rPr>
              <a:t>I: clinique &amp; diagnostic (fi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Bilan ini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iologi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émostase CI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ie rein 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fecti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yzo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orphologi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o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chocardiograp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00"/>
                </a:solidFill>
                <a:latin typeface="Arial"/>
              </a:rPr>
              <a:t>Leucémies aigues: </a:t>
            </a:r>
            <a:br>
              <a:rPr sz="4400"/>
            </a:br>
            <a:r>
              <a:rPr b="0" lang="en-US" sz="4400" spc="-1" strike="noStrike" u="sng">
                <a:solidFill>
                  <a:srgbClr val="669900"/>
                </a:solidFill>
                <a:uFillTx/>
                <a:latin typeface="Arial"/>
              </a:rPr>
              <a:t>II 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3 LAL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d tumoral, atteintes neuro méningées testi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1, 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3=Burki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8 LA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0 indifférenci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1, M2: myéloblas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3: promyélocytaire: CIVD A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4: myélomonocytaire aigu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5: monoblas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6: érythroleucé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7: mégacaryoblas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ossibilité de formes mix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419720"/>
            <a:ext cx="3124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d tumoral, peau, gencive, neu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257800" y="4419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Arial"/>
              </a:rPr>
              <a:t>Leucémies aigues: </a:t>
            </a:r>
            <a:br>
              <a:rPr sz="4000"/>
            </a:br>
            <a:r>
              <a:rPr b="0" lang="en-US" sz="4000" spc="-1" strike="noStrike" u="sng">
                <a:solidFill>
                  <a:srgbClr val="669900"/>
                </a:solidFill>
                <a:uFillTx/>
                <a:latin typeface="Arial"/>
              </a:rPr>
              <a:t>III: traitement.</a:t>
            </a:r>
            <a:r>
              <a:rPr b="0" lang="en-US" sz="4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i="1" lang="en-US" sz="4000" spc="-1" strike="noStrike" u="sng">
                <a:solidFill>
                  <a:srgbClr val="669900"/>
                </a:solidFill>
                <a:uFillTx/>
                <a:latin typeface="Arial"/>
              </a:rPr>
              <a:t>a): Curate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duction: lourd 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KT tunnéli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yse blas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ucost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lasie co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mission Complète (R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solidation: de la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enti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reffe de moelle oss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intenance: LAL enf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évention neuroméning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diothérapie encépha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T Méthotrexate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racy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Arial"/>
              </a:rPr>
              <a:t>Leucémies aigues: </a:t>
            </a:r>
            <a:br>
              <a:rPr sz="4000"/>
            </a:br>
            <a:r>
              <a:rPr b="0" lang="en-US" sz="4000" spc="-1" strike="noStrike" u="sng">
                <a:solidFill>
                  <a:srgbClr val="669900"/>
                </a:solidFill>
                <a:uFillTx/>
                <a:latin typeface="Arial"/>
              </a:rPr>
              <a:t>III: traitement </a:t>
            </a:r>
            <a:r>
              <a:rPr b="0" i="1" lang="en-US" sz="4000" spc="-1" strike="noStrike" u="sng">
                <a:solidFill>
                  <a:srgbClr val="669900"/>
                </a:solidFill>
                <a:uFillTx/>
                <a:latin typeface="Arial"/>
              </a:rPr>
              <a:t>b): symptoma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évention de la lyse: hydratation, uri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éanimation hématolog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émie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ransf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eutropé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ntibiothérapie, antimyco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éca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uc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ains de bouche, antalgiques, antivir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hrombopénie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ransf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étabol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onost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ge, type cyto, caryotype, imm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Arial"/>
              </a:rPr>
              <a:t>Leucémies aigues: </a:t>
            </a:r>
            <a:br>
              <a:rPr sz="4000"/>
            </a:br>
            <a:r>
              <a:rPr b="0" lang="en-US" sz="4000" spc="-1" strike="noStrike" u="sng">
                <a:solidFill>
                  <a:srgbClr val="669900"/>
                </a:solidFill>
                <a:uFillTx/>
                <a:latin typeface="Arial"/>
              </a:rPr>
              <a:t>IV: 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no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ge, type cyto, caryotype, imm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ucémie myéloïde chro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Prolifération maligne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la cellule souche hématopoitique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pluripotente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, prédominant sur la lignée blan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ge médian 40-50 ans, tout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 ph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onique 3-4 ans (6 mois-20 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nsformation ai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cu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éluctable sauf allogref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ucémie myéloïde chronique</a:t>
            </a:r>
            <a:br>
              <a:rPr sz="4000"/>
            </a:b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: Cli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liniqu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ymptomatique, fortuit, bon 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plénomégalie +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Hépatomégalie parf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dp? 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Hyperleucocytose considérable++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&gt;100 000/m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yélé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R normaux, anémie discré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laquettes: normale, pfs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, rarement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(mauvais pro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ucémie myéloïde chroniqu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I: diagnosti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yélogramm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eu utile, moelle riche, blastes &lt;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aryotyp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romosome Philadelp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(9q,22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cr-ab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nuti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NB uricémie </a:t>
            </a:r>
            <a:r>
              <a:rPr b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LDH </a:t>
            </a:r>
            <a:r>
              <a:rPr b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ucémie myéloïde chronique</a:t>
            </a:r>
            <a:br>
              <a:rPr sz="4000"/>
            </a:b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II: 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nos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terminé par un score (Sok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hase aigu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ransformation en LA, inéluctable, après un délai variable en l’absence d’allogre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himiorésis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ouvent précédée d’une phase d’accélé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liniqu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suffisance myéloi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tération de l’état génér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lénomégalie, localisations extramédul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iologie: insuffisance myéloide,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blastes sang &amp; 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ucémie myéloïde chronique</a:t>
            </a:r>
            <a:br>
              <a:rPr sz="4000"/>
            </a:b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V trai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llogreffe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eul traitement connu efficace à long terme gué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ratrie ou fich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phase chronique, le plus tot possible (1e année 50-6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oxic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sultats moins bon en accélération (30-40%)et en acutisation (&lt;1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2414520" y="1127880"/>
            <a:ext cx="4314600" cy="1737000"/>
            <a:chOff x="2414520" y="1127880"/>
            <a:chExt cx="4314600" cy="1737000"/>
          </a:xfrm>
        </p:grpSpPr>
        <p:cxnSp>
          <p:nvCxnSpPr>
            <p:cNvPr id="55" name="_s9235"/>
            <p:cNvCxnSpPr>
              <a:stCxn id="56" idx="0"/>
              <a:endCxn id="57" idx="2"/>
            </p:cNvCxnSpPr>
            <p:nvPr/>
          </p:nvCxnSpPr>
          <p:spPr>
            <a:xfrm flipV="1" rot="16200000">
              <a:off x="5030640" y="1753920"/>
              <a:ext cx="218160" cy="113364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" name="_s9233"/>
            <p:cNvCxnSpPr>
              <a:stCxn id="59" idx="0"/>
              <a:endCxn id="57" idx="2"/>
            </p:cNvCxnSpPr>
            <p:nvPr/>
          </p:nvCxnSpPr>
          <p:spPr>
            <a:xfrm flipH="1" flipV="1" rot="5400000">
              <a:off x="3895920" y="1752480"/>
              <a:ext cx="218160" cy="113688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" name="_s9229"/>
            <p:cNvCxnSpPr>
              <a:stCxn id="57" idx="0"/>
              <a:endCxn id="61" idx="2"/>
            </p:cNvCxnSpPr>
            <p:nvPr/>
          </p:nvCxnSpPr>
          <p:spPr>
            <a:xfrm flipV="1">
              <a:off x="4573080" y="1562760"/>
              <a:ext cx="1800" cy="21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1" name="_s9225"/>
            <p:cNvSpPr/>
            <p:nvPr/>
          </p:nvSpPr>
          <p:spPr>
            <a:xfrm>
              <a:off x="3900960" y="1127880"/>
              <a:ext cx="134352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20" rIns="3132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G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9226"/>
            <p:cNvSpPr/>
            <p:nvPr/>
          </p:nvSpPr>
          <p:spPr>
            <a:xfrm>
              <a:off x="3900960" y="1780560"/>
              <a:ext cx="1343520" cy="43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20" rIns="3132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ro=F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9232"/>
            <p:cNvSpPr/>
            <p:nvPr/>
          </p:nvSpPr>
          <p:spPr>
            <a:xfrm>
              <a:off x="2414520" y="2430000"/>
              <a:ext cx="204516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720" rIns="3672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9234"/>
            <p:cNvSpPr/>
            <p:nvPr/>
          </p:nvSpPr>
          <p:spPr>
            <a:xfrm>
              <a:off x="4683960" y="2430000"/>
              <a:ext cx="204516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720" rIns="3672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lam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ucémie myéloïde chroniqu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V traitement (fi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erfér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longe la phase chro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version cytogéné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lus aracyti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liv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attrape les échecs de l’interfé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utogre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imiothérapie ora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ydréa, contrôle gdes hyperleucocytose en phase chro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racy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aladie de Vaquez:</a:t>
            </a:r>
            <a:br>
              <a:rPr sz="4000"/>
            </a:b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Définition, Cli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Prolifération malign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de la cellule souche hématopoitique 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pluripotent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, prédominance sur la lignée 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hro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plénomégal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NF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élévation de l ’hématocrite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lq: Normales, parfois thrombocyt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ucocytose: Normale, parfois hyperleucocyt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Volume globulaire total 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aladie de Vaquez:</a:t>
            </a:r>
            <a:br>
              <a:rPr sz="4000"/>
            </a:b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Evolution, Trai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plica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rombos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yélofibros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utisation (10 -2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raite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aigné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yélofreinateurs: hydré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ladie de Vaquez: </a:t>
            </a:r>
            <a:br>
              <a:rPr sz="4400"/>
            </a:b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diagno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"/>
              </a:rPr>
              <a:t>Diagnostic = éliminer les autres polyglobu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ausses: hémo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igues: bru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roniques: diuré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Vra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ypoxie tissu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suffisance respi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h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Hémoglobines hyperaff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utres tumeurs: foie rein cerv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quez, Erythrocytose p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Thrombocytémie essentielle:</a:t>
            </a:r>
            <a:br>
              <a:rPr sz="4000"/>
            </a:b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Définition, Cli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Prolifération maligne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la cellule souche hématopoitique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pluripotente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, prédominance sur la lignée </a:t>
            </a:r>
            <a:r>
              <a:rPr b="1" lang="fr-FR" sz="2400" spc="-1" strike="noStrike">
                <a:solidFill>
                  <a:srgbClr val="669900"/>
                </a:solidFill>
                <a:latin typeface="Arial"/>
              </a:rPr>
              <a:t>Plaquet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lini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hro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plénomégalie parf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hromboses ou hémorragi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F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lq&gt;1000.000 /mm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R: norm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ucocytose: Normale, parfois hyperleucocy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Thrombocytémie essentielle</a:t>
            </a:r>
            <a:br>
              <a:rPr sz="4000"/>
            </a:b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Evolution, Trai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mplica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hromboses, hémorra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cutisation exception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urée de vie = celle de la population nor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raitem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yélofreinateurs: hydré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as du sujet je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Thrombocytémie essentielle</a:t>
            </a:r>
            <a:br>
              <a:rPr sz="4000"/>
            </a:br>
            <a:r>
              <a:rPr b="0" lang="fr-FR" sz="4000" spc="-1" strike="noStrike" u="sng">
                <a:solidFill>
                  <a:srgbClr val="ffff00"/>
                </a:solidFill>
                <a:uFillTx/>
                <a:latin typeface="Arial"/>
              </a:rPr>
              <a:t>Diagnos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"/>
              </a:rPr>
              <a:t>Diagnostic = éliminer les autres thrombocyt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ques can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plénect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arence mart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nflam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cccc"/>
                </a:solidFill>
                <a:latin typeface="Arial"/>
              </a:rPr>
              <a:t>Syndromes myélodysplasiques</a:t>
            </a:r>
            <a:br>
              <a:rPr sz="4000"/>
            </a:br>
            <a:r>
              <a:rPr b="0" lang="fr-FR" sz="4000" spc="-1" strike="noStrike" u="sng">
                <a:solidFill>
                  <a:srgbClr val="33cccc"/>
                </a:solidFill>
                <a:uFillTx/>
                <a:latin typeface="Arial"/>
              </a:rPr>
              <a:t>définition, cli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faut de maturation de la cellule souche médullaire totipotente ou prim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ujet ag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émie macrocy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rombopé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eutropé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s de tuméfaction des organes hématopoiè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auf l’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cccc"/>
                </a:solidFill>
                <a:latin typeface="Arial"/>
              </a:rPr>
              <a:t>Syndromes myélodysplasiques</a:t>
            </a:r>
            <a:br>
              <a:rPr sz="4000"/>
            </a:br>
            <a:r>
              <a:rPr b="0" lang="fr-FR" sz="4000" spc="-1" strike="noStrike" u="sng">
                <a:solidFill>
                  <a:srgbClr val="33cccc"/>
                </a:solidFill>
                <a:uFillTx/>
                <a:latin typeface="Arial"/>
              </a:rPr>
              <a:t>diagnos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yél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gnes de myélodysplasie (ou dysmyélopoiè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dérobla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cés de bla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émie réfractaire (AR) simple ou avec sidérobla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 avec excès de bla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cccc"/>
                </a:solidFill>
                <a:latin typeface="Arial"/>
              </a:rPr>
              <a:t>Syndromes myélodysplasiques</a:t>
            </a:r>
            <a:br>
              <a:rPr sz="4000"/>
            </a:br>
            <a:r>
              <a:rPr b="0" lang="fr-FR" sz="4000" spc="-1" strike="noStrike" u="sng">
                <a:solidFill>
                  <a:srgbClr val="33cccc"/>
                </a:solidFill>
                <a:uFillTx/>
                <a:latin typeface="Arial"/>
              </a:rPr>
              <a:t>Complications é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cut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lytransf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no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% bla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ytogén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b de cytopé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1977480" y="1128240"/>
            <a:ext cx="5188680" cy="1737000"/>
            <a:chOff x="1977480" y="1128240"/>
            <a:chExt cx="5188680" cy="1737000"/>
          </a:xfrm>
        </p:grpSpPr>
        <p:cxnSp>
          <p:nvCxnSpPr>
            <p:cNvPr id="63" name="_s63499"/>
            <p:cNvCxnSpPr>
              <a:stCxn id="64" idx="0"/>
              <a:endCxn id="65" idx="2"/>
            </p:cNvCxnSpPr>
            <p:nvPr/>
          </p:nvCxnSpPr>
          <p:spPr>
            <a:xfrm flipV="1" rot="16200000">
              <a:off x="6137280" y="1989360"/>
              <a:ext cx="218160" cy="66960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" name="_s63500"/>
            <p:cNvCxnSpPr>
              <a:stCxn id="67" idx="0"/>
              <a:endCxn id="65" idx="2"/>
            </p:cNvCxnSpPr>
            <p:nvPr/>
          </p:nvCxnSpPr>
          <p:spPr>
            <a:xfrm flipH="1" flipV="1" rot="5400000">
              <a:off x="5467680" y="1989360"/>
              <a:ext cx="218160" cy="67032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" name="_s63501"/>
            <p:cNvCxnSpPr>
              <a:stCxn id="69" idx="0"/>
              <a:endCxn id="70" idx="2"/>
            </p:cNvCxnSpPr>
            <p:nvPr/>
          </p:nvCxnSpPr>
          <p:spPr>
            <a:xfrm flipV="1" rot="16200000">
              <a:off x="3458880" y="1989000"/>
              <a:ext cx="218160" cy="67032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" name="_s63502"/>
            <p:cNvCxnSpPr>
              <a:stCxn id="72" idx="0"/>
              <a:endCxn id="70" idx="2"/>
            </p:cNvCxnSpPr>
            <p:nvPr/>
          </p:nvCxnSpPr>
          <p:spPr>
            <a:xfrm flipH="1" flipV="1" rot="5400000">
              <a:off x="2788920" y="1989360"/>
              <a:ext cx="218160" cy="67032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" name="_s63503"/>
            <p:cNvCxnSpPr>
              <a:stCxn id="65" idx="0"/>
              <a:endCxn id="74" idx="2"/>
            </p:cNvCxnSpPr>
            <p:nvPr/>
          </p:nvCxnSpPr>
          <p:spPr>
            <a:xfrm flipV="1" rot="16200000">
              <a:off x="5133240" y="1002240"/>
              <a:ext cx="218160" cy="133920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" name="_s63505"/>
            <p:cNvCxnSpPr>
              <a:stCxn id="70" idx="0"/>
              <a:endCxn id="74" idx="2"/>
            </p:cNvCxnSpPr>
            <p:nvPr/>
          </p:nvCxnSpPr>
          <p:spPr>
            <a:xfrm flipH="1" flipV="1" rot="5400000">
              <a:off x="3793680" y="1001880"/>
              <a:ext cx="218160" cy="134028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4" name="_s63506"/>
            <p:cNvSpPr/>
            <p:nvPr/>
          </p:nvSpPr>
          <p:spPr>
            <a:xfrm>
              <a:off x="4074840" y="1128240"/>
              <a:ext cx="99504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520" rIns="2952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VG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63507"/>
            <p:cNvSpPr/>
            <p:nvPr/>
          </p:nvSpPr>
          <p:spPr>
            <a:xfrm>
              <a:off x="2392560" y="1780920"/>
              <a:ext cx="168120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520" rIns="2952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icro=F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63509"/>
            <p:cNvSpPr/>
            <p:nvPr/>
          </p:nvSpPr>
          <p:spPr>
            <a:xfrm>
              <a:off x="5070240" y="1780920"/>
              <a:ext cx="168084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520" rIns="2952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Macro=folates+B12+m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63510"/>
            <p:cNvSpPr/>
            <p:nvPr/>
          </p:nvSpPr>
          <p:spPr>
            <a:xfrm>
              <a:off x="1977480" y="2433600"/>
              <a:ext cx="1172520" cy="43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are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63511"/>
            <p:cNvSpPr/>
            <p:nvPr/>
          </p:nvSpPr>
          <p:spPr>
            <a:xfrm>
              <a:off x="3316320" y="2433600"/>
              <a:ext cx="1172520" cy="43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flamm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63512"/>
            <p:cNvSpPr/>
            <p:nvPr/>
          </p:nvSpPr>
          <p:spPr>
            <a:xfrm>
              <a:off x="4654800" y="2433600"/>
              <a:ext cx="1172520" cy="43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aren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63513"/>
            <p:cNvSpPr/>
            <p:nvPr/>
          </p:nvSpPr>
          <p:spPr>
            <a:xfrm>
              <a:off x="5993640" y="2433600"/>
              <a:ext cx="1172520" cy="43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myélodysplasi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cccc"/>
                </a:solidFill>
                <a:latin typeface="Arial"/>
              </a:rPr>
              <a:t>Syndromes myélodysplasiques</a:t>
            </a:r>
            <a:br>
              <a:rPr sz="4000"/>
            </a:br>
            <a:r>
              <a:rPr b="0" lang="fr-FR" sz="4000" spc="-1" strike="noStrike" u="sng">
                <a:solidFill>
                  <a:srgbClr val="33cccc"/>
                </a:solidFill>
                <a:uFillTx/>
                <a:latin typeface="Arial"/>
              </a:rPr>
              <a:t>trai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ympto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lytransfu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élation du f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desféral pour éviter hémochromatose transfusionne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lon le prono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ivi virolo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fections,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itement de fon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jet jeune, forme gr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drogè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cccc"/>
                </a:solidFill>
                <a:latin typeface="Arial"/>
              </a:rPr>
              <a:t>Syndromes myélodysplasiques</a:t>
            </a:r>
            <a:br>
              <a:rPr sz="4000"/>
            </a:br>
            <a:r>
              <a:rPr b="0" lang="fr-FR" sz="3600" spc="-1" strike="noStrike" u="sng">
                <a:solidFill>
                  <a:srgbClr val="33cccc"/>
                </a:solidFill>
                <a:uFillTx/>
                <a:latin typeface="Arial"/>
              </a:rPr>
              <a:t>exception: leucémie myélo-monocytaire chron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éfaut de maturation monocytaire s’accompagne d’une modification d’affinité d’u récepteur aux cytokines (schématiq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syndrome myélodyspla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 une prolifération de mon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nocytose excessive ds sg et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plénomégalie, hépatoméga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iteme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d autres myélodysplas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fois myélofreinateurs en 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Leucémie lymphoïde chroniqu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lifération médullaire maligne de lymphocytes B matures responsable d’une hyperlymphocy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gé (&gt;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Leucémie lymphoïde chronique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I </a:t>
            </a: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Cli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li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sympto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dénopathies, splénomégalie, hépatomégal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émie thrombopé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NFS souvent révél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b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avec taux absolu de lymphocytes &gt;4000/m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lq H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ormal 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suffisance médul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to 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ypersplén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Leucémie lymphoïde chronique</a:t>
            </a:r>
            <a:br>
              <a:rPr sz="4000"/>
            </a:b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II Diagnos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mmunophénotypage CD19+ CD5+ CD2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yélogramme: inu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utres examens (bilan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lectrophorèse Protéines Sériqu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Hypogamma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déficit immunité humo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g monocl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est de coombs 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Leucémie lymphoïde chronique</a:t>
            </a:r>
            <a:br>
              <a:rPr sz="4000"/>
            </a:b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III Evolution, </a:t>
            </a:r>
            <a:r>
              <a:rPr b="0" i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a) co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topé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émies thrombopé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ale périphé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res can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formation en LNH agressif: Ri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Leucémie lymphoïde chronique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III Evolution, </a:t>
            </a:r>
            <a:r>
              <a:rPr b="0" i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b) pronos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lassification de Bi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 Sites; cou, 2 aisselles, 2 aines, foie,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ade A: 0 à 2 sit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b&gt;10g/d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lq&gt;100x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ade B: &gt;2 sit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Hb&gt;10g/d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lq&gt;100x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ade C: 0 à 5 sit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Hb&lt;10g/dl ou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lq&lt;100x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u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ytogén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D38, Mutations V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Leucémie lymphoïde chronique</a:t>
            </a:r>
            <a:br>
              <a:rPr sz="4000"/>
            </a:b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IV Trai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raitement de fond: selon stade  &amp;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: abs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olychimio: miniC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ludarabine + au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: selon autres facteurs pronostiqu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utres possibilité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MO, rituxima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raitement des co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némie thrombopénie autoimm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Myélome multiple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é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lifération maligne médullaire de cellules plasmocyta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esponsables d’une sécrétion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’une excrétion excessive d’une forme complète ou non d’une immunoglobuline monoclona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vec abaissement dela production des classes normales d’immunoglobu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Monoclonal</a:t>
            </a:r>
            <a:r>
              <a:rPr b="1" lang="en-US" sz="4400" spc="-1" strike="noStrike">
                <a:solidFill>
                  <a:srgbClr val="bbe0e3"/>
                </a:solidFill>
                <a:latin typeface="Arial"/>
              </a:rPr>
              <a:t>=Ma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3886200"/>
            <a:ext cx="1066680" cy="6858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93600" y="4268880"/>
            <a:ext cx="381240" cy="27936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679400" y="4192560"/>
            <a:ext cx="381240" cy="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4278600">
            <a:off x="2361600" y="3808080"/>
            <a:ext cx="60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89040" y="4116240"/>
            <a:ext cx="1066680" cy="6858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46240" y="4344840"/>
            <a:ext cx="380880" cy="27972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832040" y="4344840"/>
            <a:ext cx="380880" cy="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4278600">
            <a:off x="2246760" y="40759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41320" y="4268880"/>
            <a:ext cx="1066680" cy="6858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298520" y="4497480"/>
            <a:ext cx="380880" cy="27936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84320" y="4497480"/>
            <a:ext cx="380880" cy="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4278600">
            <a:off x="2398680" y="41518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93600" y="4421160"/>
            <a:ext cx="1067040" cy="6858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50800" y="4649760"/>
            <a:ext cx="381240" cy="27936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136600" y="4649760"/>
            <a:ext cx="381240" cy="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4278600">
            <a:off x="2551320" y="4304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46240" y="4573440"/>
            <a:ext cx="1066680" cy="6858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03440" y="4802040"/>
            <a:ext cx="380880" cy="27972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89240" y="4802040"/>
            <a:ext cx="380880" cy="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4278600">
            <a:off x="2703600" y="44568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26920" y="5300640"/>
            <a:ext cx="1067040" cy="685800"/>
          </a:xfrm>
          <a:prstGeom prst="ellipse">
            <a:avLst/>
          </a:prstGeom>
          <a:noFill/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284120" y="5529240"/>
            <a:ext cx="381240" cy="279360"/>
          </a:xfrm>
          <a:prstGeom prst="ellipse">
            <a:avLst/>
          </a:prstGeom>
          <a:noFill/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969920" y="5529240"/>
            <a:ext cx="381240" cy="0"/>
          </a:xfrm>
          <a:prstGeom prst="line">
            <a:avLst/>
          </a:prstGeom>
          <a:ln w="572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4278600">
            <a:off x="2523960" y="50425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00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24360" y="5229360"/>
            <a:ext cx="1067040" cy="685800"/>
          </a:xfrm>
          <a:prstGeom prst="ellipse">
            <a:avLst/>
          </a:prstGeom>
          <a:noFill/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88040" y="5460840"/>
            <a:ext cx="380880" cy="279720"/>
          </a:xfrm>
          <a:prstGeom prst="ellipse">
            <a:avLst/>
          </a:prstGeom>
          <a:noFill/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873840" y="5460840"/>
            <a:ext cx="380880" cy="0"/>
          </a:xfrm>
          <a:prstGeom prst="line">
            <a:avLst/>
          </a:prstGeom>
          <a:ln w="572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4278600">
            <a:off x="7277040" y="50425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00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2133720"/>
            <a:ext cx="1067040" cy="68580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38080" y="2362320"/>
            <a:ext cx="381240" cy="27936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523880" y="2362320"/>
            <a:ext cx="381240" cy="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4278600">
            <a:off x="1932120" y="20134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3520" y="3124080"/>
            <a:ext cx="1066680" cy="685800"/>
          </a:xfrm>
          <a:prstGeom prst="ellipse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90720" y="3505320"/>
            <a:ext cx="380880" cy="279360"/>
          </a:xfrm>
          <a:prstGeom prst="ellipse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676520" y="3505320"/>
            <a:ext cx="38088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4278600">
            <a:off x="2084400" y="31564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1219320"/>
            <a:ext cx="1067040" cy="685800"/>
          </a:xfrm>
          <a:prstGeom prst="ellipse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38080" y="1447920"/>
            <a:ext cx="381240" cy="279360"/>
          </a:xfrm>
          <a:prstGeom prst="ellipse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523880" y="1447920"/>
            <a:ext cx="38124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4278600">
            <a:off x="1932120" y="10990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562720" y="2438280"/>
            <a:ext cx="1066680" cy="68580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019920" y="2666880"/>
            <a:ext cx="380880" cy="27936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4278600">
            <a:off x="7113600" y="23184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15000" y="3581280"/>
            <a:ext cx="1066680" cy="685800"/>
          </a:xfrm>
          <a:prstGeom prst="ellipse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72200" y="3809880"/>
            <a:ext cx="380880" cy="279360"/>
          </a:xfrm>
          <a:prstGeom prst="ellipse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0" y="3809880"/>
            <a:ext cx="38088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4278600">
            <a:off x="7265880" y="34614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62720" y="1523880"/>
            <a:ext cx="1066680" cy="685800"/>
          </a:xfrm>
          <a:prstGeom prst="ellipse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19920" y="1752480"/>
            <a:ext cx="380880" cy="279360"/>
          </a:xfrm>
          <a:prstGeom prst="ellipse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705720" y="1752480"/>
            <a:ext cx="38088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4278600">
            <a:off x="7113600" y="14040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499000" y="4502160"/>
            <a:ext cx="1067040" cy="6858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956200" y="4730760"/>
            <a:ext cx="381240" cy="27936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42000" y="4730760"/>
            <a:ext cx="381240" cy="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4278600">
            <a:off x="7047000" y="43804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05320" y="1143000"/>
            <a:ext cx="761760" cy="4518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001000" y="1219320"/>
            <a:ext cx="762120" cy="451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581280" y="1447920"/>
            <a:ext cx="533520" cy="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153280" y="1676520"/>
            <a:ext cx="533520" cy="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657600" y="2362320"/>
            <a:ext cx="53352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77320" y="2590920"/>
            <a:ext cx="5331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3505320"/>
            <a:ext cx="533520" cy="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53280" y="3657600"/>
            <a:ext cx="533520" cy="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64000" y="5516640"/>
            <a:ext cx="533160" cy="0"/>
          </a:xfrm>
          <a:prstGeom prst="line">
            <a:avLst/>
          </a:prstGeom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101080" y="5589720"/>
            <a:ext cx="533160" cy="0"/>
          </a:xfrm>
          <a:prstGeom prst="line">
            <a:avLst/>
          </a:prstGeom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077320" y="4724280"/>
            <a:ext cx="533160" cy="0"/>
          </a:xfrm>
          <a:prstGeom prst="line">
            <a:avLst/>
          </a:prstGeom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581280" y="4267080"/>
            <a:ext cx="533520" cy="0"/>
          </a:xfrm>
          <a:prstGeom prst="line">
            <a:avLst/>
          </a:prstGeom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4343400"/>
            <a:ext cx="533520" cy="0"/>
          </a:xfrm>
          <a:prstGeom prst="line">
            <a:avLst/>
          </a:prstGeom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581280" y="4419720"/>
            <a:ext cx="533520" cy="0"/>
          </a:xfrm>
          <a:prstGeom prst="line">
            <a:avLst/>
          </a:prstGeom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4495680"/>
            <a:ext cx="533520" cy="0"/>
          </a:xfrm>
          <a:prstGeom prst="line">
            <a:avLst/>
          </a:prstGeom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581280" y="4572000"/>
            <a:ext cx="533520" cy="0"/>
          </a:xfrm>
          <a:prstGeom prst="line">
            <a:avLst/>
          </a:prstGeom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581280" y="4648320"/>
            <a:ext cx="533520" cy="0"/>
          </a:xfrm>
          <a:prstGeom prst="line">
            <a:avLst/>
          </a:prstGeom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4724280"/>
            <a:ext cx="533520" cy="0"/>
          </a:xfrm>
          <a:prstGeom prst="line">
            <a:avLst/>
          </a:prstGeom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048120" y="3886200"/>
            <a:ext cx="1676160" cy="1447920"/>
          </a:xfrm>
          <a:prstGeom prst="ellipse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948360" y="5734080"/>
            <a:ext cx="1157400" cy="893880"/>
          </a:xfrm>
          <a:custGeom>
            <a:avLst/>
            <a:gdLst/>
            <a:ahLst/>
            <a:rect l="l" t="t" r="r" b="b"/>
            <a:pathLst>
              <a:path w="1783" h="1070">
                <a:moveTo>
                  <a:pt x="0" y="1033"/>
                </a:moveTo>
                <a:cubicBezTo>
                  <a:pt x="24" y="1030"/>
                  <a:pt x="52" y="1037"/>
                  <a:pt x="73" y="1024"/>
                </a:cubicBezTo>
                <a:cubicBezTo>
                  <a:pt x="149" y="975"/>
                  <a:pt x="131" y="888"/>
                  <a:pt x="146" y="814"/>
                </a:cubicBezTo>
                <a:cubicBezTo>
                  <a:pt x="164" y="582"/>
                  <a:pt x="178" y="351"/>
                  <a:pt x="192" y="119"/>
                </a:cubicBezTo>
                <a:cubicBezTo>
                  <a:pt x="196" y="54"/>
                  <a:pt x="222" y="15"/>
                  <a:pt x="283" y="0"/>
                </a:cubicBezTo>
                <a:cubicBezTo>
                  <a:pt x="298" y="3"/>
                  <a:pt x="316" y="0"/>
                  <a:pt x="329" y="9"/>
                </a:cubicBezTo>
                <a:cubicBezTo>
                  <a:pt x="347" y="21"/>
                  <a:pt x="341" y="52"/>
                  <a:pt x="347" y="73"/>
                </a:cubicBezTo>
                <a:cubicBezTo>
                  <a:pt x="362" y="125"/>
                  <a:pt x="376" y="177"/>
                  <a:pt x="393" y="229"/>
                </a:cubicBezTo>
                <a:cubicBezTo>
                  <a:pt x="397" y="241"/>
                  <a:pt x="398" y="253"/>
                  <a:pt x="402" y="265"/>
                </a:cubicBezTo>
                <a:cubicBezTo>
                  <a:pt x="407" y="283"/>
                  <a:pt x="420" y="320"/>
                  <a:pt x="420" y="320"/>
                </a:cubicBezTo>
                <a:cubicBezTo>
                  <a:pt x="427" y="444"/>
                  <a:pt x="431" y="571"/>
                  <a:pt x="448" y="695"/>
                </a:cubicBezTo>
                <a:cubicBezTo>
                  <a:pt x="456" y="749"/>
                  <a:pt x="474" y="805"/>
                  <a:pt x="484" y="859"/>
                </a:cubicBezTo>
                <a:cubicBezTo>
                  <a:pt x="492" y="905"/>
                  <a:pt x="512" y="981"/>
                  <a:pt x="557" y="1006"/>
                </a:cubicBezTo>
                <a:cubicBezTo>
                  <a:pt x="574" y="1015"/>
                  <a:pt x="612" y="1024"/>
                  <a:pt x="612" y="1024"/>
                </a:cubicBezTo>
                <a:cubicBezTo>
                  <a:pt x="663" y="987"/>
                  <a:pt x="642" y="1014"/>
                  <a:pt x="658" y="960"/>
                </a:cubicBezTo>
                <a:cubicBezTo>
                  <a:pt x="663" y="941"/>
                  <a:pt x="658" y="911"/>
                  <a:pt x="676" y="905"/>
                </a:cubicBezTo>
                <a:cubicBezTo>
                  <a:pt x="694" y="899"/>
                  <a:pt x="731" y="887"/>
                  <a:pt x="731" y="887"/>
                </a:cubicBezTo>
                <a:cubicBezTo>
                  <a:pt x="749" y="890"/>
                  <a:pt x="772" y="884"/>
                  <a:pt x="786" y="896"/>
                </a:cubicBezTo>
                <a:cubicBezTo>
                  <a:pt x="801" y="909"/>
                  <a:pt x="798" y="933"/>
                  <a:pt x="804" y="951"/>
                </a:cubicBezTo>
                <a:cubicBezTo>
                  <a:pt x="816" y="988"/>
                  <a:pt x="808" y="971"/>
                  <a:pt x="832" y="1006"/>
                </a:cubicBezTo>
                <a:cubicBezTo>
                  <a:pt x="837" y="1021"/>
                  <a:pt x="842" y="1066"/>
                  <a:pt x="877" y="1024"/>
                </a:cubicBezTo>
                <a:cubicBezTo>
                  <a:pt x="887" y="1012"/>
                  <a:pt x="879" y="991"/>
                  <a:pt x="887" y="978"/>
                </a:cubicBezTo>
                <a:cubicBezTo>
                  <a:pt x="907" y="945"/>
                  <a:pt x="936" y="917"/>
                  <a:pt x="960" y="887"/>
                </a:cubicBezTo>
                <a:cubicBezTo>
                  <a:pt x="981" y="890"/>
                  <a:pt x="1004" y="887"/>
                  <a:pt x="1024" y="896"/>
                </a:cubicBezTo>
                <a:cubicBezTo>
                  <a:pt x="1041" y="903"/>
                  <a:pt x="1045" y="938"/>
                  <a:pt x="1051" y="951"/>
                </a:cubicBezTo>
                <a:cubicBezTo>
                  <a:pt x="1077" y="1003"/>
                  <a:pt x="1095" y="1040"/>
                  <a:pt x="1152" y="1061"/>
                </a:cubicBezTo>
                <a:cubicBezTo>
                  <a:pt x="1173" y="1058"/>
                  <a:pt x="1196" y="1060"/>
                  <a:pt x="1216" y="1051"/>
                </a:cubicBezTo>
                <a:cubicBezTo>
                  <a:pt x="1228" y="1046"/>
                  <a:pt x="1267" y="980"/>
                  <a:pt x="1280" y="969"/>
                </a:cubicBezTo>
                <a:cubicBezTo>
                  <a:pt x="1313" y="941"/>
                  <a:pt x="1358" y="918"/>
                  <a:pt x="1399" y="905"/>
                </a:cubicBezTo>
                <a:cubicBezTo>
                  <a:pt x="1590" y="916"/>
                  <a:pt x="1510" y="893"/>
                  <a:pt x="1600" y="951"/>
                </a:cubicBezTo>
                <a:cubicBezTo>
                  <a:pt x="1621" y="983"/>
                  <a:pt x="1637" y="994"/>
                  <a:pt x="1673" y="1006"/>
                </a:cubicBezTo>
                <a:cubicBezTo>
                  <a:pt x="1707" y="1031"/>
                  <a:pt x="1738" y="1070"/>
                  <a:pt x="1783" y="10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843280" y="5661000"/>
            <a:ext cx="1157400" cy="893880"/>
          </a:xfrm>
          <a:custGeom>
            <a:avLst/>
            <a:gdLst/>
            <a:ahLst/>
            <a:rect l="l" t="t" r="r" b="b"/>
            <a:pathLst>
              <a:path w="1783" h="1070">
                <a:moveTo>
                  <a:pt x="0" y="1033"/>
                </a:moveTo>
                <a:cubicBezTo>
                  <a:pt x="24" y="1030"/>
                  <a:pt x="52" y="1037"/>
                  <a:pt x="73" y="1024"/>
                </a:cubicBezTo>
                <a:cubicBezTo>
                  <a:pt x="149" y="975"/>
                  <a:pt x="131" y="888"/>
                  <a:pt x="146" y="814"/>
                </a:cubicBezTo>
                <a:cubicBezTo>
                  <a:pt x="164" y="582"/>
                  <a:pt x="178" y="351"/>
                  <a:pt x="192" y="119"/>
                </a:cubicBezTo>
                <a:cubicBezTo>
                  <a:pt x="196" y="54"/>
                  <a:pt x="222" y="15"/>
                  <a:pt x="283" y="0"/>
                </a:cubicBezTo>
                <a:cubicBezTo>
                  <a:pt x="298" y="3"/>
                  <a:pt x="316" y="0"/>
                  <a:pt x="329" y="9"/>
                </a:cubicBezTo>
                <a:cubicBezTo>
                  <a:pt x="347" y="21"/>
                  <a:pt x="341" y="52"/>
                  <a:pt x="347" y="73"/>
                </a:cubicBezTo>
                <a:cubicBezTo>
                  <a:pt x="362" y="125"/>
                  <a:pt x="376" y="177"/>
                  <a:pt x="393" y="229"/>
                </a:cubicBezTo>
                <a:cubicBezTo>
                  <a:pt x="397" y="241"/>
                  <a:pt x="398" y="253"/>
                  <a:pt x="402" y="265"/>
                </a:cubicBezTo>
                <a:cubicBezTo>
                  <a:pt x="407" y="283"/>
                  <a:pt x="420" y="320"/>
                  <a:pt x="420" y="320"/>
                </a:cubicBezTo>
                <a:cubicBezTo>
                  <a:pt x="427" y="444"/>
                  <a:pt x="431" y="571"/>
                  <a:pt x="448" y="695"/>
                </a:cubicBezTo>
                <a:cubicBezTo>
                  <a:pt x="456" y="749"/>
                  <a:pt x="474" y="805"/>
                  <a:pt x="484" y="859"/>
                </a:cubicBezTo>
                <a:cubicBezTo>
                  <a:pt x="492" y="905"/>
                  <a:pt x="512" y="981"/>
                  <a:pt x="557" y="1006"/>
                </a:cubicBezTo>
                <a:cubicBezTo>
                  <a:pt x="574" y="1015"/>
                  <a:pt x="612" y="1024"/>
                  <a:pt x="612" y="1024"/>
                </a:cubicBezTo>
                <a:cubicBezTo>
                  <a:pt x="663" y="987"/>
                  <a:pt x="642" y="1014"/>
                  <a:pt x="658" y="960"/>
                </a:cubicBezTo>
                <a:cubicBezTo>
                  <a:pt x="663" y="941"/>
                  <a:pt x="658" y="911"/>
                  <a:pt x="676" y="905"/>
                </a:cubicBezTo>
                <a:cubicBezTo>
                  <a:pt x="694" y="899"/>
                  <a:pt x="731" y="887"/>
                  <a:pt x="731" y="887"/>
                </a:cubicBezTo>
                <a:cubicBezTo>
                  <a:pt x="749" y="890"/>
                  <a:pt x="772" y="884"/>
                  <a:pt x="786" y="896"/>
                </a:cubicBezTo>
                <a:cubicBezTo>
                  <a:pt x="801" y="909"/>
                  <a:pt x="798" y="933"/>
                  <a:pt x="804" y="951"/>
                </a:cubicBezTo>
                <a:cubicBezTo>
                  <a:pt x="816" y="988"/>
                  <a:pt x="808" y="971"/>
                  <a:pt x="832" y="1006"/>
                </a:cubicBezTo>
                <a:cubicBezTo>
                  <a:pt x="837" y="1021"/>
                  <a:pt x="842" y="1066"/>
                  <a:pt x="877" y="1024"/>
                </a:cubicBezTo>
                <a:cubicBezTo>
                  <a:pt x="887" y="1012"/>
                  <a:pt x="879" y="991"/>
                  <a:pt x="887" y="978"/>
                </a:cubicBezTo>
                <a:cubicBezTo>
                  <a:pt x="907" y="945"/>
                  <a:pt x="936" y="917"/>
                  <a:pt x="960" y="887"/>
                </a:cubicBezTo>
                <a:cubicBezTo>
                  <a:pt x="981" y="890"/>
                  <a:pt x="1004" y="887"/>
                  <a:pt x="1024" y="896"/>
                </a:cubicBezTo>
                <a:cubicBezTo>
                  <a:pt x="1041" y="903"/>
                  <a:pt x="1045" y="938"/>
                  <a:pt x="1051" y="951"/>
                </a:cubicBezTo>
                <a:cubicBezTo>
                  <a:pt x="1077" y="1003"/>
                  <a:pt x="1095" y="1040"/>
                  <a:pt x="1152" y="1061"/>
                </a:cubicBezTo>
                <a:cubicBezTo>
                  <a:pt x="1173" y="1058"/>
                  <a:pt x="1196" y="1060"/>
                  <a:pt x="1216" y="1051"/>
                </a:cubicBezTo>
                <a:cubicBezTo>
                  <a:pt x="1228" y="1046"/>
                  <a:pt x="1267" y="980"/>
                  <a:pt x="1280" y="969"/>
                </a:cubicBezTo>
                <a:cubicBezTo>
                  <a:pt x="1313" y="941"/>
                  <a:pt x="1358" y="918"/>
                  <a:pt x="1399" y="905"/>
                </a:cubicBezTo>
                <a:cubicBezTo>
                  <a:pt x="1590" y="916"/>
                  <a:pt x="1510" y="893"/>
                  <a:pt x="1600" y="951"/>
                </a:cubicBezTo>
                <a:cubicBezTo>
                  <a:pt x="1621" y="983"/>
                  <a:pt x="1637" y="994"/>
                  <a:pt x="1673" y="1006"/>
                </a:cubicBezTo>
                <a:cubicBezTo>
                  <a:pt x="1707" y="1031"/>
                  <a:pt x="1738" y="1070"/>
                  <a:pt x="1783" y="10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86040" y="5894280"/>
            <a:ext cx="233640" cy="738360"/>
          </a:xfrm>
          <a:custGeom>
            <a:avLst/>
            <a:gdLst/>
            <a:ahLst/>
            <a:rect l="l" t="t" r="r" b="b"/>
            <a:pathLst>
              <a:path w="147" h="465">
                <a:moveTo>
                  <a:pt x="0" y="465"/>
                </a:moveTo>
                <a:cubicBezTo>
                  <a:pt x="22" y="376"/>
                  <a:pt x="18" y="287"/>
                  <a:pt x="46" y="200"/>
                </a:cubicBezTo>
                <a:cubicBezTo>
                  <a:pt x="49" y="160"/>
                  <a:pt x="51" y="121"/>
                  <a:pt x="55" y="81"/>
                </a:cubicBezTo>
                <a:cubicBezTo>
                  <a:pt x="57" y="57"/>
                  <a:pt x="52" y="29"/>
                  <a:pt x="64" y="8"/>
                </a:cubicBezTo>
                <a:cubicBezTo>
                  <a:pt x="69" y="0"/>
                  <a:pt x="83" y="14"/>
                  <a:pt x="92" y="17"/>
                </a:cubicBezTo>
                <a:cubicBezTo>
                  <a:pt x="95" y="136"/>
                  <a:pt x="96" y="255"/>
                  <a:pt x="101" y="374"/>
                </a:cubicBezTo>
                <a:cubicBezTo>
                  <a:pt x="103" y="413"/>
                  <a:pt x="113" y="440"/>
                  <a:pt x="147" y="456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500720" y="5157720"/>
            <a:ext cx="431640" cy="1152720"/>
          </a:xfrm>
          <a:custGeom>
            <a:avLst/>
            <a:gdLst>
              <a:gd name="textAreaLeft" fmla="*/ 57600 w 431640"/>
              <a:gd name="textAreaRight" fmla="*/ 374040 w 43164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0" y="1128240"/>
            <a:ext cx="9144000" cy="3690000"/>
            <a:chOff x="0" y="1128240"/>
            <a:chExt cx="9144000" cy="3690000"/>
          </a:xfrm>
        </p:grpSpPr>
        <p:cxnSp>
          <p:nvCxnSpPr>
            <p:cNvPr id="77" name="_s67588"/>
            <p:cNvCxnSpPr>
              <a:stCxn id="78" idx="1"/>
              <a:endCxn id="79" idx="2"/>
            </p:cNvCxnSpPr>
            <p:nvPr/>
          </p:nvCxnSpPr>
          <p:spPr>
            <a:xfrm rot="10800000">
              <a:off x="5078880" y="3518640"/>
              <a:ext cx="176760" cy="1085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" name="_s67589"/>
            <p:cNvCxnSpPr>
              <a:stCxn id="81" idx="1"/>
              <a:endCxn id="79" idx="2"/>
            </p:cNvCxnSpPr>
            <p:nvPr/>
          </p:nvCxnSpPr>
          <p:spPr>
            <a:xfrm rot="10800000">
              <a:off x="5078880" y="3518640"/>
              <a:ext cx="176760" cy="434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" name="_s67590"/>
            <p:cNvCxnSpPr>
              <a:stCxn id="79" idx="1"/>
              <a:endCxn id="83" idx="2"/>
            </p:cNvCxnSpPr>
            <p:nvPr/>
          </p:nvCxnSpPr>
          <p:spPr>
            <a:xfrm rot="10800000">
              <a:off x="4375800" y="2867760"/>
              <a:ext cx="175320" cy="435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" name="_s67591"/>
            <p:cNvCxnSpPr>
              <a:stCxn id="83" idx="0"/>
              <a:endCxn id="85" idx="2"/>
            </p:cNvCxnSpPr>
            <p:nvPr/>
          </p:nvCxnSpPr>
          <p:spPr>
            <a:xfrm flipH="1" flipV="1" rot="5400000">
              <a:off x="4807800" y="1783440"/>
              <a:ext cx="218160" cy="108180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" name="_s67592"/>
            <p:cNvCxnSpPr>
              <a:stCxn id="87" idx="0"/>
              <a:endCxn id="88" idx="2"/>
            </p:cNvCxnSpPr>
            <p:nvPr/>
          </p:nvCxnSpPr>
          <p:spPr>
            <a:xfrm flipV="1" rot="16200000">
              <a:off x="7783560" y="1877760"/>
              <a:ext cx="218160" cy="89316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" name="_s67593"/>
            <p:cNvCxnSpPr>
              <a:stCxn id="90" idx="0"/>
              <a:endCxn id="88" idx="2"/>
            </p:cNvCxnSpPr>
            <p:nvPr/>
          </p:nvCxnSpPr>
          <p:spPr>
            <a:xfrm flipH="1" flipV="1" rot="5400000">
              <a:off x="6891480" y="1878480"/>
              <a:ext cx="218160" cy="89208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67594"/>
            <p:cNvCxnSpPr>
              <a:stCxn id="92" idx="0"/>
              <a:endCxn id="93" idx="2"/>
            </p:cNvCxnSpPr>
            <p:nvPr/>
          </p:nvCxnSpPr>
          <p:spPr>
            <a:xfrm flipV="1" rot="16200000">
              <a:off x="2034720" y="1877040"/>
              <a:ext cx="218160" cy="89460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4" name="_s67595"/>
            <p:cNvCxnSpPr>
              <a:stCxn id="95" idx="0"/>
              <a:endCxn id="93" idx="2"/>
            </p:cNvCxnSpPr>
            <p:nvPr/>
          </p:nvCxnSpPr>
          <p:spPr>
            <a:xfrm flipH="1" flipV="1" rot="5400000">
              <a:off x="1141560" y="1877760"/>
              <a:ext cx="218160" cy="89352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6" name="_s67596"/>
            <p:cNvCxnSpPr>
              <a:stCxn id="88" idx="0"/>
              <a:endCxn id="97" idx="2"/>
            </p:cNvCxnSpPr>
            <p:nvPr/>
          </p:nvCxnSpPr>
          <p:spPr>
            <a:xfrm flipV="1" rot="16200000">
              <a:off x="5900040" y="234720"/>
              <a:ext cx="218160" cy="287460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" name="_s67597"/>
            <p:cNvCxnSpPr>
              <a:stCxn id="85" idx="0"/>
              <a:endCxn id="97" idx="2"/>
            </p:cNvCxnSpPr>
            <p:nvPr/>
          </p:nvCxnSpPr>
          <p:spPr>
            <a:xfrm flipV="1" rot="16200000">
              <a:off x="4905720" y="1229040"/>
              <a:ext cx="218160" cy="88596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9" name="_s67598"/>
            <p:cNvCxnSpPr>
              <a:stCxn id="93" idx="0"/>
              <a:endCxn id="97" idx="2"/>
            </p:cNvCxnSpPr>
            <p:nvPr/>
          </p:nvCxnSpPr>
          <p:spPr>
            <a:xfrm flipH="1" flipV="1" rot="5400000">
              <a:off x="3025440" y="234360"/>
              <a:ext cx="218160" cy="287532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7" name="_s67599"/>
            <p:cNvSpPr/>
            <p:nvPr/>
          </p:nvSpPr>
          <p:spPr>
            <a:xfrm>
              <a:off x="4043520" y="1128240"/>
              <a:ext cx="105660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20" rIns="3132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G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67600"/>
            <p:cNvSpPr/>
            <p:nvPr/>
          </p:nvSpPr>
          <p:spPr>
            <a:xfrm>
              <a:off x="790920" y="1780920"/>
              <a:ext cx="181224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20" rIns="3132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ro=F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67601"/>
            <p:cNvSpPr/>
            <p:nvPr/>
          </p:nvSpPr>
          <p:spPr>
            <a:xfrm>
              <a:off x="4551480" y="1780920"/>
              <a:ext cx="181224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20" rIns="3132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rm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67602"/>
            <p:cNvSpPr/>
            <p:nvPr/>
          </p:nvSpPr>
          <p:spPr>
            <a:xfrm>
              <a:off x="6540480" y="1780920"/>
              <a:ext cx="181224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20" rIns="3132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acro=folates+B12+m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67603"/>
            <p:cNvSpPr/>
            <p:nvPr/>
          </p:nvSpPr>
          <p:spPr>
            <a:xfrm>
              <a:off x="0" y="2433600"/>
              <a:ext cx="160920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720" rIns="3672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67604"/>
            <p:cNvSpPr/>
            <p:nvPr/>
          </p:nvSpPr>
          <p:spPr>
            <a:xfrm>
              <a:off x="1785600" y="2433600"/>
              <a:ext cx="160884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720" rIns="3672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lam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67605"/>
            <p:cNvSpPr/>
            <p:nvPr/>
          </p:nvSpPr>
          <p:spPr>
            <a:xfrm>
              <a:off x="5749200" y="2433600"/>
              <a:ext cx="160884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en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67606"/>
            <p:cNvSpPr/>
            <p:nvPr/>
          </p:nvSpPr>
          <p:spPr>
            <a:xfrm>
              <a:off x="7534800" y="2433600"/>
              <a:ext cx="160920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yélodysplas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67607"/>
            <p:cNvSpPr/>
            <p:nvPr/>
          </p:nvSpPr>
          <p:spPr>
            <a:xfrm>
              <a:off x="3570840" y="2433600"/>
              <a:ext cx="161028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rétic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67608"/>
            <p:cNvSpPr/>
            <p:nvPr/>
          </p:nvSpPr>
          <p:spPr>
            <a:xfrm>
              <a:off x="4551480" y="3085920"/>
              <a:ext cx="1056600" cy="433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67609"/>
            <p:cNvSpPr/>
            <p:nvPr/>
          </p:nvSpPr>
          <p:spPr>
            <a:xfrm>
              <a:off x="5256000" y="3736800"/>
              <a:ext cx="1196280" cy="43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émoly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67610"/>
            <p:cNvSpPr/>
            <p:nvPr/>
          </p:nvSpPr>
          <p:spPr>
            <a:xfrm>
              <a:off x="5256000" y="4386240"/>
              <a:ext cx="1196280" cy="432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émorra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Myélome multiple</a:t>
            </a:r>
            <a:br>
              <a:rPr sz="4000"/>
            </a:b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I cli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ujet « agé »: médiane 60 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irconstances de découv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uleurs osse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tération de l ’état géné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rtuite: Vs augment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Myélome multiple</a:t>
            </a:r>
            <a:br>
              <a:rPr sz="4000"/>
            </a:b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I clinique (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liniqu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yndrome oss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lini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l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ractures patholog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éodes à l ’emporte piè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minéralisation diffus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intéret I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ilan: Crane, Rachis, Bassin, Gril costal, zones doulour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nsuffisance ré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yndrome aném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Myélome multiple</a:t>
            </a:r>
            <a:br>
              <a:rPr sz="4000"/>
            </a:b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I clinique (fi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outes ces circonst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alisation d’une électrophorèse des protides sé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elle ci mont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hypogammaglobuliné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Myélome </a:t>
            </a:r>
            <a:br>
              <a:rPr sz="4000"/>
            </a:b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II diagnos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out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FS: ané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suffisance médul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suffisance ré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hémodi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S augmentée (peut être norm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tides augmen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lectrophorèse des protéines sériq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Pic 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hypogammaglobuliné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Myélome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II diagnostic (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élogram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ocytes &gt;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rm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lifération maligne médullaire de cellule plasmocy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Myélome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II diagnostic (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mmunofi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mmunoglobuline monocl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fr-FR" sz="2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66ff"/>
                </a:solidFill>
                <a:latin typeface="Arial"/>
              </a:rPr>
              <a:t>responsables d’une sécrétion (d’une forme complète ou non d’immunoglobuline monoclona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60948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bbe0e3"/>
                </a:solidFill>
                <a:latin typeface="Arial"/>
              </a:rPr>
              <a:t>Immunofix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3886200"/>
            <a:ext cx="1066680" cy="6858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993600" y="4268880"/>
            <a:ext cx="381240" cy="27936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679400" y="4192560"/>
            <a:ext cx="381240" cy="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4278600">
            <a:off x="2361600" y="3808080"/>
            <a:ext cx="60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9040" y="4116240"/>
            <a:ext cx="1066680" cy="6858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146240" y="4344840"/>
            <a:ext cx="380880" cy="27972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832040" y="4344840"/>
            <a:ext cx="380880" cy="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4278600">
            <a:off x="2246760" y="40759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41320" y="4268880"/>
            <a:ext cx="1066680" cy="6858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298520" y="4497480"/>
            <a:ext cx="380880" cy="27936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984320" y="4497480"/>
            <a:ext cx="380880" cy="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4278600">
            <a:off x="2398680" y="41518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993600" y="4421160"/>
            <a:ext cx="1067040" cy="6858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50800" y="4649760"/>
            <a:ext cx="381240" cy="27936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136600" y="4649760"/>
            <a:ext cx="381240" cy="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4278600">
            <a:off x="2551320" y="43045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46240" y="4573440"/>
            <a:ext cx="1066680" cy="6858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603440" y="4802040"/>
            <a:ext cx="380880" cy="27972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89240" y="4802040"/>
            <a:ext cx="380880" cy="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4278600">
            <a:off x="2703600" y="44568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26920" y="5300640"/>
            <a:ext cx="1067040" cy="685800"/>
          </a:xfrm>
          <a:prstGeom prst="ellipse">
            <a:avLst/>
          </a:prstGeom>
          <a:noFill/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84120" y="5529240"/>
            <a:ext cx="381240" cy="279360"/>
          </a:xfrm>
          <a:prstGeom prst="ellipse">
            <a:avLst/>
          </a:prstGeom>
          <a:noFill/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5529240"/>
            <a:ext cx="381240" cy="0"/>
          </a:xfrm>
          <a:prstGeom prst="line">
            <a:avLst/>
          </a:prstGeom>
          <a:ln w="572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4278600">
            <a:off x="2523960" y="50425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00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24360" y="5229360"/>
            <a:ext cx="1067040" cy="685800"/>
          </a:xfrm>
          <a:prstGeom prst="ellipse">
            <a:avLst/>
          </a:prstGeom>
          <a:noFill/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188040" y="5460840"/>
            <a:ext cx="380880" cy="279720"/>
          </a:xfrm>
          <a:prstGeom prst="ellipse">
            <a:avLst/>
          </a:prstGeom>
          <a:noFill/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873840" y="5460840"/>
            <a:ext cx="380880" cy="0"/>
          </a:xfrm>
          <a:prstGeom prst="line">
            <a:avLst/>
          </a:prstGeom>
          <a:ln w="572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rot="4278600">
            <a:off x="7277040" y="50425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00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0880" y="2133720"/>
            <a:ext cx="1067040" cy="68580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2362320"/>
            <a:ext cx="381240" cy="27936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23880" y="2362320"/>
            <a:ext cx="381240" cy="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4278600">
            <a:off x="1932120" y="20134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33520" y="3124080"/>
            <a:ext cx="1066680" cy="685800"/>
          </a:xfrm>
          <a:prstGeom prst="ellipse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990720" y="3505320"/>
            <a:ext cx="380880" cy="279360"/>
          </a:xfrm>
          <a:prstGeom prst="ellipse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76520" y="3505320"/>
            <a:ext cx="38088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4278600">
            <a:off x="2084400" y="31564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0880" y="1219320"/>
            <a:ext cx="1067040" cy="685800"/>
          </a:xfrm>
          <a:prstGeom prst="ellipse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38080" y="1447920"/>
            <a:ext cx="381240" cy="279360"/>
          </a:xfrm>
          <a:prstGeom prst="ellipse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523880" y="1447920"/>
            <a:ext cx="38124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rot="4278600">
            <a:off x="1932120" y="10990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562720" y="2438280"/>
            <a:ext cx="1066680" cy="68580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019920" y="2666880"/>
            <a:ext cx="380880" cy="27936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4278600">
            <a:off x="7113600" y="23184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3581280"/>
            <a:ext cx="1066680" cy="685800"/>
          </a:xfrm>
          <a:prstGeom prst="ellipse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172200" y="3809880"/>
            <a:ext cx="380880" cy="279360"/>
          </a:xfrm>
          <a:prstGeom prst="ellipse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0" y="3809880"/>
            <a:ext cx="38088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rot="4278600">
            <a:off x="7265880" y="34614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562720" y="1523880"/>
            <a:ext cx="1066680" cy="685800"/>
          </a:xfrm>
          <a:prstGeom prst="ellipse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9920" y="1752480"/>
            <a:ext cx="380880" cy="279360"/>
          </a:xfrm>
          <a:prstGeom prst="ellipse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705720" y="1752480"/>
            <a:ext cx="38088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4278600">
            <a:off x="7113600" y="14040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499000" y="4502160"/>
            <a:ext cx="1067040" cy="6858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956200" y="4730760"/>
            <a:ext cx="381240" cy="27936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642000" y="4730760"/>
            <a:ext cx="381240" cy="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4278600">
            <a:off x="7047000" y="43804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505320" y="1143000"/>
            <a:ext cx="761760" cy="4518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001000" y="1219320"/>
            <a:ext cx="762120" cy="451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1447920"/>
            <a:ext cx="533520" cy="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153280" y="1676520"/>
            <a:ext cx="533520" cy="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657600" y="2362320"/>
            <a:ext cx="53352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077320" y="2590920"/>
            <a:ext cx="5331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3505320"/>
            <a:ext cx="533520" cy="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153280" y="3657600"/>
            <a:ext cx="533520" cy="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564000" y="5516640"/>
            <a:ext cx="533160" cy="0"/>
          </a:xfrm>
          <a:prstGeom prst="line">
            <a:avLst/>
          </a:prstGeom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101080" y="5589720"/>
            <a:ext cx="533160" cy="0"/>
          </a:xfrm>
          <a:prstGeom prst="line">
            <a:avLst/>
          </a:prstGeom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077320" y="4724280"/>
            <a:ext cx="533160" cy="0"/>
          </a:xfrm>
          <a:prstGeom prst="line">
            <a:avLst/>
          </a:prstGeom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581280" y="4267080"/>
            <a:ext cx="533520" cy="0"/>
          </a:xfrm>
          <a:prstGeom prst="line">
            <a:avLst/>
          </a:prstGeom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581280" y="4343400"/>
            <a:ext cx="533520" cy="0"/>
          </a:xfrm>
          <a:prstGeom prst="line">
            <a:avLst/>
          </a:prstGeom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581280" y="4419720"/>
            <a:ext cx="533520" cy="0"/>
          </a:xfrm>
          <a:prstGeom prst="line">
            <a:avLst/>
          </a:prstGeom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581280" y="4495680"/>
            <a:ext cx="533520" cy="0"/>
          </a:xfrm>
          <a:prstGeom prst="line">
            <a:avLst/>
          </a:prstGeom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581280" y="4572000"/>
            <a:ext cx="533520" cy="0"/>
          </a:xfrm>
          <a:prstGeom prst="line">
            <a:avLst/>
          </a:prstGeom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581280" y="4648320"/>
            <a:ext cx="533520" cy="0"/>
          </a:xfrm>
          <a:prstGeom prst="line">
            <a:avLst/>
          </a:prstGeom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581280" y="4724280"/>
            <a:ext cx="533520" cy="0"/>
          </a:xfrm>
          <a:prstGeom prst="line">
            <a:avLst/>
          </a:prstGeom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048120" y="3886200"/>
            <a:ext cx="1676160" cy="1447920"/>
          </a:xfrm>
          <a:prstGeom prst="ellipse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948360" y="5734080"/>
            <a:ext cx="1157400" cy="893880"/>
          </a:xfrm>
          <a:custGeom>
            <a:avLst/>
            <a:gdLst/>
            <a:ahLst/>
            <a:rect l="l" t="t" r="r" b="b"/>
            <a:pathLst>
              <a:path w="1783" h="1070">
                <a:moveTo>
                  <a:pt x="0" y="1033"/>
                </a:moveTo>
                <a:cubicBezTo>
                  <a:pt x="24" y="1030"/>
                  <a:pt x="52" y="1037"/>
                  <a:pt x="73" y="1024"/>
                </a:cubicBezTo>
                <a:cubicBezTo>
                  <a:pt x="149" y="975"/>
                  <a:pt x="131" y="888"/>
                  <a:pt x="146" y="814"/>
                </a:cubicBezTo>
                <a:cubicBezTo>
                  <a:pt x="164" y="582"/>
                  <a:pt x="178" y="351"/>
                  <a:pt x="192" y="119"/>
                </a:cubicBezTo>
                <a:cubicBezTo>
                  <a:pt x="196" y="54"/>
                  <a:pt x="222" y="15"/>
                  <a:pt x="283" y="0"/>
                </a:cubicBezTo>
                <a:cubicBezTo>
                  <a:pt x="298" y="3"/>
                  <a:pt x="316" y="0"/>
                  <a:pt x="329" y="9"/>
                </a:cubicBezTo>
                <a:cubicBezTo>
                  <a:pt x="347" y="21"/>
                  <a:pt x="341" y="52"/>
                  <a:pt x="347" y="73"/>
                </a:cubicBezTo>
                <a:cubicBezTo>
                  <a:pt x="362" y="125"/>
                  <a:pt x="376" y="177"/>
                  <a:pt x="393" y="229"/>
                </a:cubicBezTo>
                <a:cubicBezTo>
                  <a:pt x="397" y="241"/>
                  <a:pt x="398" y="253"/>
                  <a:pt x="402" y="265"/>
                </a:cubicBezTo>
                <a:cubicBezTo>
                  <a:pt x="407" y="283"/>
                  <a:pt x="420" y="320"/>
                  <a:pt x="420" y="320"/>
                </a:cubicBezTo>
                <a:cubicBezTo>
                  <a:pt x="427" y="444"/>
                  <a:pt x="431" y="571"/>
                  <a:pt x="448" y="695"/>
                </a:cubicBezTo>
                <a:cubicBezTo>
                  <a:pt x="456" y="749"/>
                  <a:pt x="474" y="805"/>
                  <a:pt x="484" y="859"/>
                </a:cubicBezTo>
                <a:cubicBezTo>
                  <a:pt x="492" y="905"/>
                  <a:pt x="512" y="981"/>
                  <a:pt x="557" y="1006"/>
                </a:cubicBezTo>
                <a:cubicBezTo>
                  <a:pt x="574" y="1015"/>
                  <a:pt x="612" y="1024"/>
                  <a:pt x="612" y="1024"/>
                </a:cubicBezTo>
                <a:cubicBezTo>
                  <a:pt x="663" y="987"/>
                  <a:pt x="642" y="1014"/>
                  <a:pt x="658" y="960"/>
                </a:cubicBezTo>
                <a:cubicBezTo>
                  <a:pt x="663" y="941"/>
                  <a:pt x="658" y="911"/>
                  <a:pt x="676" y="905"/>
                </a:cubicBezTo>
                <a:cubicBezTo>
                  <a:pt x="694" y="899"/>
                  <a:pt x="731" y="887"/>
                  <a:pt x="731" y="887"/>
                </a:cubicBezTo>
                <a:cubicBezTo>
                  <a:pt x="749" y="890"/>
                  <a:pt x="772" y="884"/>
                  <a:pt x="786" y="896"/>
                </a:cubicBezTo>
                <a:cubicBezTo>
                  <a:pt x="801" y="909"/>
                  <a:pt x="798" y="933"/>
                  <a:pt x="804" y="951"/>
                </a:cubicBezTo>
                <a:cubicBezTo>
                  <a:pt x="816" y="988"/>
                  <a:pt x="808" y="971"/>
                  <a:pt x="832" y="1006"/>
                </a:cubicBezTo>
                <a:cubicBezTo>
                  <a:pt x="837" y="1021"/>
                  <a:pt x="842" y="1066"/>
                  <a:pt x="877" y="1024"/>
                </a:cubicBezTo>
                <a:cubicBezTo>
                  <a:pt x="887" y="1012"/>
                  <a:pt x="879" y="991"/>
                  <a:pt x="887" y="978"/>
                </a:cubicBezTo>
                <a:cubicBezTo>
                  <a:pt x="907" y="945"/>
                  <a:pt x="936" y="917"/>
                  <a:pt x="960" y="887"/>
                </a:cubicBezTo>
                <a:cubicBezTo>
                  <a:pt x="981" y="890"/>
                  <a:pt x="1004" y="887"/>
                  <a:pt x="1024" y="896"/>
                </a:cubicBezTo>
                <a:cubicBezTo>
                  <a:pt x="1041" y="903"/>
                  <a:pt x="1045" y="938"/>
                  <a:pt x="1051" y="951"/>
                </a:cubicBezTo>
                <a:cubicBezTo>
                  <a:pt x="1077" y="1003"/>
                  <a:pt x="1095" y="1040"/>
                  <a:pt x="1152" y="1061"/>
                </a:cubicBezTo>
                <a:cubicBezTo>
                  <a:pt x="1173" y="1058"/>
                  <a:pt x="1196" y="1060"/>
                  <a:pt x="1216" y="1051"/>
                </a:cubicBezTo>
                <a:cubicBezTo>
                  <a:pt x="1228" y="1046"/>
                  <a:pt x="1267" y="980"/>
                  <a:pt x="1280" y="969"/>
                </a:cubicBezTo>
                <a:cubicBezTo>
                  <a:pt x="1313" y="941"/>
                  <a:pt x="1358" y="918"/>
                  <a:pt x="1399" y="905"/>
                </a:cubicBezTo>
                <a:cubicBezTo>
                  <a:pt x="1590" y="916"/>
                  <a:pt x="1510" y="893"/>
                  <a:pt x="1600" y="951"/>
                </a:cubicBezTo>
                <a:cubicBezTo>
                  <a:pt x="1621" y="983"/>
                  <a:pt x="1637" y="994"/>
                  <a:pt x="1673" y="1006"/>
                </a:cubicBezTo>
                <a:cubicBezTo>
                  <a:pt x="1707" y="1031"/>
                  <a:pt x="1738" y="1070"/>
                  <a:pt x="1783" y="10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843280" y="5661000"/>
            <a:ext cx="1157400" cy="893880"/>
          </a:xfrm>
          <a:custGeom>
            <a:avLst/>
            <a:gdLst/>
            <a:ahLst/>
            <a:rect l="l" t="t" r="r" b="b"/>
            <a:pathLst>
              <a:path w="1783" h="1070">
                <a:moveTo>
                  <a:pt x="0" y="1033"/>
                </a:moveTo>
                <a:cubicBezTo>
                  <a:pt x="24" y="1030"/>
                  <a:pt x="52" y="1037"/>
                  <a:pt x="73" y="1024"/>
                </a:cubicBezTo>
                <a:cubicBezTo>
                  <a:pt x="149" y="975"/>
                  <a:pt x="131" y="888"/>
                  <a:pt x="146" y="814"/>
                </a:cubicBezTo>
                <a:cubicBezTo>
                  <a:pt x="164" y="582"/>
                  <a:pt x="178" y="351"/>
                  <a:pt x="192" y="119"/>
                </a:cubicBezTo>
                <a:cubicBezTo>
                  <a:pt x="196" y="54"/>
                  <a:pt x="222" y="15"/>
                  <a:pt x="283" y="0"/>
                </a:cubicBezTo>
                <a:cubicBezTo>
                  <a:pt x="298" y="3"/>
                  <a:pt x="316" y="0"/>
                  <a:pt x="329" y="9"/>
                </a:cubicBezTo>
                <a:cubicBezTo>
                  <a:pt x="347" y="21"/>
                  <a:pt x="341" y="52"/>
                  <a:pt x="347" y="73"/>
                </a:cubicBezTo>
                <a:cubicBezTo>
                  <a:pt x="362" y="125"/>
                  <a:pt x="376" y="177"/>
                  <a:pt x="393" y="229"/>
                </a:cubicBezTo>
                <a:cubicBezTo>
                  <a:pt x="397" y="241"/>
                  <a:pt x="398" y="253"/>
                  <a:pt x="402" y="265"/>
                </a:cubicBezTo>
                <a:cubicBezTo>
                  <a:pt x="407" y="283"/>
                  <a:pt x="420" y="320"/>
                  <a:pt x="420" y="320"/>
                </a:cubicBezTo>
                <a:cubicBezTo>
                  <a:pt x="427" y="444"/>
                  <a:pt x="431" y="571"/>
                  <a:pt x="448" y="695"/>
                </a:cubicBezTo>
                <a:cubicBezTo>
                  <a:pt x="456" y="749"/>
                  <a:pt x="474" y="805"/>
                  <a:pt x="484" y="859"/>
                </a:cubicBezTo>
                <a:cubicBezTo>
                  <a:pt x="492" y="905"/>
                  <a:pt x="512" y="981"/>
                  <a:pt x="557" y="1006"/>
                </a:cubicBezTo>
                <a:cubicBezTo>
                  <a:pt x="574" y="1015"/>
                  <a:pt x="612" y="1024"/>
                  <a:pt x="612" y="1024"/>
                </a:cubicBezTo>
                <a:cubicBezTo>
                  <a:pt x="663" y="987"/>
                  <a:pt x="642" y="1014"/>
                  <a:pt x="658" y="960"/>
                </a:cubicBezTo>
                <a:cubicBezTo>
                  <a:pt x="663" y="941"/>
                  <a:pt x="658" y="911"/>
                  <a:pt x="676" y="905"/>
                </a:cubicBezTo>
                <a:cubicBezTo>
                  <a:pt x="694" y="899"/>
                  <a:pt x="731" y="887"/>
                  <a:pt x="731" y="887"/>
                </a:cubicBezTo>
                <a:cubicBezTo>
                  <a:pt x="749" y="890"/>
                  <a:pt x="772" y="884"/>
                  <a:pt x="786" y="896"/>
                </a:cubicBezTo>
                <a:cubicBezTo>
                  <a:pt x="801" y="909"/>
                  <a:pt x="798" y="933"/>
                  <a:pt x="804" y="951"/>
                </a:cubicBezTo>
                <a:cubicBezTo>
                  <a:pt x="816" y="988"/>
                  <a:pt x="808" y="971"/>
                  <a:pt x="832" y="1006"/>
                </a:cubicBezTo>
                <a:cubicBezTo>
                  <a:pt x="837" y="1021"/>
                  <a:pt x="842" y="1066"/>
                  <a:pt x="877" y="1024"/>
                </a:cubicBezTo>
                <a:cubicBezTo>
                  <a:pt x="887" y="1012"/>
                  <a:pt x="879" y="991"/>
                  <a:pt x="887" y="978"/>
                </a:cubicBezTo>
                <a:cubicBezTo>
                  <a:pt x="907" y="945"/>
                  <a:pt x="936" y="917"/>
                  <a:pt x="960" y="887"/>
                </a:cubicBezTo>
                <a:cubicBezTo>
                  <a:pt x="981" y="890"/>
                  <a:pt x="1004" y="887"/>
                  <a:pt x="1024" y="896"/>
                </a:cubicBezTo>
                <a:cubicBezTo>
                  <a:pt x="1041" y="903"/>
                  <a:pt x="1045" y="938"/>
                  <a:pt x="1051" y="951"/>
                </a:cubicBezTo>
                <a:cubicBezTo>
                  <a:pt x="1077" y="1003"/>
                  <a:pt x="1095" y="1040"/>
                  <a:pt x="1152" y="1061"/>
                </a:cubicBezTo>
                <a:cubicBezTo>
                  <a:pt x="1173" y="1058"/>
                  <a:pt x="1196" y="1060"/>
                  <a:pt x="1216" y="1051"/>
                </a:cubicBezTo>
                <a:cubicBezTo>
                  <a:pt x="1228" y="1046"/>
                  <a:pt x="1267" y="980"/>
                  <a:pt x="1280" y="969"/>
                </a:cubicBezTo>
                <a:cubicBezTo>
                  <a:pt x="1313" y="941"/>
                  <a:pt x="1358" y="918"/>
                  <a:pt x="1399" y="905"/>
                </a:cubicBezTo>
                <a:cubicBezTo>
                  <a:pt x="1590" y="916"/>
                  <a:pt x="1510" y="893"/>
                  <a:pt x="1600" y="951"/>
                </a:cubicBezTo>
                <a:cubicBezTo>
                  <a:pt x="1621" y="983"/>
                  <a:pt x="1637" y="994"/>
                  <a:pt x="1673" y="1006"/>
                </a:cubicBezTo>
                <a:cubicBezTo>
                  <a:pt x="1707" y="1031"/>
                  <a:pt x="1738" y="1070"/>
                  <a:pt x="1783" y="10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686040" y="5894280"/>
            <a:ext cx="233640" cy="738360"/>
          </a:xfrm>
          <a:custGeom>
            <a:avLst/>
            <a:gdLst/>
            <a:ahLst/>
            <a:rect l="l" t="t" r="r" b="b"/>
            <a:pathLst>
              <a:path w="147" h="465">
                <a:moveTo>
                  <a:pt x="0" y="465"/>
                </a:moveTo>
                <a:cubicBezTo>
                  <a:pt x="22" y="376"/>
                  <a:pt x="18" y="287"/>
                  <a:pt x="46" y="200"/>
                </a:cubicBezTo>
                <a:cubicBezTo>
                  <a:pt x="49" y="160"/>
                  <a:pt x="51" y="121"/>
                  <a:pt x="55" y="81"/>
                </a:cubicBezTo>
                <a:cubicBezTo>
                  <a:pt x="57" y="57"/>
                  <a:pt x="52" y="29"/>
                  <a:pt x="64" y="8"/>
                </a:cubicBezTo>
                <a:cubicBezTo>
                  <a:pt x="69" y="0"/>
                  <a:pt x="83" y="14"/>
                  <a:pt x="92" y="17"/>
                </a:cubicBezTo>
                <a:cubicBezTo>
                  <a:pt x="95" y="136"/>
                  <a:pt x="96" y="255"/>
                  <a:pt x="101" y="374"/>
                </a:cubicBezTo>
                <a:cubicBezTo>
                  <a:pt x="103" y="413"/>
                  <a:pt x="113" y="440"/>
                  <a:pt x="147" y="456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500720" y="5157720"/>
            <a:ext cx="431640" cy="1152720"/>
          </a:xfrm>
          <a:custGeom>
            <a:avLst/>
            <a:gdLst>
              <a:gd name="textAreaLeft" fmla="*/ 57600 w 431640"/>
              <a:gd name="textAreaRight" fmla="*/ 374040 w 43164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Myélome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II diagnostic (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téinurie de Bence J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d’une excrétion excessive d’une forme complète ou non d’immunoglobuline monoclon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osage pondéral des immunoglobu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fr-FR" sz="24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669900"/>
                </a:solidFill>
                <a:latin typeface="Arial"/>
              </a:rPr>
              <a:t>avec abaissement des classes normales d’immunoglobu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Myélome: </a:t>
            </a:r>
            <a:br>
              <a:rPr sz="4000"/>
            </a:b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II Diagnostic: 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lifération maligne médullaire de cellules plasmocytaires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Arial"/>
              </a:rPr>
              <a:t>responsables d’une sécrétion 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’une excrétion excessive d’une forme complète ou non d’immunoglobuline monoclona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Arial"/>
              </a:rPr>
              <a:t>avec abaissement des classes normales d’immunoglobu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yél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ff"/>
                </a:solidFill>
                <a:latin typeface="Arial"/>
              </a:rPr>
              <a:t>Immunofix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Protéinurie de Bence J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9900"/>
                </a:solidFill>
                <a:latin typeface="Arial"/>
              </a:rPr>
              <a:t>Dosage pondéral des Immunoglobu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Myélome</a:t>
            </a:r>
            <a:br>
              <a:rPr sz="4000"/>
            </a:b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II diagnostic, bilan init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é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éati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microglobu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pholo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X de squelette ax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0" y="1126440"/>
            <a:ext cx="9144000" cy="5643720"/>
            <a:chOff x="0" y="1126440"/>
            <a:chExt cx="9144000" cy="5643720"/>
          </a:xfrm>
        </p:grpSpPr>
        <p:cxnSp>
          <p:nvCxnSpPr>
            <p:cNvPr id="101" name="_s64516"/>
            <p:cNvCxnSpPr>
              <a:stCxn id="102" idx="1"/>
              <a:endCxn id="103" idx="2"/>
            </p:cNvCxnSpPr>
            <p:nvPr/>
          </p:nvCxnSpPr>
          <p:spPr>
            <a:xfrm rot="10800000">
              <a:off x="5280840" y="5470560"/>
              <a:ext cx="176760" cy="1083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64517"/>
            <p:cNvCxnSpPr>
              <a:stCxn id="105" idx="1"/>
              <a:endCxn id="103" idx="2"/>
            </p:cNvCxnSpPr>
            <p:nvPr/>
          </p:nvCxnSpPr>
          <p:spPr>
            <a:xfrm rot="10800000">
              <a:off x="5280840" y="5470560"/>
              <a:ext cx="176760" cy="433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6" name="_s64518"/>
            <p:cNvCxnSpPr>
              <a:stCxn id="107" idx="1"/>
              <a:endCxn id="108" idx="2"/>
            </p:cNvCxnSpPr>
            <p:nvPr/>
          </p:nvCxnSpPr>
          <p:spPr>
            <a:xfrm rot="10800000">
              <a:off x="5280840" y="3517920"/>
              <a:ext cx="176760" cy="1083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64519"/>
            <p:cNvCxnSpPr>
              <a:stCxn id="110" idx="1"/>
              <a:endCxn id="108" idx="2"/>
            </p:cNvCxnSpPr>
            <p:nvPr/>
          </p:nvCxnSpPr>
          <p:spPr>
            <a:xfrm rot="10800000">
              <a:off x="5280840" y="3517200"/>
              <a:ext cx="176760" cy="433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64520"/>
            <p:cNvCxnSpPr>
              <a:stCxn id="103" idx="1"/>
              <a:endCxn id="112" idx="2"/>
            </p:cNvCxnSpPr>
            <p:nvPr/>
          </p:nvCxnSpPr>
          <p:spPr>
            <a:xfrm rot="10800000">
              <a:off x="4375800" y="2865960"/>
              <a:ext cx="175320" cy="2388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64521"/>
            <p:cNvCxnSpPr>
              <a:stCxn id="108" idx="1"/>
              <a:endCxn id="112" idx="2"/>
            </p:cNvCxnSpPr>
            <p:nvPr/>
          </p:nvCxnSpPr>
          <p:spPr>
            <a:xfrm rot="10800000">
              <a:off x="4375800" y="2865960"/>
              <a:ext cx="175320" cy="435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64522"/>
            <p:cNvCxnSpPr>
              <a:stCxn id="112" idx="0"/>
              <a:endCxn id="115" idx="2"/>
            </p:cNvCxnSpPr>
            <p:nvPr/>
          </p:nvCxnSpPr>
          <p:spPr>
            <a:xfrm flipH="1" flipV="1" rot="5400000">
              <a:off x="4807800" y="1782000"/>
              <a:ext cx="218160" cy="108180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64523"/>
            <p:cNvCxnSpPr>
              <a:stCxn id="117" idx="0"/>
              <a:endCxn id="118" idx="2"/>
            </p:cNvCxnSpPr>
            <p:nvPr/>
          </p:nvCxnSpPr>
          <p:spPr>
            <a:xfrm flipV="1" rot="16200000">
              <a:off x="7783560" y="1876320"/>
              <a:ext cx="218160" cy="89316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9" name="_s64524"/>
            <p:cNvCxnSpPr>
              <a:stCxn id="120" idx="0"/>
              <a:endCxn id="118" idx="2"/>
            </p:cNvCxnSpPr>
            <p:nvPr/>
          </p:nvCxnSpPr>
          <p:spPr>
            <a:xfrm flipH="1" flipV="1" rot="5400000">
              <a:off x="6891480" y="1877040"/>
              <a:ext cx="218160" cy="89208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64525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2034720" y="1875600"/>
              <a:ext cx="218160" cy="89460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4" name="_s64526"/>
            <p:cNvCxnSpPr>
              <a:stCxn id="125" idx="0"/>
              <a:endCxn id="123" idx="2"/>
            </p:cNvCxnSpPr>
            <p:nvPr/>
          </p:nvCxnSpPr>
          <p:spPr>
            <a:xfrm flipH="1" flipV="1" rot="5400000">
              <a:off x="1141560" y="1876320"/>
              <a:ext cx="218160" cy="89352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64527"/>
            <p:cNvCxnSpPr>
              <a:stCxn id="118" idx="0"/>
              <a:endCxn id="127" idx="2"/>
            </p:cNvCxnSpPr>
            <p:nvPr/>
          </p:nvCxnSpPr>
          <p:spPr>
            <a:xfrm flipV="1" rot="16200000">
              <a:off x="5900040" y="232920"/>
              <a:ext cx="218160" cy="287460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64528"/>
            <p:cNvCxnSpPr>
              <a:stCxn id="115" idx="0"/>
              <a:endCxn id="127" idx="2"/>
            </p:cNvCxnSpPr>
            <p:nvPr/>
          </p:nvCxnSpPr>
          <p:spPr>
            <a:xfrm flipV="1" rot="16200000">
              <a:off x="4905720" y="1227240"/>
              <a:ext cx="218160" cy="88596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9" name="_s64529"/>
            <p:cNvCxnSpPr>
              <a:stCxn id="123" idx="0"/>
              <a:endCxn id="127" idx="2"/>
            </p:cNvCxnSpPr>
            <p:nvPr/>
          </p:nvCxnSpPr>
          <p:spPr>
            <a:xfrm flipH="1" flipV="1" rot="5400000">
              <a:off x="3025440" y="232560"/>
              <a:ext cx="218160" cy="287532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7" name="_s64530"/>
            <p:cNvSpPr/>
            <p:nvPr/>
          </p:nvSpPr>
          <p:spPr>
            <a:xfrm>
              <a:off x="4043520" y="1126440"/>
              <a:ext cx="105660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20" rIns="3132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G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64531"/>
            <p:cNvSpPr/>
            <p:nvPr/>
          </p:nvSpPr>
          <p:spPr>
            <a:xfrm>
              <a:off x="790920" y="1779120"/>
              <a:ext cx="181224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20" rIns="3132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ro=F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64532"/>
            <p:cNvSpPr/>
            <p:nvPr/>
          </p:nvSpPr>
          <p:spPr>
            <a:xfrm>
              <a:off x="4551480" y="1779120"/>
              <a:ext cx="181224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20" rIns="3132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rm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64533"/>
            <p:cNvSpPr/>
            <p:nvPr/>
          </p:nvSpPr>
          <p:spPr>
            <a:xfrm>
              <a:off x="6540480" y="1779120"/>
              <a:ext cx="181224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20" rIns="3132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acro=folates+B12+m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64534"/>
            <p:cNvSpPr/>
            <p:nvPr/>
          </p:nvSpPr>
          <p:spPr>
            <a:xfrm>
              <a:off x="0" y="2431800"/>
              <a:ext cx="160920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720" rIns="3672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64535"/>
            <p:cNvSpPr/>
            <p:nvPr/>
          </p:nvSpPr>
          <p:spPr>
            <a:xfrm>
              <a:off x="1785600" y="2431800"/>
              <a:ext cx="160884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720" rIns="3672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lam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64536"/>
            <p:cNvSpPr/>
            <p:nvPr/>
          </p:nvSpPr>
          <p:spPr>
            <a:xfrm>
              <a:off x="5749200" y="2431800"/>
              <a:ext cx="160884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en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64537"/>
            <p:cNvSpPr/>
            <p:nvPr/>
          </p:nvSpPr>
          <p:spPr>
            <a:xfrm>
              <a:off x="7534800" y="2431800"/>
              <a:ext cx="160920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yélodysplas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64538"/>
            <p:cNvSpPr/>
            <p:nvPr/>
          </p:nvSpPr>
          <p:spPr>
            <a:xfrm>
              <a:off x="3570840" y="2431800"/>
              <a:ext cx="1610280" cy="43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rétic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64539"/>
            <p:cNvSpPr/>
            <p:nvPr/>
          </p:nvSpPr>
          <p:spPr>
            <a:xfrm>
              <a:off x="4551480" y="3084480"/>
              <a:ext cx="1459800" cy="43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64540"/>
            <p:cNvSpPr/>
            <p:nvPr/>
          </p:nvSpPr>
          <p:spPr>
            <a:xfrm>
              <a:off x="4551480" y="5037480"/>
              <a:ext cx="1459800" cy="43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s=centr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64541"/>
            <p:cNvSpPr/>
            <p:nvPr/>
          </p:nvSpPr>
          <p:spPr>
            <a:xfrm>
              <a:off x="5457600" y="3735360"/>
              <a:ext cx="1073880" cy="43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émoly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64542"/>
            <p:cNvSpPr/>
            <p:nvPr/>
          </p:nvSpPr>
          <p:spPr>
            <a:xfrm>
              <a:off x="5457600" y="4385160"/>
              <a:ext cx="1073880" cy="43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émorra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64543"/>
            <p:cNvSpPr/>
            <p:nvPr/>
          </p:nvSpPr>
          <p:spPr>
            <a:xfrm>
              <a:off x="5457600" y="5688720"/>
              <a:ext cx="1073880" cy="43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ntita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64544"/>
            <p:cNvSpPr/>
            <p:nvPr/>
          </p:nvSpPr>
          <p:spPr>
            <a:xfrm>
              <a:off x="5457600" y="6338520"/>
              <a:ext cx="1073880" cy="43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800" rIns="118800" tIns="59400" bIns="59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ita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Myélome</a:t>
            </a:r>
            <a:br>
              <a:rPr sz="4000"/>
            </a:b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III: 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sufficance médul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ypercalcé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sseuses + compressions médulla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rabataire, cachex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my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suffisance ré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igue: deshydratation, hypercalcémie, i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onique: rein myélomateux, amy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Myélome</a:t>
            </a:r>
            <a:br>
              <a:rPr sz="4000"/>
            </a:b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III: Evolution (fi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no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urie Sal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aryotype+ </a:t>
            </a:r>
            <a:r>
              <a:rPr b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-microglobu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Myélome: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IV trai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"/>
              </a:rPr>
              <a:t>a) Traitement de f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elon: Age st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bs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lké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lychimiothérapie: V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utogref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halidomid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Myélome: </a:t>
            </a:r>
            <a:br>
              <a:rPr sz="4400"/>
            </a:br>
            <a:r>
              <a:rPr b="0" lang="en-US" sz="4400" spc="-1" strike="noStrike" u="sng">
                <a:solidFill>
                  <a:srgbClr val="ff6600"/>
                </a:solidFill>
                <a:uFillTx/>
                <a:latin typeface="Arial"/>
              </a:rPr>
              <a:t>IV: traitement (fi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b) Traitement des 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fections: A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adiothérapie antalgiqu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ypercalcémies: Biphospho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lastoban, aredia zom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rans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c) Prévention des 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évention de l’ostéolyse: Biphospho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iurèses alca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6600"/>
                </a:solidFill>
                <a:latin typeface="Arial"/>
              </a:rPr>
              <a:t>Gammapathie d ’allure bénigne: Diagnostic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lifération maligne médullaire de cellules plasmocytaires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Arial"/>
              </a:rPr>
              <a:t>responsables d’une sécrétion 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’une excrétion excessive d’une forme complète ou non d’immunoglobuline monoclona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Arial"/>
              </a:rPr>
              <a:t>avec abaissement des classes normales d’immunoglobu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 créatinin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yél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ff"/>
                </a:solidFill>
                <a:latin typeface="Arial"/>
              </a:rPr>
              <a:t>Immunofix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mmunoglobuline monocl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Protéinurie de Bence J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on ou p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9900"/>
                </a:solidFill>
                <a:latin typeface="Arial"/>
              </a:rPr>
              <a:t>Dosage pondéral des Immunoglobu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lasses normales: non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523880" y="1752480"/>
            <a:ext cx="8384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1676160" y="182880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600200" y="4952880"/>
            <a:ext cx="91440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9047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600200" y="3581280"/>
            <a:ext cx="990720" cy="1143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752480" y="3505320"/>
            <a:ext cx="914400" cy="12189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676520" y="1905120"/>
            <a:ext cx="83808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ladie de Hodgki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lifération maligne des cellules lymphoides des ganglions lymphatiques avec présence de cellules de Reed Stern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out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ladie de Hodgki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li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rconstance de découv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es généraux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énopat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couverte fortuite: médecine du travail élargissement du média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rement compression (syndrome cave supérie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ladie de Hodgk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li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es généraux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è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aigris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e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rur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énopathie hématolog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me, indolore, longtemps non compressive, isol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ladie de Hodgk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 Diagnostic, Bi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iopsie ganglionnaire indispe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ilan d’ex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canner thorac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canner abdomino pelv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cintigraphie Gallium, Pet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iopsie de moel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ladie de Hodgk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 Diagnostic, Bi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assification d’Ann Ar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a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: adénopathie u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I: adénopathies multiples un seul coté du diaphrag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II: adénopathies multiples de chaque coté du diaphrag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V: atteinte viscé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gnes d’évolutivit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ilan préthérapeu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chocoeur, PAC, casque réfrigérant, conservation sperme, contraception o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04:45:54Z</dcterms:created>
  <dc:creator>morel</dc:creator>
  <dc:description/>
  <dc:language>en-US</dc:language>
  <cp:lastModifiedBy>MOSSER</cp:lastModifiedBy>
  <dcterms:modified xsi:type="dcterms:W3CDTF">2004-10-23T22:22:37Z</dcterms:modified>
  <cp:revision>26</cp:revision>
  <dc:subject/>
  <dc:title>Syndrôme anémiqu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4930169</vt:r8>
  </property>
  <property fmtid="{D5CDD505-2E9C-101B-9397-08002B2CF9AE}" pid="3" name="_AuthorEmail">
    <vt:lpwstr>pimorel@nordnet.fr</vt:lpwstr>
  </property>
  <property fmtid="{D5CDD505-2E9C-101B-9397-08002B2CF9AE}" pid="4" name="_AuthorEmailDisplayName">
    <vt:lpwstr>Pierre Morel</vt:lpwstr>
  </property>
  <property fmtid="{D5CDD505-2E9C-101B-9397-08002B2CF9AE}" pid="5" name="_EmailSubject">
    <vt:lpwstr/>
  </property>
</Properties>
</file>