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558-C1F4-44F0-B2B3-488E3220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43D-6108-4705-B5FC-CF572B39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649-47EB-4B36-B5CD-4C5E189F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4D3-7928-40D6-956C-EEDE6937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81C-775F-4183-B32F-7CEF18A9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6CC-AF74-46F4-B9AA-100CA52B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72C-C478-444B-9261-09848B73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778-AF36-4A51-A3CE-F2D116AA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8B2-593B-43C0-9C1C-4985361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5D3-1E5F-4563-A68B-2A0645C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E34-81F2-4486-B684-3B05D824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805-9AEF-43E8-9725-CF48376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EED3-3F69-44F2-AF6C-46301BD2A58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257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66"/>
                </a:solidFill>
                <a:latin typeface="Times New Roman"/>
              </a:rPr>
              <a:t>PATHOLOGIE </a:t>
            </a:r>
            <a:br>
              <a:rPr sz="5400"/>
            </a:br>
            <a:r>
              <a:rPr b="1" lang="fr-FR" sz="5400" spc="-1" strike="noStrike">
                <a:solidFill>
                  <a:srgbClr val="ffff66"/>
                </a:solidFill>
                <a:latin typeface="Times New Roman"/>
              </a:rPr>
              <a:t>NON TUMORALE</a:t>
            </a:r>
            <a:r>
              <a:rPr b="1" lang="fr-FR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400"/>
            </a:br>
            <a:r>
              <a:rPr b="1" lang="fr-FR" sz="5400" spc="-1" strike="noStrike">
                <a:solidFill>
                  <a:srgbClr val="ffffff"/>
                </a:solidFill>
                <a:latin typeface="Times New Roman"/>
              </a:rPr>
              <a:t>DES </a:t>
            </a:r>
            <a:br>
              <a:rPr sz="5400"/>
            </a:br>
            <a:r>
              <a:rPr b="1" lang="fr-FR" sz="5400" spc="-1" strike="noStrike">
                <a:solidFill>
                  <a:srgbClr val="ffffff"/>
                </a:solidFill>
                <a:latin typeface="Times New Roman"/>
              </a:rPr>
              <a:t>GLANDES SALIVAIRES</a:t>
            </a:r>
            <a:r>
              <a:rPr b="1" lang="fr-FR" sz="5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Examen radiologique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rtout standard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cidence occlusale 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cidence occlusale p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fo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ialographie : dilatation du ca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D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endobuccale%2010001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4191120" cy="2361960"/>
          </a:xfrm>
          <a:prstGeom prst="rect">
            <a:avLst/>
          </a:prstGeom>
          <a:ln w="0">
            <a:noFill/>
          </a:ln>
        </p:spPr>
      </p:pic>
      <p:pic>
        <p:nvPicPr>
          <p:cNvPr id="64" name="endobuccale%2040002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4191120" cy="2590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467480" y="3429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Antéri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Postéri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467480" y="3352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TRAITEMENT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2666520"/>
            <a:ext cx="4419720" cy="2971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cal :Symptoma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 aspect méca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 aspect infectie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280" y="2666520"/>
            <a:ext cx="4267440" cy="2971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irur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calc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glande sous maxill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TRAITEMENT MEDICA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fr-FR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ident mécan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tispasmodique non atropi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alagogue parasympath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holéré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oire antalg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fr-FR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ident infectie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TB / flore buccale: Betalactamine ou Macro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+ ou -  prélè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TRAITEMENT CHIRURGICA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ffff"/>
                </a:solidFill>
                <a:uFillTx/>
                <a:latin typeface="Times New Roman"/>
              </a:rPr>
              <a:t>Ablation du calcul</a:t>
            </a:r>
            <a:r>
              <a:rPr b="0" lang="fr-FR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Par l’incision du Whart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Sous AL quand calcul situé dans les 2/3 antérieu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Sous AG quand calcul situé dan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le 1/3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postérie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TRAITEMENT CHIRURGICA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s Maxillectomie par voie cutané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66"/>
                </a:solidFill>
                <a:latin typeface="Times New Roman"/>
              </a:rPr>
              <a:t>Méthod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Exérèse de la glande avec le prolongement antérieur et le ca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66"/>
                </a:solidFill>
                <a:latin typeface="Times New Roman"/>
              </a:rPr>
              <a:t>Indication</a:t>
            </a:r>
            <a:r>
              <a:rPr b="1" lang="fr-FR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lithiase multiple, surtout si intraglandulaire, ou si chro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66"/>
                </a:solidFill>
                <a:latin typeface="Times New Roman"/>
              </a:rPr>
              <a:t>Complication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lésion du rameau mentonnier du VII, du nerf ling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4400" spc="-1" strike="noStrike">
                <a:solidFill>
                  <a:srgbClr val="ffff66"/>
                </a:solidFill>
                <a:latin typeface="Times New Roman"/>
              </a:rPr>
              <a:t>PAROTIDIENN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nostiq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diffic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liniq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souvent Accident infectieux, y penser quand unilatéral, recherche du calcul à la pal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Rx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surtout Sialograph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T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édical, Chirurgie (la main forcé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TT par lithotrips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TT endoscop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Times New Roman"/>
              </a:rPr>
              <a:t>AUGMENTATION DE LA GLANDE SALIVAI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4267440" cy="4038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ilatéra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mitt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ithi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 infectieux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rotidite aigu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man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umeurs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343400" cy="411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latéra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fectieux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reil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n infectieux non tumoral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ia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yperplasie isol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alose  systém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66"/>
                </a:solidFill>
                <a:latin typeface="Times New Roman"/>
              </a:rPr>
              <a:t>Parotidite aiguë</a:t>
            </a:r>
            <a:endParaRPr b="0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liniq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°, Douleur,Otal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uméfaction avec peau érythémate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us au niveau du canal de stenon (prélève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mes récidivantes de l’enfa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Écho et Sialographie: petite image hypoéchogène multiple, dilatation des canalic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nsibles aux ATB et 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uérissent à la puber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66"/>
                </a:solidFill>
                <a:latin typeface="Times New Roman"/>
              </a:rPr>
              <a:t>Parotidite aiguë</a:t>
            </a:r>
            <a:endParaRPr b="0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TT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éventif : / infection buccale, réhydratation, sialago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uratif : A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mes résistantes aux TTT avec cellulite cervico-facial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canner en urgenc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à la recherche d’un abcès profond collec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Times New Roman"/>
              </a:rPr>
              <a:t>AUGMENTATION DE LA GLANDE SALIVAI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4114800" cy="3962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ilatéra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mitt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ithi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 infectieux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rotidite aigu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man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umeurs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1640" y="2362320"/>
            <a:ext cx="4343400" cy="3962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latéra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fectieux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reil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n infectieux non tumoral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ia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yperplasie isol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alose  systém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</a:rPr>
              <a:t>MODE DE DECOUVERT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Augmentation de la glande salivaire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soit unilatérale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soit bilatér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uble saliva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81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66"/>
                </a:solidFill>
                <a:latin typeface="Times New Roman"/>
              </a:rPr>
              <a:t>MASSE PAROTIDIENNE UNILATERALE </a:t>
            </a:r>
            <a:br>
              <a:rPr sz="4800"/>
            </a:br>
            <a:r>
              <a:rPr b="1" lang="fr-FR" sz="4800" spc="-1" strike="noStrike">
                <a:solidFill>
                  <a:srgbClr val="00ff00"/>
                </a:solidFill>
                <a:latin typeface="Times New Roman"/>
              </a:rPr>
              <a:t>Conduite à tenir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441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Échographi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elle différencie Tumeur et Gangl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ytoponction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valeur que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Times New Roman"/>
              </a:rPr>
              <a:t>IRM</a:t>
            </a:r>
            <a:r>
              <a:rPr b="0" lang="fr-FR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66"/>
                </a:solidFill>
                <a:latin typeface="Times New Roman"/>
              </a:rPr>
              <a:t>examen de cho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asse extra ou intra parotidienne (lobe superficiel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loration chirurgical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permet d ’avoir une histo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Times New Roman"/>
              </a:rPr>
              <a:t>AUGMENTATION DE LA GLANDE SALIVAI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4267440" cy="4038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ilatér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mitt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ithi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 infectieux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rotidite aigu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man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umeurs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4267080" cy="4038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laté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fectieux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reil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n infectieux non tumoral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ia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yperplasie isol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alose  systém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Times New Roman"/>
              </a:rPr>
              <a:t>CONTEXTE INFECTIEUX</a:t>
            </a:r>
            <a:br>
              <a:rPr sz="4400"/>
            </a:br>
            <a:r>
              <a:rPr b="1" lang="fr-FR" sz="4400" spc="-1" strike="noStrike">
                <a:solidFill>
                  <a:srgbClr val="ffff66"/>
                </a:solidFill>
                <a:latin typeface="Times New Roman"/>
              </a:rPr>
              <a:t>OREILLON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liniq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F°…Tuméfaction parotidienne soulevant le lobule de l ’oreille x2 en 2 à 3 j, énanthème oropharyngé, guérison en 10 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lication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Méningite, orchite, Pancréatite, Surdité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T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repos, antalg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évention vaccin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Times New Roman"/>
              </a:rPr>
              <a:t>SIALOS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Définition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yperplasie d’origine non tumorale non infectieuse, avec parfois déficit salivai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lus souvent parotidien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Étiologi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2 grou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oit de nature dystrophique, nutritionnelle 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oit maladie systémique (infiltration d ’un tissu souvent lymphoï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Times New Roman"/>
              </a:rPr>
              <a:t>SIALOS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ETIOLOG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alodénoses ou dystrophie saliva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ros mangeur: riche en amid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lcoolis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orexie men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rouble métabolique: TG, diabè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alomégalie toxique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aturnisme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alomégalie allergiq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AI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Times New Roman"/>
              </a:rPr>
              <a:t>SIALOSE SYSTEMIQU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yndrome de Gougerot-Sjög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écheresse buccale, oculair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biopsie glandes salivaires accesso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Bilan de médecine inter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rcoïdos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1 à 4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Mucovisci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Times New Roman"/>
              </a:rPr>
              <a:t>HYPERTROPHIE PAROTIDIENNE BILATERALE</a:t>
            </a: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fr-FR" sz="4400" spc="-1" strike="noStrike">
                <a:solidFill>
                  <a:srgbClr val="00ff00"/>
                </a:solidFill>
                <a:latin typeface="Times New Roman"/>
              </a:rPr>
              <a:t>Conduite à tenir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9144000" cy="380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Examen difficil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chez un patient au cou épais  et aux parotides  très développ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Échographi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examen de choix pour pas passer à côté d ’une petite tumeur début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oire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IRM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si glande hétérogè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PATHOLOGIE NON TUMORALE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ffff66"/>
                </a:solidFill>
                <a:latin typeface="Times New Roman"/>
              </a:rPr>
              <a:t>DES GLANDES SALIVAIRES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2438280"/>
            <a:ext cx="4267440" cy="411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ilatér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mitt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ithi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 infectieux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rotidite aigu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man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umeurs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2438280"/>
            <a:ext cx="4343400" cy="411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laté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fectieux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reil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n infectieux non tumoral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ia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yperplasie isol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alose  systém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</a:rPr>
              <a:t>AUGMENTATION DE LA GLANDE SALIVAI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4419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ilatér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mitt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ithi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 infectieux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rotidite aigu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man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 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umeurs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24280" y="2133720"/>
            <a:ext cx="4267440" cy="4419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laté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fectieux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reil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exte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n infectieux non tumoral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ia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yperplasie isol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alose  systém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endParaRPr b="0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</a:rPr>
              <a:t>Sous maxillaire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a plus fréquente (80 à 90 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</a:rPr>
              <a:t>Symptomatologi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mécaniqu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: le plus sou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inflammatoir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: parfo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0" lang="fr-FR" sz="5400" spc="-1" strike="noStrike">
                <a:solidFill>
                  <a:srgbClr val="ffffff"/>
                </a:solidFill>
                <a:latin typeface="Times New Roman"/>
              </a:rPr>
              <a:t>Accident</a:t>
            </a: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mécanique</a:t>
            </a: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Rythmé par le rep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Tuméfa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dolente: hernie salivai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ouloureuse : colique saliva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Cède spontanément: qq mn ou qq 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Émission d’un flot de sal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0" lang="fr-FR" sz="5400" spc="-1" strike="noStrike">
                <a:solidFill>
                  <a:srgbClr val="ffffff"/>
                </a:solidFill>
                <a:latin typeface="Times New Roman"/>
              </a:rPr>
              <a:t>Accident</a:t>
            </a: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inflammatoire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artonite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ouleur brutale pelvibuc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uméfaction inflammatoire de la crête salivaire avec pus à la 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riwhartonit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uméfaction soulevant la lan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us mandibul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0" lang="fr-FR" sz="5400" spc="-1" strike="noStrike">
                <a:solidFill>
                  <a:srgbClr val="ffffff"/>
                </a:solidFill>
                <a:latin typeface="Times New Roman"/>
              </a:rPr>
              <a:t>Diagnostic positif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ffff66"/>
                </a:solidFill>
                <a:uFillTx/>
                <a:latin typeface="Times New Roman"/>
              </a:rPr>
              <a:t>3 GESTES</a:t>
            </a: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ffffff"/>
                </a:solidFill>
                <a:latin typeface="Times New Roman"/>
              </a:rPr>
              <a:t>Inspec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ffffff"/>
                </a:solidFill>
                <a:latin typeface="Times New Roman"/>
              </a:rPr>
              <a:t>Palpation bimanuel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ffffff"/>
                </a:solidFill>
                <a:latin typeface="Times New Roman"/>
              </a:rPr>
              <a:t>Examen radiologiq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6600" spc="-1" strike="noStrike">
                <a:solidFill>
                  <a:srgbClr val="ffff66"/>
                </a:solidFill>
                <a:latin typeface="Times New Roman"/>
              </a:rPr>
              <a:t>Inspection</a:t>
            </a:r>
            <a:endParaRPr b="0" lang="en-US" sz="6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4648320" cy="320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ffffff"/>
                </a:solidFill>
                <a:uFillTx/>
                <a:latin typeface="Times New Roman"/>
              </a:rPr>
              <a:t>Wharton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ostium d ’aspect rouge et turg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520" y="2362320"/>
            <a:ext cx="3962520" cy="3200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ffffff"/>
                </a:solidFill>
                <a:uFillTx/>
                <a:latin typeface="Times New Roman"/>
              </a:rPr>
              <a:t>Salive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opalescent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urifo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LA LITHIASE</a:t>
            </a:r>
            <a:br>
              <a:rPr sz="6000"/>
            </a:br>
            <a:r>
              <a:rPr b="1" lang="fr-FR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Palpation bimanuelle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ffffff"/>
                </a:solidFill>
                <a:uFillTx/>
                <a:latin typeface="Times New Roman"/>
              </a:rPr>
              <a:t>Méthode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ndobuccale d ’arrière en av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xtérieure: région sous mandibul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ffffff"/>
                </a:solidFill>
                <a:uFillTx/>
                <a:latin typeface="Times New Roman"/>
              </a:rPr>
              <a:t>Perm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recherche d’un calc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lpation de la gla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endobuccale%2040003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4800600" cy="428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10:58:27Z</dcterms:created>
  <dc:creator>Bruno Maetz</dc:creator>
  <dc:description/>
  <dc:language>en-US</dc:language>
  <cp:lastModifiedBy>Dr FELDMANN Luc</cp:lastModifiedBy>
  <dcterms:modified xsi:type="dcterms:W3CDTF">2003-01-17T18:56:50Z</dcterms:modified>
  <cp:revision>32</cp:revision>
  <dc:subject/>
  <dc:title>PATHOLOGIE  NON TUMORALE  DES  GLANDES SALIVAIRES </dc:title>
</cp:coreProperties>
</file>