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27A-7ED1-4F56-BCF6-B538C3BA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38D-2D0F-4BA8-9F6E-D807232D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38A-3BDC-41BE-AF4A-F94F5B27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203-53A0-4E2A-8E20-15DCE307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A0D-0778-43E2-BA28-6679549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946F-03D6-4D02-B0F6-587EDB52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A19-5AF6-48AE-A763-DBCA9759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E09-3D23-4ED2-9AF7-9F8CFC79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929-0B24-49B4-BA71-DF0F84DD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C55-E27D-4F95-82F0-F4BCB2CE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AB3-FC02-453D-80DA-C8D2DE05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66B-8C17-445B-B3AA-3262F4F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B2AB-D33C-4208-B30B-2074B906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3366ff"/>
                </a:solidFill>
                <a:latin typeface="Times New Roman"/>
              </a:rPr>
              <a:t>LE PRURIT AN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66"/>
                </a:solidFill>
                <a:latin typeface="Times New Roman"/>
              </a:rPr>
              <a:t>2. Si lésions suinta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lication d’éosine ou permanganate (durée limité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66"/>
                </a:solidFill>
                <a:latin typeface="Times New Roman"/>
              </a:rPr>
              <a:t>3. Si suspicion de myc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ésions type intertrigo à colleret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ouvent prurit vaginal assoc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lèvement si do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aitement : pommade ou poudre (Ketoderm, Fonx, Amycor, Faz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 rebelle : traitement per 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66"/>
                </a:solidFill>
                <a:latin typeface="Times New Roman"/>
              </a:rPr>
              <a:t>4. Si lésions eczématisé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ermocorticoides en cure brève ( 8 à 15 j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uis, retour à une toilette soigneuse et la moins agressiv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66"/>
                </a:solidFill>
                <a:latin typeface="Times New Roman"/>
              </a:rPr>
              <a:t>5. Régularisation du trans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urtout si selles molles avec souil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rgile pour épaississ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ventuelle rééducation si troubles de la contin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cc66"/>
                </a:solidFill>
                <a:latin typeface="Times New Roman"/>
              </a:rPr>
              <a:t>6. Si plus de lésions et toujours pruri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rème neutre (Oxyplastine, Mitosyl, Saforelle, etc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tihistami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viction des irritants (épices, café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ventuellement, tranquillis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3366ff"/>
                </a:solidFill>
                <a:latin typeface="Times New Roman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tiologies mu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ais, le plus souvent essentiel (origine psychologique?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traitement passe toujours par une toilette de qualité et des soins adjuvants limité dans le temps de façon à éviter l’auto entretien des lés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3366ff"/>
                </a:solidFill>
                <a:latin typeface="Times New Roman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ituation ba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ien irritant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l’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l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le médec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fait, le prurit est péria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3366ff"/>
                </a:solidFill>
                <a:latin typeface="Times New Roman"/>
              </a:rPr>
              <a:t>Introdu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onc on distinguera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prurit avec lésions dermatologiques (spécifiques ou n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prurit sans lésions dermatolog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 prurit essentiel (problème thérapeutiq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3366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66ff"/>
                </a:solidFill>
                <a:latin typeface="Times New Roman"/>
              </a:rPr>
              <a:t>Lésions dermatologiques spécif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esque toute la pathologie dermatologique peut être en cau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soriasis, lichen, dermatose bulleuse, dermite séborrhéique, pemphigus, maladie de Paget ou de Bowen voire lésions tumorales (condylomes ou tumeurs authentiq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lève du dermatolo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ff"/>
                </a:solidFill>
                <a:latin typeface="Times New Roman"/>
              </a:rPr>
              <a:t>II. Lésions dermatologiques non spécif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rythème diffus suintant (intertrig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rosions superficielles, ragh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czéma d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paississement des plis de la m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ésions de prurigo souvent surinfectées (candida, staphylo, strepto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66ff"/>
                </a:solidFill>
                <a:latin typeface="Times New Roman"/>
              </a:rPr>
              <a:t>III. Prurit sans lésion dermatol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auses générales : diabète, hyperuricémie, insuffisance rénale, hémopath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auses proctologiques : fissures, hémorroïdes, fistule, voire can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auses digestives : oxyurose ( prurit nocturne ++), diarrhée, problème de continence (manométr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66ff"/>
                </a:solidFill>
                <a:latin typeface="Times New Roman"/>
              </a:rPr>
              <a:t>III. Prurit sans lésion dermatol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 fait, dans beaucoup de ces causes (procto, diarrhée, diabète) existent des problèmes de continence et le prurit est lié aux souillures d’où l’importance des toilette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3366ff"/>
                </a:solidFill>
                <a:latin typeface="Times New Roman"/>
              </a:rPr>
              <a:t>IV. Prurit essenti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 départ, pas de lésion dermatologique ou proctologique (psychogèn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e transforme en prurit avec lésions dermatologiques non spécifiques (prurigo, lésions eczématisées ou surinfecté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mpose des traitements locaux que nous allons maintenant détaill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cc66"/>
                </a:solidFill>
                <a:latin typeface="Times New Roman"/>
              </a:rPr>
              <a:t>1. Toilette loca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’agression est liée aux résidus stercoraux, aux résidus de savon, aux manœuvres abras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e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avon non acide (dermhydralin saforell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inçage abond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chage do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2:41:38Z</dcterms:created>
  <dc:creator>Grégoire Mudry</dc:creator>
  <dc:description/>
  <dc:language>en-US</dc:language>
  <cp:lastModifiedBy>Sandrine Depret-MOSSER</cp:lastModifiedBy>
  <dcterms:modified xsi:type="dcterms:W3CDTF">2003-04-15T14:05:28Z</dcterms:modified>
  <cp:revision>6</cp:revision>
  <dc:subject/>
  <dc:title>LE PRURIT ANAL</dc:title>
</cp:coreProperties>
</file>