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9F9-5D99-4DD1-99EF-B2F48FAB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39A-8A64-4A45-903F-BE763B9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60C-A36D-4DA9-9EE5-C586C145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217-F9E1-4444-8A9B-A1EFEAAF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F29-031E-48FE-BC9C-A645688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E77-AB3F-4594-96F7-82C5E73B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A32-A38B-4CA5-B4CB-37E07A66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35F-720F-41E8-B723-784C9EA5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78A-77D5-461F-AA43-5F30602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507-2565-4144-920F-A41BCC5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B7A-2B15-4D98-A2FC-AF201D71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057-5811-42B1-A871-70FFD29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03DE-4A66-475A-9D5D-D2671EF772F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2000" y="3716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é le 6 novembre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55736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981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76720" y="1341360"/>
            <a:ext cx="4464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ien Naître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24160" y="3429000"/>
            <a:ext cx="4587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n ARTOI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274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ément par l’ARH (art. L712.3.2 C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éseau ne constitue pas une entité juridique nouv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assemblée générale ann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un comité de coordination très ac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inq commis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mmunication/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tocoles/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édoPsychia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STRUCTURATION(2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 CONSTIT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ée aux établissements, aux organismes, aux associations hors professions mé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 MEDI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ée aux professionnels de santé et associations de professions de san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ESION LIBRE ET GRAT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part sans obligation de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toute critique est un moyen de progresser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MIER BI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 besoins spécifiques en 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quette et Affiche, Formation à la périnat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t de visiocommunication, de sit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 retour précoce à dom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ment ARH et Fonds Européens FEDER(en cours d’obtention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s FAQSV (accouchement pénible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 des guerres de chapelles (chez nous o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ts in utero et post-na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 régionales décrisp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la pénurie persiste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S LEG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onnanc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Périnatalité 1995-2000 du 12.4.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ets n°98-899 et 98-900 du 9.10.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f aux établissements de santé publics et privés pratiquant l’obstétrique, la néonatalogie ou la réanimation néona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OS « volet périnatalité » du 11.07.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ément de l’ARH le 6.11.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LITES QUOTIDIENNE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émographie médicale et paramédicale cri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i Aubry sur la réduction du temp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ve européenne : 48 heures de travail hebdomadaire, garde com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i Kouchner sur la prise en charge de l’aléa thérapeut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 PRINCIPES DU RES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marche volontaire, individuelle, révisable, non exclusive, fondée sur le confiance et le respect mutuel des interve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objectifs cl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structuration cl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évalu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 OBJECTIF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indicateurs régionaux ne sont pas b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éliorer la prise en charge mères enf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romis proximité sécur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« in Born – out Born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équation niveau de risque/niveau de soins prodigu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garantir la continuité et la sécurité des so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spect des principes de graduation des niveaux de 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cocité et qualité de surveillance de la gross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écocité dé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qualité surveillance pré et post-na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 OBJECTIF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er la communication entre l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tion des soins connue de tous (textes légaux valid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élaboration de protocoles communs validés par tous (évoluti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r communication vers l’extéri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fess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rtout population concernée (plaquette, site Interne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SATION DES SOI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uation des 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finition de Centres périna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Niveaux définis par le SROS tous les 5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Niveau de proximité, I, IIA, IIB e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Référent régional = Jeanne de Fla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éférentiels form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transferts mat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Les transferts in u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Les transferts néonat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Les re-transf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Les refus de transf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ON DU RES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des fondements du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ées du PMSI ne suffisent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information provenant directement des établissements, permettant de vérifier la faisabilité et la transpa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RTOIS – Périnatalité en pointe car 8 établissements sur 9 ont évalués leur activité obstétricale et néonatale pour les six premiers mois de 2002 (résultats à venir, car aucun moyens actuels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 Réseau «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RTOIS Périnatalit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 11, 10 aujourd’hui 9 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4 CH publics(Arras, Béthune, Douai, Le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2 PSPH (Clinique Auchel, Polyclinique Riaum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3 Privés ( Cliniques Saint Amé, Sainte Anne, Sainte Cathe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vert à tous ceux qui interviennent pendant la grossesse( avant, pendant et après l’accouch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t, Pédia, Anes, Pédopsy, Réani, SAMU, SMUR, Médecine générale, PMI Nord et Pas de Calais, Réseau S.F libérales, Gynéco libéraux, Kiné, adminis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Tous professionnels de santé qui interviennent en périnat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Associations de parents et de bénév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6:40Z</dcterms:created>
  <dc:creator>Clémence DOGNIN</dc:creator>
  <dc:description/>
  <dc:language>en-US</dc:language>
  <cp:lastModifiedBy>Clémence DOGNIN</cp:lastModifiedBy>
  <dcterms:modified xsi:type="dcterms:W3CDTF">2003-01-12T09:44:00Z</dcterms:modified>
  <cp:revision>39</cp:revision>
  <dc:subject/>
  <dc:title>Diapositive 1</dc:title>
</cp:coreProperties>
</file>