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A1B7-CAD5-4E98-BEF6-78C8941793A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sister surla transmission dans un dcouple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agnostic diff pour les formes classiques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hoto de Kaposi juliusbe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yto diag de Tzan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érêt du tt local placebo ou effet de excip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fficulté d’apprendre qqch en 10 mn, alors que pressing formidable des médias et industrie qui tarabuste, partout on parle de poussée catastrophique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e cherche juste un éclairage un peu différent sur qq points d’un sujet trop conn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arler du réflexe oculo stylo mo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ro = primo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9F9A-74DF-4883-8EE6-AA41F28AD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D392-1660-4C37-A39F-4DCC0273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741E-A425-4276-97F8-FCD3DA410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191D-B472-4730-86F1-0233A1330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3ADE-6D4F-46DD-A257-B21F8E2A5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D65C-2FC9-4BBA-B3E0-EE349854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7C2A-8448-4D73-BB5F-58374AAD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6AB5-E6D0-490C-AE1D-1B6612A4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A819C-4AA3-4EC2-AEEF-4BDB282B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A186-8F33-4E99-9AD7-5562F21B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7D6E-EDF9-4EC7-A8FF-3202DB46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CBB0-0675-4EB0-A9A7-282AD61B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8E52-616F-424F-AEF6-C924E372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9375-95E6-4F21-A970-BDDC0564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8C05-7C05-4DD2-A008-81FAEBBB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A258-2711-4045-A56C-F5C047E8E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F66A-BD37-4C57-8986-0A4D447EA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B3E0-ACE4-4208-8F29-82548A8A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F8DA-5EED-486A-9E4B-A43D03FC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FDB0-5213-420C-A49F-8B8E98CB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A1E1-6132-40D4-B9D7-E5BDF5CB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C932-C9F1-40E4-B05B-CCCD7BBF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3388-CBEA-4495-B4B7-C3A96372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444F-F922-489E-9EEA-8652C229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81F8-5B3B-4BCB-8E70-87233E0C17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6F64-E381-418A-9053-8928E0CBC8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9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12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« Conduite à tenir devant un herpès 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4581000"/>
            <a:ext cx="82296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Tahoma"/>
              </a:rPr>
              <a:t>Quelques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mises au point selon la conférence de Consensus de société française de Dermatologie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Sous l’égide de l’ANA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971640" y="2349360"/>
            <a:ext cx="1617480" cy="16178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rcRect l="0" t="0" r="23674" b="0"/>
          <a:stretch/>
        </p:blipFill>
        <p:spPr>
          <a:xfrm>
            <a:off x="6372360" y="2349360"/>
            <a:ext cx="2082600" cy="1695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3368520" y="2206800"/>
            <a:ext cx="240696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588000" y="1341360"/>
            <a:ext cx="1987560" cy="2986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5267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ituation de Récurrences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Si doute sur leur origine : IFD ou culture mais surtout pas serologie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ffffff"/>
                </a:solidFill>
                <a:uFillTx/>
                <a:latin typeface="Tahoma"/>
              </a:rPr>
              <a:t>TT curatif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peu convaincant sinon tt aciclovir p.os pour H.génital(sur la durée mais pas la douleu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T local sans 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intérêt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démontré.!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ffffff"/>
                </a:solidFill>
                <a:uFillTx/>
                <a:latin typeface="Tahoma"/>
              </a:rPr>
              <a:t>TT préventif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oui si + de 6 récurrences certaines par an,ainsi que pour érythème polymorphe récurren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5907240" y="0"/>
            <a:ext cx="3236760" cy="15159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5435640" y="4187880"/>
            <a:ext cx="3708360" cy="2670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419640" y="5661000"/>
            <a:ext cx="22334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Un diagnostic courant mais qui ne coule pas de sourc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042920" y="1558800"/>
            <a:ext cx="7064280" cy="5299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llergie au Nickel du robine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efficacité des tt antiviraux p.o. et locau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cherche par IF du virus négativ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st Nickel +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Éviction et corticoïdes effica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Reproduction controlatérale +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346720" y="19810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940360" y="4005360"/>
            <a:ext cx="167652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oint fort: examen du patient +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3300"/>
                </a:solidFill>
                <a:latin typeface="Tahoma"/>
              </a:rPr>
              <a:t>À oublier:</a:t>
            </a:r>
            <a:br>
              <a:rPr sz="2000"/>
            </a:br>
            <a:r>
              <a:rPr b="0" lang="fr-FR" sz="2000" spc="-1" strike="noStrike">
                <a:solidFill>
                  <a:srgbClr val="ff3300"/>
                </a:solidFill>
                <a:latin typeface="Tahoma"/>
              </a:rPr>
              <a:t>la sérologi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Tahoma"/>
              </a:rPr>
              <a:t>Sans intérêt </a:t>
            </a:r>
            <a:r>
              <a:rPr b="0" i="1" lang="fr-FR" sz="2000" spc="-1" strike="noStrike">
                <a:solidFill>
                  <a:srgbClr val="ffcc00"/>
                </a:solidFill>
                <a:latin typeface="Tahoma"/>
              </a:rPr>
              <a:t>démontré </a:t>
            </a:r>
            <a:r>
              <a:rPr b="0" lang="fr-FR" sz="2000" spc="-1" strike="noStrike">
                <a:solidFill>
                  <a:srgbClr val="ffcc00"/>
                </a:solidFill>
                <a:latin typeface="Tahoma"/>
              </a:rPr>
              <a:t> le plus souvent </a:t>
            </a:r>
            <a:br>
              <a:rPr sz="2000"/>
            </a:br>
            <a:r>
              <a:rPr b="0" lang="fr-FR" sz="2000" spc="-1" strike="noStrike">
                <a:solidFill>
                  <a:srgbClr val="ffcc00"/>
                </a:solidFill>
                <a:latin typeface="Tahoma"/>
              </a:rPr>
              <a:t>le tt loc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Tahoma"/>
              </a:rPr>
              <a:t>À discuter</a:t>
            </a:r>
            <a:br>
              <a:rPr sz="2000"/>
            </a:br>
            <a:r>
              <a:rPr b="0" lang="fr-FR" sz="2000" spc="-1" strike="noStrike">
                <a:solidFill>
                  <a:srgbClr val="ffcc00"/>
                </a:solidFill>
                <a:latin typeface="Tahoma"/>
              </a:rPr>
              <a:t>l’intérêt de traiter les récurrences isolé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ff00"/>
                </a:solidFill>
                <a:latin typeface="Tahoma"/>
              </a:rPr>
              <a:t>À adopter </a:t>
            </a:r>
            <a:br>
              <a:rPr sz="2000"/>
            </a:br>
            <a:r>
              <a:rPr b="0" lang="fr-FR" sz="2000" spc="-1" strike="noStrike">
                <a:solidFill>
                  <a:srgbClr val="00ff00"/>
                </a:solidFill>
                <a:latin typeface="Tahoma"/>
              </a:rPr>
              <a:t>le diagnostic virologique direc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ff00"/>
                </a:solidFill>
                <a:latin typeface="Tahoma"/>
              </a:rPr>
              <a:t>À ne pas négliger: information, prévention des formes sévères(immunodéprimé, femme enceinte, atopique.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Economiser : c’est savoir=maîtrise médicalisé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2920" y="2060640"/>
            <a:ext cx="410076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Pour inf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Serologie = B70 + B70+ prél = env 40 €, résultat 15j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Zovirax crème 10 g=19,7 €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Zovirax 25 cp = 27 €, 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Zélitrex 10cp = 28 €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IFD =B40+prél = env 15 €, résultat en 1 journé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Culture = B150 + pr = 40 €, résultat en +3j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zanck =P120+K3=env 35 €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Du temps  et un peu de sali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4067280" y="5300640"/>
            <a:ext cx="865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356000" y="4221000"/>
            <a:ext cx="576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11280" y="3213000"/>
            <a:ext cx="22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84360" y="2349360"/>
            <a:ext cx="216072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La conférence de consensus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novembre 2001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47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Conclusions du Comité d’experts et bibliographie de la Société française de Dermatolog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Vérité relative, validité courte mais indépenda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Rester serein dans le forcing médiati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Texte sur 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ahoma"/>
              </a:rPr>
              <a:t>www.sfdermato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261040" y="1981080"/>
            <a:ext cx="2813040" cy="1981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094360" y="4114800"/>
            <a:ext cx="31446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agnostic de l’herpès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43909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Clinique le + souvent mais se méfier des piè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Sérologie sans intérêt diagnostique en pratiqu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Diagnostic virologique : recherche d’Ag (IFD, Elisa): rapide, efficace, faux né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Mieux encore: PCR ou culture+PCR: plus lourds mais + sensi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Cytodiagnostic de Tzanck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435640" y="1916280"/>
            <a:ext cx="2879640" cy="19476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429160" y="4114800"/>
            <a:ext cx="2476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spects cliniques buccaux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1833480" cy="1833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700360" y="1341360"/>
            <a:ext cx="2979720" cy="1981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156360" y="1341360"/>
            <a:ext cx="2681280" cy="1981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6073920" y="3429000"/>
            <a:ext cx="3070080" cy="1981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395280" y="3500280"/>
            <a:ext cx="2743200" cy="1284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324000" y="4941720"/>
            <a:ext cx="2736720" cy="1766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8"/>
          <a:stretch/>
        </p:blipFill>
        <p:spPr>
          <a:xfrm>
            <a:off x="3132000" y="3357720"/>
            <a:ext cx="3048120" cy="1974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3203640" y="475308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95280" y="3998880"/>
            <a:ext cx="3887640" cy="2859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spects génitaux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24000" y="1052640"/>
            <a:ext cx="2336760" cy="312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500720" y="3929040"/>
            <a:ext cx="3887640" cy="2928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6156360" y="1052640"/>
            <a:ext cx="2681280" cy="3243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3132000" y="1125360"/>
            <a:ext cx="2448000" cy="29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50920" y="2637000"/>
            <a:ext cx="3132000" cy="2349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2916360" y="4103640"/>
            <a:ext cx="3600360" cy="2754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250920" y="260280"/>
            <a:ext cx="3708360" cy="2471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5867280" y="1268280"/>
            <a:ext cx="2952720" cy="25574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292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res cas de figu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0" y="4849920"/>
            <a:ext cx="2952720" cy="2008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5651640" y="-892080"/>
            <a:ext cx="3779640" cy="2421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"/>
          <a:srcRect l="31470" t="17304" r="27796" b="-1194"/>
          <a:stretch/>
        </p:blipFill>
        <p:spPr>
          <a:xfrm>
            <a:off x="3851280" y="0"/>
            <a:ext cx="1892160" cy="2924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5249880" y="4005360"/>
            <a:ext cx="389412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398920" y="549360"/>
            <a:ext cx="3745080" cy="2900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059280" y="0"/>
            <a:ext cx="2734920" cy="4032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619280" y="3716280"/>
            <a:ext cx="5160960" cy="3355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-252360" y="404640"/>
            <a:ext cx="3708360" cy="26035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920" y="2492280"/>
            <a:ext cx="86040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Quelques diagnostics différentiel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0" y="3645000"/>
            <a:ext cx="2217600" cy="3816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7"/>
          <a:stretch/>
        </p:blipFill>
        <p:spPr>
          <a:xfrm>
            <a:off x="5580000" y="3774960"/>
            <a:ext cx="381636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Qui traiter et quand 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Evolution des critères dans le tps pour un mala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Selon le Nb des récurrences, localisation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Selon la Sévérité des lésions, retentiss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Risque contagieux (mais 75 % des transmissions HSV génitales  en période asymptomatique.., ) risque transmission VIH augmenté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et risques pour les sujets fragilisé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Mais aussi: facteurs psychologiques, médiatiques et économiqu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ituation de primo-infection ou infection initiale non primair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diagnostic virologique direct possible pour les cas douteu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Aciclovir 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ahoma"/>
              </a:rPr>
              <a:t>p.os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et ses dérivés (évent. IV) intérêt démontré pour douleurs, durée et portage asyptomatiqu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Autres tt sans utilité </a:t>
            </a:r>
            <a:r>
              <a:rPr b="0" i="1" lang="fr-FR" sz="2400" spc="-1" strike="noStrike">
                <a:solidFill>
                  <a:srgbClr val="ffffff"/>
                </a:solidFill>
                <a:latin typeface="Tahoma"/>
              </a:rPr>
              <a:t>démontré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995720" y="3959280"/>
            <a:ext cx="4148280" cy="2898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5219640" y="1773360"/>
            <a:ext cx="363528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17:28:23Z</dcterms:created>
  <dc:creator>Nicolas Virnot</dc:creator>
  <dc:description/>
  <dc:language>en-US</dc:language>
  <cp:lastModifiedBy>Nicolas Virnot</cp:lastModifiedBy>
  <dcterms:modified xsi:type="dcterms:W3CDTF">2003-01-11T18:08:57Z</dcterms:modified>
  <cp:revision>21</cp:revision>
  <dc:subject/>
  <dc:title>L’ Herpès en 2003</dc:title>
</cp:coreProperties>
</file>