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366-EC98-4E96-880A-0466837B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B50-881A-497E-8D31-2F95BC1C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E13-9F91-49F3-9939-AF0C80D7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65F-D637-4D21-A4C3-A012C8BC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A367-D5E7-401D-B737-C852594C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9346-2BBD-449C-8EB2-04946E5D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F6D5-2922-49EF-B4EB-188247A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C4A4-E403-4A5E-8C40-7EA7C7A4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756F-F46B-432C-A6A8-068E0773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1BAE-8CD0-45A3-8A2F-58EBB4E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980-18FD-40E1-8414-AD272F35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2FD-AF6C-4C82-8B6E-0A715F0A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3F1C-6DFC-49D5-8E36-CE571D9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E37E-9000-455A-BA2C-51C8FED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F3C2-9CFB-4B80-A9E0-F895B3F6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5338-EF29-4F1D-9F0C-8398BC1E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675B-3D14-4391-8BF7-D21DD2F5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9FB-D824-4901-A837-08A5EF56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2D9-47E4-4F76-B17E-420E88FF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A35-0921-45E0-89D6-9D514DAB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239-0CDE-4F21-8022-3A9F738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264-BF13-4AC6-BCA8-62187A2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496-4FF7-4ECD-B07C-E5172438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E29-43ED-45F1-AF75-A44446D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8080" y="5029200"/>
            <a:ext cx="8152920" cy="1599840"/>
            <a:chOff x="838080" y="502920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3267360" y="50292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92840" y="519444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152160" y="541512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574524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14 éme Journée médicale de Doua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567-B51A-4610-B4FF-8451992BBA7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09480" y="5105520"/>
            <a:ext cx="8152920" cy="1599840"/>
            <a:chOff x="609480" y="510552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3038760" y="510552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64240" y="527076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23560" y="549144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582156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14ème Journée médicale de Doua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46D3-2C3A-4B98-8BD7-A0FD80D3EB8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c66"/>
                </a:solidFill>
                <a:latin typeface="Times New Roman"/>
              </a:rPr>
              <a:t>BILAN D’UNE HEMATURIE MACROSCOPIQUE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4114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ar le Docteur Pierre-Marie Descam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33520"/>
            <a:ext cx="498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440" y="622476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295280"/>
            <a:ext cx="736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840" y="6224760"/>
            <a:ext cx="3340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286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 u="sng">
                <a:solidFill>
                  <a:srgbClr val="ffcc66"/>
                </a:solidFill>
                <a:uFillTx/>
                <a:latin typeface="Times New Roman"/>
              </a:rPr>
              <a:t>AUTRES SAIGNEMENTS DU HAUT APPARE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Tumeurs solides du re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Angiom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Polykyst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Calcu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 u="sng">
                <a:solidFill>
                  <a:srgbClr val="ffcc66"/>
                </a:solidFill>
                <a:uFillTx/>
                <a:latin typeface="Times New Roman"/>
              </a:rPr>
              <a:t>AUTRES SAIGNEMENTS DU BAS APPAREI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90512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Calcul vési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Bilharzi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Adénome prostati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Cancer prostati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20" y="6095880"/>
            <a:ext cx="29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14 éme Journée médicale de Doua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 u="sng">
                <a:solidFill>
                  <a:srgbClr val="ffcc66"/>
                </a:solidFill>
                <a:uFillTx/>
                <a:latin typeface="Times New Roman"/>
              </a:rPr>
              <a:t>HEMATURIES  NEPHROLOG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6248520"/>
            <a:ext cx="333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cc"/>
                </a:solidFill>
                <a:latin typeface="Times New Roman"/>
              </a:rPr>
              <a:t>Jamais de caillo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8288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Syndrome d’hématurie macroscopique récidivante : maladie de Berg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Syndrome néphritique aiguë des G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Syndrome d’Alpo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Néphropathie glomérulaire malig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186600"/>
            <a:ext cx="3851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04920"/>
            <a:ext cx="8763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05740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En présence d’une hématurie macroscopi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Evoquer un saignement d’origine tumor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46280" y="6248520"/>
            <a:ext cx="333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cc66"/>
                </a:solidFill>
                <a:uFillTx/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5909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752480"/>
            <a:ext cx="8001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200 000 Hématies / mm 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Saignement au niveau de la voie excrétr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c66"/>
                </a:solidFill>
                <a:latin typeface="Times New Roman"/>
              </a:rPr>
              <a:t>Bilan morphologi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0"/>
            <a:ext cx="65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46280"/>
            <a:ext cx="848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Antécédents : tab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Anticoagulants, aspir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Totale, initiale, termin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Signes fonctionnels associ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6324480"/>
            <a:ext cx="333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72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 u="sng">
                <a:solidFill>
                  <a:srgbClr val="ffcc66"/>
                </a:solidFill>
                <a:uFillTx/>
                <a:latin typeface="Times New Roman"/>
              </a:rPr>
              <a:t>LE  CONTEXTE</a:t>
            </a:r>
            <a:r>
              <a:rPr b="0" i="1" lang="fr-FR" sz="4000" spc="-1" strike="noStrike" u="sng">
                <a:solidFill>
                  <a:srgbClr val="ffcc66"/>
                </a:solidFill>
                <a:uFillTx/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295280"/>
            <a:ext cx="948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Biologique :  N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Iono , créatinin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ECBU avec HL/mm3 </a:t>
            </a:r>
            <a:r>
              <a:rPr b="1" i="1" lang="fr-FR" sz="3200" spc="-1" strike="noStrike">
                <a:solidFill>
                  <a:srgbClr val="ffcc66"/>
                </a:solidFill>
                <a:latin typeface="Symbol"/>
                <a:ea typeface="Symbol"/>
              </a:rPr>
              <a:t>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HL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PSA ? Prot. des  24 H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Morphologique : échographie de l’appareil urinai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cystoscopie avec cytologie urinai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8120" y="6148440"/>
            <a:ext cx="3340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808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 u="sng">
                <a:solidFill>
                  <a:srgbClr val="ffcc66"/>
                </a:solidFill>
                <a:uFillTx/>
                <a:latin typeface="Times New Roman"/>
              </a:rPr>
              <a:t>LE  BILA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219320"/>
            <a:ext cx="948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UI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Scan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Urétéro-pyélographie rétrograde (UP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I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9520" y="6224760"/>
            <a:ext cx="3340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 u="sng">
                <a:solidFill>
                  <a:srgbClr val="ffcc66"/>
                </a:solidFill>
                <a:uFillTx/>
                <a:latin typeface="Times New Roman"/>
              </a:rPr>
              <a:t>EXAMENS  DE  2ème  INTEN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143000"/>
            <a:ext cx="838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 u="sng">
                <a:solidFill>
                  <a:srgbClr val="ffcc66"/>
                </a:solidFill>
                <a:uFillTx/>
                <a:latin typeface="Times New Roman"/>
              </a:rPr>
              <a:t>Alimentaire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: betterave et chou roug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rhubarb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 u="sng">
                <a:solidFill>
                  <a:srgbClr val="ffcc66"/>
                </a:solidFill>
                <a:uFillTx/>
                <a:latin typeface="Times New Roman"/>
              </a:rPr>
              <a:t>Médicament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: Pindione, Rifampicin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antiparasitai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 u="sng">
                <a:solidFill>
                  <a:srgbClr val="ffcc66"/>
                </a:solidFill>
                <a:uFillTx/>
                <a:latin typeface="Times New Roman"/>
              </a:rPr>
              <a:t>Endogène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: porphyrie, mélanuri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Hburie, Mburie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224760"/>
            <a:ext cx="3340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AGNOSTIC DIFFERENTIEL = pigmentur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 u="sng">
                <a:solidFill>
                  <a:srgbClr val="ffcc66"/>
                </a:solidFill>
                <a:uFillTx/>
                <a:latin typeface="Times New Roman"/>
              </a:rPr>
              <a:t>HEMATURIES  UROLOGIQUES : saignemen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Cystite hématuri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Tumeurs urothél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Autres saignements du Ht appare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Autres saignements du bas appare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Hématurie à l’eff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205740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Seulement chez la femm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Signes cliniques de cysti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ECBU : 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8 à 10 js d’antibiotiq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040" y="6224760"/>
            <a:ext cx="3340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YSTITE  HEMATURIQU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219320"/>
            <a:ext cx="838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Tab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Vessie : 85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Pronostic fonction du gr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st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Vessie : possibilité de traitements conservate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i="1" lang="fr-FR" sz="3200" spc="-1" strike="noStrike">
                <a:solidFill>
                  <a:srgbClr val="ffcc66"/>
                </a:solidFill>
                <a:latin typeface="Times New Roman"/>
              </a:rPr>
              <a:t>( résection , BCG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9520" y="6224760"/>
            <a:ext cx="3340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14ème Journée médicale de Dou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28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 u="sng">
                <a:solidFill>
                  <a:srgbClr val="ffcc66"/>
                </a:solidFill>
                <a:uFillTx/>
                <a:latin typeface="Times New Roman"/>
              </a:rPr>
              <a:t>TUMEURS  UROTHELIAL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32:30Z</dcterms:created>
  <dc:creator>Podevin</dc:creator>
  <dc:description/>
  <dc:language>en-US</dc:language>
  <cp:lastModifiedBy>Sandrine Depret-MOSSER</cp:lastModifiedBy>
  <dcterms:modified xsi:type="dcterms:W3CDTF">2003-04-15T14:08:24Z</dcterms:modified>
  <cp:revision>44</cp:revision>
  <dc:subject/>
  <dc:title>Aucun titre de diapositive</dc:title>
</cp:coreProperties>
</file>