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ct" ContentType="image/x-pict"/>
  <Override PartName="/ppt/media/image2.pct" ContentType="image/x-pict"/>
  <Override PartName="/ppt/media/image10.png" ContentType="image/pn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9.png" ContentType="image/png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CF6-769A-4F3C-8769-62C3FE39E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2EB8-14A6-4FF0-BF25-343F69C3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0D69-CDB4-4C6A-857F-B89CBF64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72E-6DB0-477D-9DE2-69053806E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A493-4DDF-490A-95E9-26A36E4C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169E-9833-4384-A64F-689EBCAC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1A63-6863-4E79-B37E-4412EF9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E247-D531-4B11-9730-BBA7CB07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0DBF-C6B1-42FD-B90F-3142B2EFF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39C7-0CDA-4561-A280-AACDD739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074-8F28-4F1F-9DEE-555818CD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7CC3-CA75-4F93-96E3-B930362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94D0-E609-42A7-A997-C1071FAF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B94B-D8B0-420A-935B-36AEACB1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889C-4763-494A-8310-40FC63EC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B404-1255-4325-9897-7A43E09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8CB9E-B48F-42CD-A3F6-FA5A9660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8B84-0F88-4AEE-AC2F-88787AF6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989C-AD0E-4758-B457-3B07CBDC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C2B-C8FE-4C40-B65D-FF1D289C6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92B-1655-4FD5-BC63-35E45FEA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76D9-B85B-40B1-AB42-CDC73791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64CE-901C-4A83-803F-5401B8A3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C0D-AB16-4FFB-A6F8-CDB88C02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4AA6-86A7-4448-8E87-5D4B37639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206F-E507-482F-92B9-E47CEEEBD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Le Département d’Information Médicale</a:t>
            </a:r>
            <a:r>
              <a:rPr b="0" lang="fr-FR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à l’hôpital</a:t>
            </a:r>
            <a:br>
              <a:rPr sz="4400"/>
            </a:b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DIM</a:t>
            </a:r>
            <a:br>
              <a:rPr sz="4400"/>
            </a:br>
            <a:br>
              <a:rPr sz="4400"/>
            </a:b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Le</a:t>
            </a:r>
            <a:r>
              <a:rPr b="1" lang="fr-FR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Programme de Médicalisation des Systèmes d’Information</a:t>
            </a:r>
            <a:br>
              <a:rPr sz="4400"/>
            </a:b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PM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cc"/>
                </a:solidFill>
                <a:latin typeface="Times New Roman"/>
              </a:rPr>
              <a:t>Comparaison de la valeur du point ISA 1999 - 2000</a:t>
            </a:r>
            <a:br>
              <a:rPr sz="2800"/>
            </a:br>
            <a:r>
              <a:rPr b="1" lang="fr-FR" sz="2800" spc="-1" strike="noStrike">
                <a:solidFill>
                  <a:srgbClr val="3366cc"/>
                </a:solidFill>
                <a:latin typeface="Times New Roman"/>
              </a:rPr>
              <a:t>Établissements publics de plus de 16 000 R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89040" y="1295280"/>
          <a:ext cx="7997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295280"/>
                    <a:ext cx="7997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Analyse de l’information médical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Arial"/>
              </a:rPr>
              <a:t>Pour l’établiss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nnaissance de son activ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jet d’établiss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Arial"/>
              </a:rPr>
              <a:t>Au niveau ré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ification au sein des Comités Techniques Régionaux : CO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RSS et points ISA par Pôles d ’Activité</a:t>
            </a:r>
            <a:br>
              <a:rPr sz="3200"/>
            </a:b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Évolution entre 1997 et 2000</a:t>
            </a:r>
            <a:br>
              <a:rPr sz="3200"/>
            </a:b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Médecine Adulte au CH de Douai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676520"/>
            <a:ext cx="7620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om sur les services avec un écart en RSS et un écart en points ISA compris entre -25% et 25%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S Sans Serif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7057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Durée Moyenne de Séjour (DMS)</a:t>
            </a:r>
            <a:br>
              <a:rPr sz="3200"/>
            </a:b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 au Centre Hospitalier de Douai</a:t>
            </a:r>
            <a:br>
              <a:rPr sz="3200"/>
            </a:b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Évolution entre 1997 et 200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143000" y="2057400"/>
          <a:ext cx="373068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57400"/>
                    <a:ext cx="373068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648320" y="1981080"/>
          <a:ext cx="4611600" cy="434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81080"/>
                    <a:ext cx="46116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571500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SS Multi-Un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16765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SS Mono-Unit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Durée Moyenne de Séjour (DMS)</a:t>
            </a:r>
            <a:br>
              <a:rPr sz="3200"/>
            </a:b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 au Centre Hospitalier de Douai</a:t>
            </a:r>
            <a:br>
              <a:rPr sz="3200"/>
            </a:b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Comparaison à l ’ENC pour l’année 2000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73240" y="1981080"/>
          <a:ext cx="777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240" y="1981080"/>
                    <a:ext cx="777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66cc"/>
                </a:solidFill>
                <a:latin typeface="Times New Roman"/>
              </a:rPr>
              <a:t>Nombre de séjours par pôles d ’activité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3366cc"/>
                </a:solidFill>
                <a:latin typeface="Times New Roman"/>
              </a:rPr>
              <a:t>Centres Hospitaliers de plus de 16 000 RSA (CH4)</a:t>
            </a:r>
            <a:br>
              <a:rPr sz="2400"/>
            </a:br>
            <a:r>
              <a:rPr b="1" lang="fr-FR" sz="2400" spc="-1" strike="noStrike">
                <a:solidFill>
                  <a:srgbClr val="3366cc"/>
                </a:solidFill>
                <a:latin typeface="Times New Roman"/>
              </a:rPr>
              <a:t>Nord - Pas-de-Calais  -  Année 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8153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66cc"/>
                </a:solidFill>
                <a:latin typeface="Times New Roman"/>
              </a:rPr>
              <a:t>Equivalents temps plein du personnel médical MCO </a:t>
            </a:r>
            <a:br>
              <a:rPr sz="2400"/>
            </a:br>
            <a:r>
              <a:rPr b="1" lang="fr-FR" sz="2400" spc="-1" strike="noStrike">
                <a:solidFill>
                  <a:srgbClr val="3366cc"/>
                </a:solidFill>
                <a:latin typeface="Times New Roman"/>
              </a:rPr>
              <a:t>pour 100 000 points ISA </a:t>
            </a:r>
            <a:br>
              <a:rPr sz="2400"/>
            </a:br>
            <a:r>
              <a:rPr b="1" lang="fr-FR" sz="2400" spc="-1" strike="noStrike">
                <a:solidFill>
                  <a:srgbClr val="3366cc"/>
                </a:solidFill>
                <a:latin typeface="Times New Roman"/>
              </a:rPr>
              <a:t>Centres Hospitaliers de plus de 16 000 RSA (CH4)</a:t>
            </a:r>
            <a:br>
              <a:rPr sz="2400"/>
            </a:br>
            <a:r>
              <a:rPr b="1" lang="fr-FR" sz="2400" spc="-1" strike="noStrike">
                <a:solidFill>
                  <a:srgbClr val="3366cc"/>
                </a:solidFill>
                <a:latin typeface="Times New Roman"/>
              </a:rPr>
              <a:t>Nord - Pas-de-Calais  -  Année 199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219320" y="1905120"/>
          <a:ext cx="74674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05120"/>
                    <a:ext cx="7467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Analyse de la production et de la consommation de soins - année 1999</a:t>
            </a:r>
            <a:br>
              <a:rPr sz="3200"/>
            </a:br>
            <a:r>
              <a:rPr b="1" lang="fr-FR" sz="44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Par bassin de vie et par secteur sanitai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77240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84872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8001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2880" y="-36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Historique du PMSI et des DI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251"/>
              </a:spcBef>
              <a:spcAft>
                <a:spcPts val="225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texte financ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ugmentation des dépenses de santé à partir de la décennie 1970-19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9,2% du PIB en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France est à la troisième place parmi les pays de l’OC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part de l’hospitalisation inférieure à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Autres taches du DI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nalyse de l’environnement hospita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articipation à la définition du Système d’Information Hospita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emandes de dossiers médic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Bibliothèque médi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73240" y="45684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251"/>
              </a:spcBef>
              <a:spcAft>
                <a:spcPts val="225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Conséqu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système hospitalier doit    pouvoir préciser ce qu’il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ises en place de réform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Comptabilité Analy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 PM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érimentation en 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15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rculaire n° 303 du 24 juillet 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7324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spcAft>
                <a:spcPts val="225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3366cc"/>
                </a:solidFill>
                <a:latin typeface="Arial"/>
              </a:rPr>
              <a:t>Les objectif du PM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Un modèle d’allocations de ressources pour les hôpita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Une aide à la gestion inter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001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Un outil créant les conditions d’un meilleur dialogue entre les différents partenaires hospitali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01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3300"/>
                </a:solidFill>
                <a:latin typeface="Times New Roman"/>
              </a:rPr>
              <a:t>Les composantes du PMS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Arial"/>
              </a:rPr>
              <a:t>Les secteurs concern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séjours en hospitalisation de courte durée : médecine, chirurgie, obstét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hospitalisations dans les unités d’urg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soins de suite et de ré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1749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es hospitalisations et les soins ambulatoires en psychia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173240" y="304920"/>
            <a:ext cx="77724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spcAft>
                <a:spcPts val="2001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Arial"/>
              </a:rPr>
              <a:t>Les données recueil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es données démographique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date de naissance, l’âge, le sexe et le code postal de rés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es informations administrativ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type de séjour, les dates et les modes d’entrée et de sortie et les unités médicales ayant pris en charge le pat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7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es informations d’ordre médical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diagnostic principal, les complications et morbidités associées et les ac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cc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Le recueil et le traitement des donné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Les résumés de sort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sumé d ’Unité Médicale: R.U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sumé Standardisé de Sortie : R.S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Un modèle d’agrégation des donn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500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Groupe Homogène de Malades : G.H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105520" y="2362320"/>
          <a:ext cx="380988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2362320"/>
                    <a:ext cx="3809880" cy="320040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cc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Le modèle d’agrégation des donné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143000" y="1371600"/>
          <a:ext cx="777240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371600"/>
                    <a:ext cx="7772400" cy="510552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3366cc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fr-FR" sz="3200" spc="-1" strike="noStrike">
                <a:solidFill>
                  <a:srgbClr val="3366cc"/>
                </a:solidFill>
                <a:latin typeface="Times New Roman"/>
              </a:rPr>
              <a:t>Le calcul des budgets théoriqu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990720" y="1752480"/>
          <a:ext cx="792468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924680" cy="4572000"/>
                  </a:xfrm>
                  <a:prstGeom prst="rect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15:52:46Z</dcterms:created>
  <dc:creator>Centre Hospitalier de Douai</dc:creator>
  <dc:description/>
  <dc:language>en-US</dc:language>
  <cp:lastModifiedBy>Sandrine Depret-MOSSER</cp:lastModifiedBy>
  <cp:lastPrinted>2003-01-18T10:10:09Z</cp:lastPrinted>
  <dcterms:modified xsi:type="dcterms:W3CDTF">2003-04-15T14:15:53Z</dcterms:modified>
  <cp:revision>33</cp:revision>
  <dc:subject/>
  <dc:title>Comparaison de la valeur du point ISA 1999 - 2000 Établissements publics de plus de 16 000 RSS , CHRU et GHICL</dc:title>
</cp:coreProperties>
</file>