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288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484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75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484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75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328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048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48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328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048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48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75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75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484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75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75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75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484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48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9120240" y="5964120"/>
            <a:ext cx="596880" cy="514440"/>
            <a:chOff x="9120240" y="5964120"/>
            <a:chExt cx="596880" cy="514440"/>
          </a:xfrm>
        </p:grpSpPr>
        <p:sp>
          <p:nvSpPr>
            <p:cNvPr id="3" name=""/>
            <p:cNvSpPr/>
            <p:nvPr/>
          </p:nvSpPr>
          <p:spPr>
            <a:xfrm>
              <a:off x="9325080" y="6170760"/>
              <a:ext cx="392040" cy="307800"/>
            </a:xfrm>
            <a:custGeom>
              <a:avLst/>
              <a:gdLst/>
              <a:ahLst/>
              <a:rect l="l" t="t" r="r" b="b"/>
              <a:pathLst>
                <a:path w="247" h="194">
                  <a:moveTo>
                    <a:pt x="246" y="51"/>
                  </a:moveTo>
                  <a:lnTo>
                    <a:pt x="219" y="62"/>
                  </a:lnTo>
                  <a:lnTo>
                    <a:pt x="193" y="74"/>
                  </a:lnTo>
                  <a:lnTo>
                    <a:pt x="169" y="87"/>
                  </a:lnTo>
                  <a:lnTo>
                    <a:pt x="146" y="102"/>
                  </a:lnTo>
                  <a:lnTo>
                    <a:pt x="124" y="120"/>
                  </a:lnTo>
                  <a:lnTo>
                    <a:pt x="103" y="141"/>
                  </a:lnTo>
                  <a:lnTo>
                    <a:pt x="83" y="165"/>
                  </a:lnTo>
                  <a:lnTo>
                    <a:pt x="62" y="193"/>
                  </a:lnTo>
                  <a:lnTo>
                    <a:pt x="53" y="193"/>
                  </a:lnTo>
                  <a:lnTo>
                    <a:pt x="45" y="193"/>
                  </a:lnTo>
                  <a:lnTo>
                    <a:pt x="37" y="193"/>
                  </a:lnTo>
                  <a:lnTo>
                    <a:pt x="30" y="193"/>
                  </a:lnTo>
                  <a:lnTo>
                    <a:pt x="23" y="193"/>
                  </a:lnTo>
                  <a:lnTo>
                    <a:pt x="15" y="192"/>
                  </a:lnTo>
                  <a:lnTo>
                    <a:pt x="8" y="192"/>
                  </a:lnTo>
                  <a:lnTo>
                    <a:pt x="0" y="193"/>
                  </a:lnTo>
                  <a:lnTo>
                    <a:pt x="19" y="157"/>
                  </a:lnTo>
                  <a:lnTo>
                    <a:pt x="42" y="125"/>
                  </a:lnTo>
                  <a:lnTo>
                    <a:pt x="67" y="96"/>
                  </a:lnTo>
                  <a:lnTo>
                    <a:pt x="95" y="71"/>
                  </a:lnTo>
                  <a:lnTo>
                    <a:pt x="125" y="49"/>
                  </a:lnTo>
                  <a:lnTo>
                    <a:pt x="158" y="30"/>
                  </a:lnTo>
                  <a:lnTo>
                    <a:pt x="194" y="14"/>
                  </a:lnTo>
                  <a:lnTo>
                    <a:pt x="232" y="0"/>
                  </a:lnTo>
                  <a:lnTo>
                    <a:pt x="246" y="5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faf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120240" y="6188040"/>
              <a:ext cx="214200" cy="290520"/>
            </a:xfrm>
            <a:custGeom>
              <a:avLst/>
              <a:gdLst/>
              <a:ahLst/>
              <a:rect l="l" t="t" r="r" b="b"/>
              <a:pathLst>
                <a:path w="135" h="183">
                  <a:moveTo>
                    <a:pt x="0" y="43"/>
                  </a:moveTo>
                  <a:lnTo>
                    <a:pt x="17" y="48"/>
                  </a:lnTo>
                  <a:lnTo>
                    <a:pt x="34" y="56"/>
                  </a:lnTo>
                  <a:lnTo>
                    <a:pt x="50" y="68"/>
                  </a:lnTo>
                  <a:lnTo>
                    <a:pt x="62" y="82"/>
                  </a:lnTo>
                  <a:lnTo>
                    <a:pt x="70" y="101"/>
                  </a:lnTo>
                  <a:lnTo>
                    <a:pt x="74" y="124"/>
                  </a:lnTo>
                  <a:lnTo>
                    <a:pt x="71" y="151"/>
                  </a:lnTo>
                  <a:lnTo>
                    <a:pt x="60" y="182"/>
                  </a:lnTo>
                  <a:lnTo>
                    <a:pt x="68" y="182"/>
                  </a:lnTo>
                  <a:lnTo>
                    <a:pt x="76" y="182"/>
                  </a:lnTo>
                  <a:lnTo>
                    <a:pt x="83" y="182"/>
                  </a:lnTo>
                  <a:lnTo>
                    <a:pt x="89" y="182"/>
                  </a:lnTo>
                  <a:lnTo>
                    <a:pt x="96" y="182"/>
                  </a:lnTo>
                  <a:lnTo>
                    <a:pt x="103" y="182"/>
                  </a:lnTo>
                  <a:lnTo>
                    <a:pt x="110" y="182"/>
                  </a:lnTo>
                  <a:lnTo>
                    <a:pt x="118" y="182"/>
                  </a:lnTo>
                  <a:lnTo>
                    <a:pt x="128" y="157"/>
                  </a:lnTo>
                  <a:lnTo>
                    <a:pt x="133" y="132"/>
                  </a:lnTo>
                  <a:lnTo>
                    <a:pt x="134" y="108"/>
                  </a:lnTo>
                  <a:lnTo>
                    <a:pt x="130" y="85"/>
                  </a:lnTo>
                  <a:lnTo>
                    <a:pt x="122" y="64"/>
                  </a:lnTo>
                  <a:lnTo>
                    <a:pt x="110" y="44"/>
                  </a:lnTo>
                  <a:lnTo>
                    <a:pt x="92" y="27"/>
                  </a:lnTo>
                  <a:lnTo>
                    <a:pt x="70" y="13"/>
                  </a:lnTo>
                  <a:lnTo>
                    <a:pt x="68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4" y="5"/>
                  </a:lnTo>
                  <a:lnTo>
                    <a:pt x="51" y="3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0" y="43"/>
                  </a:lnTo>
                </a:path>
              </a:pathLst>
            </a:custGeom>
            <a:solidFill>
              <a:srgbClr val="ff4c00"/>
            </a:solidFill>
            <a:ln w="0">
              <a:noFill/>
            </a:ln>
            <a:effectLst>
              <a:outerShdw dist="17819" dir="2700000" blurRad="0" rotWithShape="0">
                <a:srgbClr val="faf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201240" y="6075360"/>
              <a:ext cx="495360" cy="166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45" y="24"/>
                  </a:moveTo>
                  <a:lnTo>
                    <a:pt x="73" y="36"/>
                  </a:lnTo>
                  <a:lnTo>
                    <a:pt x="100" y="44"/>
                  </a:lnTo>
                  <a:lnTo>
                    <a:pt x="127" y="47"/>
                  </a:lnTo>
                  <a:lnTo>
                    <a:pt x="156" y="46"/>
                  </a:lnTo>
                  <a:lnTo>
                    <a:pt x="187" y="40"/>
                  </a:lnTo>
                  <a:lnTo>
                    <a:pt x="219" y="31"/>
                  </a:lnTo>
                  <a:lnTo>
                    <a:pt x="256" y="17"/>
                  </a:lnTo>
                  <a:lnTo>
                    <a:pt x="296" y="0"/>
                  </a:lnTo>
                  <a:lnTo>
                    <a:pt x="298" y="7"/>
                  </a:lnTo>
                  <a:lnTo>
                    <a:pt x="300" y="14"/>
                  </a:lnTo>
                  <a:lnTo>
                    <a:pt x="302" y="20"/>
                  </a:lnTo>
                  <a:lnTo>
                    <a:pt x="304" y="26"/>
                  </a:lnTo>
                  <a:lnTo>
                    <a:pt x="305" y="32"/>
                  </a:lnTo>
                  <a:lnTo>
                    <a:pt x="307" y="38"/>
                  </a:lnTo>
                  <a:lnTo>
                    <a:pt x="309" y="44"/>
                  </a:lnTo>
                  <a:lnTo>
                    <a:pt x="311" y="50"/>
                  </a:lnTo>
                  <a:lnTo>
                    <a:pt x="270" y="69"/>
                  </a:lnTo>
                  <a:lnTo>
                    <a:pt x="229" y="85"/>
                  </a:lnTo>
                  <a:lnTo>
                    <a:pt x="190" y="96"/>
                  </a:lnTo>
                  <a:lnTo>
                    <a:pt x="151" y="103"/>
                  </a:lnTo>
                  <a:lnTo>
                    <a:pt x="113" y="104"/>
                  </a:lnTo>
                  <a:lnTo>
                    <a:pt x="75" y="99"/>
                  </a:lnTo>
                  <a:lnTo>
                    <a:pt x="37" y="86"/>
                  </a:lnTo>
                  <a:lnTo>
                    <a:pt x="0" y="66"/>
                  </a:lnTo>
                  <a:lnTo>
                    <a:pt x="45" y="24"/>
                  </a:lnTo>
                </a:path>
              </a:pathLst>
            </a:custGeom>
            <a:solidFill>
              <a:srgbClr val="3265ff"/>
            </a:solidFill>
            <a:ln w="0">
              <a:noFill/>
            </a:ln>
            <a:effectLst>
              <a:outerShdw dist="17819" dir="2700000" blurRad="0" rotWithShape="0">
                <a:srgbClr val="faf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394920" y="5964120"/>
              <a:ext cx="144360" cy="155520"/>
            </a:xfrm>
            <a:custGeom>
              <a:avLst/>
              <a:gdLst/>
              <a:ahLst/>
              <a:rect l="l" t="t" r="r" b="b"/>
              <a:pathLst>
                <a:path w="91" h="98">
                  <a:moveTo>
                    <a:pt x="44" y="2"/>
                  </a:moveTo>
                  <a:lnTo>
                    <a:pt x="53" y="0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6" y="5"/>
                  </a:lnTo>
                  <a:lnTo>
                    <a:pt x="82" y="10"/>
                  </a:lnTo>
                  <a:lnTo>
                    <a:pt x="86" y="17"/>
                  </a:lnTo>
                  <a:lnTo>
                    <a:pt x="89" y="25"/>
                  </a:lnTo>
                  <a:lnTo>
                    <a:pt x="90" y="34"/>
                  </a:lnTo>
                  <a:lnTo>
                    <a:pt x="89" y="44"/>
                  </a:lnTo>
                  <a:lnTo>
                    <a:pt x="87" y="53"/>
                  </a:lnTo>
                  <a:lnTo>
                    <a:pt x="83" y="62"/>
                  </a:lnTo>
                  <a:lnTo>
                    <a:pt x="78" y="71"/>
                  </a:lnTo>
                  <a:lnTo>
                    <a:pt x="71" y="79"/>
                  </a:lnTo>
                  <a:lnTo>
                    <a:pt x="64" y="85"/>
                  </a:lnTo>
                  <a:lnTo>
                    <a:pt x="55" y="91"/>
                  </a:lnTo>
                  <a:lnTo>
                    <a:pt x="46" y="95"/>
                  </a:lnTo>
                  <a:lnTo>
                    <a:pt x="37" y="97"/>
                  </a:lnTo>
                  <a:lnTo>
                    <a:pt x="29" y="97"/>
                  </a:lnTo>
                  <a:lnTo>
                    <a:pt x="21" y="95"/>
                  </a:lnTo>
                  <a:lnTo>
                    <a:pt x="14" y="92"/>
                  </a:lnTo>
                  <a:lnTo>
                    <a:pt x="8" y="87"/>
                  </a:lnTo>
                  <a:lnTo>
                    <a:pt x="4" y="80"/>
                  </a:lnTo>
                  <a:lnTo>
                    <a:pt x="1" y="7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3" y="44"/>
                  </a:lnTo>
                  <a:lnTo>
                    <a:pt x="7" y="35"/>
                  </a:lnTo>
                  <a:lnTo>
                    <a:pt x="12" y="26"/>
                  </a:lnTo>
                  <a:lnTo>
                    <a:pt x="19" y="19"/>
                  </a:lnTo>
                  <a:lnTo>
                    <a:pt x="26" y="12"/>
                  </a:lnTo>
                  <a:lnTo>
                    <a:pt x="35" y="6"/>
                  </a:lnTo>
                  <a:lnTo>
                    <a:pt x="44" y="2"/>
                  </a:lnTo>
                </a:path>
              </a:pathLst>
            </a:custGeom>
            <a:solidFill>
              <a:srgbClr val="ff4c00"/>
            </a:solidFill>
            <a:ln w="0">
              <a:noFill/>
            </a:ln>
            <a:effectLst>
              <a:outerShdw dist="17819" dir="2700000" blurRad="0" rotWithShape="0">
                <a:srgbClr val="faf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Book Antiqua"/>
              </a:rPr>
              <a:t>2 formes de prédisposition aux cancers colorectaux</a:t>
            </a:r>
            <a:endParaRPr b="0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La polypose adénomateuse familiale : ra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Les HNPCC (syndromes de Lynch): plus fréqu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2686320" y="6235560"/>
            <a:ext cx="55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Dr Antoine Adenis, Centre Oscar Lambr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9560" y="266400"/>
            <a:ext cx="9428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HNPCC : principales caractéristiques cliniques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2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1 à 10% des CC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âg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colon dro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multiplicité des tumeu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autres tumeu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pronost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56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Book Antiqua"/>
              </a:rPr>
              <a:t>HNPCC : autres cancers</a:t>
            </a:r>
            <a:endParaRPr b="0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49440" y="1673280"/>
          <a:ext cx="701676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73280"/>
                    <a:ext cx="7016760" cy="4709880"/>
                  </a:xfrm>
                  <a:prstGeom prst="rect">
                    <a:avLst/>
                  </a:prstGeom>
                  <a:ln w="12600">
                    <a:solidFill>
                      <a:srgbClr val="7fff00"/>
                    </a:solidFill>
                    <a:miter/>
                  </a:ln>
                  <a:effectLst>
                    <a:outerShdw dist="107932" dir="2700000" blurRad="0" rotWithShape="0">
                      <a:srgbClr val="7fff0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956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Book Antiqua"/>
              </a:rPr>
              <a:t>HNPCC : critères d’Amsterdam</a:t>
            </a:r>
            <a:endParaRPr b="0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676520"/>
            <a:ext cx="9410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définir cliniquement les CCR héréditaires non polyposiques </a:t>
            </a:r>
            <a:r>
              <a:rPr b="0" lang="fr-FR" sz="2200" spc="-1" strike="noStrike" u="sng">
                <a:solidFill>
                  <a:srgbClr val="ffffff"/>
                </a:solidFill>
                <a:uFillTx/>
                <a:latin typeface="Book Antiqua"/>
              </a:rPr>
              <a:t>typiqu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présence d’au moins 3 parents, avec un CCR histologique prouvé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découvert avant 50 ans pour au moins un suje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l’un des cancers est parent au 1er degré des 2 autres, et l’atteinte porte sur 2 générations: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"/>
          <p:cNvSpPr/>
          <p:nvPr/>
        </p:nvSpPr>
        <p:spPr>
          <a:xfrm>
            <a:off x="1463760" y="5035680"/>
            <a:ext cx="6759360" cy="1587240"/>
          </a:xfrm>
          <a:prstGeom prst="rect">
            <a:avLst/>
          </a:prstGeom>
          <a:solidFill>
            <a:srgbClr val="618ffd"/>
          </a:solidFill>
          <a:ln w="12600">
            <a:solidFill>
              <a:srgbClr val="7fff00"/>
            </a:solidFill>
            <a:miter/>
          </a:ln>
          <a:effectLst>
            <a:outerShdw dist="107932" dir="2700000" blurRad="0" rotWithShape="0">
              <a:srgbClr val="7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4000" y="5340240"/>
            <a:ext cx="15840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4000" y="5797440"/>
            <a:ext cx="15840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4000" y="6330960"/>
            <a:ext cx="15840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435640"/>
            <a:ext cx="0" cy="9396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1400" y="6330960"/>
            <a:ext cx="15840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1400" y="5797440"/>
            <a:ext cx="15840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21280" y="5797440"/>
            <a:ext cx="15876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5892840"/>
            <a:ext cx="0" cy="482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26160" y="5867280"/>
            <a:ext cx="1149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21400" y="6330960"/>
            <a:ext cx="15876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4600" y="6330960"/>
            <a:ext cx="15840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4600" y="5797440"/>
            <a:ext cx="15840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5892840"/>
            <a:ext cx="0" cy="482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6160" y="6400800"/>
            <a:ext cx="89208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9200" y="266400"/>
            <a:ext cx="96188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Book Antiqua"/>
              </a:rPr>
              <a:t>Cancers apparemment familiaux mais Amsterdam  nég.</a:t>
            </a:r>
            <a:endParaRPr b="0" lang="en-US" sz="2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250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cancers apparemment familiaux hors HNPC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1 parent au 1er degré: risque multiplié par 2-3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2 parents au 1er degré: risque multiplié par 4-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CCR chez moins de 35 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560" y="266400"/>
            <a:ext cx="9428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Mutation des gènes de réparation </a:t>
            </a:r>
            <a:br>
              <a:rPr sz="3200"/>
            </a:b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des misappariements de l’ADN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si mutations des gènes codant pour les enzymes de réparation. : </a:t>
            </a:r>
            <a:r>
              <a:rPr b="1" lang="fr-FR" sz="2000" spc="-1" strike="noStrike" u="sng">
                <a:solidFill>
                  <a:srgbClr val="ffffff"/>
                </a:solidFill>
                <a:uFillTx/>
                <a:latin typeface="Book Antiqua"/>
              </a:rPr>
              <a:t>accumulation d’erreu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3149640"/>
            <a:ext cx="2735280" cy="1308600"/>
          </a:xfrm>
          <a:prstGeom prst="rect">
            <a:avLst/>
          </a:prstGeom>
          <a:solidFill>
            <a:srgbClr val="a2c1fe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Book Antiqua"/>
              </a:rPr>
              <a:t>mutation génom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Book Antiqua"/>
              </a:rPr>
              <a:t>d’un gène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Book Antiqua"/>
              </a:rPr>
              <a:t>réparation de l’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54920" y="3108240"/>
            <a:ext cx="2263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124080"/>
            <a:ext cx="2994120" cy="1003680"/>
          </a:xfrm>
          <a:prstGeom prst="rect">
            <a:avLst/>
          </a:prstGeom>
          <a:solidFill>
            <a:srgbClr val="a2c1fe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Book Antiqua"/>
              </a:rPr>
              <a:t>mutation s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Book Antiqua"/>
              </a:rPr>
              <a:t>d’un gène de réparation  de l’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3505320"/>
            <a:ext cx="501480" cy="444240"/>
          </a:xfrm>
          <a:prstGeom prst="rightArrow">
            <a:avLst>
              <a:gd name="adj1" fmla="val 50000"/>
              <a:gd name="adj2" fmla="val 56447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352680"/>
            <a:ext cx="2576520" cy="820440"/>
          </a:xfrm>
          <a:prstGeom prst="rect">
            <a:avLst/>
          </a:prstGeom>
          <a:solidFill>
            <a:srgbClr val="fe9b03"/>
          </a:soli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81d58"/>
                </a:solidFill>
                <a:latin typeface="Book Antiqua"/>
              </a:rPr>
              <a:t>phé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81d58"/>
                </a:solidFill>
                <a:latin typeface="Book Antiqua"/>
              </a:rPr>
              <a:t>hyperm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3581280"/>
            <a:ext cx="416160" cy="368280"/>
          </a:xfrm>
          <a:prstGeom prst="rightArrow">
            <a:avLst>
              <a:gd name="adj1" fmla="val 50000"/>
              <a:gd name="adj2" fmla="val 56505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56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Book Antiqua"/>
              </a:rPr>
              <a:t>Phénotype RER+</a:t>
            </a:r>
            <a:endParaRPr b="0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5600" y="4038480"/>
            <a:ext cx="90374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petites séquences répétées non codantes dispersées dans le géno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dans K HNPCC: insertions / délétions dans ces microsatellites, témoignant d’anomalies de la réparation des misappariements de l’ADN (phénotype hypermutabl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"/>
          <p:cNvSpPr/>
          <p:nvPr/>
        </p:nvSpPr>
        <p:spPr>
          <a:xfrm>
            <a:off x="1378080" y="1987560"/>
            <a:ext cx="5968800" cy="212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7fff00"/>
            </a:solidFill>
            <a:miter/>
          </a:ln>
          <a:effectLst>
            <a:outerShdw dist="107932" dir="2700000" blurRad="0" rotWithShape="0">
              <a:srgbClr val="7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27280" y="1754280"/>
            <a:ext cx="84614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Book Antiqua"/>
              </a:rPr>
              <a:t>Thibodeau 1993: “microsatellite instability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Book Antiqua"/>
              </a:rPr>
              <a:t>Ionov 1993: “ubiquitous somatic mutation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Book Antiqua"/>
              </a:rPr>
              <a:t>Aaltonen 1993: “replicative erro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9200" y="266400"/>
            <a:ext cx="9276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afd00"/>
                </a:solidFill>
                <a:latin typeface="Book Antiqua"/>
              </a:rPr>
              <a:t>Hétérozygotie microsatellitaire (</a:t>
            </a:r>
            <a:r>
              <a:rPr b="1" lang="fr-FR" sz="2000" spc="-1" strike="noStrike">
                <a:solidFill>
                  <a:srgbClr val="fafd00"/>
                </a:solidFill>
                <a:latin typeface="Book Antiqua"/>
              </a:rPr>
              <a:t>ici, répétition du dinucléotide CA</a:t>
            </a:r>
            <a:r>
              <a:rPr b="1" lang="fr-FR" sz="2200" spc="-1" strike="noStrike">
                <a:solidFill>
                  <a:srgbClr val="fafd00"/>
                </a:solidFill>
                <a:latin typeface="Book Antiqua"/>
              </a:rPr>
              <a:t>) </a:t>
            </a:r>
            <a:br>
              <a:rPr sz="2200"/>
            </a:br>
            <a:r>
              <a:rPr b="1" lang="fr-FR" sz="2200" spc="-1" strike="noStrike">
                <a:solidFill>
                  <a:srgbClr val="fafd00"/>
                </a:solidFill>
                <a:latin typeface="Book Antiqua"/>
              </a:rPr>
              <a:t>et mécanisme mutateur dans les cancers HNPCC</a:t>
            </a:r>
            <a:endParaRPr b="0" lang="en-US" sz="2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3171960" y="2184480"/>
            <a:ext cx="0" cy="11937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72080" y="2184480"/>
            <a:ext cx="0" cy="11937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72320" y="2184480"/>
            <a:ext cx="0" cy="111744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72440" y="2184480"/>
            <a:ext cx="0" cy="111744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1600" y="1630440"/>
            <a:ext cx="2062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78600" y="1403280"/>
            <a:ext cx="1864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hro mater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afd00"/>
                </a:solidFill>
                <a:latin typeface="Arial"/>
              </a:rPr>
              <a:t>4 répétitions 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3920" y="1403280"/>
            <a:ext cx="1804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hro pater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afd00"/>
                </a:solidFill>
                <a:latin typeface="Arial"/>
              </a:rPr>
              <a:t>8 répétitions 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3968640"/>
            <a:ext cx="2901960" cy="234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2480" y="5029200"/>
            <a:ext cx="473040" cy="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92480" y="5562720"/>
            <a:ext cx="473040" cy="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4440" y="40244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81d5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83320" y="5029200"/>
            <a:ext cx="6350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562720"/>
            <a:ext cx="6350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64240" y="51814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4240" y="5257800"/>
            <a:ext cx="6732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64240" y="5181480"/>
            <a:ext cx="6732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64240" y="5105520"/>
            <a:ext cx="6732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64240" y="5638680"/>
            <a:ext cx="6732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64240" y="5791320"/>
            <a:ext cx="6732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64240" y="5715000"/>
            <a:ext cx="6732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08920" y="4024440"/>
            <a:ext cx="125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81d58"/>
                </a:solidFill>
                <a:latin typeface="Arial"/>
              </a:rPr>
              <a:t>K  </a:t>
            </a:r>
            <a:r>
              <a:rPr b="1" lang="fr-FR" sz="2000" spc="-1" strike="noStrike">
                <a:solidFill>
                  <a:srgbClr val="081d58"/>
                </a:solidFill>
                <a:latin typeface="Arial"/>
              </a:rPr>
              <a:t>RER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52600" y="48625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52600" y="539604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20680" y="3587760"/>
            <a:ext cx="8645760" cy="291960"/>
          </a:xfrm>
          <a:prstGeom prst="rect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8520" y="3537000"/>
            <a:ext cx="803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amplification PCR, puis électrophorèse et auto-radiograph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78080" y="24382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06840" y="24382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8080" y="26668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6840" y="2666880"/>
            <a:ext cx="7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8080" y="28954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6840" y="28954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78080" y="320040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06840" y="320040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8800" y="228600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8800" y="243828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78800" y="259092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78800" y="274320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0" y="289548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78800" y="304812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8800" y="320040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335268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07200" y="228600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07200" y="24382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07200" y="259092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07200" y="274320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07200" y="28954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7200" y="304812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07200" y="320040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07200" y="33526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9200" y="266400"/>
            <a:ext cx="95425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afd00"/>
                </a:solidFill>
                <a:latin typeface="Book Antiqua"/>
              </a:rPr>
              <a:t>Conséquences du phénotype hyper-mutable</a:t>
            </a:r>
            <a:endParaRPr b="0" lang="en-US" sz="3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mutations potentiellement cancérogènes, si celles-ci surviennent au sein d’oncogènes ou d’anti-oncogèn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certains gènes seraient également possiblement plus sensibles aux erreurs de réplication...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.....correlation entre phénotype RER+ et les mutations du R-TGFb de type II (activité anti-proliférative de TGFb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916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Réparation des misappariements de l’ADN</a:t>
            </a:r>
            <a:br>
              <a:rPr sz="3200"/>
            </a:b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5240" y="1676520"/>
            <a:ext cx="87706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la modification d’une séquence nucléotidique par agents  physiques ou chimiques, entraine un misappariement de l’ADN et un signal de réparation (par excision-resynthèse de l’ADN défectueux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942840" y="3683160"/>
            <a:ext cx="0" cy="863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0240" y="4597560"/>
            <a:ext cx="30816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1360" y="4749840"/>
            <a:ext cx="291960" cy="177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28880" y="4978440"/>
            <a:ext cx="0" cy="635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920" y="3759120"/>
            <a:ext cx="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5920" y="4064040"/>
            <a:ext cx="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5920" y="4444920"/>
            <a:ext cx="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11120" y="4597560"/>
            <a:ext cx="12096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260360" y="4749840"/>
            <a:ext cx="22248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85920" y="4902120"/>
            <a:ext cx="0" cy="177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5920" y="5359320"/>
            <a:ext cx="0" cy="330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3760" y="3511440"/>
            <a:ext cx="844560" cy="5968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35240" y="4502160"/>
            <a:ext cx="758880" cy="74916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5240" y="5645160"/>
            <a:ext cx="93024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52600" y="361332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urier New"/>
              </a:rPr>
              <a:t>MLH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24080" y="468000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urier New"/>
              </a:rPr>
              <a:t>MSH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09760" y="574668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urier New"/>
              </a:rPr>
              <a:t>PM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29120" y="3683160"/>
            <a:ext cx="0" cy="939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660480" y="4673520"/>
            <a:ext cx="39348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11600" y="4826160"/>
            <a:ext cx="29196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29120" y="4978440"/>
            <a:ext cx="0" cy="711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71840" y="3759120"/>
            <a:ext cx="0" cy="330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71840" y="4444920"/>
            <a:ext cx="0" cy="177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97400" y="4673520"/>
            <a:ext cx="20628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260600" y="4826160"/>
            <a:ext cx="39348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86160" y="4978440"/>
            <a:ext cx="0" cy="635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92520" y="4425840"/>
            <a:ext cx="844560" cy="67320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29120" y="4444920"/>
            <a:ext cx="0" cy="177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746160" y="4673520"/>
            <a:ext cx="307800" cy="101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7280" y="4826160"/>
            <a:ext cx="206280" cy="253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71840" y="4521240"/>
            <a:ext cx="0" cy="25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97400" y="4597560"/>
            <a:ext cx="120600" cy="177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346280" y="4826160"/>
            <a:ext cx="222120" cy="177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260600" y="5054760"/>
            <a:ext cx="136440" cy="25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64240" y="4425840"/>
            <a:ext cx="844560" cy="67320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21400" y="4502160"/>
            <a:ext cx="93024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3000" y="3892680"/>
            <a:ext cx="844200" cy="5968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86520" y="3606840"/>
            <a:ext cx="0" cy="2235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3683160"/>
            <a:ext cx="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2680" y="3759120"/>
            <a:ext cx="0" cy="18543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001080" y="3835440"/>
            <a:ext cx="0" cy="1778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35360" y="4121280"/>
            <a:ext cx="672840" cy="291960"/>
          </a:xfrm>
          <a:prstGeom prst="rightArrow">
            <a:avLst>
              <a:gd name="adj1" fmla="val 50000"/>
              <a:gd name="adj2" fmla="val 115239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1400" y="4121280"/>
            <a:ext cx="758520" cy="291960"/>
          </a:xfrm>
          <a:prstGeom prst="rightArrow">
            <a:avLst>
              <a:gd name="adj1" fmla="val 50000"/>
              <a:gd name="adj2" fmla="val 129913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50280" y="4121280"/>
            <a:ext cx="672840" cy="291960"/>
          </a:xfrm>
          <a:prstGeom prst="rightArrow">
            <a:avLst>
              <a:gd name="adj1" fmla="val 50000"/>
              <a:gd name="adj2" fmla="val 115239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06480" y="3054240"/>
            <a:ext cx="758880" cy="44460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64360" y="3359160"/>
            <a:ext cx="758880" cy="44460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82720" y="3078000"/>
            <a:ext cx="892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09640" y="307980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urier New"/>
              </a:rPr>
              <a:t>PM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11320" y="3054240"/>
            <a:ext cx="673200" cy="44460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07000" y="3282840"/>
            <a:ext cx="596880" cy="67320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08000" y="310212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Book Antiqua"/>
              </a:rPr>
              <a:t>MSH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938988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HNPCC : </a:t>
            </a:r>
            <a:br>
              <a:rPr sz="3200"/>
            </a:b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erreurs de réplication et mutations observées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5" name=""/>
          <p:cNvSpPr/>
          <p:nvPr/>
        </p:nvSpPr>
        <p:spPr>
          <a:xfrm>
            <a:off x="949320" y="1911240"/>
            <a:ext cx="8131320" cy="673200"/>
          </a:xfrm>
          <a:prstGeom prst="rect">
            <a:avLst/>
          </a:prstGeom>
          <a:solidFill>
            <a:srgbClr val="618ffd"/>
          </a:solidFill>
          <a:ln w="12600">
            <a:solidFill>
              <a:srgbClr val="7fff00"/>
            </a:solidFill>
            <a:miter/>
          </a:ln>
          <a:effectLst>
            <a:outerShdw dist="107932" dir="2700000" blurRad="0" rotWithShape="0">
              <a:srgbClr val="7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66560" y="1952640"/>
            <a:ext cx="658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Book Antiqua"/>
              </a:rPr>
              <a:t>RER +</a:t>
            </a:r>
            <a:r>
              <a:rPr b="1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Book Antiqua"/>
              </a:rPr>
              <a:t>92%</a:t>
            </a: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35000" y="3054240"/>
            <a:ext cx="8045640" cy="3340080"/>
          </a:xfrm>
          <a:prstGeom prst="rect">
            <a:avLst/>
          </a:prstGeom>
          <a:solidFill>
            <a:srgbClr val="618ffd"/>
          </a:solidFill>
          <a:ln w="12600">
            <a:solidFill>
              <a:srgbClr val="7fff00"/>
            </a:solidFill>
            <a:miter/>
          </a:ln>
          <a:effectLst>
            <a:outerShdw dist="107932" dir="2700000" blurRad="0" rotWithShape="0">
              <a:srgbClr val="7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66560" y="3292560"/>
            <a:ext cx="566784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MLH1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(3p)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33%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MSH2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(2p)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3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PMS1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(2p)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2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PMS2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(7q)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67520" y="3581280"/>
            <a:ext cx="8668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72560" y="3619440"/>
            <a:ext cx="0" cy="2514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67520" y="6172200"/>
            <a:ext cx="8668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38160" y="4587840"/>
            <a:ext cx="821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urier New"/>
              </a:rPr>
              <a:t>7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7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Polypose adénomateuse familiale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transmission autosomale dominante (1/10000 naissance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x 100 à x 1000 polypes coliques adénomateux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age moye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499"/>
              </a:spcBef>
              <a:buClr>
                <a:srgbClr val="fe9b0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d’apparition des polypes: 25 a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499"/>
              </a:spcBef>
              <a:buClr>
                <a:srgbClr val="fe9b0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des SF: 33 a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499"/>
              </a:spcBef>
              <a:buClr>
                <a:srgbClr val="fe9b0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du diagnostic de polypose: 33 a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499"/>
              </a:spcBef>
              <a:buClr>
                <a:srgbClr val="fe9b0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du diagnostic de cancer: 42 a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90% des PAF, diagnostiquées avant 50 an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notion d’agrégation familiale dans 80% des ca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pas d’agrégation familiale dans 20% des cas </a:t>
            </a: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(--&gt; mutation spontanée du gène de la PAF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992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Fréquence des mutations dans la population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1 / 200 à 1 / 200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soit 30000 à 300000 individus en Fra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soit 2000 à 20000 individus en Région No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39560" y="266400"/>
            <a:ext cx="85903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Objectifs de la consultation d’oncogénétique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2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Identifier les CRC se développant dans le cadre d’une prédisposition familiale (arbre généalogiqu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Organiser le diagnostic moléculaire chez le probant et sa famille (ADN lymphocytair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Information du patient et de sa famil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prédiction du risque ?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propositions de dépistag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intervention ?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285640"/>
            <a:ext cx="979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7fff00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fr-FR" sz="4000" spc="-1" strike="noStrike">
                <a:solidFill>
                  <a:srgbClr val="fafd00"/>
                </a:solidFill>
                <a:latin typeface="Book Antiqua"/>
              </a:rPr>
              <a:t>Organiser le diagnostic moléculaire</a:t>
            </a:r>
            <a:endParaRPr b="0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9560" y="266400"/>
            <a:ext cx="9313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Book Antiqua"/>
              </a:rPr>
              <a:t>Objectifs du diagnostic moléculaire</a:t>
            </a:r>
            <a:endParaRPr b="0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chez un porteur d’un CCR (HNPCC cliniquement compatibl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éliminer la possibilité d’une PAF atténué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déterminer si le sujet est porteur d’une mutation génomique d’un des gènes connu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si c’est le cas, le patient présente donc un HNPCC 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000" spc="-1" strike="noStrike">
                <a:solidFill>
                  <a:srgbClr val="fafd00"/>
                </a:solidFill>
                <a:latin typeface="Book Antiqua"/>
              </a:rPr>
              <a:t>(critères objectifs d’HNPCC au lieu des critères cliniques d’Amsterdam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chez patient asymptomatique parent de HNPCC compati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ce patient a-t-il hérité du gène muté ? (connaitre la mutation familial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9410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7fff00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fr-FR" sz="3600" spc="-1" strike="noStrike">
                <a:solidFill>
                  <a:srgbClr val="fafd00"/>
                </a:solidFill>
                <a:latin typeface="Book Antiqua"/>
              </a:rPr>
              <a:t>Information du patient et de sa famille</a:t>
            </a:r>
            <a:endParaRPr b="0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683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Book Antiqua"/>
              </a:rPr>
              <a:t>Information</a:t>
            </a:r>
            <a:endParaRPr b="0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risque cumulatif de cancer colorectal chez les patients porteurs d’un gène muté : 9O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9200" y="266400"/>
            <a:ext cx="91234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Book Antiqua"/>
              </a:rPr>
              <a:t>HNPCC (porteurs asympto. ou forte présomption clinique) :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Book Antiqua"/>
              </a:rPr>
              <a:t>Recommandations en terme de dépistage</a:t>
            </a:r>
            <a:endParaRPr b="0" lang="en-US" sz="2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coloscopie complète : 1x / 1 an à partir de 25 ans (ou 5 ans avant l'age du + jeune des cas de la famille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Ex. gynéco, écho.endovaginale, Ca125 : 1x / 2 ans à partir de 30 an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550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surveillance arbre urinaire + estomac, si cas dans la famill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9200" y="266400"/>
            <a:ext cx="9199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Book Antiqua"/>
              </a:rPr>
              <a:t>HNPCC (porteurs asympto. ou forte présomption clinique) : </a:t>
            </a:r>
            <a:r>
              <a:rPr b="1" lang="fr-FR" sz="2400" spc="-1" strike="noStrike">
                <a:solidFill>
                  <a:srgbClr val="ffffff"/>
                </a:solidFill>
                <a:latin typeface="Book Antiqua"/>
              </a:rPr>
              <a:t>Intervention ?</a:t>
            </a:r>
            <a:endParaRPr b="0" lang="en-US" sz="2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979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encourager la participation aux essais de chémo-prévention 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colectomie subtotale prophylactique ??? (risque de CCR: 90%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HT + ovariectomie bilatérale à 40 ans surtout si atcd familiaux ? (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..mais cystadénoK péritonéal reste possible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Book Antiqua"/>
              </a:rPr>
              <a:t>colectomie subtotale si K +++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risque cumulatif de K métachrone: 20-40%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PAF : manifestations extra-coliques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943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......fréquence variable, apparaissant parfois plusieurs années avant la polypo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ostéomes mandibulair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polypes gastro-duodénaux  (90% des patients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hypertrophie congénitale de l’épithélium pigmentaire de la rétine (retrouvée ds 80% des PAF; grande spécificité si &gt; 3 taches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Book Antiqua"/>
              </a:rPr>
              <a:t>PAF : Evolution, Traitement</a:t>
            </a:r>
            <a:endParaRPr b="0" lang="en-US" sz="2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2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survenue inéluctable d’un CCR (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+/- 100% après 40 ans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le risque de CCR corrélé à la durée d’évolution et au nombre de polyp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risque de cancer duodénal chez les patients colectomisés (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risque 200 à 300 plus fréquent que la  normale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traitement: colectomie prophylactique 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(totale ou sub-totale vers 20ème anné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fe9b0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anastomose iléo-ana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fe9b0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anastomose iléo-rectale (+ surveillance du rectum, laser ?, sulindac ?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PAF : aspect génétique.1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4480" y="1523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le gène de la PAF est cloné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les mutations du gène APC (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env 200 décrites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) ont en commun d’être des mutations “stop” qui conduisent à la synthèse d’une proteine tronquée incapable d’assurer l’intégralité de ses fonction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7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PAF : aspect génétique.2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transmission dominante d’un allèle muté (ou délété) présent ds ttes les cellules: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Book Antiqua"/>
              </a:rPr>
              <a:t>événement génomiq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une mutation ou délétion du second allèle (au niveau des cellules coliques: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Book Antiqua"/>
              </a:rPr>
              <a:t>événement somatique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) serait responsable d’un accroissement anormal de la prolifération des cellules colique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......ce second événement ne serait peut-être pas nécessaire................fonction dominante négative de la proteine tronquée codée par l’allèle muté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Book Antiqua"/>
              </a:rPr>
              <a:t>Rôle du génotype dans l’expression variable des PAF</a:t>
            </a:r>
            <a:endParaRPr b="0" lang="en-US" sz="2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les signes oculaires sont présents 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si: mutation ds exons 10 à 15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phénotype aggravé 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(densité des adénomes 2 à 5 fois supérieure) si mutation ds exon 15 entre codons 1250 et 1464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phénotype atténué (AAPC) 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(&lt;100, révélation tardive, pas de manifestations extra-coliques) si mutation dans exons 2 et 3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polypose précoce 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(23a vs 33a, p=0,006), </a:t>
            </a: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cancer précoce 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(31a vs 38a, p&lt;0,02), </a:t>
            </a: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décès précoce par CCR </a:t>
            </a: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(33a vs 41a, p&lt;0,02) si mutation du codon 1309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....rôle des facteurs environnementaux ?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7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PAF : diagnostic génétique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recherche directe de la mutation chez le 1er atteint dans une famille suivie d’une offre de recherche de cette mutation chez les parents à risq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.......celui-ci ne se conçoit qu’en présence d’arguments cliniques formels en faveur d’une polypose adénomateuse chez au moins un parent de la personne dont on cherche à apprécier le risqu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.......sur lymphocytes périphériques (ADN génomiqu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7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Book Antiqua"/>
              </a:rPr>
              <a:t>PAF : recommandations cliniques</a:t>
            </a:r>
            <a:endParaRPr b="0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484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Book Antiqua"/>
              </a:rPr>
              <a:t>En l’absence d’analyse génétiq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fe9b0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....surveillance coloscopique (bi-) annuelle  (+ biopsies en zones saines) chez les parents au 1er degré, dès l’age de 11 ans jusqu’à 25 ans, puis tous les 2 ans jusqu’à 35-40 a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Book Antiqua"/>
              </a:rPr>
              <a:t>si analyse de liaison positiv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fe9b0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........coloscopie (bi-) annuelle dès 11 ans et colectomie prophylactique dès l’apparition des polyp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Book Antiqua"/>
              </a:rPr>
              <a:t>si analyse de liaison négativ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fe9b0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....4 coloscopies programmées à 11, 18, 25 et 35 a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781600"/>
            <a:ext cx="975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penser à l ’endoscopie haute (endosc. axial et latéral) avec biopsie de papi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06:17:22Z</dcterms:created>
  <dc:creator>col</dc:creator>
  <dc:description/>
  <dc:language>en-US</dc:language>
  <cp:lastModifiedBy>Sandrine Depret-MOSSER</cp:lastModifiedBy>
  <cp:lastPrinted>1998-12-02T11:40:28Z</cp:lastPrinted>
  <dcterms:modified xsi:type="dcterms:W3CDTF">2003-04-09T21:00:31Z</dcterms:modified>
  <cp:revision>19</cp:revision>
  <dc:subject/>
  <dc:title>Prise en charge des cancers recto-coliques familiaux, hors syndromes polyposiques</dc:title>
</cp:coreProperties>
</file>