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B53-4795-4A36-AF9C-C7C5CAE4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BC5-2D9D-4A17-8B9D-321AF41C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0F3-7613-42B7-8583-3EABE384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07B-BFA6-4A50-8BBF-5B1E78B7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2E94-FF45-4B9A-9A96-01DEB295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E078-18C8-41EC-AE14-AFB2CB41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E8CB-E1EA-43C9-B6E3-97CE378F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ACA9-EA98-481E-966E-414617B2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A781-4A8D-4AF1-AAA7-4BAB763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1417-905E-4DE3-BB14-F90E16FB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67C1-B57D-45BF-A9D0-826658D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925-AD40-4FA8-A251-003F7BD1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7D60-2D22-4B1E-8470-53D40D8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AC50-0C73-484B-9B78-5F0BB447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3BD7-6909-42B1-B4E0-0BD7978C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D8A5-04FF-49DF-BBC1-6B749F7F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F9AF-DD7A-44B0-9105-36557D94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FA6-380E-4409-914B-10B13C59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C53-CA6B-4F92-8E13-8625BED5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3C7-5B6E-4E96-A369-5BC4C24F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B96-EB16-480E-BAFA-D05BEBC2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F09-8A90-4D09-B0C7-697169F3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8DA-84E4-4310-9351-42C0586F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585-0339-4695-B70A-D8BEAB3B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3ECD-81DC-46A9-B9C2-540730D628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EDA2-F6C3-4F0F-BCD5-B07DB20EA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2209680"/>
            <a:ext cx="5943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Les bronchiolit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Causes et traitem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ise en charge thérapeutiqu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Nursing et environnement 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Proclive dorsal 30°, tête en légère hyper exten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Éviction du tabagisme passif ++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Chambre aérée, à moins de 19°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ise en charge thérapeutiqu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Kinésithérapie respiratoire :+++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surtout dès la levée du bronchospasme (phase hypersécrétant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technique spécifiqu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désobstruction des voies aériennes inférieur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rétablissement du flux expiratoir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toux provoqué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Tahoma"/>
              </a:rPr>
              <a:t>Prise en charge thérapeutique : </a:t>
            </a:r>
            <a:br>
              <a:rPr sz="3200"/>
            </a:br>
            <a:r>
              <a:rPr b="0" lang="fr-FR" sz="3200" spc="-1" strike="noStrike">
                <a:solidFill>
                  <a:srgbClr val="ccffff"/>
                </a:solidFill>
                <a:latin typeface="Tahoma"/>
              </a:rPr>
              <a:t>traitement médicamenteux 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Broncho-dilatatrices 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béta2mimétiqu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en milieu hospitali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en nébulisation avec O2 sous surveillance SaO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amélioration aléatoire et de courte duré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fr-FR" sz="2400" spc="-1" strike="noStrike" u="sng">
                <a:solidFill>
                  <a:srgbClr val="ccecff"/>
                </a:solidFill>
                <a:uFillTx/>
                <a:latin typeface="Tahoma"/>
              </a:rPr>
              <a:t>B2 mimétiques en spray ou en forme orale : pas d ’efficacité prouvé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ise en charge thérapeutique</a:t>
            </a: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les corticoïd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La corticothérapie par voie orale 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pas d ’efficacité démontrée 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La corticothérapie inhalée :</a:t>
            </a: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n ’ influence pas l ’évolution immédiate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ne diminue pas le risque de 2° rechute</a:t>
            </a: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ise en charge thérapeutique</a:t>
            </a: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les antibiotiqu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Pas en première intention ++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A utiliser si :</a:t>
            </a: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OM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hyperthermie &gt; 38°5 durant plus de 48 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si pathologie pulmonaire ou cardiaque  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si foyer pulmonaire radiologiqu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si  bilan biologique perturbé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Tahoma"/>
              </a:rPr>
              <a:t>Prise en charge thérapeutique </a:t>
            </a:r>
            <a:br>
              <a:rPr sz="3200"/>
            </a:br>
            <a:r>
              <a:rPr b="0" lang="fr-FR" sz="3200" spc="-1" strike="noStrike">
                <a:solidFill>
                  <a:srgbClr val="ccffff"/>
                </a:solidFill>
                <a:latin typeface="Tahoma"/>
              </a:rPr>
              <a:t>les antibiotiqu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Choix de l ’antibiotique 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efficacité sur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Hémophilus Influenza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Streptocoque pneumonia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Moraxella catarhalis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ise en charge thérapeutique </a:t>
            </a: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Choix de l ’antibiotiqu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Médicaments antibiotiques :</a:t>
            </a: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amoxicilline-acide clavulanique (Augmentin°, Ciblor°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Cefpodoxime (Orélox°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Cefuroxime (Zinnat° Cépazin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ise en charge thérapeutique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Pas d ’ind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des antitussi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des mucolytiques et mucorégulateu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ise en charge thérapeutiqu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L ’oxygénothérapie :</a:t>
            </a: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en milieu hospitalier uniqu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selon et sous surveillance de la SaO2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évention des bronchiolites à VR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Deux objectifs 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diminution de l ’incidence globale des bronchiolit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augmentation de l ’âge à la primo-infe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Les moyens 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lavage des mains (eau et savon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décontamination des surfa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Il convient de distinguer 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Le 1° épisode de bronchiolite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Les bronchiolites récidivantes ou    traînan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Préven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Conseils aux familles 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Éviter les lieux publics, enfumé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Aérer les pièces. Température inférieure à 19°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Éviter d ’exposer l ’enfant à des contacts rapproché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Lavage de nez en cas de rhinopharyngi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Retarder l ’âge de la mise en collectivité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évention médicamenteuse des bronchiolites à VR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Place des AC monoclonaux anti VRS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enfant &lt; 32 SA et de moins de 3 moi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enfant &lt; 2 ans avec DPB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Bronchiolite récidivante ou traînante</a:t>
            </a: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rechercher étiologie ou facteurs favorisants 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pathologie cardiaque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pathologie pulmonaire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pathologie neuromusculair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Mucoviscidos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asthme du nourriss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RG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tabagisme passif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Tahoma"/>
              </a:rPr>
              <a:t>1° épisode de bronchiolite aiguë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VRS dans 60 % à 90 %,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transmission directe (sécrétions)</a:t>
            </a: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              ou indirecte (support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ccecff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prévention +++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Bronchiolite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Infection très fréquente +++:</a:t>
            </a: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La primo-infection est quasi obligatoire avant l ’âge de 2 ans (rhinopharyngite le plus souvent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Tahoma"/>
              </a:rPr>
              <a:t>Bronchiolite : </a:t>
            </a:r>
            <a:br>
              <a:rPr sz="4000"/>
            </a:br>
            <a:r>
              <a:rPr b="0" lang="fr-FR" sz="4000" spc="-1" strike="noStrike">
                <a:solidFill>
                  <a:srgbClr val="ccffff"/>
                </a:solidFill>
                <a:latin typeface="Tahoma"/>
              </a:rPr>
              <a:t>quand hospitaliser 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Altération de l ’état génér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Apnée et/ou cyano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FR &gt; 60 / m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Enfant de moins de 6 semain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Ex- prématuré (AC &lt; 3 moi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Affection sous-jacente </a:t>
            </a:r>
            <a:r>
              <a:rPr b="0" lang="fr-FR" sz="2000" spc="-1" strike="noStrike">
                <a:solidFill>
                  <a:srgbClr val="ccecff"/>
                </a:solidFill>
                <a:latin typeface="Tahoma"/>
              </a:rPr>
              <a:t>(cardiaque, pulmonaire..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Bronchiolite : </a:t>
            </a: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quand hospitaliser ?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Intolérance alimentai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trouble de ventil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difficultés psychosociales +++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ffff"/>
                </a:solidFill>
                <a:uFillTx/>
                <a:latin typeface="Tahoma"/>
              </a:rPr>
              <a:t>Si l ’enfant n ’est pas hospitalisé :</a:t>
            </a:r>
            <a:r>
              <a:rPr b="0" lang="fr-FR" sz="3200" spc="-1" strike="noStrike">
                <a:solidFill>
                  <a:srgbClr val="ccffff"/>
                </a:solidFill>
                <a:latin typeface="Tahoma"/>
              </a:rPr>
              <a:t> expliquer à la famille </a:t>
            </a:r>
            <a:br>
              <a:rPr sz="3200"/>
            </a:br>
            <a:r>
              <a:rPr b="0" lang="fr-FR" sz="3200" spc="-1" strike="noStrike">
                <a:solidFill>
                  <a:srgbClr val="ccffff"/>
                </a:solidFill>
                <a:latin typeface="Tahoma"/>
              </a:rPr>
              <a:t>les  signes  de surveillance à domicile </a:t>
            </a:r>
            <a:br>
              <a:rPr sz="3200"/>
            </a:br>
            <a:r>
              <a:rPr b="0" lang="fr-FR" sz="3200" spc="-1" strike="noStrike">
                <a:solidFill>
                  <a:srgbClr val="ccffff"/>
                </a:solidFill>
                <a:latin typeface="Tahoma"/>
              </a:rPr>
              <a:t>et d ’aggravation +++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La détérioration de l ’état respiratoi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Le refus d ’alimentation et les troubles digesti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Le changement du comportement de l ’enfa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L ’élévation thermiqu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ise en charge </a:t>
            </a: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d ’une première bronchiolit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Le traitement est essentiellement </a:t>
            </a: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symptomatiq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désobstruction nasopharyngé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pluriquotidienn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au sérum physiologiqu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démonstration aux parents+++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Tahoma"/>
              </a:rPr>
              <a:t>Prise en charge thérapeutiqu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ecff"/>
                </a:solidFill>
                <a:uFillTx/>
                <a:latin typeface="Tahoma"/>
              </a:rPr>
              <a:t>Alimentation 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fractionnement des repas +/- épaississement des biber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ecff"/>
                </a:solidFill>
                <a:latin typeface="Tahoma"/>
              </a:rPr>
              <a:t>en milieu hospitalier :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alimentation parentérale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ccecff"/>
                </a:solidFill>
                <a:latin typeface="Tahoma"/>
              </a:rPr>
              <a:t>alimentation entérale par sonde nasogastriqu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4:27:09Z</dcterms:created>
  <dc:creator>Centre Hospitalier de Douai</dc:creator>
  <dc:description/>
  <dc:language>en-US</dc:language>
  <cp:lastModifiedBy>Sandrine Depret-MOSSER</cp:lastModifiedBy>
  <cp:lastPrinted>2003-01-13T11:25:46Z</cp:lastPrinted>
  <dcterms:modified xsi:type="dcterms:W3CDTF">2003-04-15T14:16:53Z</dcterms:modified>
  <cp:revision>11</cp:revision>
  <dc:subject/>
  <dc:title>zrtbzb</dc:title>
</cp:coreProperties>
</file>