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7F9-57F6-49AD-A50B-7EE59CA1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505-CCBA-4AFE-A6B8-F0C3C43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D71-97B0-4F6D-BDA0-7B67863F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DAF-3291-4E29-AE1F-37EF75AD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64D-F162-4756-BBF0-5AC38ED8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3E0-3792-4747-9450-DC56A01B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5CB-B0A3-4295-988B-ADEEE390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06A2-4D95-4C2A-8B3A-49F9FB7A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D81-08E8-4D71-95A1-E7C84FE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66D-59D0-4A4F-AABA-0C09A4BA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AFC-75A1-4FA9-B314-F090013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6F3-D3CD-4B58-B34D-E2779EA7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8403-878A-469C-B199-A8707FBF3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533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990000"/>
                </a:solidFill>
                <a:latin typeface="Times New Roman"/>
              </a:rPr>
              <a:t>DIAGNOSTIC</a:t>
            </a:r>
            <a:br>
              <a:rPr sz="6000"/>
            </a:br>
            <a:r>
              <a:rPr b="1" i="1" lang="fr-FR" sz="6000" spc="-1" strike="noStrike">
                <a:solidFill>
                  <a:srgbClr val="990000"/>
                </a:solidFill>
                <a:latin typeface="Times New Roman"/>
              </a:rPr>
              <a:t>DE L’ALLERGIE MEDICAMENTEUSE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19560" y="601956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r Édith MAE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8 Janvier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émarche stéréotypée du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Times New Roman"/>
              </a:rPr>
              <a:t>Tests in v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atch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urtout utilisés dans les réactions retardées (maculopapuleu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onne spécific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émarche stéréotypée du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imes New Roman"/>
              </a:rPr>
              <a:t>Test de provocatio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fois seuls les tests réalistes de provocation permettent de porter le diagnost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on objectif est plus d’innocenter un antibiotique plutôt que d’en confirmer la responsabilité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n milieu hospitalier pour atteindre la posologie quotidi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rès consentement éclairé du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s sont contre indiqués quand la réaction clinique a été sév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émarche stéréotypée du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Times New Roman"/>
              </a:rPr>
              <a:t>Test de provocation</a:t>
            </a:r>
            <a:r>
              <a:rPr b="1" lang="fr-FR" sz="36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Ils sont réalis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les ATB autres que PENICIL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les PENICILLINES quand tests nég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ANESTHESIQUES LOC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émarche stéréotypée du</a:t>
            </a: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Times New Roman"/>
              </a:rPr>
              <a:t>Tests biologiques</a:t>
            </a:r>
            <a:r>
              <a:rPr b="1" lang="fr-FR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Peu nombreux et non valid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Ne permettent pas de porter le diagnostic d’allergie médicamenteuse mais précis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e mécanis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Times New Roman"/>
              </a:rPr>
              <a:t>EXEMP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imes New Roman"/>
              </a:rPr>
              <a:t>Beta-lactamines</a:t>
            </a: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ests cutanés vali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duite à tenir bien codifi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99"/>
                </a:solidFill>
                <a:latin typeface="Times New Roman"/>
              </a:rPr>
              <a:t>Macrolides</a:t>
            </a:r>
            <a:r>
              <a:rPr b="1" lang="fr-FR" sz="3200" spc="-1" strike="noStrike">
                <a:solidFill>
                  <a:srgbClr val="000099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 de tests cutanés vali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 d’allergie croisée entre les différentes macro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test de provocation à une autre macrolide est conseil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Times New Roman"/>
              </a:rPr>
              <a:t>EXEMP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Times New Roman"/>
              </a:rPr>
              <a:t>Quinolone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 de test cutané f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action de cl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Times New Roman"/>
              </a:rPr>
              <a:t>AINS </a:t>
            </a: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faut distinguer les réactions avec atteinte respiratoire et sans atteinte respirat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vec atteinte respiratoire, les anti-inflammatoires non stéroïdiens sont contre-indiqu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ans atteinte respiratoire, il peut être essayé une autre classe d’anti-inflammatoire. Réintroduction en milieu hospita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Times New Roman"/>
              </a:rPr>
              <a:t>CONCLU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Diagnostic souvent porté par excè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Bilan allergologique obligatoire pour un diagnostic de cert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mportance de l’interrogato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écessité de tests cutanés, voire de tests de pro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99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agnostic souvent évoqué, rarement porté avec cer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iagnostic souvent porté par excè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2/3 des patients qui consultent pour une réaction avec un diagnostic présumé d’allergie médicamenteuse, ne présente pas d’all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a probabilité s’inverse cependant pour les chocs anaphylac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EPIDEMIOLOGIE</a:t>
            </a: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GENE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Incidence des réactions allergiques aux antibio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1000 traitements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 ’ATB donné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PENICILLINE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BACTRIM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3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EPHASPORINES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ERYTHROCIN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IFAMPICIN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OXYCYCLIN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0,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ENTAMICIN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0,4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EPIDEMIOLOGIE GENE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édicaments  incriminés en allerg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-LACTAM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ESTHESIQUES LOC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ACETA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ESTHESIQUES GENER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INO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U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’allergie médicamenteuse est reconnue dans des 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990000"/>
                </a:solidFill>
                <a:latin typeface="Times New Roman"/>
              </a:rPr>
              <a:t>OBJECTIFS PRINCIPAUX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avoir reconnaître une forme clinique 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chercher des informations orientant vers l’allergie médicamente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990000"/>
                </a:solidFill>
                <a:latin typeface="Times New Roman"/>
              </a:rPr>
              <a:t>Savoir reconnaître </a:t>
            </a:r>
            <a:br>
              <a:rPr sz="4800"/>
            </a:br>
            <a:r>
              <a:rPr b="1" lang="fr-FR" sz="4800" spc="-1" strike="noStrike">
                <a:solidFill>
                  <a:srgbClr val="990000"/>
                </a:solidFill>
                <a:latin typeface="Times New Roman"/>
              </a:rPr>
              <a:t>une forme clinique gra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hoc anaphylac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œdème de Quinc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bronchospas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9600" spc="-1" strike="noStrike" baseline="-12000">
                <a:solidFill>
                  <a:srgbClr val="990000"/>
                </a:solidFill>
                <a:latin typeface="Wingdings"/>
                <a:ea typeface="Wingdings"/>
              </a:rPr>
              <a:t></a:t>
            </a:r>
            <a:r>
              <a:rPr b="1" lang="fr-FR" sz="36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Mécanisme à rapporter à une réponse de typ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990000"/>
                </a:solidFill>
                <a:latin typeface="Times New Roman"/>
              </a:rPr>
              <a:t>Rechercher des inform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99"/>
                </a:solidFill>
                <a:latin typeface="Times New Roman"/>
              </a:rPr>
              <a:t>Chronologie des réactions possi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Times New Roman"/>
              </a:rPr>
              <a:t>Réaction immédiate (inférieure à 1 heu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phylaxie (choc)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spiratoire (œdème laryngé, bronchospas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utané : urticaire, angio-œdè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Times New Roman"/>
              </a:rPr>
              <a:t>Réaction semi retardée (1h – 72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rticaire, prurit, asthme, œdème laryng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Times New Roman"/>
              </a:rPr>
              <a:t>Réaction retardée (supérieure à 72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ruption maculopapul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émarche stéréotypée du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 u="sng">
                <a:solidFill>
                  <a:srgbClr val="000000"/>
                </a:solidFill>
                <a:uFillTx/>
                <a:latin typeface="Times New Roman"/>
              </a:rPr>
              <a:t>Interrogatoire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cherche les médicaments respon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echerche la notion de réintroduction par le patient de l’antibiotique et des effets secondaires appa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cise le délai d’apparition et la gravité de la ré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’interrogatoire est </a:t>
            </a:r>
            <a:r>
              <a:rPr b="1" lang="fr-FR" sz="3200" spc="-1" strike="noStrike">
                <a:solidFill>
                  <a:srgbClr val="000099"/>
                </a:solidFill>
                <a:latin typeface="Times New Roman"/>
              </a:rPr>
              <a:t>subjectif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mais </a:t>
            </a:r>
            <a:r>
              <a:rPr b="1" lang="fr-FR" sz="3200" spc="-1" strike="noStrike">
                <a:solidFill>
                  <a:srgbClr val="000099"/>
                </a:solidFill>
                <a:latin typeface="Times New Roman"/>
              </a:rPr>
              <a:t>non spécifique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Times New Roman"/>
              </a:rPr>
              <a:t>Un diagnostic de  certitude est obligatoire</a:t>
            </a:r>
            <a:r>
              <a:rPr b="0" lang="fr-FR" sz="32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Times New Roman"/>
              </a:rPr>
              <a:t>Démarche stéréotypée du diagno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Tests in vivo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Pricks tests et intradermo-ré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s sont utiles quand la réaction clinique a été immé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faire 4 à 6 semaines après la réaction en l’absence de prise de Béta-Bloquant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RE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cellent pour les PENICILLINES , CUR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n connus po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INOLONES, OPIACES, PARACETAMOL, SULFAMIDE, AINS, Produits de contraste io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52Z</dcterms:created>
  <dc:creator>Bruno Maetz</dc:creator>
  <dc:description/>
  <dc:language>en-US</dc:language>
  <cp:lastModifiedBy>Dr FELDMANN Luc</cp:lastModifiedBy>
  <dcterms:modified xsi:type="dcterms:W3CDTF">2003-01-17T18:41:50Z</dcterms:modified>
  <cp:revision>14</cp:revision>
  <dc:subject/>
  <dc:title>DIAGNOSTIC DE  L’ALLERGIE MEDICAMENTEUSE </dc:title>
</cp:coreProperties>
</file>