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E98-5FB0-4638-ABF4-B7270413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D96E-048E-436C-BA5D-7ABB15A3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F5A-5995-4CB1-B1E1-F35F4233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2EAB-3F0E-41C7-9183-61B706B1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3988-1398-4576-8361-B9AA5A47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9A6D-BF2C-42D1-A96F-4A14901F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FA6-3041-4238-A641-C8569CAB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4419-328B-493B-9D4C-5A68DC9A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E092-523E-4517-A5D0-283C720A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CEE0-F322-40FF-9174-0508763E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9CB2-8FF7-4042-B4C9-095F722F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182B-36D5-4DC9-94E8-082578CA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B75D-11F2-4CD6-AB09-B089C2398E02}" type="slidenum"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80769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La photo protection</a:t>
            </a: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en 2002 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nir compte de l ’ensoleill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e pas s ’exposer en été,entre 12H et 16H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Etre plus pruden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près de l ’équateur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en altitud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67" name="soleils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 méfi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419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u rayonnement indirect par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Le sable (10%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L’eau  (20%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La neige (80%)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 la fausse sécurité par: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Le parasol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Les nuag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l ’ impression de fraîcheur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Proscrire l ’exposition si prise de photosensibilisant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Etre très vigilant chez l ’enfant;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pas d ’exposition avant 3 an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Times New Roman"/>
              </a:rPr>
              <a:t>Le vêtement est le meilleur photoprotecteur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 concl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ous ne sommes pas égaux devant le soleil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La protection des enfants est une priorité absolu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Il faut utiliser les crèmes solaires correctemen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Le vêtement fait partie de la photoprotection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Il ne faut pas dilapider son capital soleil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FFETS FAVORAB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</a:rPr>
              <a:t>Chaleur bienfaisante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</a:rPr>
              <a:t>synthèse de vit. D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</a:rPr>
              <a:t>prévention de    dépression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FFETS  DELETE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</a:rPr>
              <a:t>Coup de soleil 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</a:rPr>
              <a:t>vieillissement cutané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</a:rPr>
              <a:t>induction de cancers</a:t>
            </a:r>
            <a:endParaRPr b="0" lang="en-US" sz="3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47" name="DSCN2274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 spectre solai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UVC: 255 à 280nm arrêtés par la couche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   d ’ozon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UVB: 280 à 320nm; responsables du coup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   de solei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UVA: 320 à 400nm; responsables du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   vieillissement cutané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UVB et UVA sont responsables de la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    photocarcinogénès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352680" y="457200"/>
          <a:ext cx="236232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457200"/>
                    <a:ext cx="236232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-304920" y="3352680"/>
            <a:ext cx="9677520" cy="35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Beitner H. Br. J. Dermatol. 1990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omic Sans MS"/>
              </a:rPr>
              <a:t>Le risque relatif de mélanomes augmente avec l ’usage des crèmes solaires !!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rèmes solaires </a:t>
            </a:r>
            <a:r>
              <a:rPr b="0" lang="en-US" sz="28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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cancer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Biais de sélection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indices très faibl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Quantité insuffisant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protection contre le seul érythèm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742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ent se protéger aujourd’hui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6858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99"/>
                </a:solidFill>
                <a:latin typeface="Times New Roman"/>
              </a:rPr>
              <a:t>En s ’adaptant </a:t>
            </a:r>
            <a:endParaRPr b="0" lang="en-US" sz="60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00200" y="3505320"/>
          <a:ext cx="609588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505320"/>
                    <a:ext cx="6095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04920" y="1828800"/>
          <a:ext cx="8610480" cy="4406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861048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ent utiliser les crèmes solai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Quantité suffisante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52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nouveler ttes les 2H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UVA et UVB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52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ort coefficient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bien étaler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16:07:39Z</dcterms:created>
  <dc:creator>Compaq</dc:creator>
  <dc:description/>
  <dc:language>en-US</dc:language>
  <cp:lastModifiedBy>MOSSER</cp:lastModifiedBy>
  <dcterms:modified xsi:type="dcterms:W3CDTF">2004-11-14T22:08:18Z</dcterms:modified>
  <cp:revision>19</cp:revision>
  <dc:subject/>
  <dc:title>La photoprotection   en 2002 </dc:title>
</cp:coreProperties>
</file>