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8CB8-103F-4ED3-92A0-DCCD8527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1E8-5CB6-4B8D-9E22-4AF9DE27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2209-9AFE-4643-865F-B4FD61F7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9E9C-1FF6-4857-B3E1-D67E4635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4A61-7B5D-4777-B025-D936BBDF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8486-0806-4258-981D-C27AAD7C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E589-72B2-4B42-AA0B-14C6ACD7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334D-9876-4DF7-8C21-80CAE9EE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3188-22E3-4D71-8F55-2175C32B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17D3-1FC5-418C-BC0B-BC1FAC4B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300E-3A1E-4419-BA5D-F231A8E0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DF5F-482F-430A-99A9-DEFD832C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BD9F-A9A7-4A2A-BB18-F80B18B4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645D-C1F4-4426-A75B-002C3E36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66DF-6012-4DCC-B284-551A9AB4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A61E-A7CA-45C4-8486-7F9B6C1D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024B-AFCE-46FD-B556-1306D3D1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88F0-0174-4685-917C-ED982CDE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5277-CB7F-4BC7-9F6D-7E142E1C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1161-694A-478E-8A80-890FD962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A24A-D522-4D55-863E-41FA85B9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C567-46E2-475F-896F-92E324F3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0F31-6312-420F-B62D-BA7DB86C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8C2B-59C8-42D7-8C49-892D0015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3EE9-1879-491B-AE03-1313D991C42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F3FB-D1E2-42BA-8EE7-1B7C98137C0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’INCONTINENCE URINAIRE DE LA FEM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876320" y="2057400"/>
          <a:ext cx="5391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6320" y="2057400"/>
                    <a:ext cx="5391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CONCLUS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L ’incontinence urinaire est un symptôme fréquent qui masque des pathologies variées. Elle mérite un bilan et une prise en charge adaptée afin de soulager les patient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Le bilan urodynamique aide à sa prise en charg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Depuis le TVT, plus d ’indication de pessai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INTRODU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Une femme sur deux présente une incontinence urinaire au moins intermittente; augmentation avec l ’âge et les grossess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L ’incontinence résulte d ’une inadéquation entre les forces de retenues urétrales et les pressions intra-vésicales pendant la phase de remplissag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es mécanismes sont multiples: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instabilité vésicale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instabilité urétrale isolée ou associée à l ’instabilité vésicale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insuffisance sphinctérienne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défaut de transmission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défaut anatomique (FVV, abouchement ectopiqu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es mécanismes (suite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par regorgemen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incontinence post-opératoi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CLINIQUE</a:t>
            </a: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On distingu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fuites en jet non précédées de besoin survenant à l ’effort (toux, rires, marche, saut…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fuites précédées d ’un besoin impérieux évoquant une instabilité vésicale ou urétra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incontinence permanente « en goutte » évoquant une insuffisance urétrale majeure, FVV ou abouchement ectopiqu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PRINCIPE DU BILAN URODYNAMIQU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I/ Débitmétri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II/ Cystométrie: mesure des pressions vésicales selon le temps et le remplissage. On définit B1, B3,B4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III/ Profilométrie statique dynamique. On mesure la pression du sphincter intra urétra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IV/ Débitmétrie fina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V/ (Electromyogramme)                                                                                                                                         Le bilan urodynamique va définir l ’attitude thérapeutiqu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Conduite à tenir en fonction du type d ’incontinenc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63840" y="2413080"/>
          <a:ext cx="6014880" cy="34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3840" y="2413080"/>
                    <a:ext cx="601488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14400" y="990720"/>
          <a:ext cx="6934320" cy="43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90720"/>
                    <a:ext cx="6934320" cy="43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2193840"/>
          <a:ext cx="7772400" cy="38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93840"/>
                    <a:ext cx="7772400" cy="38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5T16:34:11Z</dcterms:created>
  <dc:creator>donnaint</dc:creator>
  <dc:description/>
  <dc:language>en-US</dc:language>
  <cp:lastModifiedBy>FUITES URINAIRES CHEZ LA FEMME</cp:lastModifiedBy>
  <cp:lastPrinted>2001-12-09T17:19:27Z</cp:lastPrinted>
  <dcterms:modified xsi:type="dcterms:W3CDTF">2001-12-09T17:46:15Z</dcterms:modified>
  <cp:revision>7</cp:revision>
  <dc:subject/>
  <dc:title>L’INCONTINENCE URINAIRE DE LA FEMME</dc:title>
</cp:coreProperties>
</file>