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57A-B99E-4A0A-80F5-76944848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EABC-8FA8-4F85-B122-8B0F0D9C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14C4-364F-4903-A9D2-A98EC50A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F7DE-F623-4C19-A047-47352BEC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0551-9401-4C37-92D1-001D6344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4499-41C5-46C2-9DE6-C1C65DB3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B6F9-4160-4EE1-BF9F-560DB499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9CE1-7CA9-47A8-A300-E509681F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5068-32E3-4769-86EB-9A6DD6AC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27DF-0443-4314-B4F9-3EAFBE20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46D2-678F-4224-BC4C-3426A653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26C8-295F-43EA-A319-0DECABF9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DEA3-D2DE-4489-986A-DD825121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45AC-F867-4192-AA89-40AA4D1D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5725-E383-4791-BF16-8780D335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C1AC-95C7-459D-9041-0166C005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AFD7-FF69-4070-9C4C-21AF6723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007C-5541-4857-9122-CA62C374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DF23-8D48-4C41-A80A-335D89C1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521F-1CBD-493A-A940-72B43DF2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E86-179A-46A3-A5A3-7A64C6DA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518B-77AB-4CCC-847F-B8BE147E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6C64-F2BC-413C-9EF9-086B513E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93DD-EA2C-4C38-BD57-8CACFE71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95080" y="5166000"/>
            <a:ext cx="2165040" cy="1350720"/>
            <a:chOff x="6895080" y="5166000"/>
            <a:chExt cx="2165040" cy="1350720"/>
          </a:xfrm>
        </p:grpSpPr>
        <p:sp>
          <p:nvSpPr>
            <p:cNvPr id="1" name=""/>
            <p:cNvSpPr/>
            <p:nvPr/>
          </p:nvSpPr>
          <p:spPr>
            <a:xfrm rot="20940000">
              <a:off x="6934320" y="591984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9140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8282160" y="5257800"/>
              <a:ext cx="60948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7062840" y="60199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767720" y="542916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8358120" y="5409720"/>
              <a:ext cx="609840" cy="6098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2209680" y="637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2336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9DE6-D286-442B-96B4-8BE094501FD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380880" y="1219320"/>
            <a:ext cx="8305920" cy="380880"/>
            <a:chOff x="380880" y="1219320"/>
            <a:chExt cx="8305920" cy="380880"/>
          </a:xfrm>
        </p:grpSpPr>
        <p:sp>
          <p:nvSpPr>
            <p:cNvPr id="12" name=""/>
            <p:cNvSpPr/>
            <p:nvPr/>
          </p:nvSpPr>
          <p:spPr>
            <a:xfrm>
              <a:off x="609480" y="144792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80880" y="121932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90640" y="6310440"/>
            <a:ext cx="1228680" cy="380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78120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44792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396720" y="549000"/>
            <a:ext cx="882720" cy="882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828800" y="304920"/>
            <a:ext cx="457200" cy="45720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10000" y="171360"/>
            <a:ext cx="419040" cy="41904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752480" y="228600"/>
            <a:ext cx="457200" cy="45720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33680" y="19080"/>
            <a:ext cx="419040" cy="41904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95080" y="5089680"/>
            <a:ext cx="2165040" cy="1350720"/>
            <a:chOff x="6895080" y="5089680"/>
            <a:chExt cx="2165040" cy="1350720"/>
          </a:xfrm>
        </p:grpSpPr>
        <p:sp>
          <p:nvSpPr>
            <p:cNvPr id="60" name=""/>
            <p:cNvSpPr/>
            <p:nvPr/>
          </p:nvSpPr>
          <p:spPr>
            <a:xfrm rot="20940000">
              <a:off x="6934320" y="58435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91400" y="527688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8282160" y="5181480"/>
              <a:ext cx="609480" cy="6098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7062840" y="594360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6772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8358120" y="5333760"/>
              <a:ext cx="60984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68120" y="244080"/>
            <a:ext cx="882720" cy="882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75960" y="6323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7C3E-C5DE-4B81-A9FE-FA8454D245E3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57200" y="2057400"/>
            <a:ext cx="8305920" cy="380880"/>
            <a:chOff x="457200" y="2057400"/>
            <a:chExt cx="8305920" cy="380880"/>
          </a:xfrm>
        </p:grpSpPr>
        <p:sp>
          <p:nvSpPr>
            <p:cNvPr id="72" name=""/>
            <p:cNvSpPr/>
            <p:nvPr/>
          </p:nvSpPr>
          <p:spPr>
            <a:xfrm>
              <a:off x="685800" y="22860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20574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Arial"/>
              </a:rPr>
              <a:t>CELA NE SEMBLAIT PAS GRAVE, MONSIEUR LE JUGE!!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Cela ne semblait pas grave, ça l ’est dev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comment améliorer nos pra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B.AVERLAND - ACCUEIL DES URGEN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Arial"/>
              </a:rPr>
              <a:t>SIGNES CLINIQU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 ’autant plus grave que l ’enfant est petit, avec association diarrhée et vomiss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mportance de l ’hypertherm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évaluation de la gestualité, du tonus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loration cutanée, fréquence cardia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alpation de la fontanelle antérie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ETE DE MEDECINE DE DOUAI - JANVI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Arial"/>
              </a:rPr>
              <a:t>HISTOIRE IV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73737"/>
                </a:solidFill>
                <a:latin typeface="Arial"/>
              </a:rPr>
              <a:t>Mr Vincent L âgé de 23 ans sans antécédents, consulte pour l ’apparition de plaques rouges du tronc, très prurigineus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73737"/>
                </a:solidFill>
                <a:latin typeface="Arial"/>
              </a:rPr>
              <a:t>Traitement prescrit il rep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73737"/>
                </a:solidFill>
                <a:latin typeface="Arial"/>
              </a:rPr>
              <a:t>vous voyez son épouse le lendemain qui vous dit « à l ’hôpital ils ont dit qu ’il aurait pu mourir !! 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ETE DE MEDECINE DE DOUAI - JANVI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Arial"/>
              </a:rPr>
              <a:t>REFLEXE!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TOUTE REACTION ALLERGIQUE SANS CONTEXTE DONNE EST </a:t>
            </a:r>
            <a:r>
              <a:rPr b="1" lang="fr-FR" sz="3600" spc="-1" strike="noStrike">
                <a:solidFill>
                  <a:srgbClr val="ff9933"/>
                </a:solidFill>
                <a:latin typeface="Arial"/>
              </a:rPr>
              <a:t>GRAV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JUSQU ’A PREUVE DU CONTRAI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ET NECESSITE U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SURVEILLAN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ETE DE MEDECINE DE DOUAI - JANVI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Arial"/>
              </a:rPr>
              <a:t>CLINIQU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 ’urticaire géante n ’est pas le seul signe clin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prise de pouls et de tension artérielle sont essentiel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dégranulation mastocytaire secondaire n ’est pas une « vue de l ’esprit 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 traitement corticoïde + antiH1 n ’est pas suffisa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ETE DE MEDECINE DE DOUAI - JANVI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Arial"/>
              </a:rPr>
              <a:t>HISTOIRE V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73737"/>
                </a:solidFill>
                <a:latin typeface="Arial"/>
              </a:rPr>
              <a:t>Mr M, patient de 56 ans, tabagique présente selon sa fem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ETE DE MEDECINE DE DOUAI - JANVI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Arial"/>
              </a:rPr>
              <a:t>REFLEXE!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Arial"/>
              </a:rPr>
              <a:t>« TIME IS MUSCLE 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logan de l ’industrie pharmaceutique est toujours d ’actualit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prise en charge précoce des syndromes coronariens aig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st le préalable à un espoir 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guérison par n ’importe quelle techn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ETE DE MEDECINE DE DOUAI - JANVI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Arial"/>
              </a:rPr>
              <a:t>CLINIQU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oute douleur thoracique doit être CLINIQUEMENT exploré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précision des symptômes est essent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facteurs de risques sont à recherc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 doute, même le plus infime doit conduire le patient vers </a:t>
            </a:r>
            <a:r>
              <a:rPr b="1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l ’électrocardiogramme et la biolog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ETE DE MEDECINE DE DOUAI - JANVI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Arial"/>
              </a:rPr>
              <a:t>HISTOIRE 1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73737"/>
                </a:solidFill>
                <a:latin typeface="Arial"/>
              </a:rPr>
              <a:t>L ’enfant Arthur, âgé de 2 mois est amené à la consul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73737"/>
                </a:solidFill>
                <a:latin typeface="Arial"/>
              </a:rPr>
              <a:t>il présente un examen clinique rassura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73737"/>
                </a:solidFill>
                <a:latin typeface="Arial"/>
              </a:rPr>
              <a:t>seul signe d ’appel, une hyperthermie persistante depuis 3 jours à 38°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73737"/>
                </a:solidFill>
                <a:latin typeface="Arial"/>
              </a:rPr>
              <a:t>on apprend le lendemain qu ’il est hospitalisé en réanimation dans un état critiqu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ETE DE MEDECINE DE DOUAI - JANVI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Arial"/>
              </a:rPr>
              <a:t>REFLEXE!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OUTE HYPERTHERMIE DU NOURRISSON D ’AGE INFERIEUR A TROIS MOIS DO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MMEDIAT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AIRE PENSER A UNE BACTERIEMIE OCCUL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Arial"/>
              </a:rPr>
              <a:t>HOSPITALISATION SYSTEMATIQ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QUEL QUE SOIT L ’EXAMEN CLIN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ETE DE MEDECINE DE DOUAI - JANVI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Arial"/>
              </a:rPr>
              <a:t>SIGNES DE GRAVIT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 ’hospitalisation systématique de courte durée permet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une biologie facile, NF, CRP, ECBU, HEMOC éventuellement PL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 dépistage d ’infections occultes traînantes (strepto B!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éviter l ’aggravation en quelques heures dans un tableau de défaillance polyviscér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ETE DE MEDECINE DE DOUAI - JANVI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Arial"/>
              </a:rPr>
              <a:t>HISTOIRE II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73737"/>
                </a:solidFill>
                <a:latin typeface="Arial"/>
              </a:rPr>
              <a:t>Madame M, 46 ans, sans antécédents, sans traitement outre un contraceptif oral consulte pour mala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73737"/>
                </a:solidFill>
                <a:latin typeface="Arial"/>
              </a:rPr>
              <a:t>l ’examen clinique est strictement normal, persiste simplement une gène respiratoire, elle semble anxieu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73737"/>
                </a:solidFill>
                <a:latin typeface="Arial"/>
              </a:rPr>
              <a:t>Rappellé en urgences vous arrivez avec l ’équipe de SMUR, elle est en arrêt cardio circulato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ETE DE MEDECINE DE DOUAI - JANVI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Arial"/>
              </a:rPr>
              <a:t>REFLEXE!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OUT MALAISE AVEC DOULEUR THORACIQUE, SENSATION DE MALAISE, NOTION DE DYSPNEE OU DYSPNEE PERSISTAN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O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AIRE EVOQUER LE DIAGNOST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Arial"/>
              </a:rPr>
              <a:t>D ’EMBOLIE PULMONAI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ETE DE MEDECINE DE DOUAI - JANVI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Arial"/>
              </a:rPr>
              <a:t>SIGNES CLINIQU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ouleur thoracique, dyspnée et syncope sont les trois principaux sig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 ’hospitalisation aux urgences permet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 gaz du s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a mesure des D dimè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a radiographie de thor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 ’E.C.G. et l ’échocardiograph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our prévoir angioscanner spiralé et scintigraphie V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ETE DE MEDECINE DE DOUAI - JANVI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Arial"/>
              </a:rPr>
              <a:t>HISTOIRE III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73737"/>
                </a:solidFill>
                <a:latin typeface="Arial"/>
              </a:rPr>
              <a:t>Maxime L, âgé de 18 mois est suivi par son médecin pour gastro entérite, le traitement est prescrit la maman appelle le lendemain pour persitance des signes et inquiétude matern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73737"/>
                </a:solidFill>
                <a:latin typeface="Arial"/>
              </a:rPr>
              <a:t>le médecin propose la visite, devant le refus de la maman, il rappelle les conseils de surveill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73737"/>
                </a:solidFill>
                <a:latin typeface="Arial"/>
              </a:rPr>
              <a:t>l ’enfant est hospitalisé en réanimation le soir mê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ETE DE MEDECINE DE DOUAI - JANVI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Arial"/>
              </a:rPr>
              <a:t>REFLEXE!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STABILITE CLINIQUE DE L ’ENFANT EST TRES GRAN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EPENDA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SIGNES AVANT COUREURS D ’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Arial"/>
              </a:rPr>
              <a:t>DESHYDRATATION AIGUË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OIVENT FAIRE PROPOSER L ’HOSPITALISATION COUR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IETE DE MEDECINE DE DOUAI - JANVI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15:59:13Z</dcterms:created>
  <dc:creator>Centre Hospitalier de Douai</dc:creator>
  <dc:description/>
  <dc:language>en-US</dc:language>
  <cp:lastModifiedBy>Centre Hospitalier de Douai</cp:lastModifiedBy>
  <cp:lastPrinted>1995-12-08T18:33:06Z</cp:lastPrinted>
  <dcterms:modified xsi:type="dcterms:W3CDTF">2001-12-19T19:05:43Z</dcterms:modified>
  <cp:revision>1</cp:revision>
  <dc:subject/>
  <dc:title>CELA NE SEMBLAIT PAS GRAVE, MONSIEUR LE JUGE!!</dc:title>
</cp:coreProperties>
</file>