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0288588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492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767040" y="-144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0" y="9284760"/>
            <a:ext cx="2881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767040" y="9284760"/>
            <a:ext cx="2881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fld id="{A036D2F3-8818-453E-98C6-9160C19EB33F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885960" y="4641480"/>
            <a:ext cx="487656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582480" y="739800"/>
            <a:ext cx="548352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767040" y="-144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7040" y="9285120"/>
            <a:ext cx="2881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i="1" lang="fr-FR" sz="10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9285120"/>
            <a:ext cx="2881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-144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885960" y="4641480"/>
            <a:ext cx="48765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585720" y="739800"/>
            <a:ext cx="547704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767040" y="-144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67040" y="9285120"/>
            <a:ext cx="2881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9285120"/>
            <a:ext cx="28796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-1440"/>
            <a:ext cx="2879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585720" y="739800"/>
            <a:ext cx="5477040" cy="36511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85960" y="4641480"/>
            <a:ext cx="48751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78F2-F942-436A-81E7-25B31D5D99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D659-474E-4F37-A54E-8990C888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2DD3-80D6-4716-BBD5-92CCBA9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277E-4FCD-4C59-B6B4-9A8E5021F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FB4F-AD5C-4ACF-8321-C2311E6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AD5C-8B19-4F36-9826-E3121996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1029-2DE5-453C-A8E1-2C3FE925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C3AD-2300-4AE5-AEFC-71A24BD1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39E3-ED6D-448B-97C5-4F8D80EF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3D96-8089-4796-BE71-CB83149F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00E4-64A8-47E7-B24B-BEF0FE63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BD3F-1365-42FD-B4FB-DFDFA2EE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EF6CA6-E761-4506-9490-66D0CA188D1F}" type="slidenum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14440" y="992160"/>
            <a:ext cx="9173880" cy="1599840"/>
            <a:chOff x="514440" y="992160"/>
            <a:chExt cx="9173880" cy="1599840"/>
          </a:xfrm>
        </p:grpSpPr>
        <p:sp>
          <p:nvSpPr>
            <p:cNvPr id="3" name=""/>
            <p:cNvSpPr/>
            <p:nvPr/>
          </p:nvSpPr>
          <p:spPr>
            <a:xfrm>
              <a:off x="3246480" y="992160"/>
              <a:ext cx="64418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6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6111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162600" y="1157400"/>
              <a:ext cx="644472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5" y="0"/>
                  </a:moveTo>
                  <a:arcTo wR="10800" hR="10800" stAng="-5401694" swAng="108628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5" y="0"/>
                  </a:moveTo>
                  <a:arcTo wR="10800" hR="10800" stAng="-5401694" swAng="1086282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116880" y="1378080"/>
              <a:ext cx="64411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5" y="0"/>
                  </a:moveTo>
                  <a:arcTo wR="10800" hR="10800" stAng="-5401695" swAng="10862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5" y="0"/>
                  </a:moveTo>
                  <a:arcTo wR="10800" hR="10800" stAng="-5401695" swAng="10862932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4440" y="1708200"/>
              <a:ext cx="8908920" cy="164880"/>
            </a:xfrm>
            <a:prstGeom prst="roundRect">
              <a:avLst>
                <a:gd name="adj" fmla="val 49995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468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4440" y="2514600"/>
            <a:ext cx="9172080" cy="1828440"/>
            <a:chOff x="514440" y="2514600"/>
            <a:chExt cx="9172080" cy="1828440"/>
          </a:xfrm>
        </p:grpSpPr>
        <p:sp>
          <p:nvSpPr>
            <p:cNvPr id="55" name=""/>
            <p:cNvSpPr/>
            <p:nvPr/>
          </p:nvSpPr>
          <p:spPr>
            <a:xfrm>
              <a:off x="3245040" y="2514600"/>
              <a:ext cx="64414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61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61095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66200" y="2705040"/>
              <a:ext cx="6441120" cy="145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5" y="0"/>
                  </a:moveTo>
                  <a:arcTo wR="10800" hR="10800" stAng="-5401694" swAng="108628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5" y="0"/>
                  </a:moveTo>
                  <a:arcTo wR="10800" hR="10800" stAng="-5401694" swAng="10862801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16880" y="2957400"/>
              <a:ext cx="6441120" cy="94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5" y="0"/>
                  </a:moveTo>
                  <a:arcTo wR="10800" hR="10800" stAng="-5401695" swAng="10862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5" y="0"/>
                  </a:moveTo>
                  <a:arcTo wR="10800" hR="10800" stAng="-5401695" swAng="10862904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4440" y="3335400"/>
              <a:ext cx="8908920" cy="187200"/>
            </a:xfrm>
            <a:prstGeom prst="roundRect">
              <a:avLst>
                <a:gd name="adj" fmla="val 49995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1371600"/>
            <a:ext cx="9067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Infections nosocomiales</a:t>
            </a:r>
            <a:br>
              <a:rPr sz="3600"/>
            </a:b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et leurs répercussions en ville</a:t>
            </a: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14440" y="4038120"/>
            <a:ext cx="95155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ff66"/>
                </a:solidFill>
                <a:latin typeface="Times New Roman"/>
              </a:rPr>
              <a:t>G. Beaucai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ff66"/>
                </a:solidFill>
                <a:latin typeface="Times New Roman"/>
              </a:rPr>
              <a:t>Réanimation médicale et  Maladies Infectieu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ff66"/>
                </a:solidFill>
                <a:latin typeface="Times New Roman"/>
              </a:rPr>
              <a:t>Université Lille II - Centre Hospitalier de Tourco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760" y="888840"/>
            <a:ext cx="92203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Incidence des souches de SARM</a:t>
            </a:r>
            <a:br>
              <a:rPr sz="3200"/>
            </a:b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 de 1997 à 2001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905120"/>
            <a:ext cx="9067680" cy="49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1997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1998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1999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2000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2001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P*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SARM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Tous Sces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79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88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92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95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98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&lt;10-4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SI-réa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3,54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3,71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3,47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3,23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3,17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19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médecine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92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1,08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1,33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&lt;10-4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chirurgie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92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91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1,03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27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SSR-SLD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50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75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1,10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0,99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1,02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&lt;10-4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Incidence pour 1000 jours d’hospitalis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680" y="2666880"/>
            <a:ext cx="85341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89720" y="6399360"/>
            <a:ext cx="289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CLIN Paris N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6200" y="888840"/>
            <a:ext cx="88804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Evolution des pourcentages de SARM au sein de l’espèce S. aureus de 1997 à 2001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7680" y="2588760"/>
            <a:ext cx="8955000" cy="32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1997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1998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1999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2000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2001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p*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Court séjour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4,7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4,2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3,7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5,9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7,8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0,003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Médecine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42,0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41,9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41,7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47,7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50,2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&lt;10-4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Chirurgie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1,6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4,6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1,5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1,3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4,2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0,34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SI-Réa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40,6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9,2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6,3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9,1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36,7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0,44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SSR-SLD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55,5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64,6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63,3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62,7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65,3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0,001</a:t>
            </a:r>
            <a:r>
              <a:rPr b="1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9720" y="6399360"/>
            <a:ext cx="289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CLIN Paris N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6200" y="888840"/>
            <a:ext cx="88804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cc66"/>
                </a:solidFill>
                <a:latin typeface="Comic Sans MS"/>
              </a:rPr>
              <a:t>Distribution des hôpitaux du Nord Pas-de-Calais selon le pourcentage de SARM chez S. aureus</a:t>
            </a:r>
            <a:endParaRPr b="1" i="1" lang="en-US" sz="2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3960" y="213192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680" y="1905120"/>
            <a:ext cx="8686800" cy="4876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57480" y="533520"/>
            <a:ext cx="69339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15480" y="205740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6200" y="888840"/>
            <a:ext cx="88804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cc66"/>
                </a:solidFill>
                <a:latin typeface="Comic Sans MS"/>
              </a:rPr>
              <a:t>Distribution des hôpitaux du Nord Pas-de-Calais selon le taux d'incidence des cas à SARM</a:t>
            </a:r>
            <a:endParaRPr b="1" i="1" lang="en-US" sz="2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3960" y="213192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95360" y="1905120"/>
            <a:ext cx="8991720" cy="4876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48240" y="2057400"/>
            <a:ext cx="38862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our 1000 jours d'hospitalis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760" y="888840"/>
            <a:ext cx="96775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Incidence des souches d’entérobactéries BLSE</a:t>
            </a:r>
            <a:br>
              <a:rPr sz="3200"/>
            </a:br>
            <a:r>
              <a:rPr b="1" i="1" lang="fr-FR" sz="3200" spc="-1" strike="noStrike" baseline="21000">
                <a:solidFill>
                  <a:srgbClr val="ffcc66"/>
                </a:solidFill>
                <a:latin typeface="Comic Sans MS"/>
              </a:rPr>
              <a:t> </a:t>
            </a: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de 1997 à 2001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3960" y="213192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1997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1998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1999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2000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2001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P*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Total BLSE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Tous Sces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6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4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5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3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4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5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CS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7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6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5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3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5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8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Dont SI-réa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1,19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86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80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61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75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003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Dont médecine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4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3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4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88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Dont chirurgie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0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1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5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0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SSRLD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3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4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21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4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14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0,008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Incidence pour 1000 jours d’hospitalisation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80" y="2895480"/>
            <a:ext cx="89913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89720" y="6399360"/>
            <a:ext cx="289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CLIN Paris N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080" y="533160"/>
            <a:ext cx="990612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cc66"/>
                </a:solidFill>
                <a:latin typeface="Comic Sans MS"/>
              </a:rPr>
              <a:t>Distribution des hôpitaux du Nord Pas-de-Calais selon le taux d'incidence des cas à entérobactéries BLSE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3960" y="213192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24560" y="2133720"/>
            <a:ext cx="38862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our 1000 jours d'hospitalis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1480" y="380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Pourquoi prévenir l’apparition des bactéries multirésistantes ?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22856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Réduction du nombre des infections «difficiles à traiter»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Réduction attendue de la morbidité et de la mortalité des patients infecté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Réduction de la consommation des antibiotiques, donc réduction de la pression de sélec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Réduction de la charge en soins (isolement, cohort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Réduction des coûts de prise en charge (coûts directs, durée de séjour...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Réduction à long terme des conséquences en terme de santé publi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929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Stratégie pour la maîtrise de la résistance aux antimicrobiens (résolutions OMS 1998)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874404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Arial Alternative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Utilisation appropriée et économiquement rationnelle des antimicrobi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Arial Alternative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Amélioration des pratiques pour éviter la propagation des infections (mesures d’hygièn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Arial Alternative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Réduction de l’usage des antimicrobiens pour l’élevage des animau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Arial Alternative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Mise en place de système de détection des germes résista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Arial Alternative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Surveillance des quantités d’antimicrobiens utilisées et de leur modalités d’utilis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Arial Alternative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Evaluer  l’impact de ces mes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1468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Prévention de l’apparition des BMR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080" y="2819520"/>
            <a:ext cx="90010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33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cc66"/>
                </a:solidFill>
                <a:latin typeface="Times New Roman"/>
              </a:rPr>
              <a:t>Diminuer l’émergence des résistan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utilisation rationelle des antibiotiques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66"/>
                </a:solidFill>
                <a:latin typeface="Times New Roman"/>
              </a:rPr>
              <a:t>Empêcher la dissémination des résistan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550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mesures d’hygièn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86640" y="6019920"/>
            <a:ext cx="300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Toulouse 28/10/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408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Les communautés de BMR (I)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71480" y="6326280"/>
            <a:ext cx="5315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D’après JC Lucet, SRLF 19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29240" y="6324480"/>
            <a:ext cx="317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Toulouse 28/10/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9520" y="380520"/>
            <a:ext cx="8960040" cy="11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Les enjeux</a:t>
            </a:r>
            <a:br>
              <a:rPr sz="3600"/>
            </a:b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pour les établissements de soins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40" y="236232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Diminution de l'incidence des infections nosocomi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Amélioration de la qualité et de la sécurité des "soins"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Accrédi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L’infection nosocomiale a été proposée depuis de nombreuses années comme indicateur de qualité des structures, des processus de soins, et des résulta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38280" y="1682640"/>
            <a:ext cx="6642000" cy="4330800"/>
            <a:chOff x="638280" y="1682640"/>
            <a:chExt cx="6642000" cy="4330800"/>
          </a:xfrm>
        </p:grpSpPr>
        <p:sp>
          <p:nvSpPr>
            <p:cNvPr id="135" name=""/>
            <p:cNvSpPr/>
            <p:nvPr/>
          </p:nvSpPr>
          <p:spPr>
            <a:xfrm>
              <a:off x="638280" y="1682640"/>
              <a:ext cx="6642000" cy="43308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47600" y="5227560"/>
              <a:ext cx="909000" cy="366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«Ville»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408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Les communautés de BMR (I)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451640" y="2901960"/>
            <a:ext cx="2282760" cy="1968480"/>
            <a:chOff x="7451640" y="2901960"/>
            <a:chExt cx="2282760" cy="1968480"/>
          </a:xfrm>
        </p:grpSpPr>
        <p:sp>
          <p:nvSpPr>
            <p:cNvPr id="139" name=""/>
            <p:cNvSpPr/>
            <p:nvPr/>
          </p:nvSpPr>
          <p:spPr>
            <a:xfrm>
              <a:off x="7451640" y="2901960"/>
              <a:ext cx="2282760" cy="1968480"/>
            </a:xfrm>
            <a:prstGeom prst="rect">
              <a:avLst/>
            </a:prstGeom>
            <a:solidFill>
              <a:srgbClr val="cc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37120" y="2924280"/>
              <a:ext cx="1645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mmunauté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nimal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429240" y="4038480"/>
            <a:ext cx="1800360" cy="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1480" y="6326280"/>
            <a:ext cx="5315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D’après JC Lucet, SRLF 19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29240" y="6324480"/>
            <a:ext cx="317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Toulouse 28/10/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38280" y="1682640"/>
            <a:ext cx="6642000" cy="4330800"/>
            <a:chOff x="638280" y="1682640"/>
            <a:chExt cx="6642000" cy="4330800"/>
          </a:xfrm>
        </p:grpSpPr>
        <p:sp>
          <p:nvSpPr>
            <p:cNvPr id="145" name=""/>
            <p:cNvSpPr/>
            <p:nvPr/>
          </p:nvSpPr>
          <p:spPr>
            <a:xfrm>
              <a:off x="638280" y="1682640"/>
              <a:ext cx="6642000" cy="43308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7600" y="5227560"/>
              <a:ext cx="909000" cy="366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«Ville»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408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Les communautés de BMR (I)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3957480" y="3276720"/>
            <a:ext cx="118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73320" y="2139840"/>
            <a:ext cx="3943080" cy="2806920"/>
            <a:chOff x="1273320" y="2139840"/>
            <a:chExt cx="3943080" cy="2806920"/>
          </a:xfrm>
        </p:grpSpPr>
        <p:sp>
          <p:nvSpPr>
            <p:cNvPr id="150" name=""/>
            <p:cNvSpPr/>
            <p:nvPr/>
          </p:nvSpPr>
          <p:spPr>
            <a:xfrm>
              <a:off x="1273320" y="2139840"/>
              <a:ext cx="3943080" cy="2806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85200" y="4379760"/>
              <a:ext cx="96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Hôpital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451640" y="2901960"/>
            <a:ext cx="2282760" cy="1968480"/>
            <a:chOff x="7451640" y="2901960"/>
            <a:chExt cx="2282760" cy="1968480"/>
          </a:xfrm>
        </p:grpSpPr>
        <p:sp>
          <p:nvSpPr>
            <p:cNvPr id="153" name=""/>
            <p:cNvSpPr/>
            <p:nvPr/>
          </p:nvSpPr>
          <p:spPr>
            <a:xfrm>
              <a:off x="7451640" y="2901960"/>
              <a:ext cx="2282760" cy="1968480"/>
            </a:xfrm>
            <a:prstGeom prst="rect">
              <a:avLst/>
            </a:prstGeom>
            <a:solidFill>
              <a:srgbClr val="cc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37120" y="2924280"/>
              <a:ext cx="1645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mmunauté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nimal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429240" y="4038480"/>
            <a:ext cx="1800360" cy="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6326280"/>
            <a:ext cx="5315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D’après JC Lucet, SRLF 19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29240" y="6324480"/>
            <a:ext cx="317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Toulouse 28/10/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14920" y="3809880"/>
            <a:ext cx="1200240" cy="53352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38280" y="1682640"/>
            <a:ext cx="6642000" cy="4330800"/>
            <a:chOff x="638280" y="1682640"/>
            <a:chExt cx="6642000" cy="4330800"/>
          </a:xfrm>
        </p:grpSpPr>
        <p:sp>
          <p:nvSpPr>
            <p:cNvPr id="160" name=""/>
            <p:cNvSpPr/>
            <p:nvPr/>
          </p:nvSpPr>
          <p:spPr>
            <a:xfrm>
              <a:off x="638280" y="1682640"/>
              <a:ext cx="6642000" cy="43308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47600" y="5227560"/>
              <a:ext cx="909000" cy="366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«Ville»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408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Les communautés de BMR (I)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957480" y="3276720"/>
            <a:ext cx="118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73320" y="2139840"/>
            <a:ext cx="3943080" cy="2806920"/>
            <a:chOff x="1273320" y="2139840"/>
            <a:chExt cx="3943080" cy="2806920"/>
          </a:xfrm>
        </p:grpSpPr>
        <p:sp>
          <p:nvSpPr>
            <p:cNvPr id="165" name=""/>
            <p:cNvSpPr/>
            <p:nvPr/>
          </p:nvSpPr>
          <p:spPr>
            <a:xfrm>
              <a:off x="1273320" y="2139840"/>
              <a:ext cx="3943080" cy="2806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85200" y="4379760"/>
              <a:ext cx="96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Hôpital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451640" y="2901960"/>
            <a:ext cx="2282760" cy="1968480"/>
            <a:chOff x="7451640" y="2901960"/>
            <a:chExt cx="2282760" cy="1968480"/>
          </a:xfrm>
        </p:grpSpPr>
        <p:sp>
          <p:nvSpPr>
            <p:cNvPr id="168" name=""/>
            <p:cNvSpPr/>
            <p:nvPr/>
          </p:nvSpPr>
          <p:spPr>
            <a:xfrm>
              <a:off x="7451640" y="2901960"/>
              <a:ext cx="2282760" cy="1968480"/>
            </a:xfrm>
            <a:prstGeom prst="rect">
              <a:avLst/>
            </a:prstGeom>
            <a:solidFill>
              <a:srgbClr val="cc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37120" y="2924280"/>
              <a:ext cx="1645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mmunauté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nimal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429240" y="4038480"/>
            <a:ext cx="1800360" cy="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1480" y="6326280"/>
            <a:ext cx="5315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D’après JC Lucet, SRLF 19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29240" y="6324480"/>
            <a:ext cx="317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Toulouse 28/10/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2520" y="2063880"/>
            <a:ext cx="2816280" cy="10540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209680"/>
            <a:ext cx="23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uctures intermédiair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14920" y="3809880"/>
            <a:ext cx="1200240" cy="53352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57520" y="2819520"/>
            <a:ext cx="685800" cy="68580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72080" y="2819520"/>
            <a:ext cx="685800" cy="68580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638280" y="1682640"/>
            <a:ext cx="6642000" cy="4330800"/>
            <a:chOff x="638280" y="1682640"/>
            <a:chExt cx="6642000" cy="4330800"/>
          </a:xfrm>
        </p:grpSpPr>
        <p:sp>
          <p:nvSpPr>
            <p:cNvPr id="179" name=""/>
            <p:cNvSpPr/>
            <p:nvPr/>
          </p:nvSpPr>
          <p:spPr>
            <a:xfrm>
              <a:off x="638280" y="1682640"/>
              <a:ext cx="6642000" cy="43308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47600" y="5227560"/>
              <a:ext cx="909000" cy="366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«Ville»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408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Les communautés de BMR (I)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957480" y="3276720"/>
            <a:ext cx="118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273320" y="2139840"/>
            <a:ext cx="3943080" cy="2806920"/>
            <a:chOff x="1273320" y="2139840"/>
            <a:chExt cx="3943080" cy="2806920"/>
          </a:xfrm>
        </p:grpSpPr>
        <p:sp>
          <p:nvSpPr>
            <p:cNvPr id="184" name=""/>
            <p:cNvSpPr/>
            <p:nvPr/>
          </p:nvSpPr>
          <p:spPr>
            <a:xfrm>
              <a:off x="1273320" y="2139840"/>
              <a:ext cx="3943080" cy="2806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85200" y="4379760"/>
              <a:ext cx="96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Hôpital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112760" y="2521080"/>
            <a:ext cx="2441520" cy="1206360"/>
            <a:chOff x="1112760" y="2521080"/>
            <a:chExt cx="2441520" cy="1206360"/>
          </a:xfrm>
        </p:grpSpPr>
        <p:sp>
          <p:nvSpPr>
            <p:cNvPr id="187" name=""/>
            <p:cNvSpPr/>
            <p:nvPr/>
          </p:nvSpPr>
          <p:spPr>
            <a:xfrm>
              <a:off x="1112760" y="2521080"/>
              <a:ext cx="2441520" cy="12063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28400" y="2871720"/>
              <a:ext cx="1556640" cy="366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Réanimatio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451640" y="2901960"/>
            <a:ext cx="2282760" cy="1968480"/>
            <a:chOff x="7451640" y="2901960"/>
            <a:chExt cx="2282760" cy="1968480"/>
          </a:xfrm>
        </p:grpSpPr>
        <p:sp>
          <p:nvSpPr>
            <p:cNvPr id="190" name=""/>
            <p:cNvSpPr/>
            <p:nvPr/>
          </p:nvSpPr>
          <p:spPr>
            <a:xfrm>
              <a:off x="7451640" y="2901960"/>
              <a:ext cx="2282760" cy="1968480"/>
            </a:xfrm>
            <a:prstGeom prst="rect">
              <a:avLst/>
            </a:prstGeom>
            <a:solidFill>
              <a:srgbClr val="cc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37120" y="2924280"/>
              <a:ext cx="1645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mmunauté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nimale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06720" y="3048120"/>
            <a:ext cx="1022400" cy="53316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29240" y="4038480"/>
            <a:ext cx="1800360" cy="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21160" y="4197240"/>
            <a:ext cx="1787400" cy="9781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29120" y="4572000"/>
            <a:ext cx="7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71840" y="3733920"/>
            <a:ext cx="0" cy="83952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14320" y="4952880"/>
            <a:ext cx="857160" cy="76212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1480" y="6326280"/>
            <a:ext cx="5315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D’après JC Lucet, SRLF 19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9240" y="6324480"/>
            <a:ext cx="317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Toulouse 28/10/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92520" y="2063880"/>
            <a:ext cx="2816280" cy="10540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209680"/>
            <a:ext cx="23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uctures intermédiair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14920" y="3809880"/>
            <a:ext cx="1200240" cy="53352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57520" y="2819520"/>
            <a:ext cx="685800" cy="68580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72080" y="2819520"/>
            <a:ext cx="685800" cy="685800"/>
          </a:xfrm>
          <a:prstGeom prst="line">
            <a:avLst/>
          </a:prstGeom>
          <a:ln w="50760">
            <a:solidFill>
              <a:srgbClr val="00339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9760" y="456840"/>
            <a:ext cx="882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Les communautés de BMR (II)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273320" y="2139840"/>
            <a:ext cx="2912760" cy="24256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8680" y="2139840"/>
            <a:ext cx="3416040" cy="2425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74760" y="213372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ô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68400" y="213372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«Ville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6520" y="2575080"/>
            <a:ext cx="1386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SA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EB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Tb M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ER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3560" y="2575080"/>
            <a:ext cx="3171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Pno Péni-I ou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Tb M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ER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835360" y="4121280"/>
            <a:ext cx="4829040" cy="1663560"/>
            <a:chOff x="2835360" y="4121280"/>
            <a:chExt cx="4829040" cy="1663560"/>
          </a:xfrm>
        </p:grpSpPr>
        <p:grpSp>
          <p:nvGrpSpPr>
            <p:cNvPr id="213" name=""/>
            <p:cNvGrpSpPr/>
            <p:nvPr/>
          </p:nvGrpSpPr>
          <p:grpSpPr>
            <a:xfrm>
              <a:off x="2835360" y="4121280"/>
              <a:ext cx="4829040" cy="1663560"/>
              <a:chOff x="2835360" y="4121280"/>
              <a:chExt cx="4829040" cy="1663560"/>
            </a:xfrm>
          </p:grpSpPr>
          <p:sp>
            <p:nvSpPr>
              <p:cNvPr id="214" name=""/>
              <p:cNvSpPr/>
              <p:nvPr/>
            </p:nvSpPr>
            <p:spPr>
              <a:xfrm>
                <a:off x="2835360" y="4121280"/>
                <a:ext cx="4829040" cy="1663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26080" y="4175280"/>
                <a:ext cx="3879360" cy="4582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</a:rPr>
                  <a:t>Structures intermédiaires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3075840" y="4556160"/>
              <a:ext cx="3979800" cy="1189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3399"/>
                  </a:solidFill>
                  <a:latin typeface="Arial"/>
                </a:rPr>
                <a:t>- HAD, soins ambulatoir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3399"/>
                  </a:solidFill>
                  <a:latin typeface="Arial"/>
                </a:rPr>
                <a:t>- Maisons de retrait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71480" y="6248520"/>
            <a:ext cx="4200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D’après JC Lucet, SRLF 19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0960" y="6248520"/>
            <a:ext cx="342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Toulouse 28/10/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91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700" spc="-1" strike="noStrike">
                <a:solidFill>
                  <a:srgbClr val="ffcc66"/>
                </a:solidFill>
                <a:latin typeface="Comic Sans MS"/>
              </a:rPr>
              <a:t>BMR et modes de transmission</a:t>
            </a:r>
            <a:endParaRPr b="1" i="1" lang="en-US" sz="27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317600" y="2562120"/>
            <a:ext cx="7778880" cy="4054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1468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1120" y="533160"/>
            <a:ext cx="8791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Recommandations générales pour tout patient colonisé ou infecté à BMR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52360" y="2743200"/>
            <a:ext cx="77248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Isolement géographiq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Isolement technique stand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Mesures techniques spécifiques (A, C, 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Dépistage bactériologiq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Signalisation des patients porteurs de BM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Niveau de preuve</a:t>
            </a:r>
            <a:br>
              <a:rPr sz="3600"/>
            </a:b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 de l’efficacité de ces mesures ?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360" y="1904760"/>
            <a:ext cx="922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Précautions "standard" à respecter lors des soins à tout patien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66"/>
                </a:solidFill>
                <a:latin typeface="Times New Roman"/>
              </a:rPr>
              <a:t>lavage et/ou désinfection des ma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66"/>
                </a:solidFill>
                <a:latin typeface="Times New Roman"/>
              </a:rPr>
              <a:t>port de ga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66"/>
                </a:solidFill>
                <a:latin typeface="Times New Roman"/>
              </a:rPr>
              <a:t>port de surblouses,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lunettes, masq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matériel souillé, surfaces souillées, transport de prélèvements biologiques, de linge et de matériels souill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tact avec du sang ou liquide biologi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Précautions particulièr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"air"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"gouttelettes"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"contact"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160" y="6459480"/>
            <a:ext cx="342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100 recommandations 19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Niveau de preuve</a:t>
            </a:r>
            <a:br>
              <a:rPr sz="3600"/>
            </a:b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 de l’efficacité de ces mesures ?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6760" y="1904760"/>
            <a:ext cx="967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Seul le lavage des mains a fait la preuve de son efficacit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e port des ga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a fait la preuve de son efficacité dans une étude portant sur la transmission de </a:t>
            </a:r>
            <a:r>
              <a:rPr b="0" i="1" lang="fr-FR" sz="2200" spc="-1" strike="noStrike">
                <a:solidFill>
                  <a:srgbClr val="ffffcc"/>
                </a:solidFill>
                <a:latin typeface="Times New Roman"/>
              </a:rPr>
              <a:t>C. difficile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(Johnson,Am J Med 1990;88:137-40)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pas d’autre preuve car toujours associé à d’autres mesure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le port des gants a pour but essentiel de protéger le personnel hospitalier des agents infectieux transmis par le sang et les liquides biologiques, et non pour diminuer les infections nosocomiales des patients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(Réanis 2ème ed,1999)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e port de surblou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non tissé, à usage uniqu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études non concordantes </a:t>
            </a: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(Réanis 2ème ed,1999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retarderai seulement la transmission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(Klein,N Engl J Med 1989;320:1714-21)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9200" y="380520"/>
            <a:ext cx="894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Mesures essentielles dans la prévention de la transmission des BMR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360" y="2362320"/>
            <a:ext cx="9096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ff0033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e lavage des mains à condition que la compliance à ce geste soit élevé, bien supérieur à 50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ff0033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Un rapport optimum soignant:soigné, avec mise en place du «cohorting» des personnels soignants à un taux suffisamment élevé pour être effica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ff0033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e dépistage des patients porteurs dès l’admiss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6200" y="888840"/>
            <a:ext cx="89596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cc66"/>
                </a:solidFill>
                <a:latin typeface="Comic Sans MS"/>
              </a:rPr>
              <a:t>Les contraintes (I)</a:t>
            </a:r>
            <a:endParaRPr b="1" i="1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22856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Décret d’octobre 198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réation des CL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Loi hospitalière du 31 juillet 199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évalu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Ordonnances du 24 avril 199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ccrédi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Loi de sécurité sanitaire du 1er  juillet 199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tout établissement de soins publique ou privé a obligation d'organiser la lutte contre les infections nosocomi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Conférence Nationale de Santé de 199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la réduction des accidents iatrogènes évitables est une priorité de santé publi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1468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38052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Relation consommation d’antibiotiques-BMR: complexe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3080" y="1980720"/>
            <a:ext cx="9601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parallèlisme entre consommation d’antibiotiques et  fréquence des infections à BMR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fréquence de résistance plus grande chez les souches isolées d’infections nosocomiales / infections communautair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lors d’épidémies d’infections à BMR, les cas ont reçu significativement plus d’antibiotiqu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plus forte prévalence d’isolement de BMR dans lLes services qui consomment le plus d’antibiotiques (relation bidirectionnelle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relation entre dosage et durée d’administration d’antibiotique, et le risque de colonisation et/ou d’infection par des BMR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généralement, variations parallèles entre modifications de la consommation d’antibiotiques et résistan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60" y="64008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cc66"/>
                </a:solidFill>
                <a:latin typeface="Times New Roman"/>
              </a:rPr>
              <a:t>McGowan JE, et al. New Horizons 1996; 4: 37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080" y="304560"/>
            <a:ext cx="913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Consommation d'antibiotiques et</a:t>
            </a:r>
            <a:br>
              <a:rPr sz="3200"/>
            </a:b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mesures d'hygiène: même combat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117360" y="2222640"/>
            <a:ext cx="1563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Times New Roman"/>
              </a:rPr>
              <a:t>Flacons de 80 mg d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Times New Roman"/>
              </a:rPr>
              <a:t>Gen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Times New Roman"/>
              </a:rPr>
              <a:t>(x 10</a:t>
            </a:r>
            <a:r>
              <a:rPr b="1" lang="fr-FR" sz="1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fr-FR" sz="1800" spc="-1" strike="noStrike">
                <a:solidFill>
                  <a:srgbClr val="ffffcc"/>
                </a:solidFill>
                <a:latin typeface="Times New Roman"/>
              </a:rPr>
              <a:t>) / mo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3520" y="30463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66840" y="32878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84120" y="35514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16080" y="2698920"/>
            <a:ext cx="0" cy="25653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16080" y="5264280"/>
            <a:ext cx="53643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01960" y="2698920"/>
            <a:ext cx="108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01960" y="2973240"/>
            <a:ext cx="108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01960" y="3219480"/>
            <a:ext cx="108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01960" y="3471840"/>
            <a:ext cx="108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01960" y="3726000"/>
            <a:ext cx="108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01960" y="3989520"/>
            <a:ext cx="108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01960" y="4233960"/>
            <a:ext cx="108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01960" y="4502160"/>
            <a:ext cx="108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01960" y="4749840"/>
            <a:ext cx="108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01960" y="5013360"/>
            <a:ext cx="1080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5275440"/>
            <a:ext cx="0" cy="586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46640" y="5270400"/>
            <a:ext cx="0" cy="63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0120" y="5270400"/>
            <a:ext cx="0" cy="63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5270400"/>
            <a:ext cx="0" cy="63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1720" y="5270400"/>
            <a:ext cx="0" cy="63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61040" y="5270400"/>
            <a:ext cx="0" cy="63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16600" y="5270400"/>
            <a:ext cx="0" cy="63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80440" y="5270400"/>
            <a:ext cx="0" cy="63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67080" y="2631960"/>
            <a:ext cx="4701960" cy="2346480"/>
          </a:xfrm>
          <a:custGeom>
            <a:avLst/>
            <a:gdLst/>
            <a:ahLst/>
            <a:rect l="l" t="t" r="r" b="b"/>
            <a:pathLst>
              <a:path w="2962" h="1478">
                <a:moveTo>
                  <a:pt x="0" y="1477"/>
                </a:moveTo>
                <a:lnTo>
                  <a:pt x="409" y="1307"/>
                </a:lnTo>
                <a:lnTo>
                  <a:pt x="830" y="553"/>
                </a:lnTo>
                <a:lnTo>
                  <a:pt x="845" y="546"/>
                </a:lnTo>
                <a:lnTo>
                  <a:pt x="1263" y="0"/>
                </a:lnTo>
                <a:lnTo>
                  <a:pt x="1600" y="152"/>
                </a:lnTo>
                <a:lnTo>
                  <a:pt x="1820" y="784"/>
                </a:lnTo>
                <a:lnTo>
                  <a:pt x="2112" y="913"/>
                </a:lnTo>
                <a:lnTo>
                  <a:pt x="2540" y="868"/>
                </a:lnTo>
                <a:lnTo>
                  <a:pt x="2961" y="662"/>
                </a:lnTo>
              </a:path>
            </a:pathLst>
          </a:custGeom>
          <a:noFill/>
          <a:ln cap="rnd"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89360" y="3324240"/>
            <a:ext cx="3392640" cy="390600"/>
          </a:xfrm>
          <a:custGeom>
            <a:avLst/>
            <a:gdLst/>
            <a:ahLst/>
            <a:rect l="l" t="t" r="r" b="b"/>
            <a:pathLst>
              <a:path w="2137" h="246">
                <a:moveTo>
                  <a:pt x="0" y="245"/>
                </a:moveTo>
                <a:lnTo>
                  <a:pt x="425" y="43"/>
                </a:lnTo>
                <a:lnTo>
                  <a:pt x="751" y="0"/>
                </a:lnTo>
                <a:lnTo>
                  <a:pt x="967" y="185"/>
                </a:lnTo>
                <a:lnTo>
                  <a:pt x="1286" y="211"/>
                </a:lnTo>
                <a:lnTo>
                  <a:pt x="1703" y="188"/>
                </a:lnTo>
                <a:lnTo>
                  <a:pt x="2136" y="72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67080" y="3830760"/>
            <a:ext cx="4694040" cy="1288800"/>
          </a:xfrm>
          <a:custGeom>
            <a:avLst/>
            <a:gdLst/>
            <a:ahLst/>
            <a:rect l="l" t="t" r="r" b="b"/>
            <a:pathLst>
              <a:path w="2957" h="812">
                <a:moveTo>
                  <a:pt x="0" y="811"/>
                </a:moveTo>
                <a:lnTo>
                  <a:pt x="408" y="765"/>
                </a:lnTo>
                <a:lnTo>
                  <a:pt x="825" y="443"/>
                </a:lnTo>
                <a:lnTo>
                  <a:pt x="1250" y="135"/>
                </a:lnTo>
                <a:lnTo>
                  <a:pt x="1603" y="0"/>
                </a:lnTo>
                <a:lnTo>
                  <a:pt x="1633" y="45"/>
                </a:lnTo>
                <a:lnTo>
                  <a:pt x="1815" y="255"/>
                </a:lnTo>
                <a:lnTo>
                  <a:pt x="2107" y="274"/>
                </a:lnTo>
                <a:lnTo>
                  <a:pt x="2535" y="353"/>
                </a:lnTo>
                <a:lnTo>
                  <a:pt x="2956" y="172"/>
                </a:lnTo>
              </a:path>
            </a:pathLst>
          </a:custGeom>
          <a:noFill/>
          <a:ln cap="rnd" w="507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67080" y="4265640"/>
            <a:ext cx="4689360" cy="917640"/>
          </a:xfrm>
          <a:custGeom>
            <a:avLst/>
            <a:gdLst/>
            <a:ahLst/>
            <a:rect l="l" t="t" r="r" b="b"/>
            <a:pathLst>
              <a:path w="2954" h="578">
                <a:moveTo>
                  <a:pt x="0" y="577"/>
                </a:moveTo>
                <a:lnTo>
                  <a:pt x="412" y="530"/>
                </a:lnTo>
                <a:lnTo>
                  <a:pt x="826" y="384"/>
                </a:lnTo>
                <a:lnTo>
                  <a:pt x="1250" y="0"/>
                </a:lnTo>
                <a:lnTo>
                  <a:pt x="1595" y="99"/>
                </a:lnTo>
                <a:lnTo>
                  <a:pt x="1815" y="507"/>
                </a:lnTo>
                <a:lnTo>
                  <a:pt x="2111" y="574"/>
                </a:lnTo>
                <a:lnTo>
                  <a:pt x="2532" y="513"/>
                </a:lnTo>
                <a:lnTo>
                  <a:pt x="2953" y="497"/>
                </a:lnTo>
              </a:path>
            </a:pathLst>
          </a:custGeom>
          <a:noFill/>
          <a:ln cap="rnd" w="507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29360" y="2700360"/>
            <a:ext cx="1944720" cy="5317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5960" y="2652840"/>
            <a:ext cx="124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Mesur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d'hygiè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22880" y="2387520"/>
            <a:ext cx="0" cy="3114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52440" y="2130480"/>
            <a:ext cx="8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déb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5200" y="2057400"/>
            <a:ext cx="1504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Organism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isolés/mo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840" y="257184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11440" y="28162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11440" y="30574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11440" y="33228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11440" y="35607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11440" y="38275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11440" y="40687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11440" y="43290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11440" y="45720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11440" y="48448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11440" y="50878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73960" y="53244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197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59760" y="53244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197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7680" y="53244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197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0480" y="53244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197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29760" y="53244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197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68040" y="53244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197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77600" y="53244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197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28480" y="53244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197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52560" y="3013200"/>
            <a:ext cx="2179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Consommation d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Gentamici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53280" y="3546360"/>
            <a:ext cx="2730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33"/>
                </a:solidFill>
                <a:latin typeface="Arial"/>
              </a:rPr>
              <a:t>Bacilles à Gram négatif Genta-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52920" y="4021200"/>
            <a:ext cx="269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ae00"/>
                </a:solidFill>
                <a:latin typeface="Arial"/>
              </a:rPr>
              <a:t>Pseudomonas </a:t>
            </a:r>
            <a:r>
              <a:rPr b="1" lang="fr-FR" sz="1800" spc="-1" strike="noStrike">
                <a:solidFill>
                  <a:srgbClr val="00ae00"/>
                </a:solidFill>
                <a:latin typeface="Arial"/>
              </a:rPr>
              <a:t>Genta-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53280" y="4859280"/>
            <a:ext cx="184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5fb"/>
                </a:solidFill>
                <a:latin typeface="Arial"/>
              </a:rPr>
              <a:t>EKES* Genta-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3680" y="3208320"/>
            <a:ext cx="0" cy="522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19200" y="3203640"/>
            <a:ext cx="120600" cy="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19200" y="3468600"/>
            <a:ext cx="108000" cy="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1800" y="3726000"/>
            <a:ext cx="108000" cy="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7160" y="5889600"/>
            <a:ext cx="560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* EKES = </a:t>
            </a:r>
            <a:r>
              <a:rPr b="1" i="1" lang="fr-FR" sz="1800" spc="-1" strike="noStrike">
                <a:solidFill>
                  <a:srgbClr val="ffffcc"/>
                </a:solidFill>
                <a:latin typeface="Arial"/>
              </a:rPr>
              <a:t>E. coli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fr-FR" sz="1800" spc="-1" strike="noStrike">
                <a:solidFill>
                  <a:srgbClr val="ffffcc"/>
                </a:solidFill>
                <a:latin typeface="Arial"/>
              </a:rPr>
              <a:t>Klebsiella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fr-FR" sz="1800" spc="-1" strike="noStrike">
                <a:solidFill>
                  <a:srgbClr val="ffffcc"/>
                </a:solidFill>
                <a:latin typeface="Arial"/>
              </a:rPr>
              <a:t>Enterobacter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fr-FR" sz="1800" spc="-1" strike="noStrike">
                <a:solidFill>
                  <a:srgbClr val="ffffcc"/>
                </a:solidFill>
                <a:latin typeface="Arial"/>
              </a:rPr>
              <a:t>Serr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6459480"/>
            <a:ext cx="453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Weinstein, Am J Med, 1981, 70, 449-5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86640" y="6248520"/>
            <a:ext cx="3514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Toulouse 28/10/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300" spc="-1" strike="noStrike">
                <a:solidFill>
                  <a:srgbClr val="ffcc66"/>
                </a:solidFill>
                <a:latin typeface="Comic Sans MS"/>
              </a:rPr>
              <a:t>Relations entre résistance et consommation d'antibiotiques</a:t>
            </a:r>
            <a:endParaRPr b="1" i="1" lang="en-US" sz="33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080" y="2438280"/>
            <a:ext cx="497196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Infections communautai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ffffcc"/>
                </a:solidFill>
                <a:latin typeface="Times New Roman"/>
              </a:rPr>
              <a:t>S. pneumoniae</a:t>
            </a:r>
            <a:r>
              <a:rPr b="0" lang="fr-FR" sz="2100" spc="-1" strike="noStrike">
                <a:solidFill>
                  <a:srgbClr val="ffffcc"/>
                </a:solidFill>
                <a:latin typeface="Times New Roman"/>
              </a:rPr>
              <a:t> / penicilline, macrolides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ffffcc"/>
                </a:solidFill>
                <a:latin typeface="Times New Roman"/>
              </a:rPr>
              <a:t>S. pyogenes</a:t>
            </a:r>
            <a:r>
              <a:rPr b="0" lang="fr-FR" sz="2100" spc="-1" strike="noStrike">
                <a:solidFill>
                  <a:srgbClr val="ffffcc"/>
                </a:solidFill>
                <a:latin typeface="Times New Roman"/>
              </a:rPr>
              <a:t> / macrolides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ffffcc"/>
                </a:solidFill>
                <a:latin typeface="Times New Roman"/>
              </a:rPr>
              <a:t>Salmonella</a:t>
            </a:r>
            <a:r>
              <a:rPr b="0" lang="fr-FR" sz="2100" spc="-1" strike="noStrike">
                <a:solidFill>
                  <a:srgbClr val="ffffcc"/>
                </a:solidFill>
                <a:latin typeface="Times New Roman"/>
              </a:rPr>
              <a:t> / FQ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ffffcc"/>
                </a:solidFill>
                <a:latin typeface="Times New Roman"/>
              </a:rPr>
              <a:t>Campylobacter</a:t>
            </a:r>
            <a:r>
              <a:rPr b="0" lang="fr-FR" sz="2100" spc="-1" strike="noStrike">
                <a:solidFill>
                  <a:srgbClr val="ffffcc"/>
                </a:solidFill>
                <a:latin typeface="Times New Roman"/>
              </a:rPr>
              <a:t> / FQ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ffffcc"/>
                </a:solidFill>
                <a:latin typeface="Times New Roman"/>
              </a:rPr>
              <a:t>E.coli</a:t>
            </a:r>
            <a:r>
              <a:rPr b="0" lang="fr-FR" sz="2100" spc="-1" strike="noStrike">
                <a:solidFill>
                  <a:srgbClr val="ffffcc"/>
                </a:solidFill>
                <a:latin typeface="Times New Roman"/>
              </a:rPr>
              <a:t> / penicillines, FQ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86040" y="2437920"/>
            <a:ext cx="44578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Infections hospitaliè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ffffcc"/>
                </a:solidFill>
                <a:latin typeface="Times New Roman"/>
              </a:rPr>
              <a:t>S.aureus</a:t>
            </a:r>
            <a:r>
              <a:rPr b="0" lang="fr-FR" sz="2100" spc="-1" strike="noStrike">
                <a:solidFill>
                  <a:srgbClr val="ffffcc"/>
                </a:solidFill>
                <a:latin typeface="Times New Roman"/>
              </a:rPr>
              <a:t> / meticilline, FQ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ffffcc"/>
                </a:solidFill>
                <a:latin typeface="Times New Roman"/>
              </a:rPr>
              <a:t>Enterocoques / vanco, ampicilline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ffffcc"/>
                </a:solidFill>
                <a:latin typeface="Times New Roman"/>
              </a:rPr>
              <a:t>Enterobacter</a:t>
            </a:r>
            <a:r>
              <a:rPr b="0" lang="fr-FR" sz="2100" spc="-1" strike="noStrike">
                <a:solidFill>
                  <a:srgbClr val="ffffcc"/>
                </a:solidFill>
                <a:latin typeface="Times New Roman"/>
              </a:rPr>
              <a:t> / C3G, FQ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ffffcc"/>
                </a:solidFill>
                <a:latin typeface="Times New Roman"/>
              </a:rPr>
              <a:t>Klebsiella </a:t>
            </a:r>
            <a:r>
              <a:rPr b="0" lang="fr-FR" sz="2100" spc="-1" strike="noStrike">
                <a:solidFill>
                  <a:srgbClr val="ffffcc"/>
                </a:solidFill>
                <a:latin typeface="Times New Roman"/>
              </a:rPr>
              <a:t>/ C3G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4440" y="2286000"/>
            <a:ext cx="9172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4440" y="2286000"/>
            <a:ext cx="0" cy="3200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4440" y="5486400"/>
            <a:ext cx="9172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686880" y="2286000"/>
            <a:ext cx="0" cy="3200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15040" y="2286000"/>
            <a:ext cx="0" cy="32004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0120" y="5943600"/>
            <a:ext cx="488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D’après Ch Brun-Buisson, SRLF 19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91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700" spc="-1" strike="noStrike">
                <a:solidFill>
                  <a:srgbClr val="ffcc66"/>
                </a:solidFill>
                <a:latin typeface="Comic Sans MS"/>
              </a:rPr>
              <a:t>Bactériémies à Enterobacter sp multirésistants </a:t>
            </a:r>
            <a:br>
              <a:rPr sz="2700"/>
            </a:br>
            <a:r>
              <a:rPr b="1" i="1" lang="fr-FR" sz="2700" spc="-1" strike="noStrike">
                <a:solidFill>
                  <a:srgbClr val="ffcc66"/>
                </a:solidFill>
                <a:latin typeface="Comic Sans MS"/>
              </a:rPr>
              <a:t>après traitement par céphalosporines</a:t>
            </a:r>
            <a:endParaRPr b="1" i="1" lang="en-US" sz="27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494000" y="3392640"/>
            <a:ext cx="7289640" cy="25765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714680" y="2057400"/>
            <a:ext cx="7115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129 épisodes de bactériémies à </a:t>
            </a:r>
            <a:r>
              <a:rPr b="1" i="1" lang="fr-FR" sz="2000" spc="-1" strike="noStrike">
                <a:solidFill>
                  <a:srgbClr val="ffffcc"/>
                </a:solidFill>
                <a:latin typeface="Arial"/>
              </a:rPr>
              <a:t>Enterobacter </a:t>
            </a: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Multirésistance aux bêtalactamines: 37/129 (29%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Association à un traitement préala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8760" y="6172200"/>
            <a:ext cx="5914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Chow et al, Ann Intern Med 1991; 115: 585-9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080" y="228240"/>
            <a:ext cx="917244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Résistance de Klebsiella pneumoniae</a:t>
            </a:r>
            <a:br>
              <a:rPr sz="3200"/>
            </a:b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et consommation de bêtalactamines (I)</a:t>
            </a: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66400" y="1951200"/>
            <a:ext cx="9525240" cy="4367160"/>
            <a:chOff x="266400" y="1951200"/>
            <a:chExt cx="9525240" cy="4367160"/>
          </a:xfrm>
        </p:grpSpPr>
        <p:grpSp>
          <p:nvGrpSpPr>
            <p:cNvPr id="320" name=""/>
            <p:cNvGrpSpPr/>
            <p:nvPr/>
          </p:nvGrpSpPr>
          <p:grpSpPr>
            <a:xfrm>
              <a:off x="677880" y="2252520"/>
              <a:ext cx="6957000" cy="3616560"/>
              <a:chOff x="677880" y="2252520"/>
              <a:chExt cx="6957000" cy="3616560"/>
            </a:xfrm>
          </p:grpSpPr>
          <p:sp>
            <p:nvSpPr>
              <p:cNvPr id="321" name=""/>
              <p:cNvSpPr/>
              <p:nvPr/>
            </p:nvSpPr>
            <p:spPr>
              <a:xfrm>
                <a:off x="1119240" y="5227560"/>
                <a:ext cx="63421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30480" y="2425680"/>
                <a:ext cx="0" cy="2813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44440" y="2414520"/>
                <a:ext cx="144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144440" y="2760840"/>
                <a:ext cx="144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44440" y="3122640"/>
                <a:ext cx="144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44440" y="3468600"/>
                <a:ext cx="144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144440" y="3825720"/>
                <a:ext cx="144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44440" y="4184640"/>
                <a:ext cx="144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44440" y="4525920"/>
                <a:ext cx="144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44440" y="4875120"/>
                <a:ext cx="1447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92200" y="5122800"/>
                <a:ext cx="184320" cy="986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41320" y="5021280"/>
                <a:ext cx="196920" cy="20016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90800" y="4916520"/>
                <a:ext cx="181080" cy="3049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32000" y="4824360"/>
                <a:ext cx="177840" cy="397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75000" y="4305240"/>
                <a:ext cx="182520" cy="9162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17640" y="3384720"/>
                <a:ext cx="176400" cy="1836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52720" y="3654360"/>
                <a:ext cx="165240" cy="1567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2760" y="3768840"/>
                <a:ext cx="163800" cy="1452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25760" y="3914640"/>
                <a:ext cx="163440" cy="13068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60840" y="3562200"/>
                <a:ext cx="164880" cy="16592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97360" y="3705120"/>
                <a:ext cx="169920" cy="15163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38560" y="3591000"/>
                <a:ext cx="158760" cy="1630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75080" y="3332160"/>
                <a:ext cx="163440" cy="18892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37160" y="2681280"/>
                <a:ext cx="144360" cy="254016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61080" y="4006800"/>
                <a:ext cx="168120" cy="12146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02280" y="3832200"/>
                <a:ext cx="171360" cy="13892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45280" y="4046400"/>
                <a:ext cx="177480" cy="11750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587920" y="4322880"/>
                <a:ext cx="176400" cy="89856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43520" y="4070520"/>
                <a:ext cx="176400" cy="11509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78600" y="4830840"/>
                <a:ext cx="171360" cy="3906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29520" y="4618080"/>
                <a:ext cx="182520" cy="60336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64240" y="4789440"/>
                <a:ext cx="176400" cy="4320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800760" y="4622760"/>
                <a:ext cx="169920" cy="5986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43760" y="4627440"/>
                <a:ext cx="163440" cy="5940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86760" y="4287960"/>
                <a:ext cx="168120" cy="9334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5664240"/>
                <a:ext cx="9302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37320" y="5664240"/>
                <a:ext cx="80028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32200" y="5664240"/>
                <a:ext cx="121140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246400" y="5664240"/>
                <a:ext cx="102240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24200" y="5664240"/>
                <a:ext cx="2300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157400" y="5664240"/>
                <a:ext cx="1904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01440" y="5300640"/>
                <a:ext cx="558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cc"/>
                    </a:solidFill>
                    <a:latin typeface="Arial"/>
                  </a:rPr>
                  <a:t>Sept.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95120" y="5300640"/>
                <a:ext cx="576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cc"/>
                    </a:solidFill>
                    <a:latin typeface="Arial"/>
                  </a:rPr>
                  <a:t>Janv.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96840" y="5300640"/>
                <a:ext cx="507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cc"/>
                    </a:solidFill>
                    <a:latin typeface="Arial"/>
                  </a:rPr>
                  <a:t>Déc.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70160" y="5300640"/>
                <a:ext cx="576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cc"/>
                    </a:solidFill>
                    <a:latin typeface="Arial"/>
                  </a:rPr>
                  <a:t>Janv.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152480" y="5300640"/>
                <a:ext cx="482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cc"/>
                    </a:solidFill>
                    <a:latin typeface="Arial"/>
                  </a:rPr>
                  <a:t>Oct.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269000" y="5502240"/>
                <a:ext cx="690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1988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183480" y="5502240"/>
                <a:ext cx="690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1989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87160" y="5502240"/>
                <a:ext cx="690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1990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09640" y="5051520"/>
                <a:ext cx="311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7880" y="46832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7880" y="433872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7880" y="401652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7880" y="36687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7880" y="33004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77880" y="2978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60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7880" y="261000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70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7880" y="225252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cc"/>
                    </a:solidFill>
                    <a:latin typeface="Arial"/>
                  </a:rPr>
                  <a:t>80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030640" y="5641920"/>
                <a:ext cx="16200" cy="460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135400" y="5641920"/>
                <a:ext cx="16200" cy="460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443720" y="5641920"/>
                <a:ext cx="15840" cy="460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52520" y="5641920"/>
                <a:ext cx="15840" cy="460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63520" y="5641920"/>
                <a:ext cx="15840" cy="460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47760" y="5641920"/>
                <a:ext cx="15840" cy="460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235160" y="3417840"/>
                <a:ext cx="6254640" cy="1638360"/>
              </a:xfrm>
              <a:custGeom>
                <a:avLst/>
                <a:gdLst/>
                <a:ahLst/>
                <a:rect l="l" t="t" r="r" b="b"/>
                <a:pathLst>
                  <a:path w="3940" h="1032">
                    <a:moveTo>
                      <a:pt x="0" y="725"/>
                    </a:moveTo>
                    <a:lnTo>
                      <a:pt x="149" y="980"/>
                    </a:lnTo>
                    <a:lnTo>
                      <a:pt x="314" y="798"/>
                    </a:lnTo>
                    <a:lnTo>
                      <a:pt x="454" y="1031"/>
                    </a:lnTo>
                    <a:lnTo>
                      <a:pt x="594" y="690"/>
                    </a:lnTo>
                    <a:lnTo>
                      <a:pt x="743" y="754"/>
                    </a:lnTo>
                    <a:lnTo>
                      <a:pt x="892" y="668"/>
                    </a:lnTo>
                    <a:lnTo>
                      <a:pt x="1032" y="624"/>
                    </a:lnTo>
                    <a:lnTo>
                      <a:pt x="1156" y="690"/>
                    </a:lnTo>
                    <a:lnTo>
                      <a:pt x="1313" y="594"/>
                    </a:lnTo>
                    <a:lnTo>
                      <a:pt x="1453" y="791"/>
                    </a:lnTo>
                    <a:lnTo>
                      <a:pt x="1593" y="530"/>
                    </a:lnTo>
                    <a:lnTo>
                      <a:pt x="1742" y="610"/>
                    </a:lnTo>
                    <a:lnTo>
                      <a:pt x="1882" y="893"/>
                    </a:lnTo>
                    <a:lnTo>
                      <a:pt x="2056" y="610"/>
                    </a:lnTo>
                    <a:lnTo>
                      <a:pt x="2196" y="537"/>
                    </a:lnTo>
                    <a:lnTo>
                      <a:pt x="2345" y="385"/>
                    </a:lnTo>
                    <a:lnTo>
                      <a:pt x="2485" y="486"/>
                    </a:lnTo>
                    <a:lnTo>
                      <a:pt x="2625" y="674"/>
                    </a:lnTo>
                    <a:lnTo>
                      <a:pt x="2766" y="515"/>
                    </a:lnTo>
                    <a:lnTo>
                      <a:pt x="2923" y="696"/>
                    </a:lnTo>
                    <a:lnTo>
                      <a:pt x="3063" y="719"/>
                    </a:lnTo>
                    <a:lnTo>
                      <a:pt x="3211" y="181"/>
                    </a:lnTo>
                    <a:lnTo>
                      <a:pt x="3352" y="181"/>
                    </a:lnTo>
                    <a:lnTo>
                      <a:pt x="3500" y="254"/>
                    </a:lnTo>
                    <a:lnTo>
                      <a:pt x="3641" y="348"/>
                    </a:lnTo>
                    <a:lnTo>
                      <a:pt x="3789" y="0"/>
                    </a:lnTo>
                    <a:lnTo>
                      <a:pt x="3939" y="290"/>
                    </a:lnTo>
                  </a:path>
                </a:pathLst>
              </a:custGeom>
              <a:noFill/>
              <a:ln cap="rnd" w="5076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235160" y="2633760"/>
                <a:ext cx="6254640" cy="2444760"/>
              </a:xfrm>
              <a:custGeom>
                <a:avLst/>
                <a:gdLst/>
                <a:ahLst/>
                <a:rect l="l" t="t" r="r" b="b"/>
                <a:pathLst>
                  <a:path w="3940" h="1540">
                    <a:moveTo>
                      <a:pt x="0" y="1393"/>
                    </a:moveTo>
                    <a:lnTo>
                      <a:pt x="149" y="1539"/>
                    </a:lnTo>
                    <a:lnTo>
                      <a:pt x="314" y="1437"/>
                    </a:lnTo>
                    <a:lnTo>
                      <a:pt x="454" y="1088"/>
                    </a:lnTo>
                    <a:lnTo>
                      <a:pt x="594" y="893"/>
                    </a:lnTo>
                    <a:lnTo>
                      <a:pt x="743" y="1118"/>
                    </a:lnTo>
                    <a:lnTo>
                      <a:pt x="892" y="1154"/>
                    </a:lnTo>
                    <a:lnTo>
                      <a:pt x="1032" y="399"/>
                    </a:lnTo>
                    <a:lnTo>
                      <a:pt x="1156" y="973"/>
                    </a:lnTo>
                    <a:lnTo>
                      <a:pt x="1313" y="979"/>
                    </a:lnTo>
                    <a:lnTo>
                      <a:pt x="1453" y="813"/>
                    </a:lnTo>
                    <a:lnTo>
                      <a:pt x="1593" y="530"/>
                    </a:lnTo>
                    <a:lnTo>
                      <a:pt x="1750" y="740"/>
                    </a:lnTo>
                    <a:lnTo>
                      <a:pt x="1882" y="922"/>
                    </a:lnTo>
                    <a:lnTo>
                      <a:pt x="2056" y="958"/>
                    </a:lnTo>
                    <a:lnTo>
                      <a:pt x="2196" y="406"/>
                    </a:lnTo>
                    <a:lnTo>
                      <a:pt x="2345" y="537"/>
                    </a:lnTo>
                    <a:lnTo>
                      <a:pt x="2493" y="72"/>
                    </a:lnTo>
                    <a:lnTo>
                      <a:pt x="2625" y="413"/>
                    </a:lnTo>
                    <a:lnTo>
                      <a:pt x="2766" y="123"/>
                    </a:lnTo>
                    <a:lnTo>
                      <a:pt x="2923" y="65"/>
                    </a:lnTo>
                    <a:lnTo>
                      <a:pt x="3063" y="0"/>
                    </a:lnTo>
                    <a:lnTo>
                      <a:pt x="3211" y="580"/>
                    </a:lnTo>
                    <a:lnTo>
                      <a:pt x="3352" y="776"/>
                    </a:lnTo>
                    <a:lnTo>
                      <a:pt x="3492" y="1110"/>
                    </a:lnTo>
                    <a:lnTo>
                      <a:pt x="3633" y="1088"/>
                    </a:lnTo>
                    <a:lnTo>
                      <a:pt x="3789" y="1335"/>
                    </a:lnTo>
                    <a:lnTo>
                      <a:pt x="3939" y="1372"/>
                    </a:lnTo>
                  </a:path>
                </a:pathLst>
              </a:custGeom>
              <a:noFill/>
              <a:ln cap="rnd" w="50760">
                <a:solidFill>
                  <a:srgbClr val="f35b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249200" y="3762360"/>
                <a:ext cx="6240600" cy="1442880"/>
              </a:xfrm>
              <a:custGeom>
                <a:avLst/>
                <a:gdLst/>
                <a:ahLst/>
                <a:rect l="l" t="t" r="r" b="b"/>
                <a:pathLst>
                  <a:path w="3931" h="909">
                    <a:moveTo>
                      <a:pt x="0" y="820"/>
                    </a:moveTo>
                    <a:lnTo>
                      <a:pt x="140" y="871"/>
                    </a:lnTo>
                    <a:lnTo>
                      <a:pt x="305" y="799"/>
                    </a:lnTo>
                    <a:lnTo>
                      <a:pt x="446" y="908"/>
                    </a:lnTo>
                    <a:lnTo>
                      <a:pt x="594" y="820"/>
                    </a:lnTo>
                    <a:lnTo>
                      <a:pt x="735" y="799"/>
                    </a:lnTo>
                    <a:lnTo>
                      <a:pt x="883" y="820"/>
                    </a:lnTo>
                    <a:lnTo>
                      <a:pt x="1024" y="885"/>
                    </a:lnTo>
                    <a:lnTo>
                      <a:pt x="1156" y="726"/>
                    </a:lnTo>
                    <a:lnTo>
                      <a:pt x="1304" y="711"/>
                    </a:lnTo>
                    <a:lnTo>
                      <a:pt x="1445" y="820"/>
                    </a:lnTo>
                    <a:lnTo>
                      <a:pt x="1585" y="522"/>
                    </a:lnTo>
                    <a:lnTo>
                      <a:pt x="1734" y="770"/>
                    </a:lnTo>
                    <a:lnTo>
                      <a:pt x="1874" y="690"/>
                    </a:lnTo>
                    <a:lnTo>
                      <a:pt x="2048" y="421"/>
                    </a:lnTo>
                    <a:lnTo>
                      <a:pt x="2188" y="733"/>
                    </a:lnTo>
                    <a:lnTo>
                      <a:pt x="2337" y="675"/>
                    </a:lnTo>
                    <a:lnTo>
                      <a:pt x="2477" y="631"/>
                    </a:lnTo>
                    <a:lnTo>
                      <a:pt x="2617" y="276"/>
                    </a:lnTo>
                    <a:lnTo>
                      <a:pt x="2758" y="493"/>
                    </a:lnTo>
                    <a:lnTo>
                      <a:pt x="2914" y="646"/>
                    </a:lnTo>
                    <a:lnTo>
                      <a:pt x="3047" y="457"/>
                    </a:lnTo>
                    <a:lnTo>
                      <a:pt x="3203" y="486"/>
                    </a:lnTo>
                    <a:lnTo>
                      <a:pt x="3352" y="428"/>
                    </a:lnTo>
                    <a:lnTo>
                      <a:pt x="3492" y="7"/>
                    </a:lnTo>
                    <a:lnTo>
                      <a:pt x="3641" y="137"/>
                    </a:lnTo>
                    <a:lnTo>
                      <a:pt x="3781" y="0"/>
                    </a:lnTo>
                    <a:lnTo>
                      <a:pt x="3930" y="391"/>
                    </a:lnTo>
                  </a:path>
                </a:pathLst>
              </a:custGeom>
              <a:noFill/>
              <a:ln cap="rnd" w="50760">
                <a:solidFill>
                  <a:srgbClr val="3365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7506720" y="3003480"/>
              <a:ext cx="1657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Times New Roman"/>
                </a:rPr>
                <a:t>Antibiotiqu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57480" y="4649760"/>
              <a:ext cx="161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Arial"/>
                </a:rPr>
                <a:t>Ceftazidim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59640" y="3492360"/>
              <a:ext cx="1652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Arial"/>
                </a:rPr>
                <a:t>Imipénème /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Arial"/>
                </a:rPr>
                <a:t>Cilastatin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56760" y="4240080"/>
              <a:ext cx="1587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Arial"/>
                </a:rPr>
                <a:t>Ceftriaxon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87080" y="3787920"/>
              <a:ext cx="304560" cy="0"/>
            </a:xfrm>
            <a:prstGeom prst="line">
              <a:avLst/>
            </a:prstGeom>
            <a:ln w="507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487080" y="4390920"/>
              <a:ext cx="304560" cy="0"/>
            </a:xfrm>
            <a:prstGeom prst="line">
              <a:avLst/>
            </a:prstGeom>
            <a:ln w="507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487080" y="4811760"/>
              <a:ext cx="304560" cy="0"/>
            </a:xfrm>
            <a:prstGeom prst="line">
              <a:avLst/>
            </a:prstGeom>
            <a:ln w="50760">
              <a:solidFill>
                <a:srgbClr val="f35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7520" y="5619600"/>
              <a:ext cx="1944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400" y="1951200"/>
              <a:ext cx="1369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Times New Roman"/>
                </a:rPr>
                <a:t>% Cefta-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771480" y="6095880"/>
            <a:ext cx="50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cc66"/>
                </a:solidFill>
                <a:latin typeface="Arial"/>
              </a:rPr>
              <a:t>Meyer, Ann Intern Med, 1993, 119, 353-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29240" y="6095880"/>
            <a:ext cx="317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Toulouse 28/10/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2320" y="533160"/>
            <a:ext cx="93171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Résistance de Klebsiella pneumoniae</a:t>
            </a:r>
            <a:br>
              <a:rPr sz="3200"/>
            </a:b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 et consommation de bêtalactamines (II)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13720" y="1981080"/>
            <a:ext cx="8550000" cy="4208760"/>
            <a:chOff x="513720" y="1981080"/>
            <a:chExt cx="8550000" cy="4208760"/>
          </a:xfrm>
        </p:grpSpPr>
        <p:sp>
          <p:nvSpPr>
            <p:cNvPr id="401" name=""/>
            <p:cNvSpPr/>
            <p:nvPr/>
          </p:nvSpPr>
          <p:spPr>
            <a:xfrm>
              <a:off x="5028480" y="2635200"/>
              <a:ext cx="1657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Times New Roman"/>
                </a:rPr>
                <a:t>% de souch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Times New Roman"/>
                </a:rPr>
                <a:t>sensibl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37400" y="3282840"/>
              <a:ext cx="2952720" cy="2448000"/>
            </a:xfrm>
            <a:custGeom>
              <a:avLst/>
              <a:gdLst/>
              <a:ahLst/>
              <a:rect l="l" t="t" r="r" b="b"/>
              <a:pathLst>
                <a:path w="1860" h="1542">
                  <a:moveTo>
                    <a:pt x="0" y="0"/>
                  </a:moveTo>
                  <a:lnTo>
                    <a:pt x="0" y="1541"/>
                  </a:lnTo>
                  <a:lnTo>
                    <a:pt x="1859" y="1541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168960" y="5721480"/>
              <a:ext cx="2103480" cy="134640"/>
              <a:chOff x="6168960" y="5721480"/>
              <a:chExt cx="2103480" cy="134640"/>
            </a:xfrm>
          </p:grpSpPr>
          <p:sp>
            <p:nvSpPr>
              <p:cNvPr id="404" name=""/>
              <p:cNvSpPr/>
              <p:nvPr/>
            </p:nvSpPr>
            <p:spPr>
              <a:xfrm>
                <a:off x="6168960" y="5721480"/>
                <a:ext cx="0" cy="134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29320" y="5721480"/>
                <a:ext cx="0" cy="134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81760" y="5721480"/>
                <a:ext cx="0" cy="134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11880" y="5721480"/>
                <a:ext cx="0" cy="134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562880" y="5721480"/>
                <a:ext cx="0" cy="134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912080" y="5721480"/>
                <a:ext cx="0" cy="134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272440" y="5721480"/>
                <a:ext cx="0" cy="1346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168960" y="3408480"/>
              <a:ext cx="2119320" cy="750600"/>
            </a:xfrm>
            <a:custGeom>
              <a:avLst/>
              <a:gdLst/>
              <a:ahLst/>
              <a:rect l="l" t="t" r="r" b="b"/>
              <a:pathLst>
                <a:path w="1335" h="473">
                  <a:moveTo>
                    <a:pt x="1334" y="472"/>
                  </a:moveTo>
                  <a:lnTo>
                    <a:pt x="1086" y="122"/>
                  </a:lnTo>
                  <a:lnTo>
                    <a:pt x="886" y="48"/>
                  </a:lnTo>
                  <a:lnTo>
                    <a:pt x="657" y="73"/>
                  </a:lnTo>
                  <a:lnTo>
                    <a:pt x="438" y="0"/>
                  </a:lnTo>
                  <a:lnTo>
                    <a:pt x="238" y="122"/>
                  </a:lnTo>
                  <a:lnTo>
                    <a:pt x="0" y="73"/>
                  </a:lnTo>
                </a:path>
              </a:pathLst>
            </a:custGeom>
            <a:noFill/>
            <a:ln cap="rnd" w="5076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75400" y="3400560"/>
              <a:ext cx="1712880" cy="212760"/>
            </a:xfrm>
            <a:custGeom>
              <a:avLst/>
              <a:gdLst/>
              <a:ahLst/>
              <a:rect l="l" t="t" r="r" b="b"/>
              <a:pathLst>
                <a:path w="1079" h="134">
                  <a:moveTo>
                    <a:pt x="1078" y="36"/>
                  </a:moveTo>
                  <a:lnTo>
                    <a:pt x="848" y="41"/>
                  </a:lnTo>
                  <a:lnTo>
                    <a:pt x="600" y="24"/>
                  </a:lnTo>
                  <a:lnTo>
                    <a:pt x="410" y="54"/>
                  </a:lnTo>
                  <a:lnTo>
                    <a:pt x="181" y="0"/>
                  </a:lnTo>
                  <a:lnTo>
                    <a:pt x="0" y="133"/>
                  </a:lnTo>
                  <a:lnTo>
                    <a:pt x="0" y="133"/>
                  </a:lnTo>
                </a:path>
              </a:pathLst>
            </a:custGeom>
            <a:noFill/>
            <a:ln cap="rnd" w="507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53120" y="3478320"/>
              <a:ext cx="2135160" cy="466560"/>
            </a:xfrm>
            <a:custGeom>
              <a:avLst/>
              <a:gdLst/>
              <a:ahLst/>
              <a:rect l="l" t="t" r="r" b="b"/>
              <a:pathLst>
                <a:path w="1345" h="294">
                  <a:moveTo>
                    <a:pt x="1344" y="158"/>
                  </a:moveTo>
                  <a:lnTo>
                    <a:pt x="895" y="293"/>
                  </a:lnTo>
                  <a:lnTo>
                    <a:pt x="466" y="0"/>
                  </a:lnTo>
                  <a:lnTo>
                    <a:pt x="247" y="85"/>
                  </a:lnTo>
                  <a:lnTo>
                    <a:pt x="0" y="18"/>
                  </a:lnTo>
                </a:path>
              </a:pathLst>
            </a:cu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99200" y="3486240"/>
              <a:ext cx="1397160" cy="204840"/>
            </a:xfrm>
            <a:custGeom>
              <a:avLst/>
              <a:gdLst/>
              <a:ahLst/>
              <a:rect l="l" t="t" r="r" b="b"/>
              <a:pathLst>
                <a:path w="880" h="129">
                  <a:moveTo>
                    <a:pt x="879" y="109"/>
                  </a:moveTo>
                  <a:lnTo>
                    <a:pt x="668" y="116"/>
                  </a:lnTo>
                  <a:lnTo>
                    <a:pt x="448" y="85"/>
                  </a:lnTo>
                  <a:lnTo>
                    <a:pt x="228" y="128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653080" y="3438360"/>
              <a:ext cx="18432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653080" y="4592520"/>
              <a:ext cx="16992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15040" y="3740040"/>
              <a:ext cx="2163960" cy="476280"/>
            </a:xfrm>
            <a:custGeom>
              <a:avLst/>
              <a:gdLst/>
              <a:ahLst/>
              <a:rect l="l" t="t" r="r" b="b"/>
              <a:pathLst>
                <a:path w="1363" h="300">
                  <a:moveTo>
                    <a:pt x="1362" y="158"/>
                  </a:moveTo>
                  <a:lnTo>
                    <a:pt x="1123" y="262"/>
                  </a:lnTo>
                  <a:lnTo>
                    <a:pt x="895" y="299"/>
                  </a:lnTo>
                  <a:lnTo>
                    <a:pt x="666" y="177"/>
                  </a:lnTo>
                  <a:lnTo>
                    <a:pt x="485" y="55"/>
                  </a:lnTo>
                  <a:lnTo>
                    <a:pt x="238" y="0"/>
                  </a:lnTo>
                  <a:lnTo>
                    <a:pt x="0" y="146"/>
                  </a:lnTo>
                </a:path>
              </a:pathLst>
            </a:custGeom>
            <a:noFill/>
            <a:ln cap="rnd" w="50760">
              <a:solidFill>
                <a:srgbClr val="e540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57400" y="3257640"/>
              <a:ext cx="70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5f5f5f"/>
                  </a:solidFill>
                  <a:latin typeface="Arial"/>
                </a:rPr>
                <a:t>MO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57400" y="3560760"/>
              <a:ext cx="63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6b61"/>
                  </a:solidFill>
                  <a:latin typeface="Arial"/>
                </a:rPr>
                <a:t>CF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57760" y="3811680"/>
              <a:ext cx="680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e5405d"/>
                  </a:solidFill>
                  <a:latin typeface="Arial"/>
                </a:rPr>
                <a:t>CF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57760" y="406404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65fb"/>
                  </a:solidFill>
                  <a:latin typeface="Arial"/>
                </a:rPr>
                <a:t>CT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00320" y="323856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ae00"/>
                  </a:solidFill>
                  <a:latin typeface="Arial"/>
                </a:rPr>
                <a:t>CX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10200" y="44578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57920" y="3292560"/>
              <a:ext cx="56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70480" y="58230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81840" y="58230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31040" y="58230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1400" y="58230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51760" y="58230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6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0040" y="58230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42560" y="582300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198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1641600" y="5773680"/>
              <a:ext cx="2211120" cy="104760"/>
              <a:chOff x="1641600" y="5773680"/>
              <a:chExt cx="2211120" cy="104760"/>
            </a:xfrm>
          </p:grpSpPr>
          <p:sp>
            <p:nvSpPr>
              <p:cNvPr id="433" name=""/>
              <p:cNvSpPr/>
              <p:nvPr/>
            </p:nvSpPr>
            <p:spPr>
              <a:xfrm>
                <a:off x="1641600" y="5773680"/>
                <a:ext cx="0" cy="104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27160" y="5773680"/>
                <a:ext cx="0" cy="104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414520" y="5773680"/>
                <a:ext cx="0" cy="104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801880" y="5773680"/>
                <a:ext cx="0" cy="104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39920" y="5773680"/>
                <a:ext cx="0" cy="104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486240" y="5773680"/>
                <a:ext cx="0" cy="104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52720" y="5773680"/>
                <a:ext cx="0" cy="104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1627200" y="2590920"/>
              <a:ext cx="2243160" cy="2955960"/>
            </a:xfrm>
            <a:custGeom>
              <a:avLst/>
              <a:gdLst/>
              <a:ahLst/>
              <a:rect l="l" t="t" r="r" b="b"/>
              <a:pathLst>
                <a:path w="1413" h="1862">
                  <a:moveTo>
                    <a:pt x="0" y="1861"/>
                  </a:moveTo>
                  <a:lnTo>
                    <a:pt x="254" y="957"/>
                  </a:lnTo>
                  <a:lnTo>
                    <a:pt x="508" y="572"/>
                  </a:lnTo>
                  <a:lnTo>
                    <a:pt x="751" y="289"/>
                  </a:lnTo>
                  <a:lnTo>
                    <a:pt x="975" y="397"/>
                  </a:lnTo>
                  <a:lnTo>
                    <a:pt x="1178" y="120"/>
                  </a:lnTo>
                  <a:lnTo>
                    <a:pt x="1412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41600" y="4311720"/>
              <a:ext cx="2228760" cy="1376280"/>
            </a:xfrm>
            <a:custGeom>
              <a:avLst/>
              <a:gdLst/>
              <a:ahLst/>
              <a:rect l="l" t="t" r="r" b="b"/>
              <a:pathLst>
                <a:path w="1404" h="867">
                  <a:moveTo>
                    <a:pt x="0" y="0"/>
                  </a:moveTo>
                  <a:lnTo>
                    <a:pt x="254" y="42"/>
                  </a:lnTo>
                  <a:lnTo>
                    <a:pt x="477" y="138"/>
                  </a:lnTo>
                  <a:lnTo>
                    <a:pt x="731" y="420"/>
                  </a:lnTo>
                  <a:lnTo>
                    <a:pt x="955" y="192"/>
                  </a:lnTo>
                  <a:lnTo>
                    <a:pt x="1169" y="607"/>
                  </a:lnTo>
                  <a:lnTo>
                    <a:pt x="1403" y="866"/>
                  </a:lnTo>
                </a:path>
              </a:pathLst>
            </a:custGeom>
            <a:noFill/>
            <a:ln cap="rnd" w="507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41600" y="4091040"/>
              <a:ext cx="2212920" cy="1657440"/>
            </a:xfrm>
            <a:custGeom>
              <a:avLst/>
              <a:gdLst/>
              <a:ahLst/>
              <a:rect l="l" t="t" r="r" b="b"/>
              <a:pathLst>
                <a:path w="1394" h="1044">
                  <a:moveTo>
                    <a:pt x="0" y="0"/>
                  </a:moveTo>
                  <a:lnTo>
                    <a:pt x="254" y="271"/>
                  </a:lnTo>
                  <a:lnTo>
                    <a:pt x="488" y="289"/>
                  </a:lnTo>
                  <a:lnTo>
                    <a:pt x="711" y="579"/>
                  </a:lnTo>
                  <a:lnTo>
                    <a:pt x="955" y="427"/>
                  </a:lnTo>
                  <a:lnTo>
                    <a:pt x="1159" y="940"/>
                  </a:lnTo>
                  <a:lnTo>
                    <a:pt x="1393" y="1043"/>
                  </a:lnTo>
                </a:path>
              </a:pathLst>
            </a:custGeom>
            <a:noFill/>
            <a:ln cap="rnd" w="507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27200" y="3554280"/>
              <a:ext cx="2274840" cy="2011320"/>
            </a:xfrm>
            <a:custGeom>
              <a:avLst/>
              <a:gdLst/>
              <a:ahLst/>
              <a:rect l="l" t="t" r="r" b="b"/>
              <a:pathLst>
                <a:path w="1433" h="1267">
                  <a:moveTo>
                    <a:pt x="0" y="1266"/>
                  </a:moveTo>
                  <a:lnTo>
                    <a:pt x="254" y="415"/>
                  </a:lnTo>
                  <a:lnTo>
                    <a:pt x="752" y="0"/>
                  </a:lnTo>
                  <a:lnTo>
                    <a:pt x="964" y="192"/>
                  </a:lnTo>
                  <a:lnTo>
                    <a:pt x="1177" y="108"/>
                  </a:lnTo>
                  <a:lnTo>
                    <a:pt x="1432" y="246"/>
                  </a:lnTo>
                </a:path>
              </a:pathLst>
            </a:custGeom>
            <a:noFill/>
            <a:ln cap="rnd" w="5076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60680" y="5448240"/>
              <a:ext cx="1143000" cy="306360"/>
            </a:xfrm>
            <a:custGeom>
              <a:avLst/>
              <a:gdLst/>
              <a:ahLst/>
              <a:rect l="l" t="t" r="r" b="b"/>
              <a:pathLst>
                <a:path w="720" h="193">
                  <a:moveTo>
                    <a:pt x="0" y="0"/>
                  </a:moveTo>
                  <a:lnTo>
                    <a:pt x="233" y="132"/>
                  </a:lnTo>
                  <a:lnTo>
                    <a:pt x="475" y="192"/>
                  </a:lnTo>
                  <a:lnTo>
                    <a:pt x="719" y="185"/>
                  </a:lnTo>
                </a:path>
              </a:pathLst>
            </a:cu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01880" y="5210280"/>
              <a:ext cx="1077840" cy="441360"/>
            </a:xfrm>
            <a:custGeom>
              <a:avLst/>
              <a:gdLst/>
              <a:ahLst/>
              <a:rect l="l" t="t" r="r" b="b"/>
              <a:pathLst>
                <a:path w="679" h="278">
                  <a:moveTo>
                    <a:pt x="0" y="277"/>
                  </a:moveTo>
                  <a:lnTo>
                    <a:pt x="212" y="265"/>
                  </a:lnTo>
                  <a:lnTo>
                    <a:pt x="434" y="84"/>
                  </a:lnTo>
                  <a:lnTo>
                    <a:pt x="678" y="0"/>
                  </a:lnTo>
                </a:path>
              </a:pathLst>
            </a:cu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14560" y="5429160"/>
              <a:ext cx="1839960" cy="325440"/>
            </a:xfrm>
            <a:custGeom>
              <a:avLst/>
              <a:gdLst/>
              <a:ahLst/>
              <a:rect l="l" t="t" r="r" b="b"/>
              <a:pathLst>
                <a:path w="1159" h="205">
                  <a:moveTo>
                    <a:pt x="0" y="204"/>
                  </a:moveTo>
                  <a:lnTo>
                    <a:pt x="273" y="42"/>
                  </a:lnTo>
                  <a:lnTo>
                    <a:pt x="487" y="42"/>
                  </a:lnTo>
                  <a:lnTo>
                    <a:pt x="711" y="0"/>
                  </a:lnTo>
                  <a:lnTo>
                    <a:pt x="924" y="23"/>
                  </a:lnTo>
                  <a:lnTo>
                    <a:pt x="1158" y="173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19040" y="2475000"/>
              <a:ext cx="3354480" cy="3292560"/>
            </a:xfrm>
            <a:custGeom>
              <a:avLst/>
              <a:gdLst/>
              <a:ahLst/>
              <a:rect l="l" t="t" r="r" b="b"/>
              <a:pathLst>
                <a:path w="2113" h="2074">
                  <a:moveTo>
                    <a:pt x="0" y="0"/>
                  </a:moveTo>
                  <a:lnTo>
                    <a:pt x="0" y="2073"/>
                  </a:lnTo>
                  <a:lnTo>
                    <a:pt x="2112" y="2073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27160" y="3508200"/>
              <a:ext cx="20808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09520" y="4637160"/>
              <a:ext cx="20952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3720" y="336564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94440" y="44737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87840" y="579132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198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00280" y="579132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68560" y="579132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41520" y="579132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11600" y="579132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82760" y="579132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01320" y="5192640"/>
              <a:ext cx="70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5f5f5f"/>
                  </a:solidFill>
                  <a:latin typeface="Arial"/>
                </a:rPr>
                <a:t>MO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01320" y="4957920"/>
              <a:ext cx="63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6b61"/>
                  </a:solidFill>
                  <a:latin typeface="Arial"/>
                </a:rPr>
                <a:t>CF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73360" y="579132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86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02040" y="5356080"/>
              <a:ext cx="65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35b1b"/>
                  </a:solidFill>
                  <a:latin typeface="Arial"/>
                </a:rPr>
                <a:t>C2G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01680" y="374184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65fb"/>
                  </a:solidFill>
                  <a:latin typeface="Arial"/>
                </a:rPr>
                <a:t>CTX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01680" y="551808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ae00"/>
                  </a:solidFill>
                  <a:latin typeface="Arial"/>
                </a:rPr>
                <a:t>CXT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02040" y="2381400"/>
              <a:ext cx="65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35b1b"/>
                  </a:solidFill>
                  <a:latin typeface="Arial"/>
                </a:rPr>
                <a:t>C3G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1120" y="1981080"/>
              <a:ext cx="23169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Times New Roman"/>
                </a:rPr>
                <a:t>Consommatio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cc"/>
                  </a:solidFill>
                  <a:latin typeface="Times New Roman"/>
                </a:rPr>
                <a:t>d'antibiotiques (kg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771480" y="6248520"/>
            <a:ext cx="437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Times New Roman"/>
              </a:rPr>
              <a:t>Courcol, JAC, 1989, 23, 441-5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43560" y="6324480"/>
            <a:ext cx="342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66"/>
                </a:solidFill>
                <a:latin typeface="Comic Sans MS"/>
              </a:rPr>
              <a:t>Toulouse 28/10/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ffcc"/>
                </a:solidFill>
                <a:latin typeface="Arial Narrow"/>
              </a:rPr>
              <a:t>Multirésistance à l’hôpital</a:t>
            </a:r>
            <a:br>
              <a:rPr sz="3600"/>
            </a:br>
            <a:r>
              <a:rPr b="1" i="1" lang="fr-FR" sz="3600" spc="-1" strike="noStrike">
                <a:solidFill>
                  <a:srgbClr val="ffffcc"/>
                </a:solidFill>
                <a:latin typeface="Arial Narrow"/>
              </a:rPr>
              <a:t>l’exemple du S.aureus résistants à la méticilline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263600" y="1820880"/>
            <a:ext cx="7981920" cy="42656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067240" y="6032520"/>
            <a:ext cx="149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(BEH 20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400" spc="-1" strike="noStrike">
                <a:solidFill>
                  <a:srgbClr val="ffffcc"/>
                </a:solidFill>
                <a:latin typeface="Arial Narrow"/>
              </a:rPr>
              <a:t>Multirésistance en ville</a:t>
            </a:r>
            <a:br>
              <a:rPr sz="3400"/>
            </a:br>
            <a:r>
              <a:rPr b="1" i="1" lang="fr-FR" sz="3400" spc="-1" strike="noStrike">
                <a:solidFill>
                  <a:srgbClr val="ffffcc"/>
                </a:solidFill>
                <a:latin typeface="Arial Narrow"/>
              </a:rPr>
              <a:t>l’exemple du pneumocoque</a:t>
            </a:r>
            <a:endParaRPr b="1" i="1" lang="en-US" sz="3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876240" y="1828800"/>
            <a:ext cx="4295880" cy="4641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663880" y="1987200"/>
            <a:ext cx="4273560" cy="41022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Multirésistance du pneumocoque en 1999 (BEH 20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Erythromycine</a:t>
            </a: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65%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Cotrimoxazole</a:t>
            </a: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50%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Tétracycline</a:t>
            </a: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36%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Rifampicine</a:t>
            </a: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fr-FR" sz="2600" spc="-1" strike="noStrike">
                <a:solidFill>
                  <a:srgbClr val="ffffcc"/>
                </a:solidFill>
                <a:latin typeface="Arial Narrow"/>
              </a:rPr>
              <a:t>0.7%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Perspectives 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628640" y="3271680"/>
            <a:ext cx="6858000" cy="16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En vil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iminution sensible de la quantit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En établissements de so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mélioration sensible de la qualit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Perspectives </a:t>
            </a:r>
            <a:br>
              <a:rPr sz="3600"/>
            </a:b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La ville (I)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3080" y="2209680"/>
            <a:ext cx="9772560" cy="464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Principaux moyens d’intervention auprès du public et des médeci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nnonce d’un plan national d’a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ampagne d’information grand publ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édias, diffusion de brochures (pharmacie, cabinet médicaux ville et hôpital, PMI, crèches), notices d’information dans les boites d’antibiotiques, dans les carnets de santé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Outils d’aide à la décision pour améliorer la qualité du diagnostic /soins en médecine ambulato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éférentiels sur les principales infections (démarche : prescrire ou non, fiches..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TD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Intégration dans le cursus universitaire et post universita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Réforme du 2ème et 3ème cycl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éances obligatoires d’enseignement à l’hô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réation d’une Commission de coordination et de suivi nat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6200" y="888840"/>
            <a:ext cx="88804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cc66"/>
                </a:solidFill>
                <a:latin typeface="Comic Sans MS"/>
              </a:rPr>
              <a:t>Les contraintes (II)</a:t>
            </a:r>
            <a:endParaRPr b="1" i="1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3960" y="2131560"/>
            <a:ext cx="9067680" cy="45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CLIN nouveau (décret du 11/12/99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Programme d’action des établissements de santé (circulaire en finalis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Priorités nationales définies par le CTIN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et spécificités des établissement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urveilla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mesures de préven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orm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évalu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iffusion des inform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Signalement obligatoire  (décret du 26/07/0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Contrôle de la qualité de l'environnement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Perspectives </a:t>
            </a:r>
            <a:br>
              <a:rPr sz="3600"/>
            </a:b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La ville (II)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94294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Mise en place de centres de référence loco-régionaux pour l’aide en ligne à la prescription des antibiotiqu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Equipe hospitalière référente en antibiothérap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ccessible uniquement aux médeci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vis très spécialisés nécessitant une infrastructure multidisciplinai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L’objectif n’est pas l’aide à la prescription initiale dans les infections courantes mais bien les situations complexes pour lesquelles le praticien libéral est (sauf circuit personnel) souvent seul (l’interprétation des échecs, les CI/effets secondaires..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iffusion des informations locales sur l’épidémiolog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0080" y="380520"/>
            <a:ext cx="923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Perspectives </a:t>
            </a:r>
            <a:br>
              <a:rPr sz="3600"/>
            </a:b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Les établissements de soins: 8 mesures 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5320" y="2133360"/>
            <a:ext cx="10115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laboration et diffusion d’un référentiel local consensuel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(I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Formulaire et mise en place d’un processus de dispensation permettant de vérifier en temps réel la conformité de la prescription au consensus adopté (I)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quipe référente en antibiothérapie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(/ 800 lits)</a:t>
            </a:r>
            <a:r>
              <a:rPr b="1" lang="fr-F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(CT, M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Times New Roman"/>
              </a:rPr>
              <a:t>1 PH temps plein compétent en antibiothérapi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Times New Roman"/>
              </a:rPr>
              <a:t>1 mi-temps pharmacie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Times New Roman"/>
              </a:rPr>
              <a:t>1 mi-temps pharmacien microbiologis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Times New Roman"/>
              </a:rPr>
              <a:t>1 temps plein TE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Commission des antibiotiques obligatoire (I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Surveillance quantitative et qualitative de la consommation d’antibiotique (CT, M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Surveillance de la résistance bactérienne (CT,M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Times New Roman"/>
              </a:rPr>
              <a:t>focalisée sur des couples antibiotiques/bactéries pour lesquels le lien Exposition AB/Résistance est considéré comme significati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Indicateur de mortalité par maladie bactérienne (M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66ff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Le retour d’information aux prescripteurs (I)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69520" y="380520"/>
            <a:ext cx="8960040" cy="11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Infections nosocomiales</a:t>
            </a:r>
            <a:br>
              <a:rPr sz="3600"/>
            </a:b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et leurs répercussions en ville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99920" y="28191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Prise en charge du patient infect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Prise en charge du patient colonis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Politique d’hygiène réalis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iminution et rationalisation de l’utilisation des antibiotiq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1468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71120" y="533160"/>
            <a:ext cx="8791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Intérêt du dépistage</a:t>
            </a:r>
            <a:br>
              <a:rPr sz="3200"/>
            </a:b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 des patients porteurs de BMR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1320" y="266688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Identification des patients porteu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Mise en œuvre des mesures d’isolement spécifi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Augmentation de la sensibilité de la dét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Motivation de l’équipe soign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Orientation du choix de l’antibiothérapie en cas d’inf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Application d’une éventuelle chimiodécontamin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1468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71480" y="533160"/>
            <a:ext cx="8715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Contraintes liées au dépistage</a:t>
            </a:r>
            <a:br>
              <a:rPr sz="3200"/>
            </a:br>
            <a:r>
              <a:rPr b="1" i="1" lang="fr-FR" sz="3200" spc="-1" strike="noStrike">
                <a:solidFill>
                  <a:srgbClr val="ffcc66"/>
                </a:solidFill>
                <a:latin typeface="Comic Sans MS"/>
              </a:rPr>
              <a:t> des patients porteurs de BMR</a:t>
            </a:r>
            <a:endParaRPr b="1" i="1" lang="en-US" sz="3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71680" y="213336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cc66"/>
                </a:solidFill>
                <a:latin typeface="Times New Roman"/>
              </a:rPr>
              <a:t>Augmentation de la charge en so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mise en isolement systématique dans l’attente de résultats (dépistage à l’admiss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temps nécessaire à la réalisation des prélèvements: 22 min/pati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écouvillonage nasal, périnéal, et axillaire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10 minu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écouvillonage rectal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12 minu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déquation quantitative des effectifs des personnels soignants à la charge en so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cc66"/>
                </a:solidFill>
                <a:latin typeface="Times New Roman"/>
              </a:rPr>
              <a:t>Notification individuelle et rapide des résulta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66"/>
                </a:solidFill>
                <a:latin typeface="Times New Roman"/>
              </a:rPr>
              <a:t>Contraintes économiq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200" y="888840"/>
            <a:ext cx="88804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cc66"/>
                </a:solidFill>
                <a:latin typeface="Comic Sans MS"/>
              </a:rPr>
              <a:t>Les contraintes (III)</a:t>
            </a:r>
            <a:endParaRPr b="1" i="1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2133360"/>
            <a:ext cx="90676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Programme minimum de surveillance (Réseaux +++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réquence de survenue des infections nosocomi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une enquête nationale de prévalence / 5 a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incidence des ISO pendant au moins 3 mois / 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incidence d’autre(s) site(s) pertinent(s) au moins 3 mois / an (KT en réanimation, ...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incidence des bactériémies nosocomiales de l’établissement en continu, à partir du laboratoire de bactériologi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Surveillance en contin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es BM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e la consommation de certains antibiotiqu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ES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5331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Prévention des infections nosocomiales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8680" y="3122280"/>
            <a:ext cx="9068040" cy="34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Référence 4 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: «Le programme de lutte contre le risque infectieux comporte une surveillance»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000" spc="-1" strike="noStrike">
                <a:solidFill>
                  <a:srgbClr val="ffffcc"/>
                </a:solidFill>
                <a:latin typeface="Times New Roman"/>
              </a:rPr>
              <a:t>SPI.4.a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Une stratégie de surveillance ciblée sur les secteurs d’activité à risque est mise en pla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000" spc="-1" strike="noStrike">
                <a:solidFill>
                  <a:srgbClr val="ffffcc"/>
                </a:solidFill>
                <a:latin typeface="Times New Roman"/>
              </a:rPr>
              <a:t>SPI.4.b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.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000" spc="-1" strike="noStrike">
                <a:solidFill>
                  <a:srgbClr val="ffffcc"/>
                </a:solidFill>
                <a:latin typeface="Times New Roman"/>
              </a:rPr>
              <a:t>SPI.4.c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Les conclusions de l’analyse des données de surveillance, ainsi que les recommandations qui en découlent, sont communiquées aux secteurs d’activité concernés et à la direction. Elles sont utilisées pour adapter les activités de prévention du risque infectieux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000" spc="-1" strike="noStrike">
                <a:solidFill>
                  <a:srgbClr val="ffffcc"/>
                </a:solidFill>
                <a:latin typeface="Times New Roman"/>
              </a:rPr>
              <a:t>SPI.4.d.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 Un suivi de l’évolution du taux des bactéries résistant aux antibiotiques est assuré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680" y="2057400"/>
            <a:ext cx="883908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Manuel d’accréditation 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(Février 1999)</a:t>
            </a: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« prévention et contrôle du risque infectieux 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1120" y="639720"/>
            <a:ext cx="8744040" cy="6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Enquêtes de prévalence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1840" y="2209320"/>
            <a:ext cx="9085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500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révalence (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571500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France, 1996, 2001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cc66"/>
                </a:solidFill>
                <a:latin typeface="Times New Roman"/>
              </a:rPr>
              <a:t>7 - 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571500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France, 1991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571500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Espagne, 1990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7,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571500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Belgique, 1984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13,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571500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Italie, 1983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4,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571500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Royaume-Uni, 1980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6,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715000"/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8960" y="423720"/>
            <a:ext cx="906768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Résistance à la méticilline (%)</a:t>
            </a:r>
            <a:br>
              <a:rPr sz="3600"/>
            </a:br>
            <a:r>
              <a:rPr b="1" i="1" lang="fr-FR" sz="3600" spc="-1" strike="noStrike">
                <a:solidFill>
                  <a:srgbClr val="ffcc66"/>
                </a:solidFill>
                <a:latin typeface="Comic Sans MS"/>
              </a:rPr>
              <a:t>de S. aureus en Europe (1992)</a:t>
            </a:r>
            <a:endParaRPr b="1" i="1" lang="en-US" sz="36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60400" y="1957320"/>
            <a:ext cx="7107480" cy="4519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81200" y="2212920"/>
            <a:ext cx="14713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Danemar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Suè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Pays-b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Suis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Allemag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Autrich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Belgi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Espag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Arial"/>
              </a:rPr>
              <a:t>Itali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6200" y="888840"/>
            <a:ext cx="88804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cc66"/>
                </a:solidFill>
                <a:latin typeface="Comic Sans MS"/>
              </a:rPr>
              <a:t>Origine des souches multirésistantes de S.aureus (SARM) et d’entérobactéries (EBLSE)</a:t>
            </a:r>
            <a:endParaRPr b="1" i="1" lang="en-US" sz="2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8680" y="2131920"/>
            <a:ext cx="9068040" cy="419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Origine (%)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Délai moyen (j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IS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ID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IH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d’acquisition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SARM(n=2628)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61,3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11,8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15,1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11,8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EBLSE (n=632)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68,5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11,2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10,1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10,1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A : acquise dans le servi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IS : importée d’un autre service de l’hô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IH : importée d’un autre hô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Times New Roman"/>
              </a:rPr>
              <a:t>ID : d’origine indéterminée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040" y="3505320"/>
            <a:ext cx="89917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67560" y="2514600"/>
            <a:ext cx="0" cy="1905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89720" y="6399360"/>
            <a:ext cx="289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CLIN Paris N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14:16:56Z</dcterms:created>
  <dc:creator>Serge Alfandari</dc:creator>
  <dc:description/>
  <dc:language>en-US</dc:language>
  <cp:lastModifiedBy>Boscher</cp:lastModifiedBy>
  <cp:lastPrinted>2002-03-20T12:35:41Z</cp:lastPrinted>
  <dcterms:modified xsi:type="dcterms:W3CDTF">2004-11-14T22:03:35Z</dcterms:modified>
  <cp:revision>0</cp:revision>
  <dc:subject/>
  <dc:title>Aucun titre de diapositive</dc:title>
</cp:coreProperties>
</file>