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659-2820-4E65-8AEC-0A14BD69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4F5D-083A-4EC3-AF9B-9794BB33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F6D0-79D3-4441-85B1-3153FE77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94C1-A951-4F74-B877-7E309399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D17-41DA-4BFE-A51C-7C695874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FF6-9A21-4A72-AC8D-6290CF06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4D10-3700-4527-9C14-3694F3EE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1E9-2FE0-4252-94CC-A5BE9DC1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77D-FD3B-4413-9B52-29556EA9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342-BEFA-4C51-B1B8-FA4DB5FA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6A1-072F-4294-A35A-4CEAD87C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58C-0E4C-402F-B1E7-2137B9FB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2BFA-DFF5-413D-8812-B9D8F448A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8360" y="2971800"/>
            <a:ext cx="804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Rockwell"/>
              </a:rPr>
              <a:t>Endométriose profond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6520" y="5832360"/>
            <a:ext cx="79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Rockwell"/>
              </a:rPr>
              <a:t>Denis Vinatier; Gynécologie, Hopital Jeanne de Fland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14680" y="205740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Rockwell"/>
              </a:rPr>
              <a:t>Existe-t-il un </a:t>
            </a:r>
            <a:r>
              <a:rPr b="0" lang="fr-FR" sz="4400" spc="-1" strike="noStrike" u="sng">
                <a:solidFill>
                  <a:srgbClr val="ff3399"/>
                </a:solidFill>
                <a:uFillTx/>
                <a:latin typeface="Rockwell"/>
              </a:rPr>
              <a:t>bilan paraclinique</a:t>
            </a:r>
            <a:r>
              <a:rPr b="0" lang="fr-FR" sz="4400" spc="-1" strike="noStrike">
                <a:solidFill>
                  <a:srgbClr val="000000"/>
                </a:solidFill>
                <a:latin typeface="Rockwell"/>
              </a:rPr>
              <a:t> codifié pour ces localisations profond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44600" y="1871640"/>
            <a:ext cx="67917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"/>
              </a:rPr>
              <a:t>1: Eliminer un carcin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"/>
              </a:rPr>
              <a:t>2: Effectuer un bilan loc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"/>
              </a:rPr>
              <a:t>3: Effectuer un bilan rég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Rockwell"/>
              </a:rPr>
              <a:t>4:Affirmer le diagnos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00360" y="1828800"/>
            <a:ext cx="677232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1: Eliminer un carcinom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Wingdings 2"/>
                <a:ea typeface="Wingdings 2"/>
              </a:rPr>
              <a:t></a:t>
            </a: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Lavement baryt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Wingdings 2"/>
                <a:ea typeface="Wingdings 2"/>
              </a:rPr>
              <a:t></a:t>
            </a: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Coloscop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57520" y="152280"/>
            <a:ext cx="677196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2: Effectuer un bilan loc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Wingdings 2"/>
                <a:ea typeface="Wingdings 2"/>
              </a:rPr>
              <a:t></a:t>
            </a: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Echographie vaginale</a:t>
            </a: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Wingdings 2"/>
                <a:ea typeface="Wingdings 2"/>
              </a:rPr>
              <a:t></a:t>
            </a: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Echo-endoscop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66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I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66"/>
              </a:buClr>
              <a:buFont typeface="Wingdings 2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Rockwell"/>
              </a:rPr>
              <a:t>Cystoscop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457280" y="152280"/>
            <a:ext cx="737244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3: Effectuer un bilan rég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Rockwell"/>
              </a:rPr>
              <a:t>	</a:t>
            </a:r>
            <a:r>
              <a:rPr b="0" lang="en-US" sz="3600" spc="-1" strike="noStrike">
                <a:solidFill>
                  <a:srgbClr val="ff3399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3399"/>
                </a:solidFill>
                <a:latin typeface="Wingdings 2"/>
                <a:ea typeface="Wingdings 2"/>
              </a:rPr>
              <a:t></a:t>
            </a:r>
            <a:r>
              <a:rPr b="0" lang="en-US" sz="3600" spc="-1" strike="noStrike">
                <a:solidFill>
                  <a:srgbClr val="ff3399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3399"/>
                </a:solidFill>
                <a:latin typeface="Rockwell"/>
              </a:rPr>
              <a:t>I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Rockwell"/>
              </a:rPr>
              <a:t>	</a:t>
            </a:r>
            <a:r>
              <a:rPr b="0" lang="en-US" sz="3600" spc="-1" strike="noStrike">
                <a:solidFill>
                  <a:srgbClr val="ff3399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3399"/>
                </a:solidFill>
                <a:latin typeface="Wingdings 2"/>
                <a:ea typeface="Wingdings 2"/>
              </a:rPr>
              <a:t></a:t>
            </a:r>
            <a:r>
              <a:rPr b="0" lang="en-US" sz="3600" spc="-1" strike="noStrike">
                <a:solidFill>
                  <a:srgbClr val="ff3399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ff3399"/>
                </a:solidFill>
                <a:latin typeface="Rockwell"/>
              </a:rPr>
              <a:t>UI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00720" y="3776760"/>
            <a:ext cx="4886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Effectuer les biops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Affirmer le diagno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Ne permet p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Rockwell"/>
              </a:rPr>
              <a:t>juger de la profonde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03280" y="0"/>
            <a:ext cx="748044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4: Affirmer le diagnost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Wingdings 2"/>
                <a:ea typeface="Wingdings 2"/>
              </a:rPr>
              <a:t></a:t>
            </a: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Rockwell"/>
              </a:rPr>
              <a:t>Cœliosco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57160" y="1631880"/>
            <a:ext cx="848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Rockwell"/>
              </a:rPr>
              <a:t>L’examen clinique et les examens paracliniques permettent le plus souvent de faire le diagnostic d’endométriose profon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0000" y="3886200"/>
            <a:ext cx="848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Rockwell"/>
              </a:rPr>
              <a:t>Devant cette situation une cœlioscopie est inutile, il est préférable d’orienter la patiente vers une équipe habituée à la chirurgie du rectum, du cul-de-sac, des uretères, des ova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57280" y="2682720"/>
            <a:ext cx="728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omment soulager ces patient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54640" y="378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Rockwell"/>
              </a:rPr>
              <a:t>Trait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70920" y="2922480"/>
            <a:ext cx="561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ockwell"/>
              </a:rPr>
              <a:t>Traitements médic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fficace à court terme lors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a symptomatologie est cycl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43560" y="1324080"/>
            <a:ext cx="637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ockwell"/>
              </a:rPr>
              <a:t>Abstention thérapeut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as de signes digestifs spécif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écouverte chez une malade non prépar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03320" y="44481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ockwell"/>
              </a:rPr>
              <a:t>Traitement  est chirurgical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orsque la symptomatologie est permanente à recrudescence catamén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msotw9_temp0" descr=""/>
          <p:cNvPicPr/>
          <p:nvPr/>
        </p:nvPicPr>
        <p:blipFill>
          <a:blip r:embed="rId1"/>
          <a:stretch/>
        </p:blipFill>
        <p:spPr>
          <a:xfrm>
            <a:off x="0" y="36360"/>
            <a:ext cx="10287000" cy="68979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9080" y="6141960"/>
            <a:ext cx="187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72080" y="1676520"/>
            <a:ext cx="185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locage 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ug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580440" y="6019920"/>
            <a:ext cx="3568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Adenomyom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82760" y="0"/>
          <a:ext cx="7713360" cy="683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0"/>
                    <a:ext cx="7713360" cy="683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2540160" y="152280"/>
            <a:ext cx="47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dométriose profo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124080" y="685800"/>
          <a:ext cx="1982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685800"/>
                    <a:ext cx="1982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33520" y="685800"/>
          <a:ext cx="207000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685800"/>
                    <a:ext cx="2070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5334120" y="762120"/>
          <a:ext cx="2489040" cy="3429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762120"/>
                    <a:ext cx="24890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010280" y="4952880"/>
            <a:ext cx="218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Rockwell"/>
              </a:rPr>
              <a:t>Exérèse partie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msotw9_temp0" descr=""/>
          <p:cNvPicPr/>
          <p:nvPr/>
        </p:nvPicPr>
        <p:blipFill>
          <a:blip r:embed="rId1"/>
          <a:stretch/>
        </p:blipFill>
        <p:spPr>
          <a:xfrm>
            <a:off x="0" y="0"/>
            <a:ext cx="5183280" cy="5334120"/>
          </a:xfrm>
          <a:prstGeom prst="rect">
            <a:avLst/>
          </a:prstGeom>
          <a:ln w="0">
            <a:noFill/>
          </a:ln>
        </p:spPr>
      </p:pic>
      <p:pic>
        <p:nvPicPr>
          <p:cNvPr id="85" name="msotw9_temp0" descr=""/>
          <p:cNvPicPr/>
          <p:nvPr/>
        </p:nvPicPr>
        <p:blipFill>
          <a:blip r:embed="rId2"/>
          <a:stretch/>
        </p:blipFill>
        <p:spPr>
          <a:xfrm>
            <a:off x="5143680" y="0"/>
            <a:ext cx="5128920" cy="5334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731680" y="588636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Rockwell"/>
              </a:rPr>
              <a:t>Résection segment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msotw9_temp0" descr=""/>
          <p:cNvPicPr/>
          <p:nvPr/>
        </p:nvPicPr>
        <p:blipFill>
          <a:blip r:embed="rId1"/>
          <a:stretch/>
        </p:blipFill>
        <p:spPr>
          <a:xfrm>
            <a:off x="5143680" y="0"/>
            <a:ext cx="5186160" cy="6248520"/>
          </a:xfrm>
          <a:prstGeom prst="rect">
            <a:avLst/>
          </a:prstGeom>
          <a:ln w="0">
            <a:noFill/>
          </a:ln>
        </p:spPr>
      </p:pic>
      <p:pic>
        <p:nvPicPr>
          <p:cNvPr id="88" name="msotw9_temp0" descr=""/>
          <p:cNvPicPr/>
          <p:nvPr/>
        </p:nvPicPr>
        <p:blipFill>
          <a:blip r:embed="rId2"/>
          <a:stretch/>
        </p:blipFill>
        <p:spPr>
          <a:xfrm>
            <a:off x="0" y="0"/>
            <a:ext cx="5143680" cy="6248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79240" y="6324480"/>
            <a:ext cx="38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Rockwell"/>
              </a:rPr>
              <a:t>Résection vési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00360" y="2438280"/>
            <a:ext cx="720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Rockwell"/>
              </a:rPr>
              <a:t>En quoi l’endométriose profonde réalise-elle-</a:t>
            </a:r>
            <a:r>
              <a:rPr b="0" lang="en-US" sz="4400" spc="-1" strike="noStrike">
                <a:solidFill>
                  <a:srgbClr val="ff3399"/>
                </a:solidFill>
                <a:latin typeface="Rockwell"/>
              </a:rPr>
              <a:t>une entité propre</a:t>
            </a:r>
            <a:r>
              <a:rPr b="0" lang="en-US" sz="4400" spc="-1" strike="noStrike">
                <a:solidFill>
                  <a:srgbClr val="000066"/>
                </a:solidFill>
                <a:latin typeface="Rockwel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14680" y="2317680"/>
            <a:ext cx="7429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Quelle est la </a:t>
            </a:r>
            <a:r>
              <a:rPr b="0" lang="en-US" sz="4400" spc="-1" strike="noStrike">
                <a:solidFill>
                  <a:srgbClr val="ff3399"/>
                </a:solidFill>
                <a:latin typeface="Rockwell"/>
              </a:rPr>
              <a:t>symptomatologie</a:t>
            </a: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 de l’endométriose profonde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43080" y="92160"/>
            <a:ext cx="10029600" cy="66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Le diagnostic est difficil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Rockwell"/>
              </a:rPr>
              <a:t>50 %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 des patientes ont été rassuré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vant le diagno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Rockwell"/>
              </a:rPr>
              <a:t>32 %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 des patientes ont vu un autre spéciali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avant le gynécologue qui a fait le diagno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Rockwell"/>
              </a:rPr>
              <a:t>25 %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 des patientes ont vu deux spécialis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Rockwell"/>
              </a:rPr>
              <a:t>85 %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 des patientes ont déjà eu une ou plusieurs coelioscop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31080" y="541440"/>
            <a:ext cx="80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ymptomatologie gynécolog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26360" y="2058840"/>
            <a:ext cx="5662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Dysménorrhée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3399"/>
                </a:solidFill>
                <a:latin typeface="Rockwell"/>
              </a:rPr>
              <a:t>43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Dyspareunie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3399"/>
                </a:solidFill>
                <a:latin typeface="Rockwell"/>
              </a:rPr>
              <a:t>24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Douleur pelvienne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3399"/>
                </a:solidFill>
                <a:latin typeface="Rockwell"/>
              </a:rPr>
              <a:t>14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Infertilité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Rockwell"/>
              </a:rPr>
              <a:t>	</a:t>
            </a:r>
            <a:r>
              <a:rPr b="0" lang="en-US" sz="3200" spc="-1" strike="noStrike">
                <a:solidFill>
                  <a:srgbClr val="ff3399"/>
                </a:solidFill>
                <a:latin typeface="Rockwell"/>
              </a:rPr>
              <a:t>24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09040" y="160200"/>
            <a:ext cx="668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"/>
              </a:rPr>
              <a:t>Symptomatologie diges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57160" y="1066680"/>
            <a:ext cx="8744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Diarrhée « cyclique »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ff0066"/>
                </a:solidFill>
                <a:latin typeface="Rockwell"/>
              </a:rPr>
              <a:t>26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Constipation « cyclique »</a:t>
            </a:r>
            <a:r>
              <a:rPr b="0" lang="fr-FR" sz="3200" spc="-1" strike="noStrike">
                <a:solidFill>
                  <a:srgbClr val="ff0066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ff0066"/>
                </a:solidFill>
                <a:latin typeface="Rockwell"/>
              </a:rPr>
              <a:t>1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Rectorragies « cycliques »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ff0066"/>
                </a:solidFill>
                <a:latin typeface="Rockwell"/>
              </a:rPr>
              <a:t>16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Dyschésie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ff0066"/>
                </a:solidFill>
                <a:latin typeface="Rockwell"/>
              </a:rPr>
              <a:t>16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Météorisme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fr-FR" sz="3200" spc="-1" strike="noStrike">
                <a:solidFill>
                  <a:srgbClr val="ff0066"/>
                </a:solidFill>
                <a:latin typeface="Rockwell"/>
              </a:rPr>
              <a:t>2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Syndrome sub-occlusif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fr-FR" sz="3200" spc="-1" strike="noStrike">
                <a:solidFill>
                  <a:srgbClr val="ff0066"/>
                </a:solidFill>
                <a:latin typeface="Rockwell"/>
              </a:rPr>
              <a:t>11 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66280" y="441360"/>
            <a:ext cx="64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Rockwell"/>
              </a:rPr>
              <a:t>Symptomatologie urin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20280" y="1600200"/>
            <a:ext cx="4818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ystite à répé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Brûlures mictionne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Douleurs sus-pubien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Hématu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8320" y="5594400"/>
            <a:ext cx="62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Rockwell"/>
              </a:rPr>
              <a:t>Exacerbation menstrue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43560" y="223920"/>
            <a:ext cx="408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Rockwell"/>
              </a:rPr>
              <a:t>Examen cli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0760" y="1219320"/>
            <a:ext cx="8312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Rockwell"/>
              </a:rPr>
              <a:t>Perception d’un no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Rockwell"/>
              </a:rPr>
              <a:t>Douleur provoqué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Rockwell"/>
              </a:rPr>
              <a:t>Rétraction des ligaments utéro-sacr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Rockwell"/>
              </a:rPr>
              <a:t>Modifications en période menstruel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Rockwell"/>
              </a:rPr>
              <a:t>Visualisation du vag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1T13:35:12Z</dcterms:created>
  <dc:creator>Denis Vinatier</dc:creator>
  <dc:description/>
  <dc:language>en-US</dc:language>
  <cp:lastModifiedBy>MOSSER</cp:lastModifiedBy>
  <dcterms:modified xsi:type="dcterms:W3CDTF">2004-11-14T22:00:06Z</dcterms:modified>
  <cp:revision>43</cp:revision>
  <dc:subject/>
  <dc:title>Présentation PowerPoint</dc:title>
</cp:coreProperties>
</file>